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E9E-8E2A-4AEF-A4D5-CF4AC9844D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ta: 1. Imperio ruso (expans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obre el Turquestán y Persia, y conflicto con Japón por Mongolia); 2. Imperio Inglés; 3. Imperio nipón. 4. Imperio holandés (Sumatra, Java, Borne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caricatura inglesa de 1914 que representa al kaiser a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Guillermo, que quiere utilizar a Europa como esponja de su baño. Leyenda: “No será feliz hasta que lo consig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Inmanuel K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ágenes: He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 “La libertad guiando al pueblo” (Delacro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ugusto Com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s Profesores(as):  las diapositivas siguientes corresponden a las utilizadas en el PPT de la clase correspondiente a revolución Industrial.  Si usted ya revisó estos contenidos (ideologías), obvie hasta la diapositiva 20 (existe un hipervínculo destinado para ell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, Delacroix, La muerte de Sardana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Couvert, Los picapedreros; Charles Dick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Pissarro, La avenida Sydenham (1871); Edouard Manet, Música en las Tullerías (18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Delacroix, La barca de 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17B8-A5C0-4E85-8DCC-AD1D1ED5D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CF0B-6E85-499F-A845-AB1463FC4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EE21-06B5-44C1-9539-1931B6AEC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7A9C-4B74-4047-ACCE-5699A88E9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2E805-FBE9-4EE4-A417-2EB22C0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18FE-E336-457D-AF59-DF53D47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4263-029F-4038-8735-B8ED5AC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F6B93-D6C3-4E85-BA81-9345784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E0C92-F226-45F0-8E8C-7D725B64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2C26D-22D0-4238-B547-B6FD106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EB98-DF0B-4289-A91B-68F650C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94E9-1819-43FD-BBA0-DCAA1C23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48F27-443C-45DC-99CB-CA992E5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685F-F128-4C9B-B320-F43335E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6C454-6BCF-472F-9510-E35EBA2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2DF9F-95EE-494C-AB1B-107E5FA9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6BB06-3116-4D56-859E-81EB524D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9DC3-0138-45A2-BFAE-FE9CEEE65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B2D2-DD10-4AD6-8913-22746A162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F4E7-5A3C-4D24-A6E2-D39F38F1A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58BC-37F6-4641-A3EA-B73320729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38B5-F0CF-4F1B-BDC3-B800BCAF9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C319-6BE0-459A-9D80-5B65E88B8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7206-CB95-41F4-BE6D-992D20EF4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A373-350C-46C8-8D6F-F62F513B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D8C-1C64-48B9-A6FA-568E1F93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665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20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IMPERIALISMO, COLONIALISMO Y SOCIEDAD EUROPEA FINIS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132000" y="3449520"/>
            <a:ext cx="4176720" cy="320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sia en el 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589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13548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nsecuencias del Imperi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2952720" cy="12240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flictos imper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90792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rra del Opio (1841- 42,  Chi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413000"/>
            <a:ext cx="3961080" cy="431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bel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Cipayos (1857,  In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98900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de los Boers (1899- 19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2492280"/>
            <a:ext cx="39610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erra Ruso- japonesa (19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141720"/>
            <a:ext cx="3888000" cy="358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l proteccio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3716280"/>
            <a:ext cx="388800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armada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997360"/>
            <a:ext cx="2952720" cy="122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rol de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er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94172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cimient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raestructura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5013360"/>
            <a:ext cx="3168720" cy="1297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arrollo d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rgu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148428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907920"/>
            <a:ext cx="73080" cy="18734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3068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5400" y="10470"/>
                  <a:pt x="0" y="10470"/>
                </a:cubicBezTo>
                <a:cubicBezTo>
                  <a:pt x="54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28464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29264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551664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2. EUROPA FINISE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907920"/>
            <a:ext cx="4032000" cy="398880"/>
          </a:xfrm>
          <a:prstGeom prst="rect">
            <a:avLst/>
          </a:prstGeom>
          <a:solidFill>
            <a:srgbClr val="9966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.1 La Paz A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457200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políticas comerciales proteccion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56536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o de un equilibrio territorial entre las po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342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propaganda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41497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de un foco de conflictos en los Balcanes, entre Rusia y Austria- Hung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765000"/>
            <a:ext cx="4286520" cy="79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íodo político que siguió a las  unif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ionales, caracterizado p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7960" y="5157720"/>
            <a:ext cx="367236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rera armament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2.2 Ideolog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s europeas del siglo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07920"/>
            <a:ext cx="2879640" cy="129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81000"/>
            <a:ext cx="3527280" cy="119124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rge como reacción al empirismo y al racionalismo. Se sustentó en los ideales de Rosseau y K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148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9440" y="2421000"/>
            <a:ext cx="261936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00720" y="2349360"/>
            <a:ext cx="4321080" cy="3743640"/>
          </a:xfrm>
          <a:prstGeom prst="wedgeRoundRectCallout">
            <a:avLst>
              <a:gd name="adj1" fmla="val -70097"/>
              <a:gd name="adj2" fmla="val -4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nte es capaz de hacer cosas que serían imposibles sin ella, tales como la ley, la religión, el arte o c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onocimiento es el resultado de principios que se hallan a priori en la razón humana. No se puede conocer la realidad, sólo se conocen los fenómenos que esa realidad provoca en el entendimiento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456000" cy="310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2239920" cy="273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59280" y="404640"/>
            <a:ext cx="3959280" cy="2953080"/>
          </a:xfrm>
          <a:prstGeom prst="wedgeRoundRectCallout">
            <a:avLst>
              <a:gd name="adj1" fmla="val -47472"/>
              <a:gd name="adj2" fmla="val 701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GEL,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ó el idealismo planteando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étodo dialéctic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plicado a la filosofía de la historia y al Est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historia es un camino evolutivo determinado por la oposición entre la idea del Progreso y el Estado Nacional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e es el fin último de la histo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3805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572000" y="333360"/>
            <a:ext cx="4248000" cy="4464000"/>
          </a:xfrm>
          <a:prstGeom prst="wedgeRoundRectCallout">
            <a:avLst>
              <a:gd name="adj1" fmla="val -49814"/>
              <a:gd name="adj2" fmla="val 60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saltó las emociones y los sentimientos por encima de la pretendida perfección de la razón, buscó la libertad y espontaneidad en la expresión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el capitalismo y el imperialismo, por su excesivo individualismo y por priorizar en la competencia, en vez de la fraternidad y la solida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máxima expresión política fue la Revolución Francesa de 1848, la que fue denominada por los románticos como la Primavera de las N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60280"/>
            <a:ext cx="3167280" cy="1224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L 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986200" cy="309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00720" y="404640"/>
            <a:ext cx="4464000" cy="5113440"/>
          </a:xfrm>
          <a:prstGeom prst="wedgeRoundRectCallout">
            <a:avLst>
              <a:gd name="adj1" fmla="val -66143"/>
              <a:gd name="adj2" fmla="val 4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a de evolución hacia el progreso basado el desarrollo científico y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plantea los tres estadios históricos de la human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prehistó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metafís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tapa científica (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Justificación del imperialismo: sólo Europa alcanzó la etapa cientí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positivismo tuvo gran influencia en la educación y en las ciencias soc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76280"/>
            <a:ext cx="302436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451640" y="609300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3794"/>
                </a:moveTo>
                <a:lnTo>
                  <a:pt x="39353" y="10800"/>
                </a:lnTo>
                <a:lnTo>
                  <a:pt x="25340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1413000"/>
            <a:ext cx="3384720" cy="1313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uestas para solucionar el problema obrero sin atacar las bases del capit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33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nt Sim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“a cada cual según sus capacidades y obras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1884240" cy="236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755640" y="3284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ier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ación de los falanste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293920" cy="247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6516720" y="260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e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cialismo mutualista. Edificó escuelas y viviendas para obr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516720" y="1341360"/>
            <a:ext cx="1895400" cy="23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333360"/>
            <a:ext cx="385272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UT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4149720"/>
            <a:ext cx="244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udhon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rero autodidacta, considerado el padre del anarquismo. Criticó la propiedad privada, fue contrario a toda forma de jerarquía y tuvo un rol activo en la Revolución Franc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1893960" cy="222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2106720" cy="224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952720" cy="28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39640" y="189000"/>
            <a:ext cx="3853080" cy="934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OCIALISM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360" y="404640"/>
            <a:ext cx="3779640" cy="6093000"/>
          </a:xfrm>
          <a:prstGeom prst="wedgeRoundRectCallout">
            <a:avLst>
              <a:gd name="adj1" fmla="val -85407"/>
              <a:gd name="adj2" fmla="val -4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Método dialéctico materialista que explica, por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ógica de las oposicione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la evolución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ormulación de la lucha de clases como motor de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tradicción principal del capitalismo: desarrollo de la miseria de la mayoría de la población y surgimiento  del proleta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lución política: la Revolución Socialista y la superación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950080"/>
            <a:ext cx="2952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LOS MARX Y FEDERICO EN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58120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32000" y="5445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jail Baku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1197000"/>
            <a:ext cx="4608360" cy="2952720"/>
          </a:xfrm>
          <a:prstGeom prst="wedgeRoundRectCallout">
            <a:avLst>
              <a:gd name="adj1" fmla="val -58129"/>
              <a:gd name="adj2" fmla="val 725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necesidad de la revolución social para superar el capitalismo y toda forma de jer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como método de lucha la huelga general, el boicot de la producción y las barri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ideró como ideal de sociedad la libre cooperación de los individuos y grupo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89000"/>
            <a:ext cx="3024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ARQU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la transformación demográfica del período en relación al ritmo de crecimiento poblacional y a la magnitud de los movimientos migra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lematizar el optimismo racionalista del siglo XIX y sus ilusiones sobre el progreso humano basado en la ciencia, la investigación y una visión laica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acterizar el apogeo del imperialismo como una etapa del desarrollo del capitalismo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mperialismo y colonialism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 Causas, caracte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ticas y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edad europea finisecular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az a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ultura ilustrada del siglo X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mperialismo/ 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lonialismo/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itiv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282840" cy="4586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189000"/>
            <a:ext cx="34560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CTRINA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 LA IGL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557360"/>
            <a:ext cx="4070160" cy="4608360"/>
          </a:xfrm>
          <a:prstGeom prst="wedgeRoundRectCallout">
            <a:avLst>
              <a:gd name="adj1" fmla="val 81004"/>
              <a:gd name="adj2" fmla="val -3749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riticó tanto al capitalismo como al desarrollo del comunismo ob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Validó como natural la desigualdad social entre los ser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ostuló la caridad organizada, como forma de superación de la miseria de la mayoría de l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ermitió la formación de organizaciones sociales y políticas (partidos católicos) que comenzaron a presionar, por medios pacíficos, por reformas sociales a favor de los despose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360" y="5445000"/>
            <a:ext cx="417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ón XIII: Encíclica Rerum Nova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31200" cy="792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3. Cultura ilustrada europea: </a:t>
            </a:r>
            <a:br>
              <a:rPr sz="2400"/>
            </a:b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tendencias art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sticas y liter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8200" y="3860640"/>
            <a:ext cx="310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términos políticos, inspiró sentimientos nacionalistas y libertarios exa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190760" cy="334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1341360"/>
            <a:ext cx="331308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MANT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242100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al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sentimientos, la melancolía, la nostal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2060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uvo fuertemente influido por el positivismo y las primeras teorías sico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4033800" cy="336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1976400" cy="2932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132000" y="40464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34136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etendi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ver la realidad tal cual era, sin dar lugar a la fantasía o a la exaltación de los sent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2133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e movimiento se caracterizó por destacar la luz solar y rechazar el negro, por considerar que este color no se hallaba en l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319280" cy="295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2916360" y="333360"/>
            <a:ext cx="2952720" cy="719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RESIO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ta representar la realidad tal como la reciben los sentidos, con todas las influencias del medio. Se trata de un conocimiento experi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8360" cy="29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BALANCE Y CARACTERÍSTICAS DE LA SOCIEDAD EUROPEA FINI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20574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327672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censo y protago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burguesía y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etar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0"/>
            <a:ext cx="281952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olidación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ismo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doctrina lib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724280"/>
            <a:ext cx="289548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unfo del liber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monarqu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4724280"/>
            <a:ext cx="327636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 del progreso in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mism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 civilizador del euro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267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o cul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288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544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2971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1197000"/>
            <a:ext cx="3024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69236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180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UROPA EN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era Guerr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olución R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200 a 208  del Tomo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028000" y="5445000"/>
            <a:ext cx="792000" cy="1008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98">
                <a:moveTo>
                  <a:pt x="0" y="0"/>
                </a:moveTo>
                <a:lnTo>
                  <a:pt x="21600" y="0"/>
                </a:lnTo>
                <a:lnTo>
                  <a:pt x="21600" y="27498"/>
                </a:lnTo>
                <a:lnTo>
                  <a:pt x="0" y="27498"/>
                </a:lnTo>
                <a:close/>
              </a:path>
              <a:path fill="lightenLess" w="21600" h="27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8">
                <a:moveTo>
                  <a:pt x="21600" y="0"/>
                </a:moveTo>
                <a:lnTo>
                  <a:pt x="21600" y="27498"/>
                </a:lnTo>
                <a:lnTo>
                  <a:pt x="20200" y="26098"/>
                </a:lnTo>
                <a:lnTo>
                  <a:pt x="20200" y="1400"/>
                </a:lnTo>
                <a:close/>
              </a:path>
              <a:path fill="darkenLess" w="21600" h="27498">
                <a:moveTo>
                  <a:pt x="21600" y="27498"/>
                </a:moveTo>
                <a:lnTo>
                  <a:pt x="0" y="27498"/>
                </a:lnTo>
                <a:lnTo>
                  <a:pt x="1400" y="26098"/>
                </a:lnTo>
                <a:lnTo>
                  <a:pt x="20200" y="26098"/>
                </a:lnTo>
                <a:close/>
              </a:path>
              <a:path fill="lighten" w="21600" h="27498">
                <a:moveTo>
                  <a:pt x="0" y="27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8"/>
                </a:lnTo>
                <a:close/>
              </a:path>
              <a:path fill="darken" w="21600" h="27498">
                <a:moveTo>
                  <a:pt x="10800" y="6786"/>
                </a:moveTo>
                <a:lnTo>
                  <a:pt x="13376" y="9397"/>
                </a:ln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lnTo>
                  <a:pt x="17763" y="13749"/>
                </a:lnTo>
                <a:lnTo>
                  <a:pt x="16109" y="13749"/>
                </a:lnTo>
                <a:lnTo>
                  <a:pt x="16109" y="20938"/>
                </a:lnTo>
                <a:lnTo>
                  <a:pt x="5491" y="20938"/>
                </a:lnTo>
                <a:lnTo>
                  <a:pt x="5491" y="13749"/>
                </a:lnTo>
                <a:lnTo>
                  <a:pt x="3837" y="13749"/>
                </a:lnTo>
                <a:close/>
              </a:path>
              <a:path fill="darkenLess" w="21600" h="27498">
                <a:moveTo>
                  <a:pt x="13376" y="9397"/>
                </a:moveTo>
                <a:lnTo>
                  <a:pt x="13376" y="7656"/>
                </a:lnTo>
                <a:lnTo>
                  <a:pt x="15152" y="7656"/>
                </a:lnTo>
                <a:lnTo>
                  <a:pt x="15152" y="11173"/>
                </a:lnTo>
                <a:close/>
              </a:path>
              <a:path fill="darkenLess" w="21600" h="27498">
                <a:moveTo>
                  <a:pt x="9877" y="17248"/>
                </a:moveTo>
                <a:lnTo>
                  <a:pt x="11723" y="17248"/>
                </a:lnTo>
                <a:lnTo>
                  <a:pt x="11723" y="20938"/>
                </a:lnTo>
                <a:lnTo>
                  <a:pt x="16109" y="20938"/>
                </a:lnTo>
                <a:lnTo>
                  <a:pt x="16109" y="13749"/>
                </a:lnTo>
                <a:lnTo>
                  <a:pt x="5491" y="13749"/>
                </a:lnTo>
                <a:lnTo>
                  <a:pt x="5491" y="20938"/>
                </a:lnTo>
                <a:lnTo>
                  <a:pt x="9877" y="2093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5369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387828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4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459640" cy="93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Puedes reconocer en el siguiente mapa algunas potencias imperiales con sus respectivas coloni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visemos en primer lugar los siguientes concep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440" y="1039680"/>
            <a:ext cx="8958600" cy="4470480"/>
            <a:chOff x="127440" y="1039680"/>
            <a:chExt cx="8958600" cy="4470480"/>
          </a:xfrm>
        </p:grpSpPr>
        <p:sp>
          <p:nvSpPr>
            <p:cNvPr id="104" name="_s138267"/>
            <p:cNvSpPr/>
            <p:nvPr/>
          </p:nvSpPr>
          <p:spPr>
            <a:xfrm>
              <a:off x="3397320" y="1833840"/>
              <a:ext cx="2421720" cy="22705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8268"/>
            <p:cNvSpPr/>
            <p:nvPr/>
          </p:nvSpPr>
          <p:spPr>
            <a:xfrm>
              <a:off x="3397320" y="103968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8269"/>
            <p:cNvSpPr/>
            <p:nvPr/>
          </p:nvSpPr>
          <p:spPr>
            <a:xfrm>
              <a:off x="4194360" y="3127320"/>
              <a:ext cx="2421720" cy="2271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8270"/>
            <p:cNvSpPr/>
            <p:nvPr/>
          </p:nvSpPr>
          <p:spPr>
            <a:xfrm>
              <a:off x="6664320" y="4944240"/>
              <a:ext cx="242172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ER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8271"/>
            <p:cNvSpPr/>
            <p:nvPr/>
          </p:nvSpPr>
          <p:spPr>
            <a:xfrm>
              <a:off x="2599560" y="3127320"/>
              <a:ext cx="2421720" cy="2271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8272"/>
            <p:cNvSpPr/>
            <p:nvPr/>
          </p:nvSpPr>
          <p:spPr>
            <a:xfrm>
              <a:off x="127440" y="4942080"/>
              <a:ext cx="2421360" cy="565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LONIALIS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4720" y="2131200"/>
              <a:ext cx="2055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PANSIÓN  TERRITORIAL SUSTENTADA EN CONQUISTAS MILITAR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758040"/>
              <a:ext cx="20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STALACIÓN DE UN ESTABLECIMIENTO COMERCIAL O MILITAR FUERA DE UN ESTAD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59280" y="3645000"/>
            <a:ext cx="16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MA MÁS COMPLEJA DE EXPANSIÓN, NO NECESARIAMENTE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5805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es eran las formas de domin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03280" y="40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0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484360" y="189000"/>
            <a:ext cx="3600360" cy="720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ERIALISM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SIGLO X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197000"/>
            <a:ext cx="266364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1197000"/>
            <a:ext cx="2664000" cy="574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5280" y="2060640"/>
            <a:ext cx="2592000" cy="3455640"/>
            <a:chOff x="395280" y="2060640"/>
            <a:chExt cx="2592000" cy="3455640"/>
          </a:xfrm>
        </p:grpSpPr>
        <p:sp>
          <p:nvSpPr>
            <p:cNvPr id="124" name=""/>
            <p:cNvSpPr/>
            <p:nvPr/>
          </p:nvSpPr>
          <p:spPr>
            <a:xfrm>
              <a:off x="395280" y="2060640"/>
              <a:ext cx="2592000" cy="345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880" y="2209680"/>
              <a:ext cx="2341080" cy="283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tidas a la soberanía  de la potencia colonizadora y administrada por ella. Supone anexión territorial y pérdida de soberanía del país colonizad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j. Congo Belg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03640" y="2060640"/>
            <a:ext cx="2374920" cy="3600360"/>
            <a:chOff x="3203640" y="2060640"/>
            <a:chExt cx="2374920" cy="3600360"/>
          </a:xfrm>
        </p:grpSpPr>
        <p:sp>
          <p:nvSpPr>
            <p:cNvPr id="127" name=""/>
            <p:cNvSpPr/>
            <p:nvPr/>
          </p:nvSpPr>
          <p:spPr>
            <a:xfrm>
              <a:off x="3203640" y="2060640"/>
              <a:ext cx="237492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2205000"/>
              <a:ext cx="2217600" cy="325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s potencias colonizadoras obtenían ventajas comerciales de países que eran independientes y que les cedían  una serie de puertos en calidad de franquic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j: China, Ind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12000" y="2060640"/>
            <a:ext cx="2663640" cy="3600360"/>
            <a:chOff x="6012000" y="2060640"/>
            <a:chExt cx="2663640" cy="3600360"/>
          </a:xfrm>
        </p:grpSpPr>
        <p:sp>
          <p:nvSpPr>
            <p:cNvPr id="130" name=""/>
            <p:cNvSpPr/>
            <p:nvPr/>
          </p:nvSpPr>
          <p:spPr>
            <a:xfrm>
              <a:off x="6012000" y="2060640"/>
              <a:ext cx="2663640" cy="360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4720" y="2276640"/>
              <a:ext cx="2486160" cy="3111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 potencia protectora controlaba la política exterior y las riquezas del país, mientras que las autoridades nativas controlaban la política interior. Ej: España y Francia sobre Marruecos. Gran Bretaña sobre Egipt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2268360" y="907920"/>
            <a:ext cx="194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907920"/>
            <a:ext cx="244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546960" cy="668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ctores del Imperi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726920" cy="230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0920" y="1197000"/>
            <a:ext cx="3673440" cy="13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c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apital monopó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necesidad  de expandir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esarrollo del capital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852640"/>
            <a:ext cx="381636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ltura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a de superioridad del europe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urocentrismo). Te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rac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4896000" cy="1368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og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losión demográfica, que provoc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recimiento de la dem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ración del excedente de poblac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197000"/>
            <a:ext cx="4068720" cy="136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pansión mundial entreg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tigio internacional: naciona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2852640"/>
            <a:ext cx="4066920" cy="11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óg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comuni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 los trans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836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067280" y="90792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67280" y="907920"/>
            <a:ext cx="288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90792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907920"/>
            <a:ext cx="36036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50920" y="189000"/>
            <a:ext cx="8677080" cy="6507000"/>
            <a:chOff x="250920" y="189000"/>
            <a:chExt cx="8677080" cy="6507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604836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189000"/>
              <a:ext cx="8642160" cy="896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La estructura imperial: </a:t>
              </a:r>
              <a:br>
                <a:rPr sz="2400"/>
              </a:b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</a:rPr>
                <a:t>distribuci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ón y control de zonas de influ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laceHolder 1"/>
            <p:cNvSpPr>
              <a:spLocks noGrp="1"/>
            </p:cNvSpPr>
            <p:nvPr>
              <p:ph type="title"/>
            </p:nvPr>
          </p:nvSpPr>
          <p:spPr>
            <a:xfrm>
              <a:off x="6372000" y="1412640"/>
              <a:ext cx="2447640" cy="1368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ONFERENCIA DE BERLÍN  (1884-188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3357720"/>
              <a:ext cx="270036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parto de Áfric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glaterra: 30 millones de Kms. cuadrados; Francia, (10 millones); Alemani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tras potencias también obtienen territo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4720" y="2781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89000"/>
            <a:ext cx="86407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imperialismo inglés: dominion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81880" cy="522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l imperialismo franc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és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ssimilation franc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64480" cy="5291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8-18T05:22:20Z</dcterms:modified>
  <cp:revision>63</cp:revision>
  <dc:subject/>
  <dc:title>Diapositiva 1</dc:title>
</cp:coreProperties>
</file>