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EDA-82C3-41F6-AE3C-C4D012EF8A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1E6-A715-440A-958F-17A110D14B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, aquí se sugiere indagar además de los elementos mencionados en la diapositiva, en las características económicas de esta ideología debido a la transversalidad de este contenido en la P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186-62D7-498C-8340-00D1A20A6F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La Revolución de Paris, 1830; abajo a la izquierda, Luis Felipe I; derecha, Napoleón 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0D5-6FE6-41B2-9807-D48DBC78CC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samblea Nacional de F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fort, 1848, la que aprobó una Constitución que establecía una Alemania unificada bajo un emperador heredi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1CD-9C5D-46E1-84EA-43BEDFED6C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C1E-F134-4B1D-A593-D15698B39C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Bandera conmemorativa de los 15 años de unificación Al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455-AE96-4385-8A53-B223589C61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“La libertad guiando al pueblo”, cuadro de Eugène Delacroix pintado en 1830 y conservado en el  Museo del Louvre de Parí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C37F-9FF6-4CF4-A069-C098C002AF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derecha,  Congreso de Viena, según Isabey; izquierda : Alejandro de Rusia, Federico Guillermo de Austria y Francisco de Pru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16F0-03A7-44C4-8474-CF8658A08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F8F2-FF8D-4CDA-A60C-0EFA636AD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2752-E253-44D8-B02E-ADA29E09C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4785-781E-465F-91BB-769B5972C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F71B6-B99F-4977-B2D7-CB1980CC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56E34-C020-4ADD-9925-323FC695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704AD-2D5E-4F31-8BD7-169A0D4F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65CB1-EA63-42F0-9201-8852B2D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731A-DC48-46B2-9426-BAB85B5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4BB34-004C-4C0F-8CED-C61FA5CD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9987D-D35B-481D-BCDC-D52B6A45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4164-DD33-4A27-A94C-4C10A04F0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0676-D130-4803-9DE3-52E9884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670CF-E05E-4947-9DBC-BD1EE3B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D67FE-E4FE-4E56-9CA9-6B297C1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7EC07-0AEB-4F45-AC78-5A8EF416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D68AC-F062-4B58-9D1F-E1711026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3AFC-FB55-4E0D-9F97-3151C535A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9CC2-E43D-4A36-B9CD-4854A3A92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35C3-FCC1-4047-868F-F72BEC4BE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589E-0586-4FF3-9F90-6A51A6203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BC9F-DB43-470C-8E92-176F3AEBC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2A5-0766-4FE0-AE7B-9E567457E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EC50-E879-4131-96B7-2845EB252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249-F8C7-4B49-B2C4-C8AFFA91B7A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0BC-E7AA-4350-8FA4-0FE4D20D049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5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19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Revoluciones liberales y nacionales del sig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908000" y="3573360"/>
            <a:ext cx="6729480" cy="2228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Si la realeza… en lugar de hacerse enteramente pueblo se rodea de una aristocracia electoral… estad seguros de que caerá; caerá no en su sangre, como la de 1789, sino en su propia trampa y, después de haber tenido las revoluciones de la libertad y las contrarrevoluciones de la gloria, tendréis la revolución de la conciencia pública y la revolución del desprecio…” (Alfonso de Lamart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2. Las Revoluciones Liberales (1830-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9528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liberalismo es una doctrina orientada a destacar la libertad del individuo en sus más diversas fa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219640" y="5013360"/>
            <a:ext cx="3457800" cy="10087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defensa del legado ideológico de la Ilu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4000" y="2492280"/>
            <a:ext cx="2952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libertad del individuo como bien supr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8360" y="4941720"/>
            <a:ext cx="359892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individualismo: la persona humana individual por encima de lo social y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132000" y="1700280"/>
            <a:ext cx="324036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igualdad civil y po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7800" y="2421000"/>
            <a:ext cx="29649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respeto a la prop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2556000" y="3284640"/>
            <a:ext cx="4105080" cy="1512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úbl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,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276720" y="3141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572400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3059280" y="4653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651280" y="465264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780000" y="2565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s bases presentes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a Revoluci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Francesa (1830 y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19320" y="12193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268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Barricadas (1830): caída del absolutismo y paso a una monarquía parla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38080" y="2895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imavera de las Naciones (1848): disolución de la monarquía y nacimiento de la Segunda República (1848- 1852). Se instaura el sufragio Universal, es electo presid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is Bonap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en más adelante instauró el Segundo Imperio (Napoleón III, 1852- 187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Revolution1830"/>
          <p:cNvPicPr/>
          <p:nvPr/>
        </p:nvPicPr>
        <p:blipFill>
          <a:blip r:embed="rId1"/>
          <a:stretch/>
        </p:blipFill>
        <p:spPr>
          <a:xfrm>
            <a:off x="5334120" y="1143000"/>
            <a:ext cx="302724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uis Felipe I (1830- 1848)"/>
          <p:cNvPicPr/>
          <p:nvPr/>
        </p:nvPicPr>
        <p:blipFill>
          <a:blip r:embed="rId2"/>
          <a:stretch/>
        </p:blipFill>
        <p:spPr>
          <a:xfrm>
            <a:off x="4648320" y="3657600"/>
            <a:ext cx="2155680" cy="294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ap231"/>
          <p:cNvPicPr/>
          <p:nvPr/>
        </p:nvPicPr>
        <p:blipFill>
          <a:blip r:embed="rId3"/>
          <a:stretch/>
        </p:blipFill>
        <p:spPr>
          <a:xfrm>
            <a:off x="6804000" y="3716280"/>
            <a:ext cx="2151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s revoluciones de 1830 y 1848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59280" y="3284640"/>
            <a:ext cx="381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levaciones de Hungría, Eslovaquia y Checa en contra del Imperio Austri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067280" y="1268280"/>
            <a:ext cx="1368360" cy="863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1197000"/>
            <a:ext cx="2879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cia de Bélgica, movimiento de julio de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1341360"/>
            <a:ext cx="32288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e de Italia: Joven Italia (Mazzini y Garibald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11280" y="3645000"/>
            <a:ext cx="3168720" cy="11988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secuencias de la revoluci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4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3780000" y="3573360"/>
            <a:ext cx="107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635280" y="162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3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Alemania y  Parlamento de Fráncfort: constitución liberal que es sofo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3780000" y="429264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050560" y="2133720"/>
            <a:ext cx="2449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60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 LAS UNIFICACIONES NACIONALES DE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ITALIA Y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32360" y="1557360"/>
            <a:ext cx="3602160" cy="46929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nacionalismo se caracterizó por plant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incipio de soberanía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limitación a la monarquía (constitución y par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idea de nación, fundada en una historia y en una tradició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visión romántica d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samblea Nacional de Frankfurt, 1848"/>
          <p:cNvPicPr/>
          <p:nvPr/>
        </p:nvPicPr>
        <p:blipFill>
          <a:blip r:embed="rId1"/>
          <a:stretch/>
        </p:blipFill>
        <p:spPr>
          <a:xfrm>
            <a:off x="755640" y="1916280"/>
            <a:ext cx="378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487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1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 (1859- 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26920" y="1484280"/>
            <a:ext cx="792180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cada de 1830, desarrollo de la “Joven Italia” de Maz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6920" y="198900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liberal de Milán de 1848 y el establecimiento de la República de R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637440" y="907920"/>
            <a:ext cx="241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826920" y="278136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íctor Manuel II constituye el único estado liberal (monárquico) que permanece tras las revoluciones, con Cavour como Primer  Min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829800" y="3716280"/>
            <a:ext cx="7847640" cy="2533680"/>
            <a:chOff x="829800" y="3716280"/>
            <a:chExt cx="7847640" cy="2533680"/>
          </a:xfrm>
        </p:grpSpPr>
        <p:sp>
          <p:nvSpPr>
            <p:cNvPr id="227" name="Text Box 5"/>
            <p:cNvSpPr/>
            <p:nvPr/>
          </p:nvSpPr>
          <p:spPr>
            <a:xfrm>
              <a:off x="4284720" y="3789360"/>
              <a:ext cx="4392720" cy="224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Primera guerra en contra de Austria (1859- 1861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gunda Guerra en contra de Austria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quista de Roma (1870) y nacimiento de la Cuestión Roma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829800" y="3716280"/>
              <a:ext cx="2785320" cy="36828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ses de la Unificaci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1" descr="bandera_italia"/>
            <p:cNvPicPr/>
            <p:nvPr/>
          </p:nvPicPr>
          <p:blipFill>
            <a:blip r:embed="rId1"/>
            <a:stretch/>
          </p:blipFill>
          <p:spPr>
            <a:xfrm>
              <a:off x="971640" y="4292640"/>
              <a:ext cx="2663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3"/>
            <p:cNvSpPr/>
            <p:nvPr/>
          </p:nvSpPr>
          <p:spPr>
            <a:xfrm>
              <a:off x="3635280" y="3933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3210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Unificaci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Unificación%20Italiana"/>
          <p:cNvPicPr/>
          <p:nvPr/>
        </p:nvPicPr>
        <p:blipFill>
          <a:blip r:embed="rId1"/>
          <a:stretch/>
        </p:blipFill>
        <p:spPr>
          <a:xfrm>
            <a:off x="250920" y="1052640"/>
            <a:ext cx="8675640" cy="53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2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alemana (1866- 18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916360" y="1052640"/>
            <a:ext cx="3733560" cy="3988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95280" y="2421000"/>
            <a:ext cx="85694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de 1848: parlamento de Fráncfort y constitución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616040" y="1844640"/>
            <a:ext cx="59612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30, desarrollo de Zollverein (unión aduan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6432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7928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ón Alemana tras el Congreso de V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484360" y="126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723600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1115640" y="3357720"/>
            <a:ext cx="8028360" cy="3123360"/>
            <a:chOff x="1115640" y="3357720"/>
            <a:chExt cx="8028360" cy="3123360"/>
          </a:xfrm>
        </p:grpSpPr>
        <p:sp>
          <p:nvSpPr>
            <p:cNvPr id="244" name="Text Box 5"/>
            <p:cNvSpPr/>
            <p:nvPr/>
          </p:nvSpPr>
          <p:spPr>
            <a:xfrm>
              <a:off x="4643280" y="3357720"/>
              <a:ext cx="4321440" cy="239976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de los ducados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austro- prusiana (1866- 1867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franco- prusiana (1870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Segundo Reich: en 1871, Guillermo I se proclamó emperad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115640" y="3357720"/>
              <a:ext cx="3050640" cy="3988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Fases de la unificaci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4" descr="9382_ddr_bandera2"/>
            <p:cNvPicPr/>
            <p:nvPr/>
          </p:nvPicPr>
          <p:blipFill>
            <a:blip r:embed="rId1"/>
            <a:stretch/>
          </p:blipFill>
          <p:spPr>
            <a:xfrm>
              <a:off x="1116000" y="3933720"/>
              <a:ext cx="3097080" cy="1943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7" name="Line 15"/>
            <p:cNvSpPr/>
            <p:nvPr/>
          </p:nvSpPr>
          <p:spPr>
            <a:xfrm>
              <a:off x="4140360" y="35002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1149480" y="6021360"/>
              <a:ext cx="79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Verdana"/>
                </a:rPr>
                <a:t>R   O   M   A    N    T    I    C    I   S   M   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apa aleman"/>
          <p:cNvPicPr/>
          <p:nvPr/>
        </p:nvPicPr>
        <p:blipFill>
          <a:blip r:embed="rId1"/>
          <a:stretch/>
        </p:blipFill>
        <p:spPr>
          <a:xfrm>
            <a:off x="1332000" y="189000"/>
            <a:ext cx="7129440" cy="638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 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ntesis, estos son los temas que hemos visto en est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895480" y="1295280"/>
            <a:ext cx="2819520" cy="1067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burgu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4191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8288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828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2670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600200" y="266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íodo domin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943600" y="2362320"/>
            <a:ext cx="2732040" cy="8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stauración Absolu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el Concierto 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914400" y="4038480"/>
            <a:ext cx="20574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410080" y="4038480"/>
            <a:ext cx="2667240" cy="838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05120" y="5181480"/>
            <a:ext cx="1676160" cy="6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419720" y="5181480"/>
            <a:ext cx="281916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arquía Parla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12193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2193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78487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7238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1295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PERIALISMO Y 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OCIEDAD EUROPEA FINIS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6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ntifiques 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surgidas en un mundo que se industrializa y se democratiza, vinculándolas a los conflictos sociales y político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aracterices el liberalismo eco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 y político, como uno de los fundamentos de la sociedad burguesa nacida de las revoluciones Francesa e 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ques el nacionalismo y el fortalecimiento de los estados nacionales, como una de las fuerzas generadoras de formas de participación del mundo contemp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Restauración Absolutis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30 y 18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ificaciones Nacion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61- 18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bertad guiando al pueblo, Delacroix, 1830"/>
          <p:cNvPicPr/>
          <p:nvPr/>
        </p:nvPicPr>
        <p:blipFill>
          <a:blip r:embed="rId1"/>
          <a:stretch/>
        </p:blipFill>
        <p:spPr>
          <a:xfrm>
            <a:off x="2050920" y="907920"/>
            <a:ext cx="576108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5"/>
          <p:cNvSpPr/>
          <p:nvPr/>
        </p:nvSpPr>
        <p:spPr>
          <a:xfrm>
            <a:off x="1979640" y="260280"/>
            <a:ext cx="5832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¿Qué representa este cuad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4"/>
          <p:cNvGrpSpPr/>
          <p:nvPr/>
        </p:nvGrpSpPr>
        <p:grpSpPr>
          <a:xfrm>
            <a:off x="0" y="1197000"/>
            <a:ext cx="8748720" cy="1007640"/>
            <a:chOff x="0" y="1197000"/>
            <a:chExt cx="8748720" cy="1007640"/>
          </a:xfrm>
        </p:grpSpPr>
        <p:sp>
          <p:nvSpPr>
            <p:cNvPr id="97" name="Line 4"/>
            <p:cNvSpPr/>
            <p:nvPr/>
          </p:nvSpPr>
          <p:spPr>
            <a:xfrm>
              <a:off x="0" y="1915920"/>
              <a:ext cx="874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3"/>
            <p:cNvGrpSpPr/>
            <p:nvPr/>
          </p:nvGrpSpPr>
          <p:grpSpPr>
            <a:xfrm>
              <a:off x="468360" y="1197000"/>
              <a:ext cx="7991280" cy="1007640"/>
              <a:chOff x="468360" y="1197000"/>
              <a:chExt cx="7991280" cy="1007640"/>
            </a:xfrm>
          </p:grpSpPr>
          <p:sp>
            <p:nvSpPr>
              <p:cNvPr id="99" name="Line 5"/>
              <p:cNvSpPr/>
              <p:nvPr/>
            </p:nvSpPr>
            <p:spPr>
              <a:xfrm>
                <a:off x="684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205092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468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1692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3492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305928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450072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4140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572436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536400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665964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"/>
              <p:cNvSpPr/>
              <p:nvPr/>
            </p:nvSpPr>
            <p:spPr>
              <a:xfrm>
                <a:off x="622764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766764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802800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7"/>
          <p:cNvGrpSpPr/>
          <p:nvPr/>
        </p:nvGrpSpPr>
        <p:grpSpPr>
          <a:xfrm>
            <a:off x="3276720" y="2565360"/>
            <a:ext cx="1439640" cy="2898720"/>
            <a:chOff x="3276720" y="2565360"/>
            <a:chExt cx="1439640" cy="2898720"/>
          </a:xfrm>
        </p:grpSpPr>
        <p:sp>
          <p:nvSpPr>
            <p:cNvPr id="114" name="Text Box 24"/>
            <p:cNvSpPr/>
            <p:nvPr/>
          </p:nvSpPr>
          <p:spPr>
            <a:xfrm>
              <a:off x="327672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stauración Absolut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rot="5400000">
              <a:off x="3852000" y="2205720"/>
              <a:ext cx="216000" cy="935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4400 h 935280"/>
                <a:gd name="textAreaBottom" fmla="*/ 92088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4" descr="luisxiv_2"/>
            <p:cNvPicPr/>
            <p:nvPr/>
          </p:nvPicPr>
          <p:blipFill>
            <a:blip r:embed="rId1"/>
            <a:stretch/>
          </p:blipFill>
          <p:spPr>
            <a:xfrm>
              <a:off x="3348000" y="3573360"/>
              <a:ext cx="1328760" cy="18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8"/>
          <p:cNvGrpSpPr/>
          <p:nvPr/>
        </p:nvGrpSpPr>
        <p:grpSpPr>
          <a:xfrm>
            <a:off x="4500360" y="2565360"/>
            <a:ext cx="1582920" cy="2881080"/>
            <a:chOff x="4500360" y="2565360"/>
            <a:chExt cx="1582920" cy="2881080"/>
          </a:xfrm>
        </p:grpSpPr>
        <p:sp>
          <p:nvSpPr>
            <p:cNvPr id="118" name="Text Box 27"/>
            <p:cNvSpPr/>
            <p:nvPr/>
          </p:nvSpPr>
          <p:spPr>
            <a:xfrm>
              <a:off x="464328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ones Lib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8"/>
            <p:cNvSpPr/>
            <p:nvPr/>
          </p:nvSpPr>
          <p:spPr>
            <a:xfrm rot="5400000">
              <a:off x="5004000" y="2061360"/>
              <a:ext cx="216000" cy="1223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8720 h 1223640"/>
                <a:gd name="textAreaBottom" fmla="*/ 12049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8" descr="rev"/>
            <p:cNvPicPr/>
            <p:nvPr/>
          </p:nvPicPr>
          <p:blipFill>
            <a:blip r:embed="rId2"/>
            <a:stretch/>
          </p:blipFill>
          <p:spPr>
            <a:xfrm>
              <a:off x="4716360" y="3573360"/>
              <a:ext cx="122400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46"/>
          <p:cNvGrpSpPr/>
          <p:nvPr/>
        </p:nvGrpSpPr>
        <p:grpSpPr>
          <a:xfrm>
            <a:off x="1692360" y="2565360"/>
            <a:ext cx="1653840" cy="2881080"/>
            <a:chOff x="1692360" y="2565360"/>
            <a:chExt cx="1653840" cy="2881080"/>
          </a:xfrm>
        </p:grpSpPr>
        <p:sp>
          <p:nvSpPr>
            <p:cNvPr id="122" name="AutoShape 23"/>
            <p:cNvSpPr/>
            <p:nvPr/>
          </p:nvSpPr>
          <p:spPr>
            <a:xfrm rot="5400000">
              <a:off x="2554560" y="2061000"/>
              <a:ext cx="287280" cy="129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640"/>
                <a:gd name="textAreaBottom" fmla="*/ 12758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69236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erio Napole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0" descr="napoleon-bonaparte"/>
            <p:cNvPicPr/>
            <p:nvPr/>
          </p:nvPicPr>
          <p:blipFill>
            <a:blip r:embed="rId3"/>
            <a:stretch/>
          </p:blipFill>
          <p:spPr>
            <a:xfrm>
              <a:off x="1835280" y="3573360"/>
              <a:ext cx="14857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45"/>
          <p:cNvGrpSpPr/>
          <p:nvPr/>
        </p:nvGrpSpPr>
        <p:grpSpPr>
          <a:xfrm>
            <a:off x="250920" y="2565360"/>
            <a:ext cx="1728720" cy="2881080"/>
            <a:chOff x="250920" y="2565360"/>
            <a:chExt cx="1728720" cy="2881080"/>
          </a:xfrm>
        </p:grpSpPr>
        <p:sp>
          <p:nvSpPr>
            <p:cNvPr id="126" name="AutoShape 21"/>
            <p:cNvSpPr/>
            <p:nvPr/>
          </p:nvSpPr>
          <p:spPr>
            <a:xfrm rot="5400000">
              <a:off x="111528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53964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ón  Fran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1" descr=""/>
            <p:cNvPicPr/>
            <p:nvPr/>
          </p:nvPicPr>
          <p:blipFill>
            <a:blip r:embed="rId4"/>
            <a:stretch/>
          </p:blipFill>
          <p:spPr>
            <a:xfrm>
              <a:off x="250920" y="3573360"/>
              <a:ext cx="14875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49"/>
          <p:cNvGrpSpPr/>
          <p:nvPr/>
        </p:nvGrpSpPr>
        <p:grpSpPr>
          <a:xfrm>
            <a:off x="6732720" y="2565360"/>
            <a:ext cx="1511280" cy="2879640"/>
            <a:chOff x="6732720" y="2565360"/>
            <a:chExt cx="1511280" cy="2879640"/>
          </a:xfrm>
        </p:grpSpPr>
        <p:sp>
          <p:nvSpPr>
            <p:cNvPr id="130" name="Text Box 29"/>
            <p:cNvSpPr/>
            <p:nvPr/>
          </p:nvSpPr>
          <p:spPr>
            <a:xfrm>
              <a:off x="680400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nificaciones Nacion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1"/>
            <p:cNvSpPr/>
            <p:nvPr/>
          </p:nvSpPr>
          <p:spPr>
            <a:xfrm rot="5400000">
              <a:off x="723672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2" descr="H_U_10_11.jpg"/>
            <p:cNvPicPr/>
            <p:nvPr/>
          </p:nvPicPr>
          <p:blipFill>
            <a:blip r:embed="rId5"/>
            <a:stretch/>
          </p:blipFill>
          <p:spPr>
            <a:xfrm>
              <a:off x="6804000" y="3573360"/>
              <a:ext cx="1382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50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TEXTUALICEMOS LOS  SIGUIENTES PROCE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539640" y="3068640"/>
            <a:ext cx="244800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419640" y="3068640"/>
            <a:ext cx="252072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VOLUCIONE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00720" y="3068640"/>
            <a:ext cx="255744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IFICACION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9640" y="4510080"/>
            <a:ext cx="2448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CIÓN ABSOLU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1403280" y="189000"/>
            <a:ext cx="6480000" cy="1906560"/>
            <a:chOff x="1403280" y="189000"/>
            <a:chExt cx="6480000" cy="1906560"/>
          </a:xfrm>
        </p:grpSpPr>
        <p:sp>
          <p:nvSpPr>
            <p:cNvPr id="139" name="Text Box 5"/>
            <p:cNvSpPr/>
            <p:nvPr/>
          </p:nvSpPr>
          <p:spPr>
            <a:xfrm>
              <a:off x="1403280" y="189000"/>
              <a:ext cx="6480000" cy="58140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LEGADO DE LA ILUST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771640" y="1270080"/>
              <a:ext cx="3529080" cy="825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EVOLUCIÓN FRAN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498920" y="765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3"/>
          <p:cNvSpPr/>
          <p:nvPr/>
        </p:nvSpPr>
        <p:spPr>
          <a:xfrm>
            <a:off x="1619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161928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752472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619280" y="27097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500720" y="2133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372360" y="4797360"/>
            <a:ext cx="25574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TALIA  Y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995640" y="4437000"/>
            <a:ext cx="115272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4500720" y="371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59636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 rot="5400000">
            <a:off x="6642000" y="3733560"/>
            <a:ext cx="431640" cy="3997440"/>
          </a:xfrm>
          <a:custGeom>
            <a:avLst/>
            <a:gdLst>
              <a:gd name="textAreaLeft" fmla="*/ 0 w 431640"/>
              <a:gd name="textAreaRight" fmla="*/ 155880 w 431640"/>
              <a:gd name="textAreaTop" fmla="*/ 61920 h 3997440"/>
              <a:gd name="textAreaBottom" fmla="*/ 3935520 h 39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635280" y="5950080"/>
            <a:ext cx="5257800" cy="3988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BERALISMO Y NACION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EGADO NAPOLE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971640" y="2997360"/>
            <a:ext cx="3456000" cy="1728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a1c9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olidación en Franci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de la 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19640" y="1268280"/>
            <a:ext cx="3456000" cy="151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e8ba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ansión Imperial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rtar el  ide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olucio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900000" y="1341360"/>
            <a:ext cx="3311640" cy="1513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7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Último déspota ilu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932360" y="3068640"/>
            <a:ext cx="3672000" cy="165564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b3a3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 Código Civil se constituy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modelo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flipH="1" rot="16183800">
            <a:off x="4662360" y="3195000"/>
            <a:ext cx="432000" cy="3924000"/>
          </a:xfrm>
          <a:custGeom>
            <a:avLst/>
            <a:gdLst>
              <a:gd name="textAreaLeft" fmla="*/ 360 w 432000"/>
              <a:gd name="textAreaRight" fmla="*/ 156240 w 432000"/>
              <a:gd name="textAreaTop" fmla="*/ 102240 h 3924000"/>
              <a:gd name="textAreaBottom" fmla="*/ 3821760 h 39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03280" y="5516640"/>
            <a:ext cx="71992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obstante, Napoleón restauró los privilegios de la nobleza. Tras su derrota comienza la reacción monárqu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92360" y="907920"/>
            <a:ext cx="719280" cy="5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3995280" y="907920"/>
            <a:ext cx="576360" cy="23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716360" y="907920"/>
            <a:ext cx="1008000" cy="23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5148360" y="907920"/>
            <a:ext cx="718920" cy="5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LA RESTAUR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: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regreso del absolutismo. (1815- 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916280"/>
            <a:ext cx="2808360" cy="2187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reso de Vie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ompens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terr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quilibrio de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67280" y="1916280"/>
            <a:ext cx="3095640" cy="183168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anta Alianz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stria, Rusia y Prusia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la Cuádruple Alianz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vilización de la fuerza para impedir brotes revolucionarios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ongreso de Viena, según Isabey"/>
          <p:cNvPicPr/>
          <p:nvPr/>
        </p:nvPicPr>
        <p:blipFill>
          <a:blip r:embed="rId1"/>
          <a:stretch/>
        </p:blipFill>
        <p:spPr>
          <a:xfrm>
            <a:off x="5724360" y="4005360"/>
            <a:ext cx="3167280" cy="24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68" name="Picture 7" descr="El Congreso de 1815"/>
          <p:cNvPicPr/>
          <p:nvPr/>
        </p:nvPicPr>
        <p:blipFill>
          <a:blip r:embed="rId2"/>
          <a:stretch/>
        </p:blipFill>
        <p:spPr>
          <a:xfrm>
            <a:off x="826920" y="4005360"/>
            <a:ext cx="223236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Text Box 8"/>
          <p:cNvSpPr/>
          <p:nvPr/>
        </p:nvSpPr>
        <p:spPr>
          <a:xfrm>
            <a:off x="684360" y="1197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cambios políticos en Europa entre 1814 y 1848, caracterizado por el intento de los monarcas de asentar su legitimid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356000" y="2205000"/>
            <a:ext cx="792360" cy="31809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34920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29272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EUROPA DEL CONGRESO DE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187280" y="839880"/>
            <a:ext cx="774576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Principales procesos del período de la Restau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539640" y="1628640"/>
            <a:ext cx="7848720" cy="4032360"/>
            <a:chOff x="539640" y="1628640"/>
            <a:chExt cx="7848720" cy="4032360"/>
          </a:xfrm>
        </p:grpSpPr>
        <p:sp>
          <p:nvSpPr>
            <p:cNvPr id="177" name="Rectangle 5"/>
            <p:cNvSpPr/>
            <p:nvPr/>
          </p:nvSpPr>
          <p:spPr>
            <a:xfrm>
              <a:off x="539640" y="1628640"/>
              <a:ext cx="352764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ofocamiento de la Rev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iberal española de 182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340000" y="3139920"/>
              <a:ext cx="352728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firmación de la hegemoní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ustria (Metternich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427640" y="4653000"/>
              <a:ext cx="39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dependencia de Grecia en 1829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1403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403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92360" y="4148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3492360" y="5084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14"/>
          <p:cNvSpPr/>
          <p:nvPr/>
        </p:nvSpPr>
        <p:spPr>
          <a:xfrm>
            <a:off x="6012000" y="162864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9ac1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¡comienza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ovimiento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y nacionales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Catalina Olivares</dc:creator>
  <dc:description/>
  <dc:language>en-US</dc:language>
  <cp:lastModifiedBy>mago</cp:lastModifiedBy>
  <dcterms:modified xsi:type="dcterms:W3CDTF">2008-10-03T04:22:38Z</dcterms:modified>
  <cp:revision>63</cp:revision>
  <dc:subject/>
  <dc:title>Diapositiva 1</dc:title>
</cp:coreProperties>
</file>