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8368-3519-44C0-B8D5-64AA1854E5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B03A-65F3-4E8A-8ACD-F62448B9D8F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 profesor(a), aquí se sugiere indagar además de los elementos mencionados en la diapositiva, en las características económicas de esta ideología debido a la transversalidad de este contenido en la P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8266-B776-4407-AB92-872F71BB084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La Revolución de Paris, 1830; abajo a la izquierda, Luis Felipe I; derecha, Napoleón 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FA8B-65AD-41AE-B309-1DFA1C5EAF3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Asamblea Nacional de F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fort, 1848, la que aprobó una Constitución que establecía una Alemania unificada bajo un emperador heredit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365C-266A-47D4-81BB-74B46748897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2025-ADDE-4C47-9F3B-0187D49CF87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Bandera conmemorativa de los 15 años de unificación Alem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1EAD-3A82-48DA-B82D-2CB3F4A5730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 “La libertad guiando al pueblo”, cuadro de Eugène Delacroix pintado en 1830 y conservado en el  Museo del Louvre de Parí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847D-D734-49C6-87B5-67791D0FB65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derecha,  Congreso de Viena, según Isabey; izquierda : Alejandro de Rusia, Federico Guillermo de Austria y Francisco de Pru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5E04-17F5-4187-A9D6-9D71EE448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6E11-43E2-4F75-AC99-5D291DE33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8CFA-A2F8-4BA9-9903-24DA11DAE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D6A5-1196-4C2C-A949-5AB7D3515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2B156-A6D5-4EB8-89D1-543A6852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2FF93-BF3C-4664-B682-3A146F27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378A5-E636-40AC-88DC-6D0B0CAD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2C80A-6936-4B43-AD9E-E3FAACE7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81F8D-4318-4565-8B42-F9F77BE2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F21ED-3169-477E-A07A-73D8CE1E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A1D0E-E048-49FC-8480-5E4710A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E271-CEDD-4AAA-BBAD-CB9F5A3EB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B912F-1554-4C74-B740-07D1A9C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CB725-48E9-40E2-8A06-410424F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915CB-AF06-43E1-BCB7-0092EBE1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5DED8-407A-4DE1-AD07-503955BF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BC135-9E4D-4705-9EED-D2E5A078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073D-AB8D-40C4-82DD-B3D24AC9F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1FDD-9A14-4882-A448-9F2182BFE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CE5B-245C-4C95-8ACC-86120DF2C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0D56-A088-496E-83DD-562BAD145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CED1-18A4-4629-AC11-FC728ADA0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C133-F163-42A7-81A0-EF8F482C6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BC86-ECFB-4D33-8C2F-76AA89D51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2444-95FC-414B-8088-D6C9895989B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9324-0178-4764-BE4C-08AE9F7F710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52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CLASE HU 19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Revoluciones liberales y nacionales del siglo X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908000" y="3573360"/>
            <a:ext cx="6729480" cy="222840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Si la realeza… en lugar de hacerse enteramente pueblo se rodea de una aristocracia electoral… estad seguros de que caerá; caerá no en su sangre, como la de 1789, sino en su propia trampa y, después de haber tenido las revoluciones de la libertad y las contrarrevoluciones de la gloria, tendréis la revolución de la conciencia pública y la revolución del desprecio…” (Alfonso de Lamart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2. Las Revoluciones Liberales (1830-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95280" y="907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liberalismo es una doctrina orientada a destacar la libertad del individuo en sus más diversas fa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219640" y="5013360"/>
            <a:ext cx="3457800" cy="10087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defensa del legado ideológico de la Ilus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24000" y="2492280"/>
            <a:ext cx="295272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libertad del individuo como bien supr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68360" y="4941720"/>
            <a:ext cx="3598920" cy="9169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individualismo: la persona humana individual por encima de lo social y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3132000" y="1700280"/>
            <a:ext cx="324036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igualdad civil y pol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5797800" y="2421000"/>
            <a:ext cx="296496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 respeto a la propie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2556000" y="3284640"/>
            <a:ext cx="4105080" cy="1512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úbl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eranía Naci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visión de Poderes,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4572000" y="2060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3276720" y="3141720"/>
            <a:ext cx="5745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5724000" y="306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V="1">
            <a:off x="3059280" y="465300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H="1" flipV="1">
            <a:off x="5651280" y="465264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3780000" y="2565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incipios bases presentes en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a Revoluci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Francesa (1830 y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219320" y="12193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268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de las Barricadas (1830): caída del absolutismo y paso a una monarquía parla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38080" y="2895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imavera de las Naciones (1848): disolución de la monarquía y nacimiento de la Segunda República (1848- 1852). Se instaura el sufragio Universal, es electo president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is Bonapa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en más adelante instauró el Segundo Imperio (Napoleón III, 1852- 187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Revolution1830"/>
          <p:cNvPicPr/>
          <p:nvPr/>
        </p:nvPicPr>
        <p:blipFill>
          <a:blip r:embed="rId1"/>
          <a:stretch/>
        </p:blipFill>
        <p:spPr>
          <a:xfrm>
            <a:off x="5334120" y="1143000"/>
            <a:ext cx="302724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uis Felipe I (1830- 1848)"/>
          <p:cNvPicPr/>
          <p:nvPr/>
        </p:nvPicPr>
        <p:blipFill>
          <a:blip r:embed="rId2"/>
          <a:stretch/>
        </p:blipFill>
        <p:spPr>
          <a:xfrm>
            <a:off x="4648320" y="3657600"/>
            <a:ext cx="2155680" cy="294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nap231"/>
          <p:cNvPicPr/>
          <p:nvPr/>
        </p:nvPicPr>
        <p:blipFill>
          <a:blip r:embed="rId3"/>
          <a:stretch/>
        </p:blipFill>
        <p:spPr>
          <a:xfrm>
            <a:off x="6804000" y="3716280"/>
            <a:ext cx="2151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s revoluciones de 1830 y 1848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859280" y="3284640"/>
            <a:ext cx="3816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levaciones de Hungría, Eslovaquia y Checa en contra del Imperio Austria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4067280" y="1268280"/>
            <a:ext cx="1368360" cy="863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96000" y="1197000"/>
            <a:ext cx="287964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cia de Bélgica, movimiento de julio de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95280" y="1341360"/>
            <a:ext cx="32288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te de Italia: Joven Italia (Mazzini y Garibald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11280" y="3645000"/>
            <a:ext cx="3168720" cy="11988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secuencias de la revoluci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84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3780000" y="3573360"/>
            <a:ext cx="1079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3635280" y="162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43564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4859280" y="4437000"/>
            <a:ext cx="381636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Alemania y  Parlamento de Fráncfort: constitución liberal que es sofo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3780000" y="4292640"/>
            <a:ext cx="107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H="1">
            <a:off x="2050560" y="2133720"/>
            <a:ext cx="2449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960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 LAS UNIFICACIONES NACIONALES DE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ITALIA Y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32360" y="1557360"/>
            <a:ext cx="3602160" cy="46929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nacionalismo se caracterizó por plant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principio de soberanía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limitación a la monarquía (constitución y parlam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idea de nación, fundada en una historia y en una tradició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visión romántica d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samblea Nacional de Frankfurt, 1848"/>
          <p:cNvPicPr/>
          <p:nvPr/>
        </p:nvPicPr>
        <p:blipFill>
          <a:blip r:embed="rId1"/>
          <a:stretch/>
        </p:blipFill>
        <p:spPr>
          <a:xfrm>
            <a:off x="755640" y="1916280"/>
            <a:ext cx="3781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8487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1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 (1859- 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26920" y="1484280"/>
            <a:ext cx="792180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cada de 1830, desarrollo de la “Joven Italia” de Maz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6920" y="198900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liberal de Milán de 1848 y el establecimiento de la República de Ro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637440" y="907920"/>
            <a:ext cx="241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826920" y="278136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íctor Manuel II constituye el único estado liberal (monárquico) que permanece tras las revoluciones, con Cavour como Primer  Minis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"/>
          <p:cNvGrpSpPr/>
          <p:nvPr/>
        </p:nvGrpSpPr>
        <p:grpSpPr>
          <a:xfrm>
            <a:off x="829800" y="3716280"/>
            <a:ext cx="7847640" cy="2533680"/>
            <a:chOff x="829800" y="3716280"/>
            <a:chExt cx="7847640" cy="2533680"/>
          </a:xfrm>
        </p:grpSpPr>
        <p:sp>
          <p:nvSpPr>
            <p:cNvPr id="227" name="Text Box 5"/>
            <p:cNvSpPr/>
            <p:nvPr/>
          </p:nvSpPr>
          <p:spPr>
            <a:xfrm>
              <a:off x="4284720" y="3789360"/>
              <a:ext cx="4392720" cy="2241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Primera guerra en contra de Austria (1859- 1861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gunda Guerra en contra de Austria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quista de Roma (1870) y nacimiento de la Cuestión Roman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829800" y="3716280"/>
              <a:ext cx="2785320" cy="36828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ases de la Unificaci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1" descr="bandera_italia"/>
            <p:cNvPicPr/>
            <p:nvPr/>
          </p:nvPicPr>
          <p:blipFill>
            <a:blip r:embed="rId1"/>
            <a:stretch/>
          </p:blipFill>
          <p:spPr>
            <a:xfrm>
              <a:off x="971640" y="4292640"/>
              <a:ext cx="26636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3"/>
            <p:cNvSpPr/>
            <p:nvPr/>
          </p:nvSpPr>
          <p:spPr>
            <a:xfrm>
              <a:off x="3635280" y="3933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43210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Unificaci</a:t>
            </a:r>
            <a:r>
              <a:rPr b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Unificación%20Italiana"/>
          <p:cNvPicPr/>
          <p:nvPr/>
        </p:nvPicPr>
        <p:blipFill>
          <a:blip r:embed="rId1"/>
          <a:stretch/>
        </p:blipFill>
        <p:spPr>
          <a:xfrm>
            <a:off x="250920" y="1052640"/>
            <a:ext cx="8675640" cy="538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692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2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alemana (1866- 18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916360" y="1052640"/>
            <a:ext cx="3733560" cy="3988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95280" y="2421000"/>
            <a:ext cx="85694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olución de 1848: parlamento de Fráncfort y constitución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616040" y="1844640"/>
            <a:ext cx="59612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30, desarrollo de Zollverein (unión aduan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464328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4643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79280" y="9079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tuación Alemana tras el Congreso de Vi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2484360" y="126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723600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 flipH="1"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2"/>
          <p:cNvGrpSpPr/>
          <p:nvPr/>
        </p:nvGrpSpPr>
        <p:grpSpPr>
          <a:xfrm>
            <a:off x="1115640" y="3357720"/>
            <a:ext cx="8028360" cy="3123360"/>
            <a:chOff x="1115640" y="3357720"/>
            <a:chExt cx="8028360" cy="3123360"/>
          </a:xfrm>
        </p:grpSpPr>
        <p:sp>
          <p:nvSpPr>
            <p:cNvPr id="244" name="Text Box 5"/>
            <p:cNvSpPr/>
            <p:nvPr/>
          </p:nvSpPr>
          <p:spPr>
            <a:xfrm>
              <a:off x="4643280" y="3357720"/>
              <a:ext cx="4321440" cy="239976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de los ducados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austro- prusiana (1866- 1867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franco- prusiana (1870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Segundo Reich: en 1871, Guillermo I se proclamó emperado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115640" y="3357720"/>
              <a:ext cx="3050640" cy="39888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Fases de la unificaci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14" descr="9382_ddr_bandera2"/>
            <p:cNvPicPr/>
            <p:nvPr/>
          </p:nvPicPr>
          <p:blipFill>
            <a:blip r:embed="rId1"/>
            <a:stretch/>
          </p:blipFill>
          <p:spPr>
            <a:xfrm>
              <a:off x="1116000" y="3933720"/>
              <a:ext cx="3097080" cy="1943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47" name="Line 15"/>
            <p:cNvSpPr/>
            <p:nvPr/>
          </p:nvSpPr>
          <p:spPr>
            <a:xfrm>
              <a:off x="4140360" y="350028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1"/>
            <p:cNvSpPr/>
            <p:nvPr/>
          </p:nvSpPr>
          <p:spPr>
            <a:xfrm>
              <a:off x="1149480" y="6021360"/>
              <a:ext cx="799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Verdana"/>
                </a:rPr>
                <a:t>R   O   M   A    N    T    I    C    I   S   M   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mapa aleman"/>
          <p:cNvPicPr/>
          <p:nvPr/>
        </p:nvPicPr>
        <p:blipFill>
          <a:blip r:embed="rId1"/>
          <a:stretch/>
        </p:blipFill>
        <p:spPr>
          <a:xfrm>
            <a:off x="1332000" y="189000"/>
            <a:ext cx="7129440" cy="6387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792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n 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ntesis, estos son los temas que hemos visto en esta cl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895480" y="1295280"/>
            <a:ext cx="2819520" cy="1067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burgu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4191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1828800" y="35812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18288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6858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426708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1600200" y="2666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íodo domin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943600" y="2362320"/>
            <a:ext cx="2732040" cy="85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stauración Absolu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el Concierto Europ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914400" y="4038480"/>
            <a:ext cx="2057400" cy="9144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b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5410080" y="4038480"/>
            <a:ext cx="2667240" cy="8384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cion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905120" y="5181480"/>
            <a:ext cx="1676160" cy="6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4419720" y="5181480"/>
            <a:ext cx="281916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arquía Parla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121932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12193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78487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72388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1295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PERIALISMO Y 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SOCIEDAD EUROPEA FINISE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7451640" y="5445000"/>
            <a:ext cx="792360" cy="1008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10800" y="6780"/>
                </a:moveTo>
                <a:lnTo>
                  <a:pt x="13376" y="9391"/>
                </a:ln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lnTo>
                  <a:pt x="17763" y="13743"/>
                </a:lnTo>
                <a:lnTo>
                  <a:pt x="16109" y="13743"/>
                </a:lnTo>
                <a:lnTo>
                  <a:pt x="16109" y="20932"/>
                </a:lnTo>
                <a:lnTo>
                  <a:pt x="5491" y="20932"/>
                </a:lnTo>
                <a:lnTo>
                  <a:pt x="5491" y="13743"/>
                </a:lnTo>
                <a:lnTo>
                  <a:pt x="3837" y="13743"/>
                </a:lnTo>
                <a:close/>
              </a:path>
              <a:path fill="darkenLess" w="21600" h="27486">
                <a:moveTo>
                  <a:pt x="13376" y="9391"/>
                </a:move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close/>
              </a:path>
              <a:path fill="darkenLess" w="21600" h="27486">
                <a:moveTo>
                  <a:pt x="9877" y="17242"/>
                </a:moveTo>
                <a:lnTo>
                  <a:pt x="11723" y="17242"/>
                </a:lnTo>
                <a:lnTo>
                  <a:pt x="11723" y="20932"/>
                </a:lnTo>
                <a:lnTo>
                  <a:pt x="16109" y="20932"/>
                </a:lnTo>
                <a:lnTo>
                  <a:pt x="16109" y="13743"/>
                </a:lnTo>
                <a:lnTo>
                  <a:pt x="5491" y="13743"/>
                </a:lnTo>
                <a:lnTo>
                  <a:pt x="5491" y="20932"/>
                </a:lnTo>
                <a:lnTo>
                  <a:pt x="9877" y="2093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456000" cy="326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ntifiques las ideolog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surgidas en un mundo que se industrializa y se democratiza, vinculándolas a los conflictos sociales y políticos de la ép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aracterices el liberalismo eco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o y político, como uno de los fundamentos de la sociedad burguesa nacida de las revoluciones Francesa e Indus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ques el nacionalismo y el fortalecimiento de los estados nacionales, como una de las fuerzas generadoras de formas de participación del mundo contemporán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4 hasta la 1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Restauración Absolutis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ones Liber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30 y 184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ificaciones Nacion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61- 187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er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bertad guiando al pueblo, Delacroix, 1830"/>
          <p:cNvPicPr/>
          <p:nvPr/>
        </p:nvPicPr>
        <p:blipFill>
          <a:blip r:embed="rId1"/>
          <a:stretch/>
        </p:blipFill>
        <p:spPr>
          <a:xfrm>
            <a:off x="2050920" y="907920"/>
            <a:ext cx="5761080" cy="547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5"/>
          <p:cNvSpPr/>
          <p:nvPr/>
        </p:nvSpPr>
        <p:spPr>
          <a:xfrm>
            <a:off x="1979640" y="260280"/>
            <a:ext cx="5832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¿Qué representa este cuad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4"/>
          <p:cNvGrpSpPr/>
          <p:nvPr/>
        </p:nvGrpSpPr>
        <p:grpSpPr>
          <a:xfrm>
            <a:off x="0" y="1197000"/>
            <a:ext cx="8748720" cy="1007640"/>
            <a:chOff x="0" y="1197000"/>
            <a:chExt cx="8748720" cy="1007640"/>
          </a:xfrm>
        </p:grpSpPr>
        <p:sp>
          <p:nvSpPr>
            <p:cNvPr id="97" name="Line 4"/>
            <p:cNvSpPr/>
            <p:nvPr/>
          </p:nvSpPr>
          <p:spPr>
            <a:xfrm>
              <a:off x="0" y="1915920"/>
              <a:ext cx="874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43"/>
            <p:cNvGrpSpPr/>
            <p:nvPr/>
          </p:nvGrpSpPr>
          <p:grpSpPr>
            <a:xfrm>
              <a:off x="468360" y="1197000"/>
              <a:ext cx="7991280" cy="1007640"/>
              <a:chOff x="468360" y="1197000"/>
              <a:chExt cx="7991280" cy="1007640"/>
            </a:xfrm>
          </p:grpSpPr>
          <p:sp>
            <p:nvSpPr>
              <p:cNvPr id="99" name="Line 5"/>
              <p:cNvSpPr/>
              <p:nvPr/>
            </p:nvSpPr>
            <p:spPr>
              <a:xfrm>
                <a:off x="684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205092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7"/>
              <p:cNvSpPr/>
              <p:nvPr/>
            </p:nvSpPr>
            <p:spPr>
              <a:xfrm>
                <a:off x="468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8"/>
              <p:cNvSpPr/>
              <p:nvPr/>
            </p:nvSpPr>
            <p:spPr>
              <a:xfrm>
                <a:off x="1692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3492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"/>
              <p:cNvSpPr/>
              <p:nvPr/>
            </p:nvSpPr>
            <p:spPr>
              <a:xfrm>
                <a:off x="305928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450072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4140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572436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4"/>
              <p:cNvSpPr/>
              <p:nvPr/>
            </p:nvSpPr>
            <p:spPr>
              <a:xfrm>
                <a:off x="536400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665964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6"/>
              <p:cNvSpPr/>
              <p:nvPr/>
            </p:nvSpPr>
            <p:spPr>
              <a:xfrm>
                <a:off x="622764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7"/>
              <p:cNvSpPr/>
              <p:nvPr/>
            </p:nvSpPr>
            <p:spPr>
              <a:xfrm>
                <a:off x="766764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802800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47"/>
          <p:cNvGrpSpPr/>
          <p:nvPr/>
        </p:nvGrpSpPr>
        <p:grpSpPr>
          <a:xfrm>
            <a:off x="3276720" y="2565360"/>
            <a:ext cx="1439640" cy="2898720"/>
            <a:chOff x="3276720" y="2565360"/>
            <a:chExt cx="1439640" cy="2898720"/>
          </a:xfrm>
        </p:grpSpPr>
        <p:sp>
          <p:nvSpPr>
            <p:cNvPr id="114" name="Text Box 24"/>
            <p:cNvSpPr/>
            <p:nvPr/>
          </p:nvSpPr>
          <p:spPr>
            <a:xfrm>
              <a:off x="327672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stauración Absolut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5"/>
            <p:cNvSpPr/>
            <p:nvPr/>
          </p:nvSpPr>
          <p:spPr>
            <a:xfrm rot="5400000">
              <a:off x="3852000" y="2205720"/>
              <a:ext cx="216000" cy="9352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4400 h 935280"/>
                <a:gd name="textAreaBottom" fmla="*/ 92088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34" descr="luisxiv_2"/>
            <p:cNvPicPr/>
            <p:nvPr/>
          </p:nvPicPr>
          <p:blipFill>
            <a:blip r:embed="rId1"/>
            <a:stretch/>
          </p:blipFill>
          <p:spPr>
            <a:xfrm>
              <a:off x="3348000" y="3573360"/>
              <a:ext cx="1328760" cy="18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48"/>
          <p:cNvGrpSpPr/>
          <p:nvPr/>
        </p:nvGrpSpPr>
        <p:grpSpPr>
          <a:xfrm>
            <a:off x="4500360" y="2565360"/>
            <a:ext cx="1582920" cy="2881080"/>
            <a:chOff x="4500360" y="2565360"/>
            <a:chExt cx="1582920" cy="2881080"/>
          </a:xfrm>
        </p:grpSpPr>
        <p:sp>
          <p:nvSpPr>
            <p:cNvPr id="118" name="Text Box 27"/>
            <p:cNvSpPr/>
            <p:nvPr/>
          </p:nvSpPr>
          <p:spPr>
            <a:xfrm>
              <a:off x="464328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ones Lib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8"/>
            <p:cNvSpPr/>
            <p:nvPr/>
          </p:nvSpPr>
          <p:spPr>
            <a:xfrm rot="5400000">
              <a:off x="5004000" y="2061360"/>
              <a:ext cx="216000" cy="1223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8720 h 1223640"/>
                <a:gd name="textAreaBottom" fmla="*/ 12049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8" descr="rev"/>
            <p:cNvPicPr/>
            <p:nvPr/>
          </p:nvPicPr>
          <p:blipFill>
            <a:blip r:embed="rId2"/>
            <a:stretch/>
          </p:blipFill>
          <p:spPr>
            <a:xfrm>
              <a:off x="4716360" y="3573360"/>
              <a:ext cx="122400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46"/>
          <p:cNvGrpSpPr/>
          <p:nvPr/>
        </p:nvGrpSpPr>
        <p:grpSpPr>
          <a:xfrm>
            <a:off x="1692360" y="2565360"/>
            <a:ext cx="1653840" cy="2881080"/>
            <a:chOff x="1692360" y="2565360"/>
            <a:chExt cx="1653840" cy="2881080"/>
          </a:xfrm>
        </p:grpSpPr>
        <p:sp>
          <p:nvSpPr>
            <p:cNvPr id="122" name="AutoShape 23"/>
            <p:cNvSpPr/>
            <p:nvPr/>
          </p:nvSpPr>
          <p:spPr>
            <a:xfrm rot="5400000">
              <a:off x="2554560" y="2061000"/>
              <a:ext cx="287280" cy="1295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640"/>
                <a:gd name="textAreaBottom" fmla="*/ 127584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169236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mperio Napole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40" descr="napoleon-bonaparte"/>
            <p:cNvPicPr/>
            <p:nvPr/>
          </p:nvPicPr>
          <p:blipFill>
            <a:blip r:embed="rId3"/>
            <a:stretch/>
          </p:blipFill>
          <p:spPr>
            <a:xfrm>
              <a:off x="1835280" y="3573360"/>
              <a:ext cx="14857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45"/>
          <p:cNvGrpSpPr/>
          <p:nvPr/>
        </p:nvGrpSpPr>
        <p:grpSpPr>
          <a:xfrm>
            <a:off x="250920" y="2565360"/>
            <a:ext cx="1728720" cy="2881080"/>
            <a:chOff x="250920" y="2565360"/>
            <a:chExt cx="1728720" cy="2881080"/>
          </a:xfrm>
        </p:grpSpPr>
        <p:sp>
          <p:nvSpPr>
            <p:cNvPr id="126" name="AutoShape 21"/>
            <p:cNvSpPr/>
            <p:nvPr/>
          </p:nvSpPr>
          <p:spPr>
            <a:xfrm rot="5400000">
              <a:off x="111528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53964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ón  Franc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1" descr=""/>
            <p:cNvPicPr/>
            <p:nvPr/>
          </p:nvPicPr>
          <p:blipFill>
            <a:blip r:embed="rId4"/>
            <a:stretch/>
          </p:blipFill>
          <p:spPr>
            <a:xfrm>
              <a:off x="250920" y="3573360"/>
              <a:ext cx="14875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49"/>
          <p:cNvGrpSpPr/>
          <p:nvPr/>
        </p:nvGrpSpPr>
        <p:grpSpPr>
          <a:xfrm>
            <a:off x="6732720" y="2565360"/>
            <a:ext cx="1511280" cy="2879640"/>
            <a:chOff x="6732720" y="2565360"/>
            <a:chExt cx="1511280" cy="2879640"/>
          </a:xfrm>
        </p:grpSpPr>
        <p:sp>
          <p:nvSpPr>
            <p:cNvPr id="130" name="Text Box 29"/>
            <p:cNvSpPr/>
            <p:nvPr/>
          </p:nvSpPr>
          <p:spPr>
            <a:xfrm>
              <a:off x="680400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nificaciones Naciona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1"/>
            <p:cNvSpPr/>
            <p:nvPr/>
          </p:nvSpPr>
          <p:spPr>
            <a:xfrm rot="5400000">
              <a:off x="723672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2" descr="H_U_10_11.jpg"/>
            <p:cNvPicPr/>
            <p:nvPr/>
          </p:nvPicPr>
          <p:blipFill>
            <a:blip r:embed="rId5"/>
            <a:stretch/>
          </p:blipFill>
          <p:spPr>
            <a:xfrm>
              <a:off x="6804000" y="3573360"/>
              <a:ext cx="13827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50"/>
          <p:cNvSpPr/>
          <p:nvPr/>
        </p:nvSpPr>
        <p:spPr>
          <a:xfrm>
            <a:off x="539640" y="549360"/>
            <a:ext cx="806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TEXTUALICEMOS LOS  SIGUIENTES PROCE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7"/>
          <p:cNvSpPr/>
          <p:nvPr/>
        </p:nvSpPr>
        <p:spPr>
          <a:xfrm>
            <a:off x="539640" y="3068640"/>
            <a:ext cx="244800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ERIO NAPOLE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419640" y="3068640"/>
            <a:ext cx="252072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VOLUCIONE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300720" y="3068640"/>
            <a:ext cx="255744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IFICACIONE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9640" y="4510080"/>
            <a:ext cx="244800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TAURACIÓN ABSOLU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6"/>
          <p:cNvGrpSpPr/>
          <p:nvPr/>
        </p:nvGrpSpPr>
        <p:grpSpPr>
          <a:xfrm>
            <a:off x="1403280" y="189000"/>
            <a:ext cx="6480000" cy="1906560"/>
            <a:chOff x="1403280" y="189000"/>
            <a:chExt cx="6480000" cy="1906560"/>
          </a:xfrm>
        </p:grpSpPr>
        <p:sp>
          <p:nvSpPr>
            <p:cNvPr id="139" name="Text Box 5"/>
            <p:cNvSpPr/>
            <p:nvPr/>
          </p:nvSpPr>
          <p:spPr>
            <a:xfrm>
              <a:off x="1403280" y="189000"/>
              <a:ext cx="6480000" cy="58140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"/>
                </a:rPr>
                <a:t>LEGADO DE LA ILUST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771640" y="1270080"/>
              <a:ext cx="3529080" cy="8254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REVOLUCIÓN FRANCE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498920" y="765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3"/>
          <p:cNvSpPr/>
          <p:nvPr/>
        </p:nvSpPr>
        <p:spPr>
          <a:xfrm>
            <a:off x="1619280" y="3718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161928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752472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1619280" y="270972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500720" y="2133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6372360" y="4797360"/>
            <a:ext cx="25574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TALIA  Y 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3995640" y="4437000"/>
            <a:ext cx="1152720" cy="785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4500720" y="3718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7596360" y="378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4"/>
          <p:cNvSpPr/>
          <p:nvPr/>
        </p:nvSpPr>
        <p:spPr>
          <a:xfrm rot="5400000">
            <a:off x="6642000" y="3733560"/>
            <a:ext cx="431640" cy="3997440"/>
          </a:xfrm>
          <a:custGeom>
            <a:avLst/>
            <a:gdLst>
              <a:gd name="textAreaLeft" fmla="*/ 0 w 431640"/>
              <a:gd name="textAreaRight" fmla="*/ 155880 w 431640"/>
              <a:gd name="textAreaTop" fmla="*/ 61920 h 3997440"/>
              <a:gd name="textAreaBottom" fmla="*/ 3935520 h 399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3635280" y="5950080"/>
            <a:ext cx="5257800" cy="3988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BERALISMO Y NACIONA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LEGADO NAPOLE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971640" y="2997360"/>
            <a:ext cx="3456000" cy="172872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a1c95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olidación en Franci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de la R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5219640" y="1268280"/>
            <a:ext cx="3456000" cy="15130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e8ba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ansión Imperial perm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ortar el  ide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volucio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900000" y="1341360"/>
            <a:ext cx="3311640" cy="151308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a7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Último déspota ilust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4932360" y="3068640"/>
            <a:ext cx="3672000" cy="1655640"/>
          </a:xfrm>
          <a:prstGeom prst="ellipse">
            <a:avLst/>
          </a:prstGeom>
          <a:gradFill rotWithShape="0">
            <a:gsLst>
              <a:gs pos="0">
                <a:srgbClr val="edd8f4"/>
              </a:gs>
              <a:gs pos="100000">
                <a:srgbClr val="b3a3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 Código Civil se constituy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modelo de Legislaci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 flipH="1" rot="16183800">
            <a:off x="4662360" y="3195000"/>
            <a:ext cx="432000" cy="3924000"/>
          </a:xfrm>
          <a:custGeom>
            <a:avLst/>
            <a:gdLst>
              <a:gd name="textAreaLeft" fmla="*/ 360 w 432000"/>
              <a:gd name="textAreaRight" fmla="*/ 156240 w 432000"/>
              <a:gd name="textAreaTop" fmla="*/ 102240 h 3924000"/>
              <a:gd name="textAreaBottom" fmla="*/ 3821760 h 39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403280" y="5516640"/>
            <a:ext cx="7199280" cy="6426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obstante, Napoleón restauró los privilegios de la nobleza. Tras su derrota comienza la reacción monárqu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3492360" y="907920"/>
            <a:ext cx="719280" cy="5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>
            <a:off x="3995280" y="907920"/>
            <a:ext cx="576360" cy="23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4716360" y="907920"/>
            <a:ext cx="1008000" cy="23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5148360" y="907920"/>
            <a:ext cx="718920" cy="5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1. LA RESTAUR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: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 regreso del absolutismo. (1815- 18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11280" y="1916280"/>
            <a:ext cx="2808360" cy="2187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greso de Vie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ompens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terri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quilibrio de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867280" y="1916280"/>
            <a:ext cx="3095640" cy="183168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anta Alianz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ustria, Rusia y Prusia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la Cuádruple Alianz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vilización de la fuerza para impedir brotes revolucionarios lib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Congreso de Viena, según Isabey"/>
          <p:cNvPicPr/>
          <p:nvPr/>
        </p:nvPicPr>
        <p:blipFill>
          <a:blip r:embed="rId1"/>
          <a:stretch/>
        </p:blipFill>
        <p:spPr>
          <a:xfrm>
            <a:off x="5724360" y="4005360"/>
            <a:ext cx="3167280" cy="2496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68" name="Picture 7" descr="El Congreso de 1815"/>
          <p:cNvPicPr/>
          <p:nvPr/>
        </p:nvPicPr>
        <p:blipFill>
          <a:blip r:embed="rId2"/>
          <a:stretch/>
        </p:blipFill>
        <p:spPr>
          <a:xfrm>
            <a:off x="826920" y="4005360"/>
            <a:ext cx="223236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9" name="Text Box 8"/>
          <p:cNvSpPr/>
          <p:nvPr/>
        </p:nvSpPr>
        <p:spPr>
          <a:xfrm>
            <a:off x="684360" y="1197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cambios políticos en Europa entre 1814 y 1848, caracterizado por el intento de los monarcas de asentar su legitimid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356000" y="2205000"/>
            <a:ext cx="792360" cy="31809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349200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292720" y="29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 EUROPA DEL CONGRESO DE VI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187280" y="839880"/>
            <a:ext cx="7745760" cy="539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Principales procesos del período de la Restau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539640" y="1628640"/>
            <a:ext cx="7848720" cy="4032360"/>
            <a:chOff x="539640" y="1628640"/>
            <a:chExt cx="7848720" cy="4032360"/>
          </a:xfrm>
        </p:grpSpPr>
        <p:sp>
          <p:nvSpPr>
            <p:cNvPr id="177" name="Rectangle 5"/>
            <p:cNvSpPr/>
            <p:nvPr/>
          </p:nvSpPr>
          <p:spPr>
            <a:xfrm>
              <a:off x="539640" y="1628640"/>
              <a:ext cx="352764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ofocamiento de la Rev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iberal española de 182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2340000" y="3139920"/>
              <a:ext cx="352728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firmación de la hegemoní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Austria (Metternich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427640" y="4653000"/>
              <a:ext cx="396072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dependencia de Grecia en 1829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1403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1403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3492360" y="4148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3492360" y="50846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14"/>
          <p:cNvSpPr/>
          <p:nvPr/>
        </p:nvSpPr>
        <p:spPr>
          <a:xfrm>
            <a:off x="6012000" y="1628640"/>
            <a:ext cx="2881080" cy="158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9ac1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¡comienzan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ovimiento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y nacionales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Catalina Olivares</dc:creator>
  <dc:description/>
  <dc:language>en-US</dc:language>
  <cp:lastModifiedBy>mago</cp:lastModifiedBy>
  <dcterms:modified xsi:type="dcterms:W3CDTF">2008-10-03T04:22:38Z</dcterms:modified>
  <cp:revision>63</cp:revision>
  <dc:subject/>
  <dc:title>Diapositiva 1</dc:title>
</cp:coreProperties>
</file>