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4F37-8CFF-4D94-81C5-7F9F628DEBD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4FBC-2340-4ED7-A03A-0724758C486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timado profesor(a), aquí se sugiere indagar además de los elementos mencionados en la diapositiva, en las características económicas de esta ideología debido a la transversalidad de este contenido en la PS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5806-BB01-4236-A1CC-744EADE7336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enes: La Revolución de Paris, 1830; abajo a la izquierda, Luis Felipe I; derecha, Napoleón I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D556-673E-423A-8B87-C3C3483171C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agen: Asamblea Nacional de Fr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cfort, 1848, la que aprobó una Constitución que establecía una Alemania unificada bajo un emperador heredita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4B8A-993C-48DA-9A7B-DE6D7FAFA0B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BD7D-518B-45E9-88B7-284AACDB6CA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agen: Bandera conmemorativa de los 15 años de unificación Alema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036A-6FB5-4BD2-9208-C2A4C1D77EB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agen:  “La libertad guiando al pueblo”, cuadro de Eugène Delacroix pintado en 1830 y conservado en el  Museo del Louvre de Parí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4F7F-5A7B-4B46-9957-8A1923952CF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enes: derecha,  Congreso de Viena, según Isabey; izquierda : Alejandro de Rusia, Federico Guillermo de Austria y Francisco de Prus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9748A-7A01-47E5-8BC3-680209139A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91772-51CC-4511-A9D9-51ED829087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C69FB-9BF5-427B-A3EC-58BB6B6011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2BC45-1BDA-429F-8F44-784662A3DB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2F90C-69AD-47E7-AB55-8CEC3823F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F059F-1CBB-460C-A00E-D828CBB6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7F61E-DC5C-410C-BE89-F87468CC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13188-06D8-4E08-81EF-99E54145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610DD-1293-4B06-B169-0D8DAFF3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5B470-2A9B-46A8-880C-7BBBF5A7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36BCD-E083-497D-90FD-40DECAB3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ED3BB-85F2-411F-AF57-D748C73638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67A57-D659-4F0E-B750-35DA7FED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ECE42-7B51-4BFE-AAE1-7AEA7FD1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0EF7B-399A-4B73-B3E9-94A43320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AA1FC2-DC32-41F3-BA62-6EF8E752F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6B9B5-F7E6-4271-A443-1FCF22617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84FBA-AF37-4AE2-8CB7-493A8FAE9C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36EFB-DDF5-4F98-A285-0B83496C95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72E3B-5016-4C36-AB73-B8D357E8ED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B2C08-6DE1-40BE-8F48-398216E464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685EA-3CCD-4B19-BF68-1254EA2895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8A314-30F2-4CE3-ADC5-0D205E02BB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21462-5D27-4E62-9D0C-6D30538BE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C7F8-D586-4490-872B-20FE522E9A0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7" descr="Huniversal sello agua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7" descr="Huniversal sello agua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4A74-0BC7-4C67-B5B1-2EC8601DCC0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476360" y="0"/>
            <a:ext cx="38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Área: Historia y Ciencias So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Sección: Historia Uni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Huniversal 1ªhoja"/>
          <p:cNvPicPr/>
          <p:nvPr/>
        </p:nvPicPr>
        <p:blipFill>
          <a:blip r:embed="rId1"/>
          <a:stretch/>
        </p:blipFill>
        <p:spPr>
          <a:xfrm>
            <a:off x="0" y="0"/>
            <a:ext cx="147636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692280"/>
            <a:ext cx="7345440" cy="2520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Verdana"/>
              </a:rPr>
              <a:t>CLASE HU 19</a:t>
            </a:r>
            <a:br>
              <a:rPr sz="4400"/>
            </a:br>
            <a:r>
              <a:rPr b="0" i="1" lang="es-E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s-ES_tradnl" sz="3600" spc="-1" strike="noStrike">
                <a:solidFill>
                  <a:srgbClr val="ffffff"/>
                </a:solidFill>
                <a:latin typeface="Verdana"/>
              </a:rPr>
              <a:t>Revoluciones liberales y nacionales del siglo X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908000" y="3573360"/>
            <a:ext cx="6729480" cy="222840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BellGothic BT"/>
                <a:ea typeface="ＭＳ Ｐゴシック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BellGothic BT"/>
                <a:ea typeface="ＭＳ Ｐゴシック"/>
              </a:rPr>
              <a:t>Si la realeza… en lugar de hacerse enteramente pueblo se rodea de una aristocracia electoral… estad seguros de que caerá; caerá no en su sangre, como la de 1789, sino en su propia trampa y, después de haber tenido las revoluciones de la libertad y las contrarrevoluciones de la gloria, tendréis la revolución de la conciencia pública y la revolución del desprecio…” (Alfonso de Lamartin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49780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Verdana"/>
              </a:rPr>
              <a:t>2. Las Revoluciones Liberales (1830- 184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395280" y="90792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uerda que el liberalismo es una doctrina orientada a destacar la libertad del individuo en sus más diversas face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5219640" y="5013360"/>
            <a:ext cx="3457800" cy="100872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a defensa del legado ideológico de la Ilust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324000" y="2492280"/>
            <a:ext cx="2952720" cy="64260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a libertad del individuo como bien supre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468360" y="4941720"/>
            <a:ext cx="3598920" cy="91692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 individualismo: la persona humana individual por encima de lo social y del Es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3132000" y="1700280"/>
            <a:ext cx="3240360" cy="36828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a igualdad civil y pol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í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5797800" y="2421000"/>
            <a:ext cx="2964960" cy="64260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l respeto a la propie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iv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3"/>
          <p:cNvSpPr/>
          <p:nvPr/>
        </p:nvSpPr>
        <p:spPr>
          <a:xfrm>
            <a:off x="2556000" y="3284640"/>
            <a:ext cx="4105080" cy="151272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públic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oberanía Naciona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visión de Poderes, Constit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4"/>
          <p:cNvSpPr/>
          <p:nvPr/>
        </p:nvSpPr>
        <p:spPr>
          <a:xfrm>
            <a:off x="4572000" y="2060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5"/>
          <p:cNvSpPr/>
          <p:nvPr/>
        </p:nvSpPr>
        <p:spPr>
          <a:xfrm>
            <a:off x="3276720" y="3141720"/>
            <a:ext cx="5745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6"/>
          <p:cNvSpPr/>
          <p:nvPr/>
        </p:nvSpPr>
        <p:spPr>
          <a:xfrm flipH="1">
            <a:off x="5724000" y="306864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7"/>
          <p:cNvSpPr/>
          <p:nvPr/>
        </p:nvSpPr>
        <p:spPr>
          <a:xfrm flipV="1">
            <a:off x="3059280" y="4653000"/>
            <a:ext cx="720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8"/>
          <p:cNvSpPr/>
          <p:nvPr/>
        </p:nvSpPr>
        <p:spPr>
          <a:xfrm flipH="1" flipV="1">
            <a:off x="5651280" y="4652640"/>
            <a:ext cx="649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0"/>
          <p:cNvSpPr/>
          <p:nvPr/>
        </p:nvSpPr>
        <p:spPr>
          <a:xfrm>
            <a:off x="3780000" y="2565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incipios bases presentes en 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La Revoluci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ón Francesa (1830 y 184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219320" y="1219320"/>
            <a:ext cx="4114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900000" y="1268280"/>
            <a:ext cx="3657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Revolución de las Barricadas (1830): caída del absolutismo y paso a una monarquía parlamenta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838080" y="2895480"/>
            <a:ext cx="3657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imavera de las Naciones (1848): disolución de la monarquía y nacimiento de la Segunda República (1848- 1852). Se instaura el sufragio Universal, es electo president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uis Bonapart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quien más adelante instauró el Segundo Imperio (Napoleón III, 1852- 187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Revolution1830"/>
          <p:cNvPicPr/>
          <p:nvPr/>
        </p:nvPicPr>
        <p:blipFill>
          <a:blip r:embed="rId1"/>
          <a:stretch/>
        </p:blipFill>
        <p:spPr>
          <a:xfrm>
            <a:off x="5334120" y="1143000"/>
            <a:ext cx="3027240" cy="25146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Luis Felipe I (1830- 1848)"/>
          <p:cNvPicPr/>
          <p:nvPr/>
        </p:nvPicPr>
        <p:blipFill>
          <a:blip r:embed="rId2"/>
          <a:stretch/>
        </p:blipFill>
        <p:spPr>
          <a:xfrm>
            <a:off x="4648320" y="3657600"/>
            <a:ext cx="2155680" cy="2944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nap231"/>
          <p:cNvPicPr/>
          <p:nvPr/>
        </p:nvPicPr>
        <p:blipFill>
          <a:blip r:embed="rId3"/>
          <a:stretch/>
        </p:blipFill>
        <p:spPr>
          <a:xfrm>
            <a:off x="6804000" y="3716280"/>
            <a:ext cx="2151000" cy="28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Verdana"/>
              </a:rPr>
              <a:t>Las revoluciones de 1830 y 1848 en 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4859280" y="3284640"/>
            <a:ext cx="3816360" cy="9169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blevaciones de Hungría, Eslovaquia y Checa en contra del Imperio Austria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9"/>
          <p:cNvSpPr/>
          <p:nvPr/>
        </p:nvSpPr>
        <p:spPr>
          <a:xfrm>
            <a:off x="4067280" y="1268280"/>
            <a:ext cx="1368360" cy="86364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18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5796000" y="1197000"/>
            <a:ext cx="2879640" cy="9169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ependencia de Bélgica, movimiento de julio de 18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395280" y="1341360"/>
            <a:ext cx="322884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rte de Italia: Joven Italia (Mazzini y Garibald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611280" y="3645000"/>
            <a:ext cx="3168720" cy="119880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Consecuencias de la revoluci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ó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848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3"/>
          <p:cNvSpPr/>
          <p:nvPr/>
        </p:nvSpPr>
        <p:spPr>
          <a:xfrm flipV="1">
            <a:off x="3780000" y="3573360"/>
            <a:ext cx="1079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4"/>
          <p:cNvSpPr/>
          <p:nvPr/>
        </p:nvSpPr>
        <p:spPr>
          <a:xfrm flipH="1">
            <a:off x="3635280" y="162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5435640" y="162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6"/>
          <p:cNvSpPr/>
          <p:nvPr/>
        </p:nvSpPr>
        <p:spPr>
          <a:xfrm>
            <a:off x="4859280" y="4437000"/>
            <a:ext cx="3816360" cy="119124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Revoluci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en Alemania y  Parlamento de Fráncfort: constitución liberal que es sofoc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7"/>
          <p:cNvSpPr/>
          <p:nvPr/>
        </p:nvSpPr>
        <p:spPr>
          <a:xfrm>
            <a:off x="3780000" y="4292640"/>
            <a:ext cx="1079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8"/>
          <p:cNvSpPr/>
          <p:nvPr/>
        </p:nvSpPr>
        <p:spPr>
          <a:xfrm flipH="1">
            <a:off x="2050560" y="2133720"/>
            <a:ext cx="2449800" cy="143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497800" cy="960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3. LAS UNIFICACIONES NACIONALES DE </a:t>
            </a:r>
            <a:br>
              <a:rPr sz="2800"/>
            </a:b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ITALIA Y ALEM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4932360" y="1557360"/>
            <a:ext cx="3602160" cy="469296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uerda que el nacionalismo se caracterizó por plante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principio de soberanía na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limitación a la monarquía (constitución y parlament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idea de nación, fundada en una historia y en una tradición comú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visión romántica del pueb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Asamblea Nacional de Frankfurt, 1848"/>
          <p:cNvPicPr/>
          <p:nvPr/>
        </p:nvPicPr>
        <p:blipFill>
          <a:blip r:embed="rId1"/>
          <a:stretch/>
        </p:blipFill>
        <p:spPr>
          <a:xfrm>
            <a:off x="755640" y="1916280"/>
            <a:ext cx="37814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84872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3.1 Unificaci</a:t>
            </a:r>
            <a:r>
              <a:rPr b="1" i="1" lang="es-ES_tradnl" sz="2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ón italiana (1859- 18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826920" y="1484280"/>
            <a:ext cx="7921800" cy="39888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écada de 1830, desarrollo de la “Joven Italia” de Mazzi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26920" y="1989000"/>
            <a:ext cx="7921800" cy="70380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revolución liberal de Milán de 1848 y el establecimiento de la República de Ro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3637440" y="907920"/>
            <a:ext cx="241488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NTECEDENT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826920" y="2781360"/>
            <a:ext cx="7921800" cy="70380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íctor Manuel II constituye el único estado liberal (monárquico) que permanece tras las revoluciones, con Cavour como Primer  Minis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14"/>
          <p:cNvGrpSpPr/>
          <p:nvPr/>
        </p:nvGrpSpPr>
        <p:grpSpPr>
          <a:xfrm>
            <a:off x="829800" y="3716280"/>
            <a:ext cx="7847640" cy="2533680"/>
            <a:chOff x="829800" y="3716280"/>
            <a:chExt cx="7847640" cy="2533680"/>
          </a:xfrm>
        </p:grpSpPr>
        <p:sp>
          <p:nvSpPr>
            <p:cNvPr id="227" name="Text Box 5"/>
            <p:cNvSpPr/>
            <p:nvPr/>
          </p:nvSpPr>
          <p:spPr>
            <a:xfrm>
              <a:off x="4284720" y="3789360"/>
              <a:ext cx="4392720" cy="2241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- Primera guerra en contra de Austria (1859- 1861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25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egunda Guerra en contra de Austria (1866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25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nquista de Roma (1870) y nacimiento de la Cuestión Roman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9"/>
            <p:cNvSpPr/>
            <p:nvPr/>
          </p:nvSpPr>
          <p:spPr>
            <a:xfrm>
              <a:off x="829800" y="3716280"/>
              <a:ext cx="2785320" cy="368280"/>
            </a:xfrm>
            <a:prstGeom prst="rect">
              <a:avLst/>
            </a:prstGeom>
            <a:solidFill>
              <a:srgbClr val="0000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Fases de la Unificaci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ón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Picture 11" descr="bandera_italia"/>
            <p:cNvPicPr/>
            <p:nvPr/>
          </p:nvPicPr>
          <p:blipFill>
            <a:blip r:embed="rId1"/>
            <a:stretch/>
          </p:blipFill>
          <p:spPr>
            <a:xfrm>
              <a:off x="971640" y="4292640"/>
              <a:ext cx="2663640" cy="19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Line 13"/>
            <p:cNvSpPr/>
            <p:nvPr/>
          </p:nvSpPr>
          <p:spPr>
            <a:xfrm>
              <a:off x="3635280" y="393372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23640" y="188640"/>
            <a:ext cx="4321080" cy="5331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Verdana"/>
              </a:rPr>
              <a:t>Unificaci</a:t>
            </a:r>
            <a:r>
              <a:rPr b="1" lang="es-ES_tradnl" sz="2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ón Itali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Unificación%20Italiana"/>
          <p:cNvPicPr/>
          <p:nvPr/>
        </p:nvPicPr>
        <p:blipFill>
          <a:blip r:embed="rId1"/>
          <a:stretch/>
        </p:blipFill>
        <p:spPr>
          <a:xfrm>
            <a:off x="250920" y="1052640"/>
            <a:ext cx="8675640" cy="5389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8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846920" cy="6858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3.2 Unificaci</a:t>
            </a:r>
            <a:r>
              <a:rPr b="1" i="1" lang="es-ES_tradnl" sz="2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ón alemana (1866- 187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2916360" y="1052640"/>
            <a:ext cx="3733560" cy="39888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TECEDENT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395280" y="2421000"/>
            <a:ext cx="8569440" cy="39888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olución de 1848: parlamento de Fráncfort y constitución lib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1616040" y="1844640"/>
            <a:ext cx="5961240" cy="39888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830, desarrollo de Zollverein (unión aduane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0"/>
          <p:cNvSpPr/>
          <p:nvPr/>
        </p:nvSpPr>
        <p:spPr>
          <a:xfrm>
            <a:off x="4643280" y="148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1"/>
          <p:cNvSpPr/>
          <p:nvPr/>
        </p:nvSpPr>
        <p:spPr>
          <a:xfrm>
            <a:off x="4643280" y="22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179280" y="90792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tuación Alemana tras el Congreso de Vi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7"/>
          <p:cNvSpPr/>
          <p:nvPr/>
        </p:nvSpPr>
        <p:spPr>
          <a:xfrm flipH="1">
            <a:off x="2484360" y="1268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7236000" y="1052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acional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9"/>
          <p:cNvSpPr/>
          <p:nvPr/>
        </p:nvSpPr>
        <p:spPr>
          <a:xfrm flipH="1">
            <a:off x="6659640" y="119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22"/>
          <p:cNvGrpSpPr/>
          <p:nvPr/>
        </p:nvGrpSpPr>
        <p:grpSpPr>
          <a:xfrm>
            <a:off x="1115640" y="3357720"/>
            <a:ext cx="8028360" cy="3123360"/>
            <a:chOff x="1115640" y="3357720"/>
            <a:chExt cx="8028360" cy="3123360"/>
          </a:xfrm>
        </p:grpSpPr>
        <p:sp>
          <p:nvSpPr>
            <p:cNvPr id="244" name="Text Box 5"/>
            <p:cNvSpPr/>
            <p:nvPr/>
          </p:nvSpPr>
          <p:spPr>
            <a:xfrm>
              <a:off x="4643280" y="3357720"/>
              <a:ext cx="4321440" cy="2399760"/>
            </a:xfrm>
            <a:prstGeom prst="rect">
              <a:avLst/>
            </a:prstGeom>
            <a:solidFill>
              <a:srgbClr val="ffffcc"/>
            </a:solidFill>
            <a:ln w="3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guerra de los ducados (1866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25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guerra austro- prusiana (1866- 1867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25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guerra franco- prusiana (1870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25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l Segundo Reich: en 1871, Guillermo I se proclamó emperador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2"/>
            <p:cNvSpPr/>
            <p:nvPr/>
          </p:nvSpPr>
          <p:spPr>
            <a:xfrm>
              <a:off x="1115640" y="3357720"/>
              <a:ext cx="3050640" cy="398880"/>
            </a:xfrm>
            <a:prstGeom prst="rect">
              <a:avLst/>
            </a:prstGeom>
            <a:solidFill>
              <a:srgbClr val="ffff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Fases de la unificaci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ón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6" name="Picture 14" descr="9382_ddr_bandera2"/>
            <p:cNvPicPr/>
            <p:nvPr/>
          </p:nvPicPr>
          <p:blipFill>
            <a:blip r:embed="rId1"/>
            <a:stretch/>
          </p:blipFill>
          <p:spPr>
            <a:xfrm>
              <a:off x="1116000" y="3933720"/>
              <a:ext cx="3097080" cy="19432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247" name="Line 15"/>
            <p:cNvSpPr/>
            <p:nvPr/>
          </p:nvSpPr>
          <p:spPr>
            <a:xfrm>
              <a:off x="4140360" y="350028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1"/>
            <p:cNvSpPr/>
            <p:nvPr/>
          </p:nvSpPr>
          <p:spPr>
            <a:xfrm>
              <a:off x="1149480" y="6021360"/>
              <a:ext cx="799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Verdana"/>
                </a:rPr>
                <a:t>R   O   M   A    N    T    I    C    I   S   M   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mapa aleman"/>
          <p:cNvPicPr/>
          <p:nvPr/>
        </p:nvPicPr>
        <p:blipFill>
          <a:blip r:embed="rId1"/>
          <a:stretch/>
        </p:blipFill>
        <p:spPr>
          <a:xfrm>
            <a:off x="1332000" y="189000"/>
            <a:ext cx="7129440" cy="6387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97800" cy="792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En s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íntesis, estos son los temas que hemos visto en esta cl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2895480" y="1295280"/>
            <a:ext cx="2819520" cy="10670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voluciones burgue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l siglo X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4"/>
          <p:cNvSpPr/>
          <p:nvPr/>
        </p:nvSpPr>
        <p:spPr>
          <a:xfrm>
            <a:off x="4191120" y="2362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5"/>
          <p:cNvSpPr/>
          <p:nvPr/>
        </p:nvSpPr>
        <p:spPr>
          <a:xfrm>
            <a:off x="1828800" y="358128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6"/>
          <p:cNvSpPr/>
          <p:nvPr/>
        </p:nvSpPr>
        <p:spPr>
          <a:xfrm>
            <a:off x="18288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7"/>
          <p:cNvSpPr/>
          <p:nvPr/>
        </p:nvSpPr>
        <p:spPr>
          <a:xfrm>
            <a:off x="68580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4267080" y="2895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1600200" y="26668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íodo dominado p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5943600" y="2362320"/>
            <a:ext cx="2732040" cy="850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Restauración Absoluti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 el Concierto Europ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914400" y="4038480"/>
            <a:ext cx="2057400" cy="9144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voluc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ibe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5410080" y="4038480"/>
            <a:ext cx="2667240" cy="8384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if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acion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1905120" y="5181480"/>
            <a:ext cx="1676160" cy="695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úb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4419720" y="5181480"/>
            <a:ext cx="2819160" cy="838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narquía Parlame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5"/>
          <p:cNvSpPr/>
          <p:nvPr/>
        </p:nvSpPr>
        <p:spPr>
          <a:xfrm>
            <a:off x="1219320" y="4952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6"/>
          <p:cNvSpPr/>
          <p:nvPr/>
        </p:nvSpPr>
        <p:spPr>
          <a:xfrm>
            <a:off x="1219320" y="5638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7"/>
          <p:cNvSpPr/>
          <p:nvPr/>
        </p:nvSpPr>
        <p:spPr>
          <a:xfrm>
            <a:off x="7848720" y="4876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8"/>
          <p:cNvSpPr/>
          <p:nvPr/>
        </p:nvSpPr>
        <p:spPr>
          <a:xfrm flipH="1">
            <a:off x="7238880" y="5486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PREPARA PARA TU PRÓXIMA CLASE LOS SIGUIENTE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569080" cy="129528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MPERIALISMO Y COLONIAL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SOCIEDAD EUROPEA FINISEC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4">
            <a:hlinkClick r:id="" action="ppaction://hlinkshowjump?jump=firstslide"/>
          </p:cNvPr>
          <p:cNvSpPr/>
          <p:nvPr/>
        </p:nvSpPr>
        <p:spPr>
          <a:xfrm>
            <a:off x="7451640" y="5445000"/>
            <a:ext cx="792360" cy="100836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1008360"/>
              <a:gd name="textAreaBottom" fmla="*/ 957240 h 1008360"/>
            </a:gdLst>
            <a:ahLst/>
            <a:rect l="textAreaLeft" t="textAreaTop" r="textAreaRight" b="textAreaBottom"/>
            <a:pathLst>
              <a:path w="21600" h="27486">
                <a:moveTo>
                  <a:pt x="0" y="0"/>
                </a:moveTo>
                <a:lnTo>
                  <a:pt x="21600" y="0"/>
                </a:lnTo>
                <a:lnTo>
                  <a:pt x="21600" y="27486"/>
                </a:lnTo>
                <a:lnTo>
                  <a:pt x="0" y="27486"/>
                </a:lnTo>
                <a:close/>
              </a:path>
              <a:path fill="lightenLess" w="21600" h="274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486">
                <a:moveTo>
                  <a:pt x="21600" y="0"/>
                </a:moveTo>
                <a:lnTo>
                  <a:pt x="21600" y="27486"/>
                </a:lnTo>
                <a:lnTo>
                  <a:pt x="20200" y="26086"/>
                </a:lnTo>
                <a:lnTo>
                  <a:pt x="20200" y="1400"/>
                </a:lnTo>
                <a:close/>
              </a:path>
              <a:path fill="darkenLess" w="21600" h="27486">
                <a:moveTo>
                  <a:pt x="21600" y="27486"/>
                </a:moveTo>
                <a:lnTo>
                  <a:pt x="0" y="27486"/>
                </a:lnTo>
                <a:lnTo>
                  <a:pt x="1400" y="26086"/>
                </a:lnTo>
                <a:lnTo>
                  <a:pt x="20200" y="26086"/>
                </a:lnTo>
                <a:close/>
              </a:path>
              <a:path fill="lighten" w="21600" h="27486">
                <a:moveTo>
                  <a:pt x="0" y="274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086"/>
                </a:lnTo>
                <a:close/>
              </a:path>
              <a:path fill="darken" w="21600" h="27486">
                <a:moveTo>
                  <a:pt x="10800" y="6780"/>
                </a:moveTo>
                <a:lnTo>
                  <a:pt x="13376" y="9391"/>
                </a:lnTo>
                <a:lnTo>
                  <a:pt x="13376" y="7650"/>
                </a:lnTo>
                <a:lnTo>
                  <a:pt x="15152" y="7650"/>
                </a:lnTo>
                <a:lnTo>
                  <a:pt x="15152" y="11166"/>
                </a:lnTo>
                <a:lnTo>
                  <a:pt x="17763" y="13743"/>
                </a:lnTo>
                <a:lnTo>
                  <a:pt x="16109" y="13743"/>
                </a:lnTo>
                <a:lnTo>
                  <a:pt x="16109" y="20932"/>
                </a:lnTo>
                <a:lnTo>
                  <a:pt x="5491" y="20932"/>
                </a:lnTo>
                <a:lnTo>
                  <a:pt x="5491" y="13743"/>
                </a:lnTo>
                <a:lnTo>
                  <a:pt x="3837" y="13743"/>
                </a:lnTo>
                <a:close/>
              </a:path>
              <a:path fill="darkenLess" w="21600" h="27486">
                <a:moveTo>
                  <a:pt x="13376" y="9391"/>
                </a:moveTo>
                <a:lnTo>
                  <a:pt x="13376" y="7650"/>
                </a:lnTo>
                <a:lnTo>
                  <a:pt x="15152" y="7650"/>
                </a:lnTo>
                <a:lnTo>
                  <a:pt x="15152" y="11166"/>
                </a:lnTo>
                <a:close/>
              </a:path>
              <a:path fill="darkenLess" w="21600" h="27486">
                <a:moveTo>
                  <a:pt x="9877" y="17242"/>
                </a:moveTo>
                <a:lnTo>
                  <a:pt x="11723" y="17242"/>
                </a:lnTo>
                <a:lnTo>
                  <a:pt x="11723" y="20932"/>
                </a:lnTo>
                <a:lnTo>
                  <a:pt x="16109" y="20932"/>
                </a:lnTo>
                <a:lnTo>
                  <a:pt x="16109" y="13743"/>
                </a:lnTo>
                <a:lnTo>
                  <a:pt x="5491" y="13743"/>
                </a:lnTo>
                <a:lnTo>
                  <a:pt x="5491" y="20932"/>
                </a:lnTo>
                <a:lnTo>
                  <a:pt x="9877" y="20932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6" descr=""/>
          <p:cNvPicPr/>
          <p:nvPr/>
        </p:nvPicPr>
        <p:blipFill>
          <a:blip r:embed="rId1"/>
          <a:stretch/>
        </p:blipFill>
        <p:spPr>
          <a:xfrm>
            <a:off x="2700360" y="2924280"/>
            <a:ext cx="3456000" cy="3263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¿Qué estudiaremos en esta cl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95280" y="836640"/>
            <a:ext cx="34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CON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995640" y="907920"/>
            <a:ext cx="4608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APRENDIZAJES ESP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427640" y="1268280"/>
            <a:ext cx="4321080" cy="5040360"/>
          </a:xfrm>
          <a:prstGeom prst="rect">
            <a:avLst/>
          </a:prstGeom>
          <a:solidFill>
            <a:srgbClr val="f3f5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Identifiques las ideolog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s surgidas en un mundo que se industrializa y se democratiza, vinculándolas a los conflictos sociales y políticos de la épo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Caracterices el liberalismo econ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ico y político, como uno de los fundamentos de la sociedad burguesa nacida de las revoluciones Francesa e Indust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ques el nacionalismo y el fortalecimiento de los estados nacionales, como una de las fuerzas generadoras de formas de participación del mundo contemporáne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En tu libro estos  contenidos están  desde la página 184 hasta la 18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24000" y="1268280"/>
            <a:ext cx="4105080" cy="503172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a Restauración Absolutista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Revoluciones Liberales.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(1830 y 184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Unificaciones Nacionales.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(1861- 187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ceptos cla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iberal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acional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deolog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púb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Libertad guiando al pueblo, Delacroix, 1830"/>
          <p:cNvPicPr/>
          <p:nvPr/>
        </p:nvPicPr>
        <p:blipFill>
          <a:blip r:embed="rId1"/>
          <a:stretch/>
        </p:blipFill>
        <p:spPr>
          <a:xfrm>
            <a:off x="2050920" y="907920"/>
            <a:ext cx="5761080" cy="5472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5"/>
          <p:cNvSpPr/>
          <p:nvPr/>
        </p:nvSpPr>
        <p:spPr>
          <a:xfrm>
            <a:off x="1979640" y="260280"/>
            <a:ext cx="583236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Verdana"/>
              </a:rPr>
              <a:t>¿Qué representa este cuadr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4"/>
          <p:cNvGrpSpPr/>
          <p:nvPr/>
        </p:nvGrpSpPr>
        <p:grpSpPr>
          <a:xfrm>
            <a:off x="0" y="1197000"/>
            <a:ext cx="8748720" cy="1007640"/>
            <a:chOff x="0" y="1197000"/>
            <a:chExt cx="8748720" cy="1007640"/>
          </a:xfrm>
        </p:grpSpPr>
        <p:sp>
          <p:nvSpPr>
            <p:cNvPr id="97" name="Line 4"/>
            <p:cNvSpPr/>
            <p:nvPr/>
          </p:nvSpPr>
          <p:spPr>
            <a:xfrm>
              <a:off x="0" y="1915920"/>
              <a:ext cx="8748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43"/>
            <p:cNvGrpSpPr/>
            <p:nvPr/>
          </p:nvGrpSpPr>
          <p:grpSpPr>
            <a:xfrm>
              <a:off x="468360" y="1197000"/>
              <a:ext cx="7991280" cy="1007640"/>
              <a:chOff x="468360" y="1197000"/>
              <a:chExt cx="7991280" cy="1007640"/>
            </a:xfrm>
          </p:grpSpPr>
          <p:sp>
            <p:nvSpPr>
              <p:cNvPr id="99" name="Line 5"/>
              <p:cNvSpPr/>
              <p:nvPr/>
            </p:nvSpPr>
            <p:spPr>
              <a:xfrm>
                <a:off x="684360" y="155700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6"/>
              <p:cNvSpPr/>
              <p:nvPr/>
            </p:nvSpPr>
            <p:spPr>
              <a:xfrm>
                <a:off x="2050920" y="162864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 Box 7"/>
              <p:cNvSpPr/>
              <p:nvPr/>
            </p:nvSpPr>
            <p:spPr>
              <a:xfrm>
                <a:off x="468360" y="1197000"/>
                <a:ext cx="79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178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 Box 8"/>
              <p:cNvSpPr/>
              <p:nvPr/>
            </p:nvSpPr>
            <p:spPr>
              <a:xfrm>
                <a:off x="1692360" y="1197000"/>
                <a:ext cx="79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179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9"/>
              <p:cNvSpPr/>
              <p:nvPr/>
            </p:nvSpPr>
            <p:spPr>
              <a:xfrm>
                <a:off x="3492360" y="155700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10"/>
              <p:cNvSpPr/>
              <p:nvPr/>
            </p:nvSpPr>
            <p:spPr>
              <a:xfrm>
                <a:off x="3059280" y="1197000"/>
                <a:ext cx="79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181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11"/>
              <p:cNvSpPr/>
              <p:nvPr/>
            </p:nvSpPr>
            <p:spPr>
              <a:xfrm>
                <a:off x="4500720" y="155700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 Box 12"/>
              <p:cNvSpPr/>
              <p:nvPr/>
            </p:nvSpPr>
            <p:spPr>
              <a:xfrm>
                <a:off x="4140360" y="1197000"/>
                <a:ext cx="79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183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3"/>
              <p:cNvSpPr/>
              <p:nvPr/>
            </p:nvSpPr>
            <p:spPr>
              <a:xfrm>
                <a:off x="5724360" y="162864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Text Box 14"/>
              <p:cNvSpPr/>
              <p:nvPr/>
            </p:nvSpPr>
            <p:spPr>
              <a:xfrm>
                <a:off x="5364000" y="1197000"/>
                <a:ext cx="79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184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15"/>
              <p:cNvSpPr/>
              <p:nvPr/>
            </p:nvSpPr>
            <p:spPr>
              <a:xfrm>
                <a:off x="6659640" y="162864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 Box 16"/>
              <p:cNvSpPr/>
              <p:nvPr/>
            </p:nvSpPr>
            <p:spPr>
              <a:xfrm>
                <a:off x="6227640" y="1197000"/>
                <a:ext cx="79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185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 Box 17"/>
              <p:cNvSpPr/>
              <p:nvPr/>
            </p:nvSpPr>
            <p:spPr>
              <a:xfrm>
                <a:off x="7667640" y="1197000"/>
                <a:ext cx="79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187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18"/>
              <p:cNvSpPr/>
              <p:nvPr/>
            </p:nvSpPr>
            <p:spPr>
              <a:xfrm>
                <a:off x="8028000" y="162864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47"/>
          <p:cNvGrpSpPr/>
          <p:nvPr/>
        </p:nvGrpSpPr>
        <p:grpSpPr>
          <a:xfrm>
            <a:off x="3276720" y="2565360"/>
            <a:ext cx="1439640" cy="2898720"/>
            <a:chOff x="3276720" y="2565360"/>
            <a:chExt cx="1439640" cy="2898720"/>
          </a:xfrm>
        </p:grpSpPr>
        <p:sp>
          <p:nvSpPr>
            <p:cNvPr id="114" name="Text Box 24"/>
            <p:cNvSpPr/>
            <p:nvPr/>
          </p:nvSpPr>
          <p:spPr>
            <a:xfrm>
              <a:off x="3276720" y="28540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Restauración Absolutis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25"/>
            <p:cNvSpPr/>
            <p:nvPr/>
          </p:nvSpPr>
          <p:spPr>
            <a:xfrm rot="5400000">
              <a:off x="3852000" y="2205720"/>
              <a:ext cx="216000" cy="93528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14400 h 935280"/>
                <a:gd name="textAreaBottom" fmla="*/ 920880 h 9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36"/>
                    <a:pt x="10800" y="1072"/>
                  </a:cubicBezTo>
                  <a:lnTo>
                    <a:pt x="10800" y="9728"/>
                  </a:lnTo>
                  <a:cubicBezTo>
                    <a:pt x="10800" y="10264"/>
                    <a:pt x="16200" y="10800"/>
                    <a:pt x="21600" y="10800"/>
                  </a:cubicBezTo>
                  <a:cubicBezTo>
                    <a:pt x="16200" y="10800"/>
                    <a:pt x="10800" y="11336"/>
                    <a:pt x="10800" y="11872"/>
                  </a:cubicBezTo>
                  <a:lnTo>
                    <a:pt x="10800" y="20528"/>
                  </a:lnTo>
                  <a:cubicBezTo>
                    <a:pt x="10800" y="21064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Picture 34" descr="luisxiv_2"/>
            <p:cNvPicPr/>
            <p:nvPr/>
          </p:nvPicPr>
          <p:blipFill>
            <a:blip r:embed="rId1"/>
            <a:stretch/>
          </p:blipFill>
          <p:spPr>
            <a:xfrm>
              <a:off x="3348000" y="3573360"/>
              <a:ext cx="1328760" cy="189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Group 48"/>
          <p:cNvGrpSpPr/>
          <p:nvPr/>
        </p:nvGrpSpPr>
        <p:grpSpPr>
          <a:xfrm>
            <a:off x="4500360" y="2565360"/>
            <a:ext cx="1582920" cy="2881080"/>
            <a:chOff x="4500360" y="2565360"/>
            <a:chExt cx="1582920" cy="2881080"/>
          </a:xfrm>
        </p:grpSpPr>
        <p:sp>
          <p:nvSpPr>
            <p:cNvPr id="118" name="Text Box 27"/>
            <p:cNvSpPr/>
            <p:nvPr/>
          </p:nvSpPr>
          <p:spPr>
            <a:xfrm>
              <a:off x="4643280" y="2854080"/>
              <a:ext cx="144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Revoluciones Liber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28"/>
            <p:cNvSpPr/>
            <p:nvPr/>
          </p:nvSpPr>
          <p:spPr>
            <a:xfrm rot="5400000">
              <a:off x="5004000" y="2061360"/>
              <a:ext cx="216000" cy="122364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18720 h 1223640"/>
                <a:gd name="textAreaBottom" fmla="*/ 1204920 h 12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36"/>
                    <a:pt x="10800" y="1072"/>
                  </a:cubicBezTo>
                  <a:lnTo>
                    <a:pt x="10800" y="9728"/>
                  </a:lnTo>
                  <a:cubicBezTo>
                    <a:pt x="10800" y="10264"/>
                    <a:pt x="16200" y="10800"/>
                    <a:pt x="21600" y="10800"/>
                  </a:cubicBezTo>
                  <a:cubicBezTo>
                    <a:pt x="16200" y="10800"/>
                    <a:pt x="10800" y="11336"/>
                    <a:pt x="10800" y="11872"/>
                  </a:cubicBezTo>
                  <a:lnTo>
                    <a:pt x="10800" y="20528"/>
                  </a:lnTo>
                  <a:cubicBezTo>
                    <a:pt x="10800" y="21064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38" descr="rev"/>
            <p:cNvPicPr/>
            <p:nvPr/>
          </p:nvPicPr>
          <p:blipFill>
            <a:blip r:embed="rId2"/>
            <a:stretch/>
          </p:blipFill>
          <p:spPr>
            <a:xfrm>
              <a:off x="4716360" y="3573360"/>
              <a:ext cx="1224000" cy="187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Group 46"/>
          <p:cNvGrpSpPr/>
          <p:nvPr/>
        </p:nvGrpSpPr>
        <p:grpSpPr>
          <a:xfrm>
            <a:off x="1692360" y="2565360"/>
            <a:ext cx="1653840" cy="2881080"/>
            <a:chOff x="1692360" y="2565360"/>
            <a:chExt cx="1653840" cy="2881080"/>
          </a:xfrm>
        </p:grpSpPr>
        <p:sp>
          <p:nvSpPr>
            <p:cNvPr id="122" name="AutoShape 23"/>
            <p:cNvSpPr/>
            <p:nvPr/>
          </p:nvSpPr>
          <p:spPr>
            <a:xfrm rot="5400000">
              <a:off x="2554560" y="2061000"/>
              <a:ext cx="287280" cy="1295640"/>
            </a:xfrm>
            <a:custGeom>
              <a:avLst/>
              <a:gdLst>
                <a:gd name="textAreaLeft" fmla="*/ 0 w 287280"/>
                <a:gd name="textAreaRight" fmla="*/ 103680 w 287280"/>
                <a:gd name="textAreaTop" fmla="*/ 19800 h 1295640"/>
                <a:gd name="textAreaBottom" fmla="*/ 127584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36"/>
                    <a:pt x="10800" y="1072"/>
                  </a:cubicBezTo>
                  <a:lnTo>
                    <a:pt x="10800" y="9728"/>
                  </a:lnTo>
                  <a:cubicBezTo>
                    <a:pt x="10800" y="10264"/>
                    <a:pt x="16200" y="10800"/>
                    <a:pt x="21600" y="10800"/>
                  </a:cubicBezTo>
                  <a:cubicBezTo>
                    <a:pt x="16200" y="10800"/>
                    <a:pt x="10800" y="11336"/>
                    <a:pt x="10800" y="11872"/>
                  </a:cubicBezTo>
                  <a:lnTo>
                    <a:pt x="10800" y="20528"/>
                  </a:lnTo>
                  <a:cubicBezTo>
                    <a:pt x="10800" y="21064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26"/>
            <p:cNvSpPr/>
            <p:nvPr/>
          </p:nvSpPr>
          <p:spPr>
            <a:xfrm>
              <a:off x="1692360" y="28540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Imperio Napoleón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Picture 40" descr="napoleon-bonaparte"/>
            <p:cNvPicPr/>
            <p:nvPr/>
          </p:nvPicPr>
          <p:blipFill>
            <a:blip r:embed="rId3"/>
            <a:stretch/>
          </p:blipFill>
          <p:spPr>
            <a:xfrm>
              <a:off x="1835280" y="3573360"/>
              <a:ext cx="1485720" cy="187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Group 45"/>
          <p:cNvGrpSpPr/>
          <p:nvPr/>
        </p:nvGrpSpPr>
        <p:grpSpPr>
          <a:xfrm>
            <a:off x="250920" y="2565360"/>
            <a:ext cx="1728720" cy="2881080"/>
            <a:chOff x="250920" y="2565360"/>
            <a:chExt cx="1728720" cy="2881080"/>
          </a:xfrm>
        </p:grpSpPr>
        <p:sp>
          <p:nvSpPr>
            <p:cNvPr id="126" name="AutoShape 21"/>
            <p:cNvSpPr/>
            <p:nvPr/>
          </p:nvSpPr>
          <p:spPr>
            <a:xfrm rot="5400000">
              <a:off x="1115280" y="2061360"/>
              <a:ext cx="287280" cy="1295280"/>
            </a:xfrm>
            <a:custGeom>
              <a:avLst/>
              <a:gdLst>
                <a:gd name="textAreaLeft" fmla="*/ 0 w 287280"/>
                <a:gd name="textAreaRight" fmla="*/ 103680 w 287280"/>
                <a:gd name="textAreaTop" fmla="*/ 19800 h 1295280"/>
                <a:gd name="textAreaBottom" fmla="*/ 127548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36"/>
                    <a:pt x="10800" y="1072"/>
                  </a:cubicBezTo>
                  <a:lnTo>
                    <a:pt x="10800" y="9728"/>
                  </a:lnTo>
                  <a:cubicBezTo>
                    <a:pt x="10800" y="10264"/>
                    <a:pt x="16200" y="10800"/>
                    <a:pt x="21600" y="10800"/>
                  </a:cubicBezTo>
                  <a:cubicBezTo>
                    <a:pt x="16200" y="10800"/>
                    <a:pt x="10800" y="11336"/>
                    <a:pt x="10800" y="11872"/>
                  </a:cubicBezTo>
                  <a:lnTo>
                    <a:pt x="10800" y="20528"/>
                  </a:lnTo>
                  <a:cubicBezTo>
                    <a:pt x="10800" y="21064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2"/>
            <p:cNvSpPr/>
            <p:nvPr/>
          </p:nvSpPr>
          <p:spPr>
            <a:xfrm>
              <a:off x="539640" y="2854080"/>
              <a:ext cx="144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Revolución  France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Picture 41" descr=""/>
            <p:cNvPicPr/>
            <p:nvPr/>
          </p:nvPicPr>
          <p:blipFill>
            <a:blip r:embed="rId4"/>
            <a:stretch/>
          </p:blipFill>
          <p:spPr>
            <a:xfrm>
              <a:off x="250920" y="3573360"/>
              <a:ext cx="1487520" cy="187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" name="Group 49"/>
          <p:cNvGrpSpPr/>
          <p:nvPr/>
        </p:nvGrpSpPr>
        <p:grpSpPr>
          <a:xfrm>
            <a:off x="6732720" y="2565360"/>
            <a:ext cx="1511280" cy="2879640"/>
            <a:chOff x="6732720" y="2565360"/>
            <a:chExt cx="1511280" cy="2879640"/>
          </a:xfrm>
        </p:grpSpPr>
        <p:sp>
          <p:nvSpPr>
            <p:cNvPr id="130" name="Text Box 29"/>
            <p:cNvSpPr/>
            <p:nvPr/>
          </p:nvSpPr>
          <p:spPr>
            <a:xfrm>
              <a:off x="6804000" y="2854080"/>
              <a:ext cx="144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Unificaciones Nacionale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31"/>
            <p:cNvSpPr/>
            <p:nvPr/>
          </p:nvSpPr>
          <p:spPr>
            <a:xfrm rot="5400000">
              <a:off x="7236720" y="2061360"/>
              <a:ext cx="287280" cy="1295280"/>
            </a:xfrm>
            <a:custGeom>
              <a:avLst/>
              <a:gdLst>
                <a:gd name="textAreaLeft" fmla="*/ 0 w 287280"/>
                <a:gd name="textAreaRight" fmla="*/ 103680 w 287280"/>
                <a:gd name="textAreaTop" fmla="*/ 19800 h 1295280"/>
                <a:gd name="textAreaBottom" fmla="*/ 127548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36"/>
                    <a:pt x="10800" y="1072"/>
                  </a:cubicBezTo>
                  <a:lnTo>
                    <a:pt x="10800" y="9728"/>
                  </a:lnTo>
                  <a:cubicBezTo>
                    <a:pt x="10800" y="10264"/>
                    <a:pt x="16200" y="10800"/>
                    <a:pt x="21600" y="10800"/>
                  </a:cubicBezTo>
                  <a:cubicBezTo>
                    <a:pt x="16200" y="10800"/>
                    <a:pt x="10800" y="11336"/>
                    <a:pt x="10800" y="11872"/>
                  </a:cubicBezTo>
                  <a:lnTo>
                    <a:pt x="10800" y="20528"/>
                  </a:lnTo>
                  <a:cubicBezTo>
                    <a:pt x="10800" y="21064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Picture 42" descr="H_U_10_11.jpg"/>
            <p:cNvPicPr/>
            <p:nvPr/>
          </p:nvPicPr>
          <p:blipFill>
            <a:blip r:embed="rId5"/>
            <a:stretch/>
          </p:blipFill>
          <p:spPr>
            <a:xfrm>
              <a:off x="6804000" y="3573360"/>
              <a:ext cx="1382760" cy="18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Text Box 50"/>
          <p:cNvSpPr/>
          <p:nvPr/>
        </p:nvSpPr>
        <p:spPr>
          <a:xfrm>
            <a:off x="539640" y="549360"/>
            <a:ext cx="80647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CONTEXTUALICEMOS LOS  SIGUIENTES PROCES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7"/>
          <p:cNvSpPr/>
          <p:nvPr/>
        </p:nvSpPr>
        <p:spPr>
          <a:xfrm>
            <a:off x="539640" y="3068640"/>
            <a:ext cx="2448000" cy="64260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MPERIO NAPOLEÓ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3419640" y="3068640"/>
            <a:ext cx="2520720" cy="64260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REVOLUCIONES LIBE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6300720" y="3068640"/>
            <a:ext cx="2557440" cy="64260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UNIFICACIONES N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539640" y="4510080"/>
            <a:ext cx="244800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STAURACIÓN ABSOLUT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26"/>
          <p:cNvGrpSpPr/>
          <p:nvPr/>
        </p:nvGrpSpPr>
        <p:grpSpPr>
          <a:xfrm>
            <a:off x="1403280" y="189000"/>
            <a:ext cx="6480000" cy="1906560"/>
            <a:chOff x="1403280" y="189000"/>
            <a:chExt cx="6480000" cy="1906560"/>
          </a:xfrm>
        </p:grpSpPr>
        <p:sp>
          <p:nvSpPr>
            <p:cNvPr id="139" name="Text Box 5"/>
            <p:cNvSpPr/>
            <p:nvPr/>
          </p:nvSpPr>
          <p:spPr>
            <a:xfrm>
              <a:off x="1403280" y="189000"/>
              <a:ext cx="6480000" cy="581400"/>
            </a:xfrm>
            <a:prstGeom prst="rect">
              <a:avLst/>
            </a:prstGeom>
            <a:solidFill>
              <a:srgbClr val="0000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ffffff"/>
                  </a:solidFill>
                  <a:latin typeface="Arial"/>
                </a:rPr>
                <a:t>LEGADO DE LA ILUSTRACIÓ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6"/>
            <p:cNvSpPr/>
            <p:nvPr/>
          </p:nvSpPr>
          <p:spPr>
            <a:xfrm>
              <a:off x="2771640" y="1270080"/>
              <a:ext cx="3529080" cy="825480"/>
            </a:xfrm>
            <a:prstGeom prst="rect">
              <a:avLst/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REVOLUCIÓN FRANCE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1"/>
            <p:cNvSpPr/>
            <p:nvPr/>
          </p:nvSpPr>
          <p:spPr>
            <a:xfrm>
              <a:off x="4498920" y="7653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Line 13"/>
          <p:cNvSpPr/>
          <p:nvPr/>
        </p:nvSpPr>
        <p:spPr>
          <a:xfrm>
            <a:off x="1619280" y="37180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4"/>
          <p:cNvSpPr/>
          <p:nvPr/>
        </p:nvSpPr>
        <p:spPr>
          <a:xfrm flipV="1">
            <a:off x="1619280" y="270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 flipV="1">
            <a:off x="7524720" y="270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1619280" y="270972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8"/>
          <p:cNvSpPr/>
          <p:nvPr/>
        </p:nvSpPr>
        <p:spPr>
          <a:xfrm>
            <a:off x="4500720" y="21337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6372360" y="4797360"/>
            <a:ext cx="2557440" cy="3682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TALIA  Y ALEM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1"/>
          <p:cNvSpPr/>
          <p:nvPr/>
        </p:nvSpPr>
        <p:spPr>
          <a:xfrm>
            <a:off x="3995640" y="4437000"/>
            <a:ext cx="1152720" cy="7855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8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8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2"/>
          <p:cNvSpPr/>
          <p:nvPr/>
        </p:nvSpPr>
        <p:spPr>
          <a:xfrm>
            <a:off x="4500720" y="371808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3"/>
          <p:cNvSpPr/>
          <p:nvPr/>
        </p:nvSpPr>
        <p:spPr>
          <a:xfrm>
            <a:off x="7596360" y="3789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24"/>
          <p:cNvSpPr/>
          <p:nvPr/>
        </p:nvSpPr>
        <p:spPr>
          <a:xfrm rot="5400000">
            <a:off x="6642000" y="3733560"/>
            <a:ext cx="431640" cy="3997440"/>
          </a:xfrm>
          <a:custGeom>
            <a:avLst/>
            <a:gdLst>
              <a:gd name="textAreaLeft" fmla="*/ 0 w 431640"/>
              <a:gd name="textAreaRight" fmla="*/ 155880 w 431640"/>
              <a:gd name="textAreaTop" fmla="*/ 61920 h 3997440"/>
              <a:gd name="textAreaBottom" fmla="*/ 3935520 h 399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36"/>
                  <a:pt x="10800" y="1072"/>
                </a:cubicBezTo>
                <a:lnTo>
                  <a:pt x="10800" y="9728"/>
                </a:lnTo>
                <a:cubicBezTo>
                  <a:pt x="10800" y="10264"/>
                  <a:pt x="16200" y="10800"/>
                  <a:pt x="21600" y="10800"/>
                </a:cubicBezTo>
                <a:cubicBezTo>
                  <a:pt x="16200" y="10800"/>
                  <a:pt x="10800" y="11336"/>
                  <a:pt x="10800" y="11872"/>
                </a:cubicBezTo>
                <a:lnTo>
                  <a:pt x="10800" y="20528"/>
                </a:lnTo>
                <a:cubicBezTo>
                  <a:pt x="10800" y="2106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5"/>
          <p:cNvSpPr/>
          <p:nvPr/>
        </p:nvSpPr>
        <p:spPr>
          <a:xfrm>
            <a:off x="3635280" y="5950080"/>
            <a:ext cx="5257800" cy="39888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IBERALISMO Y NACIONAL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Verdana"/>
              </a:rPr>
              <a:t>LEGADO NAPOLEÓ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6"/>
          <p:cNvSpPr/>
          <p:nvPr/>
        </p:nvSpPr>
        <p:spPr>
          <a:xfrm>
            <a:off x="971640" y="2997360"/>
            <a:ext cx="3456000" cy="172872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a1c95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solidación en Francia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incipios de la Revo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ranc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7"/>
          <p:cNvSpPr/>
          <p:nvPr/>
        </p:nvSpPr>
        <p:spPr>
          <a:xfrm>
            <a:off x="5219640" y="1268280"/>
            <a:ext cx="3456000" cy="151308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e8ba5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xpansión Imperial perm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xportar el  ide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volucion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9"/>
          <p:cNvSpPr/>
          <p:nvPr/>
        </p:nvSpPr>
        <p:spPr>
          <a:xfrm>
            <a:off x="900000" y="1341360"/>
            <a:ext cx="3311640" cy="151308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100000">
                <a:srgbClr val="a7d1a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Último déspota ilust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0"/>
          <p:cNvSpPr/>
          <p:nvPr/>
        </p:nvSpPr>
        <p:spPr>
          <a:xfrm>
            <a:off x="4932360" y="3068640"/>
            <a:ext cx="3672000" cy="1655640"/>
          </a:xfrm>
          <a:prstGeom prst="ellipse">
            <a:avLst/>
          </a:prstGeom>
          <a:gradFill rotWithShape="0">
            <a:gsLst>
              <a:gs pos="0">
                <a:srgbClr val="edd8f4"/>
              </a:gs>
              <a:gs pos="100000">
                <a:srgbClr val="b3a3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 Código Civil se constituy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 modelo de Legislación pa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ccid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1"/>
          <p:cNvSpPr/>
          <p:nvPr/>
        </p:nvSpPr>
        <p:spPr>
          <a:xfrm flipH="1" rot="16183800">
            <a:off x="4662360" y="3195000"/>
            <a:ext cx="432000" cy="3924000"/>
          </a:xfrm>
          <a:custGeom>
            <a:avLst/>
            <a:gdLst>
              <a:gd name="textAreaLeft" fmla="*/ 360 w 432000"/>
              <a:gd name="textAreaRight" fmla="*/ 156240 w 432000"/>
              <a:gd name="textAreaTop" fmla="*/ 102240 h 3924000"/>
              <a:gd name="textAreaBottom" fmla="*/ 3821760 h 39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1403280" y="5516640"/>
            <a:ext cx="7199280" cy="64260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obstante, Napoleón restauró los privilegios de la nobleza. Tras su derrota comienza la reacción monárqu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3"/>
          <p:cNvSpPr/>
          <p:nvPr/>
        </p:nvSpPr>
        <p:spPr>
          <a:xfrm flipH="1">
            <a:off x="3492360" y="907920"/>
            <a:ext cx="719280" cy="506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4"/>
          <p:cNvSpPr/>
          <p:nvPr/>
        </p:nvSpPr>
        <p:spPr>
          <a:xfrm flipH="1">
            <a:off x="3995280" y="907920"/>
            <a:ext cx="576360" cy="2376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5"/>
          <p:cNvSpPr/>
          <p:nvPr/>
        </p:nvSpPr>
        <p:spPr>
          <a:xfrm>
            <a:off x="4716360" y="907920"/>
            <a:ext cx="1008000" cy="2305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6"/>
          <p:cNvSpPr/>
          <p:nvPr/>
        </p:nvSpPr>
        <p:spPr>
          <a:xfrm>
            <a:off x="5148360" y="907920"/>
            <a:ext cx="718920" cy="505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1. LA RESTAURACI</a:t>
            </a:r>
            <a:r>
              <a:rPr b="1" i="1" lang="es-ES_tradnl" sz="2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ÓN: </a:t>
            </a:r>
            <a:br>
              <a:rPr sz="2800"/>
            </a:br>
            <a:r>
              <a:rPr b="1" i="1" lang="es-ES_tradnl" sz="2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el regreso del absolutismo. (1815- 18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611280" y="1916280"/>
            <a:ext cx="2808360" cy="21877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greso de Vien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incipio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Legitim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Compensac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territo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Equilibrio de po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5867280" y="1916280"/>
            <a:ext cx="3095640" cy="183168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Santa Alianz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Austria, Rusia y Prusia)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 la Cuádruple Alianza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ovilización de la fuerza para impedir brotes revolucionarios libe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Congreso de Viena, según Isabey"/>
          <p:cNvPicPr/>
          <p:nvPr/>
        </p:nvPicPr>
        <p:blipFill>
          <a:blip r:embed="rId1"/>
          <a:stretch/>
        </p:blipFill>
        <p:spPr>
          <a:xfrm>
            <a:off x="5724360" y="4005360"/>
            <a:ext cx="3167280" cy="24969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68" name="Picture 7" descr="El Congreso de 1815"/>
          <p:cNvPicPr/>
          <p:nvPr/>
        </p:nvPicPr>
        <p:blipFill>
          <a:blip r:embed="rId2"/>
          <a:stretch/>
        </p:blipFill>
        <p:spPr>
          <a:xfrm>
            <a:off x="826920" y="4005360"/>
            <a:ext cx="2232360" cy="2565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9" name="Text Box 8"/>
          <p:cNvSpPr/>
          <p:nvPr/>
        </p:nvSpPr>
        <p:spPr>
          <a:xfrm>
            <a:off x="684360" y="119700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íodo de cambios políticos en Europa entre 1814 y 1848, caracterizado por el intento de los monarcas de asentar su legitimida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4356000" y="2205000"/>
            <a:ext cx="792360" cy="318096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0"/>
          <p:cNvSpPr/>
          <p:nvPr/>
        </p:nvSpPr>
        <p:spPr>
          <a:xfrm flipH="1">
            <a:off x="3492000" y="2997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1"/>
          <p:cNvSpPr/>
          <p:nvPr/>
        </p:nvSpPr>
        <p:spPr>
          <a:xfrm>
            <a:off x="5292720" y="2997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5331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Verdana"/>
              </a:rPr>
              <a:t>LA EUROPA DEL CONGRESO DE VI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"/>
          <p:cNvPicPr/>
          <p:nvPr/>
        </p:nvPicPr>
        <p:blipFill>
          <a:blip r:embed="rId1"/>
          <a:stretch/>
        </p:blipFill>
        <p:spPr>
          <a:xfrm>
            <a:off x="1187280" y="839880"/>
            <a:ext cx="7745760" cy="5397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Verdana"/>
              </a:rPr>
              <a:t>Principales procesos del período de la Restau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5"/>
          <p:cNvGrpSpPr/>
          <p:nvPr/>
        </p:nvGrpSpPr>
        <p:grpSpPr>
          <a:xfrm>
            <a:off x="539640" y="1628640"/>
            <a:ext cx="7848720" cy="4032360"/>
            <a:chOff x="539640" y="1628640"/>
            <a:chExt cx="7848720" cy="4032360"/>
          </a:xfrm>
        </p:grpSpPr>
        <p:sp>
          <p:nvSpPr>
            <p:cNvPr id="177" name="Rectangle 5"/>
            <p:cNvSpPr/>
            <p:nvPr/>
          </p:nvSpPr>
          <p:spPr>
            <a:xfrm>
              <a:off x="539640" y="1628640"/>
              <a:ext cx="3527640" cy="1008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Sofocamiento de la Revolu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iberal española de 1820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"/>
            <p:cNvSpPr/>
            <p:nvPr/>
          </p:nvSpPr>
          <p:spPr>
            <a:xfrm>
              <a:off x="2340000" y="3139920"/>
              <a:ext cx="3527280" cy="1008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onfirmación de la hegemoní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e Austria (Metternich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>
              <a:off x="4427640" y="4653000"/>
              <a:ext cx="3960720" cy="1008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Independencia de Grecia en 1829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8"/>
            <p:cNvSpPr/>
            <p:nvPr/>
          </p:nvSpPr>
          <p:spPr>
            <a:xfrm>
              <a:off x="140328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>
              <a:off x="1403280" y="36450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>
              <a:off x="3492360" y="4148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1"/>
            <p:cNvSpPr/>
            <p:nvPr/>
          </p:nvSpPr>
          <p:spPr>
            <a:xfrm>
              <a:off x="3492360" y="5084640"/>
              <a:ext cx="9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Oval 14"/>
          <p:cNvSpPr/>
          <p:nvPr/>
        </p:nvSpPr>
        <p:spPr>
          <a:xfrm>
            <a:off x="6012000" y="1628640"/>
            <a:ext cx="2881080" cy="158436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9ac14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1830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¡comienzan 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movimientos libe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y nacionales…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3:30:29Z</dcterms:created>
  <dc:creator>Catalina Olivares</dc:creator>
  <dc:description/>
  <dc:language>en-US</dc:language>
  <cp:lastModifiedBy>mago</cp:lastModifiedBy>
  <dcterms:modified xsi:type="dcterms:W3CDTF">2008-10-03T04:22:38Z</dcterms:modified>
  <cp:revision>63</cp:revision>
  <dc:subject/>
  <dc:title>Diapositiva 1</dc:title>
</cp:coreProperties>
</file>