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6DAA-7F45-4FC3-9CE3-F1CE8CF546B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8E5E-27A7-4ADF-AA1E-BD3F820E832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0C84-F459-4FDC-A2BC-E04F1A02CF2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 im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enes no tienen relación directa con el texto. Izquierda: Lucha entre girondinos y jacobinos, durante la Convención. Derecha: La Revuelta de los campesinos, durante el Gran Mie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D3ED-A1ED-4150-948C-8DC468AE812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agen: Coronación de Napoleón Bonaparte (1804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F347-D8C9-4857-9428-88F8A0CD441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313D-2A7B-4431-A4A9-1833494BDBC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4D3F-00C6-4CA2-9D6E-0B563C722CA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timado profesor(a):  La pregunta que aquí se señala está pensada para un libre tratamiento del concepto revolución, si es necesario, recurra a la diferencia conceptual entre este concepto y el de reforma. Se sugiere que durante el desarrollo de la clase que a continuación se presenta no enfatice demasiado en las etapas debido a que, en la PSU de año 2007, el proceso fue evaluado desde la perspectiva de la ilustración y no desde las etapas.  Por tanto, es importante que se explaye mucho más en el legado revolucionario que en las etapas del proce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E810-CE65-4563-ABE4-70AE7B79213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797E-DCEC-4BFB-8419-8B2AF976C0D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 recomienda al profesor que explique brevemente cada acontecimiento. En el caso de la Declaración de los Derechos del Hombre y del Ciudadano, más adelante tendrá oportunidad de profundizar, cuando se trate la importancia de la Revolu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agen: Declaración de los Derechos del Hombre y del Ciudad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5C67-FCCB-48F8-8A52-EFE89BD94EA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enes: Superior Se hace alusión a  Dantón en la Asamblea Legislativa; abajo, Reconocimiento de Luis XVI en Varennes y reclutamiento en ma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04A8-18D4-42F9-B041-A22EFE92345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genes: Arriba: ejecución de Luis XVI. Abajo: Izquierda: la represión de la insurrección monarquista de la Vendée. Derecha: Lafayette fue el comandante del ejército de la resistencia francesa ante las tropas invasoras europ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5E38-97CD-4485-9AE4-1CFDD994CE9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agen izquierda: representación de la época del Terror.  Imagen derecha: Dantón, Marat y Maximiliano Roberspier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3948-AEFB-4C4B-815E-F0D6D6F015B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CCD50-978F-407C-B07E-5B4BD8AB32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121D2-C0A2-4240-9C67-D7B800CA54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D8D34-A121-459B-9F92-0014585744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CE2EB-D78D-4BD7-9A84-5C4DFCC48D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4853E-7939-470F-95A3-EE7CAF625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D635A-D80E-457E-8F83-31179F80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249EA-7BC7-4E06-A3F5-E9BB74A4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EC4687-601F-41C3-8D7B-CE7244CD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D6090-74B2-4DE6-8B63-E9AB8D59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A3D83-FEF9-456A-AA1D-AEBD87EC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052F6B-51A6-4E6F-9CDB-6ED33527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AFD34-339F-4D8E-A331-8F87510F64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21863-21F5-408E-911B-7EDF4D54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1B0835-2E9E-459B-8665-5D0D4047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BE94C-5ED8-4EFF-96A2-9C0FB7EF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5DDA7-C73C-45E0-B923-DD575570B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7DA35-1B42-4FF2-AAE5-6753037E4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2D3B0-FDC0-430D-A5B8-1212ACA062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EC54F-5964-4900-AEEC-181FE59370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2E225-D228-41A7-8853-9718F57AA2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3D80D-DA55-4FF5-B992-E9AC1E82E0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548D4-3F9A-485B-9781-F586AB48AF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6D780-5598-4E6E-9E83-20BB6DE4CF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E066C-454A-407E-AF50-1CED63D15E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2F09-6B47-476A-AC9A-39648CAA4C5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7" descr="Huniversal sello agua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7" descr="Huniversal sello agua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FD70-4403-4D9C-B6F9-8F2B779DFA8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476360" y="0"/>
            <a:ext cx="38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Área: Historia y Ciencias So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Sección: Historia Uni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Huniversal 1ªhoja"/>
          <p:cNvPicPr/>
          <p:nvPr/>
        </p:nvPicPr>
        <p:blipFill>
          <a:blip r:embed="rId1"/>
          <a:stretch/>
        </p:blipFill>
        <p:spPr>
          <a:xfrm>
            <a:off x="0" y="0"/>
            <a:ext cx="147636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549000"/>
            <a:ext cx="7345440" cy="20876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ffff"/>
                </a:solidFill>
                <a:latin typeface="Verdana"/>
              </a:rPr>
              <a:t>CLASE HU 18</a:t>
            </a:r>
            <a:br>
              <a:rPr sz="4000"/>
            </a:br>
            <a:r>
              <a:rPr b="0" i="1" lang="es-E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s-ES" sz="3600" spc="-1" strike="noStrike">
                <a:solidFill>
                  <a:srgbClr val="ffffff"/>
                </a:solidFill>
                <a:latin typeface="Verdana"/>
              </a:rPr>
              <a:t>REVOLUCIÓN FRANCESA</a:t>
            </a:r>
            <a:r>
              <a:rPr b="1" lang="es-ES" sz="36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i="1" lang="es-ES" sz="4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000"/>
            </a:b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Cronología, importancia y consecuencias</a:t>
            </a:r>
            <a:r>
              <a:rPr b="0" i="1" lang="es-ES" sz="28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historia_de_francia_revolucion"/>
          <p:cNvPicPr/>
          <p:nvPr/>
        </p:nvPicPr>
        <p:blipFill>
          <a:blip r:embed="rId2"/>
          <a:stretch/>
        </p:blipFill>
        <p:spPr>
          <a:xfrm>
            <a:off x="3419640" y="2708280"/>
            <a:ext cx="3484440" cy="3960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468360" y="1916280"/>
            <a:ext cx="360036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stitución de 1799, NAPOLEÓN Primer Cóns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cordato con el Papado (18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stitución de 1802: Napoleón, Cónsul Vitali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ablecimiento del Franco y creación del Banco de Fra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804, ante presencia del Papa Pío VII, Napoleón se coronó a sí m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539640" y="260280"/>
            <a:ext cx="3313080" cy="1169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CONSULA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(1799-180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1" descr="blog-portrait-roger-ducos"/>
          <p:cNvPicPr/>
          <p:nvPr/>
        </p:nvPicPr>
        <p:blipFill>
          <a:blip r:embed="rId1"/>
          <a:stretch/>
        </p:blipFill>
        <p:spPr>
          <a:xfrm>
            <a:off x="6588000" y="260280"/>
            <a:ext cx="1368720" cy="1656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4" name="Picture 13" descr="img-2"/>
          <p:cNvPicPr/>
          <p:nvPr/>
        </p:nvPicPr>
        <p:blipFill>
          <a:blip r:embed="rId2"/>
          <a:stretch/>
        </p:blipFill>
        <p:spPr>
          <a:xfrm>
            <a:off x="4716360" y="260280"/>
            <a:ext cx="1584360" cy="1697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5" name="Picture 17" descr="457px-Napoléon_Bonaparte_par_Paul_Delaroche"/>
          <p:cNvPicPr/>
          <p:nvPr/>
        </p:nvPicPr>
        <p:blipFill>
          <a:blip r:embed="rId3"/>
          <a:stretch/>
        </p:blipFill>
        <p:spPr>
          <a:xfrm>
            <a:off x="4716360" y="2205000"/>
            <a:ext cx="3137040" cy="4103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6" name="Rectangle 19"/>
          <p:cNvSpPr/>
          <p:nvPr/>
        </p:nvSpPr>
        <p:spPr>
          <a:xfrm>
            <a:off x="6588000" y="1700280"/>
            <a:ext cx="136872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Duc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0"/>
          <p:cNvSpPr/>
          <p:nvPr/>
        </p:nvSpPr>
        <p:spPr>
          <a:xfrm>
            <a:off x="4716360" y="5950080"/>
            <a:ext cx="31687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Bonap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1"/>
          <p:cNvSpPr/>
          <p:nvPr/>
        </p:nvSpPr>
        <p:spPr>
          <a:xfrm>
            <a:off x="4716360" y="1700280"/>
            <a:ext cx="158436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Siey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Importancia e innovaciones políticas de la Revol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5364000" y="1557360"/>
            <a:ext cx="2592720" cy="6426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69834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ablecimiento del régimen republic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5364000" y="2565360"/>
            <a:ext cx="2592720" cy="11912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82a261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parecen los sectores políticos: izquierda, centro y derech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1403280" y="1628640"/>
            <a:ext cx="1728720" cy="6426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a1c979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bolición del feudal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900000" y="4221000"/>
            <a:ext cx="7417080" cy="916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777777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undación del pensamiento liberal,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partir de la aplicación de los principios de la Ilustración. El fundamento de este liberalismo se halla en la Declaración de los Derechos del Hombre y del Ciudad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1403280" y="2565360"/>
            <a:ext cx="1728720" cy="6426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9ac174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forma Agr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"/>
          <p:cNvSpPr/>
          <p:nvPr/>
        </p:nvSpPr>
        <p:spPr>
          <a:xfrm>
            <a:off x="4284720" y="1197000"/>
            <a:ext cx="0" cy="302400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6"/>
          <p:cNvSpPr/>
          <p:nvPr/>
        </p:nvSpPr>
        <p:spPr>
          <a:xfrm flipH="1">
            <a:off x="3131640" y="1197000"/>
            <a:ext cx="792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7"/>
          <p:cNvSpPr/>
          <p:nvPr/>
        </p:nvSpPr>
        <p:spPr>
          <a:xfrm flipH="1">
            <a:off x="3131640" y="1197000"/>
            <a:ext cx="1008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8"/>
          <p:cNvSpPr/>
          <p:nvPr/>
        </p:nvSpPr>
        <p:spPr>
          <a:xfrm>
            <a:off x="4572000" y="1197000"/>
            <a:ext cx="79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9"/>
          <p:cNvSpPr/>
          <p:nvPr/>
        </p:nvSpPr>
        <p:spPr>
          <a:xfrm>
            <a:off x="4427640" y="1197000"/>
            <a:ext cx="93636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000066"/>
          </a:solidFill>
          <a:ln w="324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Avances Político Institu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6"/>
          <p:cNvSpPr/>
          <p:nvPr/>
        </p:nvSpPr>
        <p:spPr>
          <a:xfrm>
            <a:off x="324000" y="1268280"/>
            <a:ext cx="2879640" cy="10083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1d1a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sarrollo del princip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stitu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7"/>
          <p:cNvSpPr/>
          <p:nvPr/>
        </p:nvSpPr>
        <p:spPr>
          <a:xfrm>
            <a:off x="755640" y="2997360"/>
            <a:ext cx="2735280" cy="720720"/>
          </a:xfrm>
          <a:prstGeom prst="ellipse">
            <a:avLst/>
          </a:prstGeom>
          <a:gradFill rotWithShape="0">
            <a:gsLst>
              <a:gs pos="0">
                <a:srgbClr val="edd8f4"/>
              </a:gs>
              <a:gs pos="100000">
                <a:srgbClr val="6e647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visión de Pode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8"/>
          <p:cNvSpPr/>
          <p:nvPr/>
        </p:nvSpPr>
        <p:spPr>
          <a:xfrm>
            <a:off x="5364000" y="2708280"/>
            <a:ext cx="2735280" cy="7207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oberanía 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9"/>
          <p:cNvSpPr/>
          <p:nvPr/>
        </p:nvSpPr>
        <p:spPr>
          <a:xfrm>
            <a:off x="4932360" y="1341360"/>
            <a:ext cx="3384720" cy="71928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6c6c6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ección de Represen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0"/>
          <p:cNvSpPr/>
          <p:nvPr/>
        </p:nvSpPr>
        <p:spPr>
          <a:xfrm>
            <a:off x="2268360" y="4365720"/>
            <a:ext cx="3745080" cy="86184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72888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conocimiento universal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Derechos individu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5219640" y="3645000"/>
            <a:ext cx="3313080" cy="79200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4747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sarrollo del Estado La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2"/>
          <p:cNvSpPr/>
          <p:nvPr/>
        </p:nvSpPr>
        <p:spPr>
          <a:xfrm flipH="1">
            <a:off x="2843280" y="907920"/>
            <a:ext cx="93672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3"/>
          <p:cNvSpPr/>
          <p:nvPr/>
        </p:nvSpPr>
        <p:spPr>
          <a:xfrm flipH="1">
            <a:off x="3058920" y="836640"/>
            <a:ext cx="936360" cy="23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4"/>
          <p:cNvSpPr/>
          <p:nvPr/>
        </p:nvSpPr>
        <p:spPr>
          <a:xfrm>
            <a:off x="4067280" y="907920"/>
            <a:ext cx="0" cy="345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4140360" y="907920"/>
            <a:ext cx="115236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6"/>
          <p:cNvSpPr/>
          <p:nvPr/>
        </p:nvSpPr>
        <p:spPr>
          <a:xfrm>
            <a:off x="4284720" y="907920"/>
            <a:ext cx="1079280" cy="208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>
            <a:off x="4427640" y="907920"/>
            <a:ext cx="8650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066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"/>
              </a:rPr>
              <a:t>Consecuencias de la Revolu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209080" cy="251964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o inmediato, la Revolución derivó en el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mperio Napoleón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l largo plazo, la Revolución Francesa inauguró una etapa de la historia política europea, caracterizada por la lucha entre los principios liberales y el absolutismo monárquico, y entre la burguesía y la realeza, que marcó al siglo X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demás, la Revolución tuvo un enorme impacto en la política contemporánea y sus ideales se vieron reflejados en numerosos procesos revolucionarios tanto en Europa, como en Amér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Lucha entre la convencion y el Comite de Salvacion Publica"/>
          <p:cNvPicPr/>
          <p:nvPr/>
        </p:nvPicPr>
        <p:blipFill>
          <a:blip r:embed="rId1"/>
          <a:stretch/>
        </p:blipFill>
        <p:spPr>
          <a:xfrm>
            <a:off x="395280" y="4005360"/>
            <a:ext cx="3887640" cy="2508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76" name="Picture 5" descr="Revuelta Campesina"/>
          <p:cNvPicPr/>
          <p:nvPr/>
        </p:nvPicPr>
        <p:blipFill>
          <a:blip r:embed="rId2"/>
          <a:stretch/>
        </p:blipFill>
        <p:spPr>
          <a:xfrm>
            <a:off x="4427640" y="4005360"/>
            <a:ext cx="4103640" cy="24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6"/>
          <p:cNvSpPr/>
          <p:nvPr/>
        </p:nvSpPr>
        <p:spPr>
          <a:xfrm>
            <a:off x="324000" y="260280"/>
            <a:ext cx="7704000" cy="78552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Verdana"/>
              </a:rPr>
              <a:t>Golpe de Estado de Napoleón (18 de Brumario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Verdana"/>
              </a:rPr>
              <a:t>Napoleón Cónsul (17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30"/>
          <p:cNvGrpSpPr/>
          <p:nvPr/>
        </p:nvGrpSpPr>
        <p:grpSpPr>
          <a:xfrm>
            <a:off x="1042920" y="1268280"/>
            <a:ext cx="6683400" cy="1559160"/>
            <a:chOff x="1042920" y="1268280"/>
            <a:chExt cx="6683400" cy="1559160"/>
          </a:xfrm>
        </p:grpSpPr>
        <p:sp>
          <p:nvSpPr>
            <p:cNvPr id="179" name="Text Box 7"/>
            <p:cNvSpPr/>
            <p:nvPr/>
          </p:nvSpPr>
          <p:spPr>
            <a:xfrm>
              <a:off x="3171600" y="1268280"/>
              <a:ext cx="4554720" cy="642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d1d1a7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Orden y estabilidad interior, manteniendo los ideales revolucionario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3171600" y="2459160"/>
              <a:ext cx="4554720" cy="3682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c9c9a1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Napoleón se proclama emperador (1804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9"/>
            <p:cNvSpPr/>
            <p:nvPr/>
          </p:nvSpPr>
          <p:spPr>
            <a:xfrm>
              <a:off x="3171600" y="2013120"/>
              <a:ext cx="4554720" cy="3682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b9b994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ódigo civi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1"/>
            <p:cNvSpPr/>
            <p:nvPr/>
          </p:nvSpPr>
          <p:spPr>
            <a:xfrm>
              <a:off x="1042920" y="1863720"/>
              <a:ext cx="1468440" cy="7430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1818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olític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Inte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8"/>
            <p:cNvSpPr/>
            <p:nvPr/>
          </p:nvSpPr>
          <p:spPr>
            <a:xfrm>
              <a:off x="2511360" y="2162160"/>
              <a:ext cx="29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9"/>
            <p:cNvSpPr/>
            <p:nvPr/>
          </p:nvSpPr>
          <p:spPr>
            <a:xfrm>
              <a:off x="2804760" y="1417680"/>
              <a:ext cx="0" cy="12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0"/>
            <p:cNvSpPr/>
            <p:nvPr/>
          </p:nvSpPr>
          <p:spPr>
            <a:xfrm>
              <a:off x="2804760" y="1417680"/>
              <a:ext cx="36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1"/>
            <p:cNvSpPr/>
            <p:nvPr/>
          </p:nvSpPr>
          <p:spPr>
            <a:xfrm>
              <a:off x="2804760" y="2162160"/>
              <a:ext cx="36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2"/>
            <p:cNvSpPr/>
            <p:nvPr/>
          </p:nvSpPr>
          <p:spPr>
            <a:xfrm>
              <a:off x="2804760" y="2682720"/>
              <a:ext cx="36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31"/>
          <p:cNvGrpSpPr/>
          <p:nvPr/>
        </p:nvGrpSpPr>
        <p:grpSpPr>
          <a:xfrm>
            <a:off x="1123920" y="3427560"/>
            <a:ext cx="5216400" cy="963360"/>
            <a:chOff x="1123920" y="3427560"/>
            <a:chExt cx="5216400" cy="963360"/>
          </a:xfrm>
        </p:grpSpPr>
        <p:sp>
          <p:nvSpPr>
            <p:cNvPr id="189" name="Oval 12"/>
            <p:cNvSpPr/>
            <p:nvPr/>
          </p:nvSpPr>
          <p:spPr>
            <a:xfrm>
              <a:off x="1123920" y="3576600"/>
              <a:ext cx="1469880" cy="7430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olític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xte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4"/>
            <p:cNvSpPr/>
            <p:nvPr/>
          </p:nvSpPr>
          <p:spPr>
            <a:xfrm>
              <a:off x="3181320" y="3427560"/>
              <a:ext cx="3159000" cy="368280"/>
            </a:xfrm>
            <a:prstGeom prst="rect">
              <a:avLst/>
            </a:prstGeom>
            <a:gradFill rotWithShape="0">
              <a:gsLst>
                <a:gs pos="0">
                  <a:srgbClr val="ccff99"/>
                </a:gs>
                <a:gs pos="100000">
                  <a:srgbClr val="94b96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xpansión territoria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5"/>
            <p:cNvSpPr/>
            <p:nvPr/>
          </p:nvSpPr>
          <p:spPr>
            <a:xfrm>
              <a:off x="3181320" y="4022640"/>
              <a:ext cx="3159000" cy="368280"/>
            </a:xfrm>
            <a:prstGeom prst="rect">
              <a:avLst/>
            </a:prstGeom>
            <a:gradFill rotWithShape="0">
              <a:gsLst>
                <a:gs pos="0">
                  <a:srgbClr val="ccff99"/>
                </a:gs>
                <a:gs pos="100000">
                  <a:srgbClr val="a1c97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xpansión de ideas liberal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3"/>
            <p:cNvSpPr/>
            <p:nvPr/>
          </p:nvSpPr>
          <p:spPr>
            <a:xfrm>
              <a:off x="2593800" y="3946680"/>
              <a:ext cx="22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4"/>
            <p:cNvSpPr/>
            <p:nvPr/>
          </p:nvSpPr>
          <p:spPr>
            <a:xfrm>
              <a:off x="2814480" y="3500280"/>
              <a:ext cx="0" cy="74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5"/>
            <p:cNvSpPr/>
            <p:nvPr/>
          </p:nvSpPr>
          <p:spPr>
            <a:xfrm>
              <a:off x="2814480" y="3500280"/>
              <a:ext cx="36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6"/>
            <p:cNvSpPr/>
            <p:nvPr/>
          </p:nvSpPr>
          <p:spPr>
            <a:xfrm>
              <a:off x="2814480" y="4245120"/>
              <a:ext cx="36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32"/>
          <p:cNvGrpSpPr/>
          <p:nvPr/>
        </p:nvGrpSpPr>
        <p:grpSpPr>
          <a:xfrm>
            <a:off x="611280" y="4319640"/>
            <a:ext cx="7272360" cy="1460160"/>
            <a:chOff x="611280" y="4319640"/>
            <a:chExt cx="7272360" cy="1460160"/>
          </a:xfrm>
        </p:grpSpPr>
        <p:sp>
          <p:nvSpPr>
            <p:cNvPr id="197" name="Text Box 16"/>
            <p:cNvSpPr/>
            <p:nvPr/>
          </p:nvSpPr>
          <p:spPr>
            <a:xfrm>
              <a:off x="611280" y="5137200"/>
              <a:ext cx="3012840" cy="64260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a28241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acción antinapoleónica (1805-1815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7"/>
            <p:cNvSpPr/>
            <p:nvPr/>
          </p:nvSpPr>
          <p:spPr>
            <a:xfrm>
              <a:off x="4284720" y="5137200"/>
              <a:ext cx="3598920" cy="36828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28e47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Derrota de Napoleón 1814 -1815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7"/>
            <p:cNvSpPr/>
            <p:nvPr/>
          </p:nvSpPr>
          <p:spPr>
            <a:xfrm>
              <a:off x="1785960" y="431964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8"/>
            <p:cNvSpPr/>
            <p:nvPr/>
          </p:nvSpPr>
          <p:spPr>
            <a:xfrm>
              <a:off x="3622680" y="5435640"/>
              <a:ext cx="66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147160" cy="11383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Importancia y significado del gobierno de Napoleón Bonaparte (1799- 18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611280" y="1557360"/>
            <a:ext cx="799308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gobierno de Bonaparte fue importante en los siguientes senti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684360" y="220500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Napoleón como el último de los déspotas ilustr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684360" y="263700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La modernización del Estado y de las finanz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684360" y="306864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La consolidación de los principios de la Revolución: el Código Civ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684360" y="3573360"/>
            <a:ext cx="352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La exportación a Europa de las ideas de la Revolución Francesa: la abolición del feudalismo y el desarrollo de los movimientos nacionalistas y libe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684360" y="537372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Restauración de la importancia y los privilegios de la noble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9" descr="Napoleon, Coronacion"/>
          <p:cNvPicPr/>
          <p:nvPr/>
        </p:nvPicPr>
        <p:blipFill>
          <a:blip r:embed="rId1"/>
          <a:stretch/>
        </p:blipFill>
        <p:spPr>
          <a:xfrm>
            <a:off x="4284720" y="3645000"/>
            <a:ext cx="4535280" cy="2647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En síntesis, esto es lo que hemos visto en esta c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611280" y="692280"/>
            <a:ext cx="3600360" cy="936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REVOLUCIÓN FRANC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4"/>
          <p:cNvSpPr/>
          <p:nvPr/>
        </p:nvSpPr>
        <p:spPr>
          <a:xfrm>
            <a:off x="611280" y="1844640"/>
            <a:ext cx="1728720" cy="10080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ta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6"/>
          <p:cNvSpPr/>
          <p:nvPr/>
        </p:nvSpPr>
        <p:spPr>
          <a:xfrm>
            <a:off x="2556000" y="3429000"/>
            <a:ext cx="2160360" cy="10080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ecu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7"/>
          <p:cNvSpPr/>
          <p:nvPr/>
        </p:nvSpPr>
        <p:spPr>
          <a:xfrm>
            <a:off x="4716360" y="3933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5003640" y="285264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5003640" y="4941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6084720" y="2349360"/>
            <a:ext cx="226728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mperio Napoleó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5003640" y="2852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2"/>
          <p:cNvSpPr/>
          <p:nvPr/>
        </p:nvSpPr>
        <p:spPr>
          <a:xfrm>
            <a:off x="6156360" y="3284640"/>
            <a:ext cx="2195640" cy="1152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vol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berales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acion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l siglo X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6156360" y="4653000"/>
            <a:ext cx="212400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ít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temporá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4"/>
          <p:cNvSpPr/>
          <p:nvPr/>
        </p:nvSpPr>
        <p:spPr>
          <a:xfrm>
            <a:off x="3492360" y="16286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250920" y="2997360"/>
            <a:ext cx="2233440" cy="30031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ados Gene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samblea Nacional constituy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samblea Legisla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recto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sul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mpe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7"/>
          <p:cNvSpPr/>
          <p:nvPr/>
        </p:nvSpPr>
        <p:spPr>
          <a:xfrm>
            <a:off x="1476360" y="162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9"/>
          <p:cNvSpPr/>
          <p:nvPr/>
        </p:nvSpPr>
        <p:spPr>
          <a:xfrm>
            <a:off x="4211640" y="1125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9"/>
          <p:cNvSpPr/>
          <p:nvPr/>
        </p:nvSpPr>
        <p:spPr>
          <a:xfrm>
            <a:off x="5148360" y="765000"/>
            <a:ext cx="1728720" cy="1008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E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0"/>
          <p:cNvSpPr/>
          <p:nvPr/>
        </p:nvSpPr>
        <p:spPr>
          <a:xfrm>
            <a:off x="7020000" y="907920"/>
            <a:ext cx="194472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vances Político Institu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1"/>
          <p:cNvSpPr/>
          <p:nvPr/>
        </p:nvSpPr>
        <p:spPr>
          <a:xfrm>
            <a:off x="6877080" y="1125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8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6" descr="untitled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PREPARA PARA TU PRÓXIMA CLASE LOS SIGUIENTE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0920" y="1197000"/>
            <a:ext cx="7848360" cy="122544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REVOLUCIONES LIBERALES Y NACIONALES DEL SIGLO X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4">
            <a:hlinkClick r:id="" action="ppaction://hlinkshowjump?jump=firstslide"/>
          </p:cNvPr>
          <p:cNvSpPr/>
          <p:nvPr/>
        </p:nvSpPr>
        <p:spPr>
          <a:xfrm>
            <a:off x="7451640" y="5445000"/>
            <a:ext cx="792360" cy="100836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1008360"/>
              <a:gd name="textAreaBottom" fmla="*/ 957240 h 1008360"/>
            </a:gdLst>
            <a:ahLst/>
            <a:rect l="textAreaLeft" t="textAreaTop" r="textAreaRight" b="textAreaBottom"/>
            <a:pathLst>
              <a:path w="21600" h="27486">
                <a:moveTo>
                  <a:pt x="0" y="0"/>
                </a:moveTo>
                <a:lnTo>
                  <a:pt x="21600" y="0"/>
                </a:lnTo>
                <a:lnTo>
                  <a:pt x="21600" y="27486"/>
                </a:lnTo>
                <a:lnTo>
                  <a:pt x="0" y="27486"/>
                </a:lnTo>
                <a:close/>
              </a:path>
              <a:path fill="lightenLess" w="21600" h="274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486">
                <a:moveTo>
                  <a:pt x="21600" y="0"/>
                </a:moveTo>
                <a:lnTo>
                  <a:pt x="21600" y="27486"/>
                </a:lnTo>
                <a:lnTo>
                  <a:pt x="20200" y="26086"/>
                </a:lnTo>
                <a:lnTo>
                  <a:pt x="20200" y="1400"/>
                </a:lnTo>
                <a:close/>
              </a:path>
              <a:path fill="darkenLess" w="21600" h="27486">
                <a:moveTo>
                  <a:pt x="21600" y="27486"/>
                </a:moveTo>
                <a:lnTo>
                  <a:pt x="0" y="27486"/>
                </a:lnTo>
                <a:lnTo>
                  <a:pt x="1400" y="26086"/>
                </a:lnTo>
                <a:lnTo>
                  <a:pt x="20200" y="26086"/>
                </a:lnTo>
                <a:close/>
              </a:path>
              <a:path fill="lighten" w="21600" h="27486">
                <a:moveTo>
                  <a:pt x="0" y="274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086"/>
                </a:lnTo>
                <a:close/>
              </a:path>
              <a:path fill="darken" w="21600" h="27486">
                <a:moveTo>
                  <a:pt x="10800" y="6780"/>
                </a:moveTo>
                <a:lnTo>
                  <a:pt x="13376" y="9391"/>
                </a:lnTo>
                <a:lnTo>
                  <a:pt x="13376" y="7650"/>
                </a:lnTo>
                <a:lnTo>
                  <a:pt x="15152" y="7650"/>
                </a:lnTo>
                <a:lnTo>
                  <a:pt x="15152" y="11166"/>
                </a:lnTo>
                <a:lnTo>
                  <a:pt x="17763" y="13743"/>
                </a:lnTo>
                <a:lnTo>
                  <a:pt x="16109" y="13743"/>
                </a:lnTo>
                <a:lnTo>
                  <a:pt x="16109" y="20932"/>
                </a:lnTo>
                <a:lnTo>
                  <a:pt x="5491" y="20932"/>
                </a:lnTo>
                <a:lnTo>
                  <a:pt x="5491" y="13743"/>
                </a:lnTo>
                <a:lnTo>
                  <a:pt x="3837" y="13743"/>
                </a:lnTo>
                <a:close/>
              </a:path>
              <a:path fill="darkenLess" w="21600" h="27486">
                <a:moveTo>
                  <a:pt x="13376" y="9391"/>
                </a:moveTo>
                <a:lnTo>
                  <a:pt x="13376" y="7650"/>
                </a:lnTo>
                <a:lnTo>
                  <a:pt x="15152" y="7650"/>
                </a:lnTo>
                <a:lnTo>
                  <a:pt x="15152" y="11166"/>
                </a:lnTo>
                <a:close/>
              </a:path>
              <a:path fill="darkenLess" w="21600" h="27486">
                <a:moveTo>
                  <a:pt x="9877" y="17242"/>
                </a:moveTo>
                <a:lnTo>
                  <a:pt x="11723" y="17242"/>
                </a:lnTo>
                <a:lnTo>
                  <a:pt x="11723" y="20932"/>
                </a:lnTo>
                <a:lnTo>
                  <a:pt x="16109" y="20932"/>
                </a:lnTo>
                <a:lnTo>
                  <a:pt x="16109" y="13743"/>
                </a:lnTo>
                <a:lnTo>
                  <a:pt x="5491" y="13743"/>
                </a:lnTo>
                <a:lnTo>
                  <a:pt x="5491" y="20932"/>
                </a:lnTo>
                <a:lnTo>
                  <a:pt x="9877" y="20932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8" descr="revolucion-francesa-7008"/>
          <p:cNvPicPr/>
          <p:nvPr/>
        </p:nvPicPr>
        <p:blipFill>
          <a:blip r:embed="rId1"/>
          <a:stretch/>
        </p:blipFill>
        <p:spPr>
          <a:xfrm>
            <a:off x="1835280" y="2565360"/>
            <a:ext cx="5545080" cy="3929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¿Qué estudiaremos en esta cl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95280" y="836640"/>
            <a:ext cx="34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CON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995640" y="907920"/>
            <a:ext cx="4608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APRENDIZAJES ESP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427640" y="1268280"/>
            <a:ext cx="4321080" cy="5040360"/>
          </a:xfrm>
          <a:prstGeom prst="rect">
            <a:avLst/>
          </a:prstGeom>
          <a:solidFill>
            <a:srgbClr val="f3f5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Comprender la importancia de la Revolución Francesa para el mundo contemporáneo,    caracterizado por una visión ilustrada del mundo, y valorar el reconocimiento de los derechos de las personas como su legado universal.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n tu libro estos  contenidos están  desde la página 182 hasta la 18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24000" y="1268280"/>
            <a:ext cx="4105080" cy="5031720"/>
          </a:xfrm>
          <a:prstGeom prst="rect">
            <a:avLst/>
          </a:prstGeom>
          <a:solidFill>
            <a:srgbClr val="d2f0a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REVOLUCIÓN FRANCES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ron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ignificado e importancia. Principales innovaciones de la Revolu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EGADO POLÍTICO E IDEOLÓGICO DE LA REVOLUCIÓN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Conceptos Cla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ibert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Igual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Propiedad priv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Soberanía N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Debido proce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Constitu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0" descr="mapa_bandera_francia"/>
          <p:cNvPicPr/>
          <p:nvPr/>
        </p:nvPicPr>
        <p:blipFill>
          <a:blip r:embed="rId1"/>
          <a:stretch/>
        </p:blipFill>
        <p:spPr>
          <a:xfrm>
            <a:off x="6156360" y="4554360"/>
            <a:ext cx="2303280" cy="2303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8" descr=""/>
          <p:cNvPicPr/>
          <p:nvPr/>
        </p:nvPicPr>
        <p:blipFill>
          <a:blip r:embed="rId2"/>
          <a:stretch/>
        </p:blipFill>
        <p:spPr>
          <a:xfrm>
            <a:off x="1476360" y="333360"/>
            <a:ext cx="6408720" cy="42084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9"/>
          <p:cNvSpPr/>
          <p:nvPr/>
        </p:nvSpPr>
        <p:spPr>
          <a:xfrm>
            <a:off x="900000" y="4869000"/>
            <a:ext cx="54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s revoluciones eliminan en muchas ocasiones todo orden de cosas ¿qué justifica este nuevo calendario revolucionari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1. CRONOLOGÍA DE LA REVOLUCIÓN FRANC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270828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7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1403280" y="2708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7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2411280" y="2708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7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3419640" y="270828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7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4859280" y="2708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7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7524720" y="2708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7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250920" y="3068640"/>
            <a:ext cx="1693800" cy="7207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d1d1a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sambl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tituy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6"/>
          <p:cNvSpPr/>
          <p:nvPr/>
        </p:nvSpPr>
        <p:spPr>
          <a:xfrm>
            <a:off x="2124000" y="3141720"/>
            <a:ext cx="0" cy="86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7"/>
          <p:cNvSpPr/>
          <p:nvPr/>
        </p:nvSpPr>
        <p:spPr>
          <a:xfrm>
            <a:off x="1187280" y="4076640"/>
            <a:ext cx="1584360" cy="1152720"/>
          </a:xfrm>
          <a:prstGeom prst="ellipse">
            <a:avLst/>
          </a:prstGeom>
          <a:gradFill rotWithShape="0">
            <a:gsLst>
              <a:gs pos="0">
                <a:srgbClr val="ccff99"/>
              </a:gs>
              <a:gs pos="100000">
                <a:srgbClr val="bae88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sambl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egisl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8"/>
          <p:cNvSpPr/>
          <p:nvPr/>
        </p:nvSpPr>
        <p:spPr>
          <a:xfrm>
            <a:off x="3203640" y="314172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2340000" y="5589720"/>
            <a:ext cx="1727280" cy="503280"/>
          </a:xfrm>
          <a:prstGeom prst="rect">
            <a:avLst/>
          </a:prstGeom>
          <a:gradFill rotWithShape="0">
            <a:gsLst>
              <a:gs pos="0">
                <a:srgbClr val="edd8f4"/>
              </a:gs>
              <a:gs pos="100000">
                <a:srgbClr val="bbaa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ve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0"/>
          <p:cNvSpPr/>
          <p:nvPr/>
        </p:nvSpPr>
        <p:spPr>
          <a:xfrm>
            <a:off x="3924360" y="4005360"/>
            <a:ext cx="1366920" cy="12240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d8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1"/>
          <p:cNvSpPr/>
          <p:nvPr/>
        </p:nvSpPr>
        <p:spPr>
          <a:xfrm>
            <a:off x="4572000" y="28526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2"/>
          <p:cNvSpPr/>
          <p:nvPr/>
        </p:nvSpPr>
        <p:spPr>
          <a:xfrm>
            <a:off x="5796000" y="3213000"/>
            <a:ext cx="1368360" cy="5763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c2c2c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rec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24"/>
          <p:cNvGrpSpPr/>
          <p:nvPr/>
        </p:nvGrpSpPr>
        <p:grpSpPr>
          <a:xfrm>
            <a:off x="539640" y="2060640"/>
            <a:ext cx="7920000" cy="577800"/>
            <a:chOff x="539640" y="2060640"/>
            <a:chExt cx="7920000" cy="577800"/>
          </a:xfrm>
        </p:grpSpPr>
        <p:sp>
          <p:nvSpPr>
            <p:cNvPr id="113" name="Line 3"/>
            <p:cNvSpPr/>
            <p:nvPr/>
          </p:nvSpPr>
          <p:spPr>
            <a:xfrm>
              <a:off x="539640" y="2276640"/>
              <a:ext cx="792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4"/>
            <p:cNvSpPr/>
            <p:nvPr/>
          </p:nvSpPr>
          <p:spPr>
            <a:xfrm>
              <a:off x="539640" y="206064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5"/>
            <p:cNvSpPr/>
            <p:nvPr/>
          </p:nvSpPr>
          <p:spPr>
            <a:xfrm>
              <a:off x="1763640" y="206064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6"/>
            <p:cNvSpPr/>
            <p:nvPr/>
          </p:nvSpPr>
          <p:spPr>
            <a:xfrm>
              <a:off x="3924360" y="206064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7"/>
            <p:cNvSpPr/>
            <p:nvPr/>
          </p:nvSpPr>
          <p:spPr>
            <a:xfrm>
              <a:off x="5364000" y="206064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4"/>
            <p:cNvSpPr/>
            <p:nvPr/>
          </p:nvSpPr>
          <p:spPr>
            <a:xfrm>
              <a:off x="2843280" y="206064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7956720" y="213372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500"/>
                            </p:stCondLst>
                            <p:childTnLst>
                              <p:par>
                                <p:cTn id="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5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Acontecimientos importantes de cada período de la revolu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539640" y="1341360"/>
            <a:ext cx="3816360" cy="1167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cc"/>
                </a:solidFill>
                <a:latin typeface="Verdana"/>
              </a:rPr>
              <a:t>Asamblea Nacional Constituy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cc"/>
                </a:solidFill>
                <a:latin typeface="Verdana"/>
              </a:rPr>
              <a:t>(1789- 1791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95280" y="2708280"/>
            <a:ext cx="403236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bolición del feudalismo (agosto de 178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claración de los Derechos del Hombre y del Ciudadano (agosto de 178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titución Civil del Clero (septiembre de 178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titución de 1791: Establecimiento de una Monarquía Constitucional y de la división de Poderes del E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Declaración de los derechos"/>
          <p:cNvPicPr/>
          <p:nvPr/>
        </p:nvPicPr>
        <p:blipFill>
          <a:blip r:embed="rId1"/>
          <a:stretch/>
        </p:blipFill>
        <p:spPr>
          <a:xfrm>
            <a:off x="5003640" y="1413000"/>
            <a:ext cx="3484800" cy="4649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4475160" cy="9367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2. Asamblea Nacional Legislativa (1791-179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468360" y="1268280"/>
            <a:ext cx="48956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propiación y remate de los bienes del cl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rey huye, es reconocido y capturado en Varen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va en masa por la invasión de Austria y Prusia a Fra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te rebeliones populares se produjo el establecimiento de la Comuna de Paris, al mando de Dan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03%20Louis%2016%20a%20Varennes%20p%20012"/>
          <p:cNvPicPr/>
          <p:nvPr/>
        </p:nvPicPr>
        <p:blipFill>
          <a:blip r:embed="rId1"/>
          <a:stretch/>
        </p:blipFill>
        <p:spPr>
          <a:xfrm>
            <a:off x="1403280" y="4092480"/>
            <a:ext cx="3024360" cy="2765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05%20Volontaires%20p%20018"/>
          <p:cNvPicPr/>
          <p:nvPr/>
        </p:nvPicPr>
        <p:blipFill>
          <a:blip r:embed="rId2"/>
          <a:stretch/>
        </p:blipFill>
        <p:spPr>
          <a:xfrm>
            <a:off x="5378400" y="3489480"/>
            <a:ext cx="3765600" cy="3368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Ouverture_des_États_généraux_de_1789_à_Versailles"/>
          <p:cNvPicPr/>
          <p:nvPr/>
        </p:nvPicPr>
        <p:blipFill>
          <a:blip r:embed="rId3"/>
          <a:stretch/>
        </p:blipFill>
        <p:spPr>
          <a:xfrm>
            <a:off x="5796000" y="549360"/>
            <a:ext cx="230508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04%20Lafayette%20p%20016"/>
          <p:cNvPicPr/>
          <p:nvPr/>
        </p:nvPicPr>
        <p:blipFill>
          <a:blip r:embed="rId1"/>
          <a:stretch/>
        </p:blipFill>
        <p:spPr>
          <a:xfrm>
            <a:off x="5076720" y="3716280"/>
            <a:ext cx="2835360" cy="29973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9936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3. La Convención (1792- 1793): predominio girondi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25%20Pacification%20de%20la%20Vendee%20p%20118"/>
          <p:cNvPicPr/>
          <p:nvPr/>
        </p:nvPicPr>
        <p:blipFill>
          <a:blip r:embed="rId2"/>
          <a:stretch/>
        </p:blipFill>
        <p:spPr>
          <a:xfrm>
            <a:off x="1332000" y="3789360"/>
            <a:ext cx="3384360" cy="2901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3"/>
          <a:stretch/>
        </p:blipFill>
        <p:spPr>
          <a:xfrm>
            <a:off x="4932360" y="1413000"/>
            <a:ext cx="3648240" cy="2085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3" name="Text Box 9"/>
          <p:cNvSpPr/>
          <p:nvPr/>
        </p:nvSpPr>
        <p:spPr>
          <a:xfrm>
            <a:off x="468360" y="1413000"/>
            <a:ext cx="42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blecimiento de la Repúb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jecución de Luis XV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insurrección de La Vend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Monarquista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República en peligro: nuevas naciones invaden Fra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acobinos dan golpe de Estado creando el comité de salud púb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6332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La convención: el Terror (1793- 179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Robespierre-1758-94-and-Saint-Just-1767-94-Leaving-for-the-Guillotine-28th-July-1794-1884--C11725114"/>
          <p:cNvPicPr/>
          <p:nvPr/>
        </p:nvPicPr>
        <p:blipFill>
          <a:blip r:embed="rId1"/>
          <a:stretch/>
        </p:blipFill>
        <p:spPr>
          <a:xfrm>
            <a:off x="539640" y="907920"/>
            <a:ext cx="3576600" cy="4537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6" name="Text Box 10"/>
          <p:cNvSpPr/>
          <p:nvPr/>
        </p:nvSpPr>
        <p:spPr>
          <a:xfrm>
            <a:off x="4284720" y="836640"/>
            <a:ext cx="4465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dominio de los jacobinos: Robespierre, a cargo del Comité de Salud Púb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jecuciones masivas a los “enemigos de la República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julio de 1794, Robespierre fue derrocado y guillotin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1" descr="revolucionp"/>
          <p:cNvPicPr/>
          <p:nvPr/>
        </p:nvPicPr>
        <p:blipFill>
          <a:blip r:embed="rId2"/>
          <a:stretch/>
        </p:blipFill>
        <p:spPr>
          <a:xfrm>
            <a:off x="4716360" y="3164040"/>
            <a:ext cx="347184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91520" cy="100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4. El Directorio: la contrarrevolución burguesa</a:t>
            </a:r>
            <a:br>
              <a:rPr sz="2400"/>
            </a:b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1795-17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755640" y="1989000"/>
            <a:ext cx="410544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presión a los jacobi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ictorias militares y expulsión de los invasores. Destaca un joven general: Napoleón Bonaparte. Campaña de Ita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olpe de Estado de 1799: Bonaparte, Ducos y Sieyés establecieron el Consulado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égimen sustentado en un poder ejecutivo integrado por tres cónsu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girondinos-y-jacobinos"/>
          <p:cNvPicPr/>
          <p:nvPr/>
        </p:nvPicPr>
        <p:blipFill>
          <a:blip r:embed="rId1"/>
          <a:stretch/>
        </p:blipFill>
        <p:spPr>
          <a:xfrm>
            <a:off x="5076720" y="1700280"/>
            <a:ext cx="3424320" cy="4032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3:30:29Z</dcterms:created>
  <dc:creator>WinuE</dc:creator>
  <dc:description/>
  <dc:language>en-US</dc:language>
  <cp:lastModifiedBy>mago</cp:lastModifiedBy>
  <dcterms:modified xsi:type="dcterms:W3CDTF">2008-10-03T04:16:24Z</dcterms:modified>
  <cp:revision>51</cp:revision>
  <dc:subject/>
  <dc:title>Diapositiva 1</dc:title>
</cp:coreProperties>
</file>