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3FF7-5F32-4E9F-9045-CF4EFF4286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8FF6-9E93-4F60-8249-C9B87180AE1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1390-5B60-47A7-ACBD-A99D785C147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 no tienen relación directa con el texto. Izquierda: Lucha entre girondinos y jacobinos, durante la Convención. Derecha: La Revuelta de los campesinos, durante el Gran Mie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1CA3-958F-4A23-B747-5EB0E60BE7F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Coronación de Napoleón Bonaparte (180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7051-3366-4DAD-895C-89AD63CF996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1E74-FF92-4A11-A754-DA7A158CB56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753A-5420-4F32-A12A-147CC590570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:  La pregunta que aquí se señala está pensada para un libre tratamiento del concepto revolución, si es necesario, recurra a la diferencia conceptual entre este concepto y el de reforma. Se sugiere que durante el desarrollo de la clase que a continuación se presenta no enfatice demasiado en las etapas debido a que, en la PSU de año 2007, el proceso fue evaluado desde la perspectiva de la ilustración y no desde las etapas.  Por tanto, es importante que se explaye mucho más en el legado revolucionario que en las etapas del proce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6FA4-1AFF-4A4D-A657-797289C4CEB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CB5D-B1FC-4F3E-8CE9-74C5BBE395A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recomienda al profesor que explique brevemente cada acontecimiento. En el caso de la Declaración de los Derechos del Hombre y del Ciudadano, más adelante tendrá oportunidad de profundizar, cuando se trate la importancia de la Revolu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Declaración de los Derechos del Hombre y del Ciudad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A20-C3D0-4750-BDEA-0EEF65A8B16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Superior Se hace alusión a  Dantón en la Asamblea Legislativa; abajo, Reconocimiento de Luis XVI en Varennes y reclutamiento en ma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41E6-87CB-4320-ADBA-F2C281C3E41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enes: Arriba: ejecución de Luis XVI. Abajo: Izquierda: la represión de la insurrección monarquista de la Vendée. Derecha: Lafayette fue el comandante del ejército de la resistencia francesa ante las tropas invasoras europ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757-B288-484E-BF64-F2AC798B231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 izquierda: representación de la época del Terror.  Imagen derecha: Dantón, Marat y Maximiliano Roberspier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9F3-1204-4D54-8308-A1E056FC2A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9E15-8BAF-4251-AD31-8F9EE0CA8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674D-DDD8-4917-892C-D136BA6CB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CF67-F899-4E76-89D2-782E72A49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28EA-DACE-4702-84F9-0DB5D8F23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A5015-6825-40DA-99C1-E819E3B6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25996-4793-4F73-9C30-C9548CC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57CB5-9A4E-4916-992E-C82A0E2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3AF31-57E9-4F64-B18A-01AA17A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4342-E643-4DF1-AC69-37A26CBB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4A260-522E-42ED-A924-6E3B36FC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46E9E-B59B-4C09-B669-24944B4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BF24-7393-466B-8418-20C4DC42E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A4BC-AACA-4C1C-99FB-C88FEDD2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929CD-94BB-46E3-B6DB-0818A19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7F3EC-2ACE-4188-A9A9-0502E205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5D737-FB57-4357-AF17-8314E544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C1DC-9535-4991-9529-7EABE0E8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F6E0-6009-450E-A1F6-45E5C054B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72D6-5ED6-4C85-ACBC-EA1C8277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278A-798B-4A22-927F-6B5B091F8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33FF-A803-4A55-A817-9C9BA5B6D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0F2E-6BEA-42D8-A819-97E0C647A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1C0D-695B-434F-9256-EB24CB365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3F61-2204-495B-BD1C-1E94145CA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B57B-2458-4A7D-A3F7-202922B98B0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64B-98FA-4E85-A2DB-7EBCE2F211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345440" cy="208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CLASE HU 18</a:t>
            </a:r>
            <a:br>
              <a:rPr sz="4000"/>
            </a:b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REVOLUCIÓN FRANCESA</a:t>
            </a: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ronología, importancia y consecuencias</a:t>
            </a:r>
            <a:r>
              <a:rPr b="0" i="1" lang="es-E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historia_de_francia_revolucion"/>
          <p:cNvPicPr/>
          <p:nvPr/>
        </p:nvPicPr>
        <p:blipFill>
          <a:blip r:embed="rId2"/>
          <a:stretch/>
        </p:blipFill>
        <p:spPr>
          <a:xfrm>
            <a:off x="3419640" y="2708280"/>
            <a:ext cx="3484440" cy="39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1916280"/>
            <a:ext cx="3600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ción de 1799, NAPOLEÓN Primer Cóns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ordato con el Papado (18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ción de 1802: Napoleón, Cónsul Vital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imiento del Franco y creación del Banco de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804, ante presencia del Papa Pío VII, Napoleón se coronó a sí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9640" y="260280"/>
            <a:ext cx="3313080" cy="116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CON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(1799-180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log-portrait-roger-ducos"/>
          <p:cNvPicPr/>
          <p:nvPr/>
        </p:nvPicPr>
        <p:blipFill>
          <a:blip r:embed="rId1"/>
          <a:stretch/>
        </p:blipFill>
        <p:spPr>
          <a:xfrm>
            <a:off x="6588000" y="260280"/>
            <a:ext cx="1368720" cy="165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4" name="Picture 13" descr="img-2"/>
          <p:cNvPicPr/>
          <p:nvPr/>
        </p:nvPicPr>
        <p:blipFill>
          <a:blip r:embed="rId2"/>
          <a:stretch/>
        </p:blipFill>
        <p:spPr>
          <a:xfrm>
            <a:off x="4716360" y="260280"/>
            <a:ext cx="1584360" cy="169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5" name="Picture 17" descr="457px-Napoléon_Bonaparte_par_Paul_Delaroche"/>
          <p:cNvPicPr/>
          <p:nvPr/>
        </p:nvPicPr>
        <p:blipFill>
          <a:blip r:embed="rId3"/>
          <a:stretch/>
        </p:blipFill>
        <p:spPr>
          <a:xfrm>
            <a:off x="4716360" y="2205000"/>
            <a:ext cx="3137040" cy="41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Rectangle 19"/>
          <p:cNvSpPr/>
          <p:nvPr/>
        </p:nvSpPr>
        <p:spPr>
          <a:xfrm>
            <a:off x="6588000" y="1700280"/>
            <a:ext cx="1368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u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4716360" y="5950080"/>
            <a:ext cx="3168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ona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4716360" y="1700280"/>
            <a:ext cx="1584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iey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Importancia e innovaciones políticas de l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64000" y="1557360"/>
            <a:ext cx="2592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69834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blecimiento del régimen republ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64000" y="2565360"/>
            <a:ext cx="2592720" cy="11912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82a26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arecen los sectores políticos: izquierda, centro y der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03280" y="1628640"/>
            <a:ext cx="1728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a1c9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bolición d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900000" y="4221000"/>
            <a:ext cx="7417080" cy="91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777777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dación del pensamiento liberal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 la aplicación de los principios de la Ilustración. El fundamento de este liberalismo se halla en la Declaración de los Derechos del Hombre y del Ciudad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403280" y="2565360"/>
            <a:ext cx="1728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ac17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form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284720" y="1197000"/>
            <a:ext cx="0" cy="30240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3131640" y="1197000"/>
            <a:ext cx="7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H="1">
            <a:off x="3131640" y="1197000"/>
            <a:ext cx="100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0" y="119700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427640" y="1197000"/>
            <a:ext cx="936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Avances Político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324000" y="1268280"/>
            <a:ext cx="2879640" cy="1008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1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l princi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755640" y="2997360"/>
            <a:ext cx="2735280" cy="72072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6e647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5364000" y="2708280"/>
            <a:ext cx="273528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4932360" y="1341360"/>
            <a:ext cx="3384720" cy="7192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6c6c6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Represen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2268360" y="4365720"/>
            <a:ext cx="3745080" cy="8618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72888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univers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Derechos individ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5219640" y="3645000"/>
            <a:ext cx="3313080" cy="792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l Estado La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2843280" y="907920"/>
            <a:ext cx="936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>
            <a:off x="3058920" y="836640"/>
            <a:ext cx="93636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406728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140360" y="90792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4284720" y="907920"/>
            <a:ext cx="107928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4427640" y="907920"/>
            <a:ext cx="865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Consecuencias de la R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25196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o inmediato, la Revolución derivó en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erio Napoleó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largo plazo, la Revolución Francesa inauguró una etapa de la historia política europea, caracterizada por la lucha entre los principios liberales y el absolutismo monárquico, y entre la burguesía y la realeza, que marcó al siglo X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emás, la Revolución tuvo un enorme impacto en la política contemporánea y sus ideales se vieron reflejados en numerosos procesos revolucionarios tanto en Europa, como en A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Lucha entre la convencion y el Comite de Salvacion Publica"/>
          <p:cNvPicPr/>
          <p:nvPr/>
        </p:nvPicPr>
        <p:blipFill>
          <a:blip r:embed="rId1"/>
          <a:stretch/>
        </p:blipFill>
        <p:spPr>
          <a:xfrm>
            <a:off x="395280" y="4005360"/>
            <a:ext cx="3887640" cy="250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6" name="Picture 5" descr="Revuelta Campesina"/>
          <p:cNvPicPr/>
          <p:nvPr/>
        </p:nvPicPr>
        <p:blipFill>
          <a:blip r:embed="rId2"/>
          <a:stretch/>
        </p:blipFill>
        <p:spPr>
          <a:xfrm>
            <a:off x="4427640" y="4005360"/>
            <a:ext cx="4103640" cy="24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324000" y="260280"/>
            <a:ext cx="7704000" cy="7855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Golpe de Estado de Napoleón (18 de Brumari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Napoleón Cónsul (17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0"/>
          <p:cNvGrpSpPr/>
          <p:nvPr/>
        </p:nvGrpSpPr>
        <p:grpSpPr>
          <a:xfrm>
            <a:off x="1042920" y="1268280"/>
            <a:ext cx="6683400" cy="1559160"/>
            <a:chOff x="1042920" y="1268280"/>
            <a:chExt cx="6683400" cy="1559160"/>
          </a:xfrm>
        </p:grpSpPr>
        <p:sp>
          <p:nvSpPr>
            <p:cNvPr id="179" name="Text Box 7"/>
            <p:cNvSpPr/>
            <p:nvPr/>
          </p:nvSpPr>
          <p:spPr>
            <a:xfrm>
              <a:off x="3171600" y="1268280"/>
              <a:ext cx="4554720" cy="642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1d1a7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rden y estabilidad interior, manteniendo los ideales revolucionari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171600" y="2459160"/>
              <a:ext cx="455472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9c9a1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apoleón se proclama emperador (1804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3171600" y="2013120"/>
              <a:ext cx="455472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b9b994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ódigo civ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1042920" y="1863720"/>
              <a:ext cx="1468440" cy="743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1818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>
              <a:off x="2511360" y="2162160"/>
              <a:ext cx="29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2804760" y="141768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2804760" y="14176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2804760" y="21621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>
              <a:off x="2804760" y="268272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1"/>
          <p:cNvGrpSpPr/>
          <p:nvPr/>
        </p:nvGrpSpPr>
        <p:grpSpPr>
          <a:xfrm>
            <a:off x="1123920" y="3427560"/>
            <a:ext cx="5216400" cy="963360"/>
            <a:chOff x="1123920" y="3427560"/>
            <a:chExt cx="5216400" cy="963360"/>
          </a:xfrm>
        </p:grpSpPr>
        <p:sp>
          <p:nvSpPr>
            <p:cNvPr id="189" name="Oval 12"/>
            <p:cNvSpPr/>
            <p:nvPr/>
          </p:nvSpPr>
          <p:spPr>
            <a:xfrm>
              <a:off x="1123920" y="3576600"/>
              <a:ext cx="1469880" cy="743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3181320" y="3427560"/>
              <a:ext cx="3159000" cy="36828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94b96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xpansión territori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181320" y="4022640"/>
              <a:ext cx="3159000" cy="36828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a1c97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xpansión de ideas liber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3"/>
            <p:cNvSpPr/>
            <p:nvPr/>
          </p:nvSpPr>
          <p:spPr>
            <a:xfrm>
              <a:off x="2593800" y="3946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4"/>
            <p:cNvSpPr/>
            <p:nvPr/>
          </p:nvSpPr>
          <p:spPr>
            <a:xfrm>
              <a:off x="2814480" y="3500280"/>
              <a:ext cx="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>
              <a:off x="2814480" y="35002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6"/>
            <p:cNvSpPr/>
            <p:nvPr/>
          </p:nvSpPr>
          <p:spPr>
            <a:xfrm>
              <a:off x="2814480" y="424512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611280" y="4319640"/>
            <a:ext cx="7272360" cy="1460160"/>
            <a:chOff x="611280" y="4319640"/>
            <a:chExt cx="7272360" cy="1460160"/>
          </a:xfrm>
        </p:grpSpPr>
        <p:sp>
          <p:nvSpPr>
            <p:cNvPr id="197" name="Text Box 16"/>
            <p:cNvSpPr/>
            <p:nvPr/>
          </p:nvSpPr>
          <p:spPr>
            <a:xfrm>
              <a:off x="611280" y="5137200"/>
              <a:ext cx="3012840" cy="6426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28241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acción antinapoleónica (1805-1815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7"/>
            <p:cNvSpPr/>
            <p:nvPr/>
          </p:nvSpPr>
          <p:spPr>
            <a:xfrm>
              <a:off x="4284720" y="5137200"/>
              <a:ext cx="3598920" cy="3682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28e47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rrota de Napoleón 1814 -181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>
              <a:off x="1785960" y="43196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>
              <a:off x="3622680" y="5435640"/>
              <a:ext cx="6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1138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Importancia y significado del gobierno de Napoleón Bonaparte (1799- 18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11280" y="1557360"/>
            <a:ext cx="7993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gobierno de Bonaparte fue importante en los siguientes sent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4360" y="220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apoleón como el último de los déspotas ilus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4360" y="2637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modernización del Estado y de las finan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84360" y="306864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consolidación de los principios de la Revolución: el Código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84360" y="3573360"/>
            <a:ext cx="35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exportación a Europa de las ideas de la Revolución Francesa: la abolición del feudalismo y el desarrollo de los movimientos nacionalistas y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84360" y="5373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stauración de la importancia y los privilegios de la nob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Napoleon, Coronacion"/>
          <p:cNvPicPr/>
          <p:nvPr/>
        </p:nvPicPr>
        <p:blipFill>
          <a:blip r:embed="rId1"/>
          <a:stretch/>
        </p:blipFill>
        <p:spPr>
          <a:xfrm>
            <a:off x="4284720" y="3645000"/>
            <a:ext cx="4535280" cy="264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En síntesis, esto es lo que hemos visto en est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11280" y="692280"/>
            <a:ext cx="3600360" cy="936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REVOLUCIÓN FRANC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611280" y="1844640"/>
            <a:ext cx="1728720" cy="1008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56000" y="3429000"/>
            <a:ext cx="2160360" cy="1008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716360" y="39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00364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5003640" y="49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084720" y="2349360"/>
            <a:ext cx="226728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5003640" y="285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156360" y="3284640"/>
            <a:ext cx="219564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l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cio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156360" y="4653000"/>
            <a:ext cx="212400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mpor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49236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250920" y="2997360"/>
            <a:ext cx="2233440" cy="30031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do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amblea Nacional constituy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amblea Legisl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rec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e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47636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4211640" y="112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5148360" y="765000"/>
            <a:ext cx="1728720" cy="1008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7020000" y="907920"/>
            <a:ext cx="19447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vances Político I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687708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untitled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12254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 Y NACIONALES 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revolucion-francesa-7008"/>
          <p:cNvPicPr/>
          <p:nvPr/>
        </p:nvPicPr>
        <p:blipFill>
          <a:blip r:embed="rId1"/>
          <a:stretch/>
        </p:blipFill>
        <p:spPr>
          <a:xfrm>
            <a:off x="1835280" y="2565360"/>
            <a:ext cx="5545080" cy="39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mprender la importancia de la Revolución Francesa para el mundo contemporáneo,    caracterizado por una visión ilustrada del mundo, y valorar el reconocimiento de los derechos de las personas como su legado universal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2 hasta la 1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2f0a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ÓN FRANCE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ro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gnificado e importancia. Principales innovaciones de la Rev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EGADO POLÍTICO E IDEOLÓGICO DE LA REVOLUCIÓ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iber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gual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beran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bido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stit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mapa_bandera_francia"/>
          <p:cNvPicPr/>
          <p:nvPr/>
        </p:nvPicPr>
        <p:blipFill>
          <a:blip r:embed="rId1"/>
          <a:stretch/>
        </p:blipFill>
        <p:spPr>
          <a:xfrm>
            <a:off x="615636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408720" cy="4208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900000" y="48690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revoluciones eliminan en muchas ocasiones todo orden de cosas ¿qué justifica este nuevo calendario revolucion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1. CRONOLOGÍA DE LA REVOLUCIÓN FRANC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27082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403280" y="270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411280" y="270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19640" y="2708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859280" y="270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52472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50920" y="3068640"/>
            <a:ext cx="1693800" cy="72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1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124000" y="314172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1187280" y="4076640"/>
            <a:ext cx="1584360" cy="115272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bae88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gis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3203640" y="31417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340000" y="5589720"/>
            <a:ext cx="1727280" cy="503280"/>
          </a:xfrm>
          <a:prstGeom prst="rect">
            <a:avLst/>
          </a:prstGeom>
          <a:gradFill rotWithShape="0">
            <a:gsLst>
              <a:gs pos="0">
                <a:srgbClr val="edd8f4"/>
              </a:gs>
              <a:gs pos="100000">
                <a:srgbClr val="bbaa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3924360" y="400536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d8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4572000" y="2852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5796000" y="3213000"/>
            <a:ext cx="1368360" cy="57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2c2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4"/>
          <p:cNvGrpSpPr/>
          <p:nvPr/>
        </p:nvGrpSpPr>
        <p:grpSpPr>
          <a:xfrm>
            <a:off x="539640" y="2060640"/>
            <a:ext cx="7920000" cy="577800"/>
            <a:chOff x="539640" y="2060640"/>
            <a:chExt cx="7920000" cy="577800"/>
          </a:xfrm>
        </p:grpSpPr>
        <p:sp>
          <p:nvSpPr>
            <p:cNvPr id="113" name="Line 3"/>
            <p:cNvSpPr/>
            <p:nvPr/>
          </p:nvSpPr>
          <p:spPr>
            <a:xfrm>
              <a:off x="539640" y="2276640"/>
              <a:ext cx="792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53964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76364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392436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36400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7956720" y="2133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contecimientos importantes de cada período de la revolu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9640" y="1341360"/>
            <a:ext cx="3816360" cy="1167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cc"/>
                </a:solidFill>
                <a:latin typeface="Verdana"/>
              </a:rPr>
              <a:t>Asamblea Nacional Constituy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cc"/>
                </a:solidFill>
                <a:latin typeface="Verdana"/>
              </a:rPr>
              <a:t>(1789- 179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2708280"/>
            <a:ext cx="403236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olición del feudalismo (agosto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laración de los Derechos del Hombre y del Ciudadano (agosto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ón Civil del Clero (septiembre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ón de 1791: Establecimiento de una Monarquía Constitucional y de la división de Podere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eclaración de los derechos"/>
          <p:cNvPicPr/>
          <p:nvPr/>
        </p:nvPicPr>
        <p:blipFill>
          <a:blip r:embed="rId1"/>
          <a:stretch/>
        </p:blipFill>
        <p:spPr>
          <a:xfrm>
            <a:off x="5003640" y="1413000"/>
            <a:ext cx="3484800" cy="4649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447516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2. Asamblea Nacional Legislativa (1791-179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68360" y="1268280"/>
            <a:ext cx="4895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opiación y remate de los bienes del cl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y huye, es reconocido y capturado en Varen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va en masa por la invasión de Austria y Prusia a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 rebeliones populares se produjo el establecimiento de la Comuna de Paris, al mando de Dan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3%20Louis%2016%20a%20Varennes%20p%20012"/>
          <p:cNvPicPr/>
          <p:nvPr/>
        </p:nvPicPr>
        <p:blipFill>
          <a:blip r:embed="rId1"/>
          <a:stretch/>
        </p:blipFill>
        <p:spPr>
          <a:xfrm>
            <a:off x="1403280" y="4092480"/>
            <a:ext cx="3024360" cy="27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05%20Volontaires%20p%20018"/>
          <p:cNvPicPr/>
          <p:nvPr/>
        </p:nvPicPr>
        <p:blipFill>
          <a:blip r:embed="rId2"/>
          <a:stretch/>
        </p:blipFill>
        <p:spPr>
          <a:xfrm>
            <a:off x="5378400" y="3489480"/>
            <a:ext cx="3765600" cy="336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uverture_des_États_généraux_de_1789_à_Versailles"/>
          <p:cNvPicPr/>
          <p:nvPr/>
        </p:nvPicPr>
        <p:blipFill>
          <a:blip r:embed="rId3"/>
          <a:stretch/>
        </p:blipFill>
        <p:spPr>
          <a:xfrm>
            <a:off x="5796000" y="549360"/>
            <a:ext cx="23050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4%20Lafayette%20p%20016"/>
          <p:cNvPicPr/>
          <p:nvPr/>
        </p:nvPicPr>
        <p:blipFill>
          <a:blip r:embed="rId1"/>
          <a:stretch/>
        </p:blipFill>
        <p:spPr>
          <a:xfrm>
            <a:off x="5076720" y="3716280"/>
            <a:ext cx="2835360" cy="2997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3. La Convención (1792- 1793): predominio giron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25%20Pacification%20de%20la%20Vendee%20p%20118"/>
          <p:cNvPicPr/>
          <p:nvPr/>
        </p:nvPicPr>
        <p:blipFill>
          <a:blip r:embed="rId2"/>
          <a:stretch/>
        </p:blipFill>
        <p:spPr>
          <a:xfrm>
            <a:off x="1332000" y="3789360"/>
            <a:ext cx="3384360" cy="2901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648240" cy="208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468360" y="141300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imiento de la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ción de Luis X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surrección de La Ven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onarquis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pública en peligro: nuevas naciones invaden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cobinos dan golpe de Estado creando el comité de salud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onvención: el Terror (1793- 17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Robespierre-1758-94-and-Saint-Just-1767-94-Leaving-for-the-Guillotine-28th-July-1794-1884--C11725114"/>
          <p:cNvPicPr/>
          <p:nvPr/>
        </p:nvPicPr>
        <p:blipFill>
          <a:blip r:embed="rId1"/>
          <a:stretch/>
        </p:blipFill>
        <p:spPr>
          <a:xfrm>
            <a:off x="539640" y="907920"/>
            <a:ext cx="3576600" cy="453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6" name="Text Box 10"/>
          <p:cNvSpPr/>
          <p:nvPr/>
        </p:nvSpPr>
        <p:spPr>
          <a:xfrm>
            <a:off x="4284720" y="836640"/>
            <a:ext cx="446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dominio de los jacobinos: Robespierre, a cargo del Comité de Salud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ciones masivas a los “enemigos de la Repúblic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julio de 1794, Robespierre fue derrocado y guillot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revolucionp"/>
          <p:cNvPicPr/>
          <p:nvPr/>
        </p:nvPicPr>
        <p:blipFill>
          <a:blip r:embed="rId2"/>
          <a:stretch/>
        </p:blipFill>
        <p:spPr>
          <a:xfrm>
            <a:off x="4716360" y="3164040"/>
            <a:ext cx="3471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91520" cy="100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4. El Directorio: la contrarrevolución burguesa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1795-17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1989000"/>
            <a:ext cx="410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esión a los jacob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ctorias militares y expulsión de los invasores. Destaca un joven general: Napoleón Bonaparte. Campaña de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lpe de Estado de 1799: Bonaparte, Ducos y Sieyés establecieron el Consula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égimen sustentado en un poder ejecutivo integrado por tres cónsu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girondinos-y-jacobinos"/>
          <p:cNvPicPr/>
          <p:nvPr/>
        </p:nvPicPr>
        <p:blipFill>
          <a:blip r:embed="rId1"/>
          <a:stretch/>
        </p:blipFill>
        <p:spPr>
          <a:xfrm>
            <a:off x="5076720" y="1700280"/>
            <a:ext cx="3424320" cy="403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4:16:24Z</dcterms:modified>
  <cp:revision>51</cp:revision>
  <dc:subject/>
  <dc:title>Diapositiva 1</dc:title>
</cp:coreProperties>
</file>