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BF73-DDC9-4CB8-80D6-808BE6C463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08B9-4F8C-4EEF-8ECD-03EB5737A3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5A0-9E8A-417C-A158-C97B9E62ED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 no tienen relación directa con el texto. Izquierda: Lucha entre girondinos y jacobinos, durante la Convención. Derecha: La Revuelta de los campesinos, durante el Gran Mie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405-F95E-43BD-894C-F8F5E4EBA44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Coronación de Napoleón Bonaparte (180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FC0-4482-426B-8041-E225EC9CB9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FE26-25F0-4C08-89A0-A46A4FFFF74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350D-E76B-4E28-96D4-F9091B1FB4B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ado profesor(a):  La pregunta que aquí se señala está pensada para un libre tratamiento del concepto revolución, si es necesario, recurra a la diferencia conceptual entre este concepto y el de reforma. Se sugiere que durante el desarrollo de la clase que a continuación se presenta no enfatice demasiado en las etapas debido a que, en la PSU de año 2007, el proceso fue evaluado desde la perspectiva de la ilustración y no desde las etapas.  Por tanto, es importante que se explaye mucho más en el legado revolucionario que en las etapas del proce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363A-15C9-487C-85FC-FF48EDC2F4E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0A48-8AFD-423B-B57F-01FD67C15C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comienda al profesor que explique brevemente cada acontecimiento. En el caso de la Declaración de los Derechos del Hombre y del Ciudadano, más adelante tendrá oportunidad de profundizar, cuando se trate la importancia de la Revolu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: Declaración de los Derechos del Hombre y del Ciudad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F605-7DCF-44B4-A480-E9F20E17B9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Superior Se hace alusión a  Dantón en la Asamblea Legislativa; abajo, Reconocimiento de Luis XVI en Varennes y reclutamiento en ma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5CE1-201D-482C-B9D4-E7377703B05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enes: Arriba: ejecución de Luis XVI. Abajo: Izquierda: la represión de la insurrección monarquista de la Vendée. Derecha: Lafayette fue el comandante del ejército de la resistencia francesa ante las tropas invasoras europ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2A5-6D08-4AF7-B596-3157866C217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agen izquierda: representación de la época del Terror.  Imagen derecha: Dantón, Marat y Maximiliano Roberspier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C3D-5C14-41C7-8139-EA15684AB57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B07B-B68A-4655-A325-70015CBCA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4F76-FE42-4741-9BFF-4F96F78FF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33DB-987A-48A6-9EC9-8D8A922F8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E080-026D-4EF3-B1BC-8791DBE99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C7154-B348-4EEA-BA61-836EC0BF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1B796-6BC7-4F1C-A67B-D8FE393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74E72-B4CC-4EE5-8CF3-1CF58E8D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BD9E6-C99F-4DF7-8158-55962F6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2F3B2-993F-4C53-A797-DD5A1399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A06D9-84ED-430F-9BA2-0EFFEA5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5BB7D-E3B2-40D4-AA47-0A3A58BB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DCA8-C1BE-4A83-AC96-5BF9989DC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719BC-27CC-4005-BA7C-6373276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88FC3-AF9C-46A4-8B23-EAEB57E2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2A7B2-39C8-4F0B-8BE5-15A33903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0F536-FB05-4274-BFC1-18F13211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D7047-E0B2-44DD-BC53-4CD52610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C430-E71E-4C46-9563-50B5ED1FB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4327-8654-491B-8363-49537C80D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B7E6-9A9B-4490-8159-87D3F57F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0877-BBD9-4E99-8898-3F9734E2B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4120-FF7F-4D60-A9B9-9B01C5B1C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9ED2-1F04-4F54-A1F7-192354417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1476-B694-41C3-A3BD-92730FFF7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1C25-0E5F-46F1-B2E5-3CB07775BB5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4F5-E6B6-4B70-B803-2B286DBE5CB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345440" cy="208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CLASE HU 18</a:t>
            </a:r>
            <a:br>
              <a:rPr sz="4000"/>
            </a:b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Verdana"/>
              </a:rPr>
              <a:t>REVOLUCIÓN FRANCESA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es-ES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0" i="1" lang="es-ES" sz="2800" spc="-1" strike="noStrike">
                <a:solidFill>
                  <a:srgbClr val="ffffff"/>
                </a:solidFill>
                <a:latin typeface="Verdana"/>
              </a:rPr>
              <a:t>Cronología, importancia y consecuencias</a:t>
            </a:r>
            <a:r>
              <a:rPr b="0" i="1" lang="es-E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historia_de_francia_revolucion"/>
          <p:cNvPicPr/>
          <p:nvPr/>
        </p:nvPicPr>
        <p:blipFill>
          <a:blip r:embed="rId2"/>
          <a:stretch/>
        </p:blipFill>
        <p:spPr>
          <a:xfrm>
            <a:off x="3419640" y="2708280"/>
            <a:ext cx="3484440" cy="39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68360" y="1916280"/>
            <a:ext cx="3600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799, NAPOLEÓN Primer Cóns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ordato con el Papado (18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itución de 1802: Napoleón, Cónsul Vital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imiento del Franco y creación del Banco de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04, ante presencia del Papa Pío VII, Napoleón se coronó a sí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9640" y="260280"/>
            <a:ext cx="3313080" cy="116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CON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(1799-18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log-portrait-roger-ducos"/>
          <p:cNvPicPr/>
          <p:nvPr/>
        </p:nvPicPr>
        <p:blipFill>
          <a:blip r:embed="rId1"/>
          <a:stretch/>
        </p:blipFill>
        <p:spPr>
          <a:xfrm>
            <a:off x="6588000" y="260280"/>
            <a:ext cx="1368720" cy="165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13" descr="img-2"/>
          <p:cNvPicPr/>
          <p:nvPr/>
        </p:nvPicPr>
        <p:blipFill>
          <a:blip r:embed="rId2"/>
          <a:stretch/>
        </p:blipFill>
        <p:spPr>
          <a:xfrm>
            <a:off x="4716360" y="260280"/>
            <a:ext cx="1584360" cy="1697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5" name="Picture 17" descr="457px-Napoléon_Bonaparte_par_Paul_Delaroche"/>
          <p:cNvPicPr/>
          <p:nvPr/>
        </p:nvPicPr>
        <p:blipFill>
          <a:blip r:embed="rId3"/>
          <a:stretch/>
        </p:blipFill>
        <p:spPr>
          <a:xfrm>
            <a:off x="4716360" y="2205000"/>
            <a:ext cx="3137040" cy="41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Rectangle 19"/>
          <p:cNvSpPr/>
          <p:nvPr/>
        </p:nvSpPr>
        <p:spPr>
          <a:xfrm>
            <a:off x="6588000" y="1700280"/>
            <a:ext cx="1368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u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4716360" y="5950080"/>
            <a:ext cx="3168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ona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4716360" y="1700280"/>
            <a:ext cx="1584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ey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e innovaciones políticas de la Rev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64000" y="1557360"/>
            <a:ext cx="2592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69834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blecimiento del régimen republ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64000" y="2565360"/>
            <a:ext cx="2592720" cy="1191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82a26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parecen los sectores políticos: izquierda, centro y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03280" y="162864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a1c9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bolición d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900000" y="4221000"/>
            <a:ext cx="7417080" cy="91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777777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dación del pensamiento liberal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partir de la aplicación de los principios de la Ilustración. El fundamento de este liberalismo se halla en la Declaración de los Derechos del Hombre y del Ciudad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03280" y="2565360"/>
            <a:ext cx="1728720" cy="642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9ac17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forma Agr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284720" y="1197000"/>
            <a:ext cx="0" cy="30240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 flipH="1">
            <a:off x="3131640" y="1197000"/>
            <a:ext cx="7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 flipH="1">
            <a:off x="3131640" y="1197000"/>
            <a:ext cx="1008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0" y="119700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427640" y="1197000"/>
            <a:ext cx="936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Avances Político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324000" y="1268280"/>
            <a:ext cx="2879640" cy="10083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princip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755640" y="2997360"/>
            <a:ext cx="2735280" cy="720720"/>
          </a:xfrm>
          <a:prstGeom prst="ellipse">
            <a:avLst/>
          </a:prstGeom>
          <a:gradFill rotWithShape="0">
            <a:gsLst>
              <a:gs pos="0">
                <a:srgbClr val="edd8f4"/>
              </a:gs>
              <a:gs pos="100000">
                <a:srgbClr val="6e647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visión de Pod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5364000" y="2708280"/>
            <a:ext cx="273528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beraní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932360" y="1341360"/>
            <a:ext cx="3384720" cy="7192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6c6c6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cción de Represen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268360" y="4365720"/>
            <a:ext cx="3745080" cy="8618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72888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univers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Derechos individ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5219640" y="3645000"/>
            <a:ext cx="3313080" cy="792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l Estado La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2843280" y="907920"/>
            <a:ext cx="936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3058920" y="836640"/>
            <a:ext cx="93636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406728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140360" y="90792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4284720" y="907920"/>
            <a:ext cx="107928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4427640" y="907920"/>
            <a:ext cx="865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onsecuencias de la R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09080" cy="25196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 inmediato, la Revolución derivó en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erio Napoleó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largo plazo, la Revolución Francesa inauguró una etapa de la historia política europea, caracterizada por la lucha entre los principios liberales y el absolutismo monárquico, y entre la burguesía y la realeza, que marcó al siglo X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emás, la Revolución tuvo un enorme impacto en la política contemporánea y sus ideales se vieron reflejados en numerosos procesos revolucionarios tanto en Europa, como en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Lucha entre la convencion y el Comite de Salvacion Publica"/>
          <p:cNvPicPr/>
          <p:nvPr/>
        </p:nvPicPr>
        <p:blipFill>
          <a:blip r:embed="rId1"/>
          <a:stretch/>
        </p:blipFill>
        <p:spPr>
          <a:xfrm>
            <a:off x="395280" y="4005360"/>
            <a:ext cx="3887640" cy="250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6" name="Picture 5" descr="Revuelta Campesina"/>
          <p:cNvPicPr/>
          <p:nvPr/>
        </p:nvPicPr>
        <p:blipFill>
          <a:blip r:embed="rId2"/>
          <a:stretch/>
        </p:blipFill>
        <p:spPr>
          <a:xfrm>
            <a:off x="4427640" y="4005360"/>
            <a:ext cx="4103640" cy="24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324000" y="260280"/>
            <a:ext cx="7704000" cy="7855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Golpe de Estado de Napoleón (18 de Brumari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Napoleón Cónsul (17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0"/>
          <p:cNvGrpSpPr/>
          <p:nvPr/>
        </p:nvGrpSpPr>
        <p:grpSpPr>
          <a:xfrm>
            <a:off x="1042920" y="1268280"/>
            <a:ext cx="6683400" cy="1559160"/>
            <a:chOff x="1042920" y="1268280"/>
            <a:chExt cx="6683400" cy="1559160"/>
          </a:xfrm>
        </p:grpSpPr>
        <p:sp>
          <p:nvSpPr>
            <p:cNvPr id="179" name="Text Box 7"/>
            <p:cNvSpPr/>
            <p:nvPr/>
          </p:nvSpPr>
          <p:spPr>
            <a:xfrm>
              <a:off x="3171600" y="1268280"/>
              <a:ext cx="4554720" cy="642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1d1a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rden y estabilidad interior, manteniendo los ideales revolucionari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171600" y="245916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9c9a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apoleón se proclama emperador (1804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3171600" y="2013120"/>
              <a:ext cx="455472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b9b994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ódigo civ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"/>
            <p:cNvSpPr/>
            <p:nvPr/>
          </p:nvSpPr>
          <p:spPr>
            <a:xfrm>
              <a:off x="1042920" y="1863720"/>
              <a:ext cx="146844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1818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>
              <a:off x="2511360" y="216216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2804760" y="141768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2804760" y="14176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2804760" y="21621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2804760" y="26827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1123920" y="3427560"/>
            <a:ext cx="5216400" cy="963360"/>
            <a:chOff x="1123920" y="3427560"/>
            <a:chExt cx="5216400" cy="963360"/>
          </a:xfrm>
        </p:grpSpPr>
        <p:sp>
          <p:nvSpPr>
            <p:cNvPr id="189" name="Oval 12"/>
            <p:cNvSpPr/>
            <p:nvPr/>
          </p:nvSpPr>
          <p:spPr>
            <a:xfrm>
              <a:off x="1123920" y="3576600"/>
              <a:ext cx="1469880" cy="7430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3181320" y="342756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94b96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territoria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181320" y="4022640"/>
              <a:ext cx="3159000" cy="36828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a1c979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xpansión de ideas liber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3"/>
            <p:cNvSpPr/>
            <p:nvPr/>
          </p:nvSpPr>
          <p:spPr>
            <a:xfrm>
              <a:off x="2593800" y="3946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>
              <a:off x="2814480" y="3500280"/>
              <a:ext cx="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2814480" y="35002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>
              <a:off x="2814480" y="42451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2"/>
          <p:cNvGrpSpPr/>
          <p:nvPr/>
        </p:nvGrpSpPr>
        <p:grpSpPr>
          <a:xfrm>
            <a:off x="611280" y="4319640"/>
            <a:ext cx="7272360" cy="1460160"/>
            <a:chOff x="611280" y="4319640"/>
            <a:chExt cx="7272360" cy="1460160"/>
          </a:xfrm>
        </p:grpSpPr>
        <p:sp>
          <p:nvSpPr>
            <p:cNvPr id="197" name="Text Box 16"/>
            <p:cNvSpPr/>
            <p:nvPr/>
          </p:nvSpPr>
          <p:spPr>
            <a:xfrm>
              <a:off x="611280" y="5137200"/>
              <a:ext cx="3012840" cy="64260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a28241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acción antinapoleónica (1805-1815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7"/>
            <p:cNvSpPr/>
            <p:nvPr/>
          </p:nvSpPr>
          <p:spPr>
            <a:xfrm>
              <a:off x="4284720" y="5137200"/>
              <a:ext cx="3598920" cy="3682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28e47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rrota de Napoleón 1814 -181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>
              <a:off x="1785960" y="43196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3622680" y="5435640"/>
              <a:ext cx="6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138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Importancia y significado del gobierno de Napoleón Bonaparte (1799- 18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1557360"/>
            <a:ext cx="7993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gobierno de Bonaparte fue importante en los siguientes sen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4360" y="220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apoleón como el último de los déspotas ilu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4360" y="26370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modernización del Estado y de las finan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84360" y="306864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onsolidación de los principios de la Revolución: el Códig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684360" y="3573360"/>
            <a:ext cx="35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exportación a Europa de las ideas de la Revolución Francesa: la abolición del feudalismo y el desarrollo de los movimientos nacionalistas y lib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84360" y="537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stauración de la importancia y los privilegios de la nob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Napoleon, Coronacion"/>
          <p:cNvPicPr/>
          <p:nvPr/>
        </p:nvPicPr>
        <p:blipFill>
          <a:blip r:embed="rId1"/>
          <a:stretch/>
        </p:blipFill>
        <p:spPr>
          <a:xfrm>
            <a:off x="4284720" y="3645000"/>
            <a:ext cx="4535280" cy="264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En síntesis, esto es lo que hemos visto en est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11280" y="692280"/>
            <a:ext cx="3600360" cy="936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REVOLUCIÓN FRAN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611280" y="1844640"/>
            <a:ext cx="172872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56000" y="3429000"/>
            <a:ext cx="2160360" cy="1008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716360" y="3933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00364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5003640" y="494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084720" y="2349360"/>
            <a:ext cx="226728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erio Napole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5003640" y="285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156360" y="3284640"/>
            <a:ext cx="219564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beral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cio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156360" y="4653000"/>
            <a:ext cx="2124000" cy="7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mpor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49236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250920" y="2997360"/>
            <a:ext cx="2233440" cy="3003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do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Nacional constituy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Legisla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rec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u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47636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4211640" y="112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9"/>
          <p:cNvSpPr/>
          <p:nvPr/>
        </p:nvSpPr>
        <p:spPr>
          <a:xfrm>
            <a:off x="5148360" y="765000"/>
            <a:ext cx="1728720" cy="1008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7020000" y="907920"/>
            <a:ext cx="19447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ances Político I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687708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untitled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12254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ONES LIBERALES Y NACIONALES DEL SIG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451640" y="5445000"/>
            <a:ext cx="792360" cy="1008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1008360"/>
              <a:gd name="textAreaBottom" fmla="*/ 957240 h 1008360"/>
            </a:gdLst>
            <a:ahLst/>
            <a:rect l="textAreaLeft" t="textAreaTop" r="textAreaRight" b="textAreaBottom"/>
            <a:pathLst>
              <a:path w="21600" h="27486">
                <a:moveTo>
                  <a:pt x="0" y="0"/>
                </a:moveTo>
                <a:lnTo>
                  <a:pt x="21600" y="0"/>
                </a:lnTo>
                <a:lnTo>
                  <a:pt x="21600" y="27486"/>
                </a:lnTo>
                <a:lnTo>
                  <a:pt x="0" y="27486"/>
                </a:lnTo>
                <a:close/>
              </a:path>
              <a:path fill="lightenLess" w="21600" h="274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86">
                <a:moveTo>
                  <a:pt x="21600" y="0"/>
                </a:moveTo>
                <a:lnTo>
                  <a:pt x="21600" y="27486"/>
                </a:lnTo>
                <a:lnTo>
                  <a:pt x="20200" y="26086"/>
                </a:lnTo>
                <a:lnTo>
                  <a:pt x="20200" y="1400"/>
                </a:lnTo>
                <a:close/>
              </a:path>
              <a:path fill="darkenLess" w="21600" h="27486">
                <a:moveTo>
                  <a:pt x="21600" y="27486"/>
                </a:moveTo>
                <a:lnTo>
                  <a:pt x="0" y="27486"/>
                </a:lnTo>
                <a:lnTo>
                  <a:pt x="1400" y="26086"/>
                </a:lnTo>
                <a:lnTo>
                  <a:pt x="20200" y="26086"/>
                </a:lnTo>
                <a:close/>
              </a:path>
              <a:path fill="lighten" w="21600" h="27486">
                <a:moveTo>
                  <a:pt x="0" y="274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86"/>
                </a:lnTo>
                <a:close/>
              </a:path>
              <a:path fill="darken" w="21600" h="27486">
                <a:moveTo>
                  <a:pt x="10800" y="6780"/>
                </a:moveTo>
                <a:lnTo>
                  <a:pt x="13376" y="9391"/>
                </a:ln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lnTo>
                  <a:pt x="17763" y="13743"/>
                </a:lnTo>
                <a:lnTo>
                  <a:pt x="16109" y="13743"/>
                </a:lnTo>
                <a:lnTo>
                  <a:pt x="16109" y="20932"/>
                </a:lnTo>
                <a:lnTo>
                  <a:pt x="5491" y="20932"/>
                </a:lnTo>
                <a:lnTo>
                  <a:pt x="5491" y="13743"/>
                </a:lnTo>
                <a:lnTo>
                  <a:pt x="3837" y="13743"/>
                </a:lnTo>
                <a:close/>
              </a:path>
              <a:path fill="darkenLess" w="21600" h="27486">
                <a:moveTo>
                  <a:pt x="13376" y="9391"/>
                </a:moveTo>
                <a:lnTo>
                  <a:pt x="13376" y="7650"/>
                </a:lnTo>
                <a:lnTo>
                  <a:pt x="15152" y="7650"/>
                </a:lnTo>
                <a:lnTo>
                  <a:pt x="15152" y="11166"/>
                </a:lnTo>
                <a:close/>
              </a:path>
              <a:path fill="darkenLess" w="21600" h="27486">
                <a:moveTo>
                  <a:pt x="9877" y="17242"/>
                </a:moveTo>
                <a:lnTo>
                  <a:pt x="11723" y="17242"/>
                </a:lnTo>
                <a:lnTo>
                  <a:pt x="11723" y="20932"/>
                </a:lnTo>
                <a:lnTo>
                  <a:pt x="16109" y="20932"/>
                </a:lnTo>
                <a:lnTo>
                  <a:pt x="16109" y="13743"/>
                </a:lnTo>
                <a:lnTo>
                  <a:pt x="5491" y="13743"/>
                </a:lnTo>
                <a:lnTo>
                  <a:pt x="5491" y="20932"/>
                </a:lnTo>
                <a:lnTo>
                  <a:pt x="9877" y="2093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revolucion-francesa-7008"/>
          <p:cNvPicPr/>
          <p:nvPr/>
        </p:nvPicPr>
        <p:blipFill>
          <a:blip r:embed="rId1"/>
          <a:stretch/>
        </p:blipFill>
        <p:spPr>
          <a:xfrm>
            <a:off x="1835280" y="2565360"/>
            <a:ext cx="5545080" cy="39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mprender la importancia de la Revolución Francesa para el mundo contemporáneo,    caracterizado por una visión ilustrada del mundo, y valorar el reconocimiento de los derechos de las personas como su legado universal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tu libro estos  contenidos están  desde la página 182 hasta la 1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2f0a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VOLUCIÓN FRANCE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ro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gnificado e importancia. Principales innovaciones de la Rev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EGADO POLÍTICO E IDEOLÓGICO DE LA REVOLUCIÓN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ibert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gu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opiedad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oberan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bido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stit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mapa_bandera_francia"/>
          <p:cNvPicPr/>
          <p:nvPr/>
        </p:nvPicPr>
        <p:blipFill>
          <a:blip r:embed="rId1"/>
          <a:stretch/>
        </p:blipFill>
        <p:spPr>
          <a:xfrm>
            <a:off x="615636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408720" cy="4208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900000" y="486900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s revoluciones eliminan en muchas ocasiones todo orden de cosas ¿qué justifica este nuevo calendario revolucio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Verdana"/>
              </a:rPr>
              <a:t>1. CRONOLOGÍA DE LA REVOLUCIÓN FRAN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27082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403280" y="270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11280" y="270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419640" y="2708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85928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52472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7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50920" y="3068640"/>
            <a:ext cx="1693800" cy="72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d1a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124000" y="314172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1187280" y="4076640"/>
            <a:ext cx="1584360" cy="115272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bae88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amb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gis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3203640" y="314172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340000" y="5589720"/>
            <a:ext cx="1727280" cy="503280"/>
          </a:xfrm>
          <a:prstGeom prst="rect">
            <a:avLst/>
          </a:prstGeom>
          <a:gradFill rotWithShape="0">
            <a:gsLst>
              <a:gs pos="0">
                <a:srgbClr val="edd8f4"/>
              </a:gs>
              <a:gs pos="100000">
                <a:srgbClr val="bbaa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/>
          <p:cNvSpPr/>
          <p:nvPr/>
        </p:nvSpPr>
        <p:spPr>
          <a:xfrm>
            <a:off x="3924360" y="4005360"/>
            <a:ext cx="1366920" cy="1224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d8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4572000" y="2852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5796000" y="3213000"/>
            <a:ext cx="136836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2c2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4"/>
          <p:cNvGrpSpPr/>
          <p:nvPr/>
        </p:nvGrpSpPr>
        <p:grpSpPr>
          <a:xfrm>
            <a:off x="539640" y="2060640"/>
            <a:ext cx="7920000" cy="577800"/>
            <a:chOff x="539640" y="2060640"/>
            <a:chExt cx="7920000" cy="577800"/>
          </a:xfrm>
        </p:grpSpPr>
        <p:sp>
          <p:nvSpPr>
            <p:cNvPr id="113" name="Line 3"/>
            <p:cNvSpPr/>
            <p:nvPr/>
          </p:nvSpPr>
          <p:spPr>
            <a:xfrm>
              <a:off x="539640" y="2276640"/>
              <a:ext cx="792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539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76364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392436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36400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7956720" y="2133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Acontecimientos importantes de cada período de la revolu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39640" y="1341360"/>
            <a:ext cx="3816360" cy="1167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Asamblea Nacional Constituy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cc"/>
                </a:solidFill>
                <a:latin typeface="Verdana"/>
              </a:rPr>
              <a:t>(1789- 179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95280" y="2708280"/>
            <a:ext cx="403236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lición del feudalism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laración de los Derechos del Hombre y del Ciudadano (agosto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Civil del Clero (septiembre de 17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itución de 1791: Establecimiento de una Monarquía Constitucional y de la división de Podere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eclaración de los derechos"/>
          <p:cNvPicPr/>
          <p:nvPr/>
        </p:nvPicPr>
        <p:blipFill>
          <a:blip r:embed="rId1"/>
          <a:stretch/>
        </p:blipFill>
        <p:spPr>
          <a:xfrm>
            <a:off x="5003640" y="1413000"/>
            <a:ext cx="3484800" cy="4649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4475160" cy="936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2. Asamblea Nacional Legislativa (1791-17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68360" y="1268280"/>
            <a:ext cx="489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ropiación y remate de los bienes del cl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y huye, es reconocido y capturado en Varen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va en masa por la invasión de Austria y Prusia a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 rebeliones populares se produjo el establecimiento de la Comuna de Paris, al mando de Dan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3%20Louis%2016%20a%20Varennes%20p%20012"/>
          <p:cNvPicPr/>
          <p:nvPr/>
        </p:nvPicPr>
        <p:blipFill>
          <a:blip r:embed="rId1"/>
          <a:stretch/>
        </p:blipFill>
        <p:spPr>
          <a:xfrm>
            <a:off x="1403280" y="4092480"/>
            <a:ext cx="302436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5%20Volontaires%20p%20018"/>
          <p:cNvPicPr/>
          <p:nvPr/>
        </p:nvPicPr>
        <p:blipFill>
          <a:blip r:embed="rId2"/>
          <a:stretch/>
        </p:blipFill>
        <p:spPr>
          <a:xfrm>
            <a:off x="5378400" y="3489480"/>
            <a:ext cx="3765600" cy="336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uverture_des_États_généraux_de_1789_à_Versailles"/>
          <p:cNvPicPr/>
          <p:nvPr/>
        </p:nvPicPr>
        <p:blipFill>
          <a:blip r:embed="rId3"/>
          <a:stretch/>
        </p:blipFill>
        <p:spPr>
          <a:xfrm>
            <a:off x="5796000" y="549360"/>
            <a:ext cx="2305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04%20Lafayette%20p%20016"/>
          <p:cNvPicPr/>
          <p:nvPr/>
        </p:nvPicPr>
        <p:blipFill>
          <a:blip r:embed="rId1"/>
          <a:stretch/>
        </p:blipFill>
        <p:spPr>
          <a:xfrm>
            <a:off x="5076720" y="3716280"/>
            <a:ext cx="2835360" cy="299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9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3. La Convención (1792- 1793): predominio giron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25%20Pacification%20de%20la%20Vendee%20p%20118"/>
          <p:cNvPicPr/>
          <p:nvPr/>
        </p:nvPicPr>
        <p:blipFill>
          <a:blip r:embed="rId2"/>
          <a:stretch/>
        </p:blipFill>
        <p:spPr>
          <a:xfrm>
            <a:off x="1332000" y="3789360"/>
            <a:ext cx="3384360" cy="2901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648240" cy="208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468360" y="141300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la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ón de Luis X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surrección de La Ve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onarquis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en peligro: nuevas naciones invaden Fr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cobinos dan golpe de Estado creando 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onvención: el Terror (1793- 17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Robespierre-1758-94-and-Saint-Just-1767-94-Leaving-for-the-Guillotine-28th-July-1794-1884--C11725114"/>
          <p:cNvPicPr/>
          <p:nvPr/>
        </p:nvPicPr>
        <p:blipFill>
          <a:blip r:embed="rId1"/>
          <a:stretch/>
        </p:blipFill>
        <p:spPr>
          <a:xfrm>
            <a:off x="539640" y="907920"/>
            <a:ext cx="3576600" cy="453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6" name="Text Box 10"/>
          <p:cNvSpPr/>
          <p:nvPr/>
        </p:nvSpPr>
        <p:spPr>
          <a:xfrm>
            <a:off x="4284720" y="836640"/>
            <a:ext cx="446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dominio de los jacobinos: Robespierre, a cargo del Comité de Salud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cuciones masivas a los “enemigos de la Repúblic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julio de 1794, Robespierre fue derrocado y guillot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revolucionp"/>
          <p:cNvPicPr/>
          <p:nvPr/>
        </p:nvPicPr>
        <p:blipFill>
          <a:blip r:embed="rId2"/>
          <a:stretch/>
        </p:blipFill>
        <p:spPr>
          <a:xfrm>
            <a:off x="4716360" y="3164040"/>
            <a:ext cx="3471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91520" cy="100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4. El Directorio: la contrarrevolución burguesa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1795-17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55640" y="1989000"/>
            <a:ext cx="410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resión a los jacob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ctorias militares y expulsión de los invasores. Destaca un joven general: Napoleón Bonaparte. Campaña de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lpe de Estado de 1799: Bonaparte, Ducos y Sieyés establecieron el Consulado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égimen sustentado en un poder ejecutivo integrado por tres cónsu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girondinos-y-jacobinos"/>
          <p:cNvPicPr/>
          <p:nvPr/>
        </p:nvPicPr>
        <p:blipFill>
          <a:blip r:embed="rId1"/>
          <a:stretch/>
        </p:blipFill>
        <p:spPr>
          <a:xfrm>
            <a:off x="5076720" y="1700280"/>
            <a:ext cx="3424320" cy="403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4:16:24Z</dcterms:modified>
  <cp:revision>51</cp:revision>
  <dc:subject/>
  <dc:title>Diapositiva 1</dc:title>
</cp:coreProperties>
</file>