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9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28.jpeg" ContentType="image/jpeg"/>
  <Override PartName="/ppt/media/image7.jpeg" ContentType="image/jpeg"/>
  <Override PartName="/ppt/media/image19.jpeg" ContentType="image/jpeg"/>
  <Override PartName="/ppt/media/image12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95F5-7D70-4542-B6E7-6866FA49E59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enes: Izquierda: Alejandro VI, autor de las Bulas Inter Caetera de 1493, conocidas como las bulas de donaci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pa: carta cosmogr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fica de Apiano, 154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agen: Mapamundi de Ortelius, 156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ugerencias para el docente para la resoluci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la pregunt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La pregunta es de comprensi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.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l texto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muestra que el interés comercial de los españoles, estuvo orientado a resolver sus necesidades y carencias productivas por la vía de comprar en Europa, en vez de producirlas por sí mismos. Esta sería, en definitiva, la causa del despilfarro español de metales preciosos y del retraso industrial que tendría España, en relación con el resto del continent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Las alternativas son conclusiones err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eas del texto: A, porque del texto no se puede desprender ni demostrar el carácter de potencia manufacturera de esos países; C, porque el comercio con esos países llevó  a España a depender de las manufacturas del resto del continente; D, porque si España no producía (o lo hacía marginalmente), no podía exportar lo que no producía (además, el texto está planteado como justificación de las importaciones);y  E, porque redunda en la idea de que España, según el texto, produce, cuando, en realidad, import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pa: La Pen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sula Ibérica durante el reinado de los Reyes Católicos (imagen de la derech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enes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:  Arriba, Br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jula. Abajo: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pa Ptole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ico de 147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 el mapa America nova tabula, de Bleau, 1665, se representan los animales y nativos, de acuerdo a las descripciones realizadas por los viajeros. Tales descripciones son reflejo de la mentalidad de la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poca, sustentada en el deseo de aventura y fa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D00BB-2199-45D2-867D-47CF74A3D8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237ED-EF07-4F03-B9B9-FE2C06281D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2C9B8-C5B4-45AC-9FF6-89254E7665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12F05-1D4A-4E03-8748-841CFDA5C0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36D72-D542-4E47-A8DD-554542EE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229BF-DD4C-4D1D-885F-30FE545B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373C2-567B-4911-BBA9-432BA9C5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88B67-4E76-408D-8224-98276646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3E523-034F-4974-A932-387C2AFD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12CC8-8DAC-46F5-8242-6E21C008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90537-6D6E-41B0-BC90-5A2DA008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7308C-0794-43E9-8B02-C6B894A9E4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9D3C5-ADE2-456E-831C-03CB2758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23920-006C-4EA4-B689-8057952D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36124-7892-4C3C-9FD3-604A1D2D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F0C7B-8C48-4FA8-9D3F-1ADAADEBF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2E96D-DCA2-4A68-8FE2-EE56B7040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5CCA1-1066-4B68-AB85-BB41D97229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A859E-C878-4471-B042-75DDE64366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D82E7-22F9-44BA-9A8B-C8690FB3CB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3116C-76ED-40F3-B151-6392ABF50E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5BD85-A188-4F19-8127-82E8471E68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DC126-8836-4A4A-9871-8BA6CAF417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F08F3-14C3-470E-A25C-866DEC7B8E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A64D-D2A1-4328-BAAB-D70CFEC83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8F9C-C2F3-4238-9BD3-F5287BCBA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6840720" cy="244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Bookman Old Style"/>
              </a:rPr>
              <a:t>CLASE 14: </a:t>
            </a:r>
            <a:br>
              <a:rPr sz="4000"/>
            </a:br>
            <a:r>
              <a:rPr b="1" i="1" lang="en-US" sz="3200" spc="-1" strike="noStrike">
                <a:solidFill>
                  <a:srgbClr val="ffffff"/>
                </a:solidFill>
                <a:latin typeface="Bookman Old Style"/>
              </a:rPr>
              <a:t>DESCUBRIMIENTOS GEOGRÁFICOS Y EXPANSIÓN COLONIAL EUROP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0"/>
            <a:ext cx="38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Área: Historia y Ciencias So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Sección: Historia Uni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627280" y="3284640"/>
            <a:ext cx="5364360" cy="3281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6858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I.5 FACTORES RELIGIO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1268280"/>
            <a:ext cx="3529080" cy="1008720"/>
          </a:xfrm>
          <a:prstGeom prst="rect">
            <a:avLst/>
          </a:prstGeom>
          <a:solidFill>
            <a:srgbClr val="ebf2a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objetivo de desarrollar una religión efectivamente univers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611280" y="2637000"/>
            <a:ext cx="3744720" cy="3430440"/>
            <a:chOff x="611280" y="2637000"/>
            <a:chExt cx="3744720" cy="3430440"/>
          </a:xfrm>
        </p:grpSpPr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1258920" y="2637000"/>
              <a:ext cx="2076480" cy="261936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167" name=""/>
            <p:cNvSpPr/>
            <p:nvPr/>
          </p:nvSpPr>
          <p:spPr>
            <a:xfrm>
              <a:off x="611280" y="5516640"/>
              <a:ext cx="3744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lejandro VI, autor de la Bula Inter Caetera de 1493, conocida como la bula de donación.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140360" y="1413000"/>
            <a:ext cx="4173480" cy="703800"/>
            <a:chOff x="4140360" y="1413000"/>
            <a:chExt cx="4173480" cy="703800"/>
          </a:xfrm>
        </p:grpSpPr>
        <p:sp>
          <p:nvSpPr>
            <p:cNvPr id="169" name=""/>
            <p:cNvSpPr/>
            <p:nvPr/>
          </p:nvSpPr>
          <p:spPr>
            <a:xfrm>
              <a:off x="4932360" y="1413000"/>
              <a:ext cx="3381480" cy="703800"/>
            </a:xfrm>
            <a:prstGeom prst="rect">
              <a:avLst/>
            </a:prstGeom>
            <a:solidFill>
              <a:srgbClr val="ebf2a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donación de los territorios por descubri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40360" y="170028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364000" y="3357720"/>
            <a:ext cx="2249640" cy="3240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172" name=""/>
          <p:cNvGrpSpPr/>
          <p:nvPr/>
        </p:nvGrpSpPr>
        <p:grpSpPr>
          <a:xfrm>
            <a:off x="4859280" y="2133720"/>
            <a:ext cx="3529080" cy="1062360"/>
            <a:chOff x="4859280" y="2133720"/>
            <a:chExt cx="3529080" cy="1062360"/>
          </a:xfrm>
        </p:grpSpPr>
        <p:sp>
          <p:nvSpPr>
            <p:cNvPr id="173" name=""/>
            <p:cNvSpPr/>
            <p:nvPr/>
          </p:nvSpPr>
          <p:spPr>
            <a:xfrm>
              <a:off x="4859280" y="2492280"/>
              <a:ext cx="3529080" cy="703800"/>
            </a:xfrm>
            <a:prstGeom prst="rect">
              <a:avLst/>
            </a:prstGeom>
            <a:solidFill>
              <a:srgbClr val="ebf2a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legitimidad de la esclavitud de los infiel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16720" y="213372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191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II. CONSECUENCIAS DE LOS DESCUBRIMI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43280" y="1125360"/>
            <a:ext cx="5689440" cy="3988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I.1 CONSECUENCIAS SOCIOCULTU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71640" y="1628640"/>
            <a:ext cx="3529080" cy="1656000"/>
          </a:xfrm>
          <a:prstGeom prst="ellipse">
            <a:avLst/>
          </a:prstGeom>
          <a:solidFill>
            <a:srgbClr val="c3f8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Cambio en la concepci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 mundo de los europe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14920" y="2708280"/>
            <a:ext cx="3529080" cy="1655640"/>
          </a:xfrm>
          <a:prstGeom prst="ellipse">
            <a:avLst/>
          </a:prstGeom>
          <a:solidFill>
            <a:srgbClr val="ebd3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graciones europea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tras partes del mundo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71640" y="3789360"/>
            <a:ext cx="3529080" cy="1655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mbios en la die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imenticia de los europe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2671920" cy="5877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700360" y="5886360"/>
            <a:ext cx="1150920" cy="971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867280" y="592128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3851280" y="5877000"/>
            <a:ext cx="1008000" cy="981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7740720" y="5805360"/>
            <a:ext cx="1403280" cy="1052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>
            <a:off x="4859280" y="5908680"/>
            <a:ext cx="1008000" cy="9493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7"/>
          <a:stretch/>
        </p:blipFill>
        <p:spPr>
          <a:xfrm>
            <a:off x="6877080" y="5946840"/>
            <a:ext cx="936720" cy="91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</a:rPr>
              <a:t>II.2 CONSECUENCIAS POL</a:t>
            </a: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  <a:ea typeface="ＭＳ Ｐゴシック"/>
              </a:rPr>
              <a:t>Í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457200" y="1052640"/>
            <a:ext cx="8291520" cy="2422440"/>
            <a:chOff x="457200" y="1052640"/>
            <a:chExt cx="8291520" cy="2422440"/>
          </a:xfrm>
        </p:grpSpPr>
        <p:sp>
          <p:nvSpPr>
            <p:cNvPr id="190" name=""/>
            <p:cNvSpPr/>
            <p:nvPr/>
          </p:nvSpPr>
          <p:spPr>
            <a:xfrm>
              <a:off x="457200" y="1143000"/>
              <a:ext cx="5267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mpetencia colonial entre las potencias europeas, por ejemplo, entre España y Portugal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8360" y="2205000"/>
              <a:ext cx="532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lonización de vastas zonas del mundo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6300720" y="1052640"/>
              <a:ext cx="2448000" cy="242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"/>
          <p:cNvGrpSpPr/>
          <p:nvPr/>
        </p:nvGrpSpPr>
        <p:grpSpPr>
          <a:xfrm>
            <a:off x="611280" y="2781360"/>
            <a:ext cx="8353440" cy="3573360"/>
            <a:chOff x="611280" y="2781360"/>
            <a:chExt cx="8353440" cy="3573360"/>
          </a:xfrm>
        </p:grpSpPr>
        <p:pic>
          <p:nvPicPr>
            <p:cNvPr id="194" name="" descr=""/>
            <p:cNvPicPr/>
            <p:nvPr/>
          </p:nvPicPr>
          <p:blipFill>
            <a:blip r:embed="rId3"/>
            <a:stretch/>
          </p:blipFill>
          <p:spPr>
            <a:xfrm>
              <a:off x="611280" y="2781360"/>
              <a:ext cx="5545080" cy="35733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6300720" y="4005360"/>
              <a:ext cx="266400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En 1494 se firmó entre España y Portugal el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Tratado de Tordesillas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, mediante el cual se movió la línea a 370 leguas al oeste, con lo que las tierras que hoy ocupa Brasil, pasaron a ser posesión portuguesa.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</a:rPr>
              <a:t>II.3 CONSECUENCIAS ECON</a:t>
            </a: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  <a:ea typeface="ＭＳ Ｐゴシック"/>
              </a:rPr>
              <a:t>ÓM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68360" y="4005360"/>
            <a:ext cx="3887640" cy="1584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arrollo monetar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 financiero en Euro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16360" y="3933720"/>
            <a:ext cx="4175280" cy="16560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rgen nuevas instit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erciales como 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ñías de Ind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557360"/>
            <a:ext cx="3672000" cy="1511280"/>
          </a:xfrm>
          <a:prstGeom prst="ellipse">
            <a:avLst/>
          </a:prstGeom>
          <a:solidFill>
            <a:srgbClr val="ebf2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Ampliaci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los mer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 de las mercanc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92720" y="1557360"/>
            <a:ext cx="3637080" cy="1440000"/>
          </a:xfrm>
          <a:prstGeom prst="ellipse">
            <a:avLst/>
          </a:prstGeom>
          <a:solidFill>
            <a:srgbClr val="c3f8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Paso de una econom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diterránea a una Atlán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203640" y="981000"/>
            <a:ext cx="93672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40360" y="981000"/>
            <a:ext cx="1295280" cy="31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834920" y="981000"/>
            <a:ext cx="2305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40360" y="981000"/>
            <a:ext cx="23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492360" y="404640"/>
            <a:ext cx="2592360" cy="1191240"/>
          </a:xfrm>
          <a:prstGeom prst="rect">
            <a:avLst/>
          </a:prstGeom>
          <a:solidFill>
            <a:srgbClr val="ebf2a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autoridad estatal, sustentada en una MONARQUÍA N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700280"/>
            <a:ext cx="2592360" cy="916920"/>
          </a:xfrm>
          <a:prstGeom prst="rect">
            <a:avLst/>
          </a:prstGeom>
          <a:solidFill>
            <a:srgbClr val="c3efe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jerarquía administrativa y un solo ejérci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3645000"/>
            <a:ext cx="2592360" cy="1191240"/>
          </a:xfrm>
          <a:prstGeom prst="rect">
            <a:avLst/>
          </a:prstGeom>
          <a:solidFill>
            <a:srgbClr val="acb8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territorial y establecimiento de Monarquías Na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72360" y="1700280"/>
            <a:ext cx="2592360" cy="1191240"/>
          </a:xfrm>
          <a:prstGeom prst="rect">
            <a:avLst/>
          </a:prstGeom>
          <a:solidFill>
            <a:srgbClr val="d7c7c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rrollo de una institucionalidad legal sustentada en la legitim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00720" y="4076640"/>
            <a:ext cx="259236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religión de carácter of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08000" y="5661000"/>
            <a:ext cx="5689800" cy="4597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NA LEY, UNA FE, UN RE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03640" y="2060640"/>
            <a:ext cx="2952720" cy="1655640"/>
          </a:xfrm>
          <a:prstGeom prst="ellipse">
            <a:avLst/>
          </a:prstGeom>
          <a:solidFill>
            <a:srgbClr val="bbe1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. ESTADO MOD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716360" y="1628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2916000" y="191592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916360" y="3645000"/>
            <a:ext cx="1224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64000" y="3645000"/>
            <a:ext cx="936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651640" y="1916280"/>
            <a:ext cx="720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16360" y="3716280"/>
            <a:ext cx="0" cy="1944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500"/>
                            </p:stCondLst>
                            <p:childTnLst>
                              <p:par>
                                <p:cTn id="2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5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556000" y="260280"/>
            <a:ext cx="4392360" cy="58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V. ABSOLUT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42920" y="981000"/>
            <a:ext cx="785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STEMA POLÍTICO PREDOMINANTE ENTRE LOS SIGLOS XVII Y XV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1557360"/>
            <a:ext cx="4176720" cy="4111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ntración del Po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ificación religiosa: derecho div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ificación filosófica: razón de 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rantía de Orden In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ción de una burocra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asa participación de los Estam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de la Econom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268360" y="1484280"/>
            <a:ext cx="6307200" cy="5184720"/>
            <a:chOff x="2268360" y="1484280"/>
            <a:chExt cx="6307200" cy="5184720"/>
          </a:xfrm>
        </p:grpSpPr>
        <p:pic>
          <p:nvPicPr>
            <p:cNvPr id="223" name="" descr=""/>
            <p:cNvPicPr/>
            <p:nvPr/>
          </p:nvPicPr>
          <p:blipFill>
            <a:blip r:embed="rId1"/>
            <a:stretch/>
          </p:blipFill>
          <p:spPr>
            <a:xfrm>
              <a:off x="4932360" y="1484280"/>
              <a:ext cx="3643200" cy="5184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224" name=""/>
            <p:cNvSpPr/>
            <p:nvPr/>
          </p:nvSpPr>
          <p:spPr>
            <a:xfrm>
              <a:off x="2268360" y="6093000"/>
              <a:ext cx="252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UIS XIV,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“EL ESTADO SOY YO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</a:rPr>
              <a:t>En s</a:t>
            </a: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  <a:ea typeface="ＭＳ Ｐゴシック"/>
              </a:rPr>
              <a:t>íntesis, estos son los temas que estudiamos en esta cl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6920" y="1773360"/>
            <a:ext cx="3429000" cy="914400"/>
          </a:xfrm>
          <a:prstGeom prst="rect">
            <a:avLst/>
          </a:prstGeom>
          <a:solidFill>
            <a:srgbClr val="c3f8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ansión colonial europ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3200400"/>
            <a:ext cx="3581280" cy="762120"/>
          </a:xfrm>
          <a:prstGeom prst="rect">
            <a:avLst/>
          </a:prstGeom>
          <a:solidFill>
            <a:srgbClr val="ebd3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ubrimientos geográf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38280" y="2666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43400" y="3505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96000" y="3068640"/>
            <a:ext cx="2728800" cy="817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40000" y="39337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96000" y="4724280"/>
            <a:ext cx="289548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cu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340000" y="5229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500"/>
                            </p:stCondLst>
                            <p:childTnLst>
                              <p:par>
                                <p:cTn id="3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000"/>
                            </p:stCondLst>
                            <p:childTnLst>
                              <p:par>
                                <p:cTn id="3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0"/>
                            </p:stCondLst>
                            <p:childTnLst>
                              <p:par>
                                <p:cTn id="3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Bookman Old Style"/>
              </a:rPr>
              <a:t>Realicemos la gu</a:t>
            </a:r>
            <a:r>
              <a:rPr b="1" i="1" lang="es-ES_tradnl" sz="4400" spc="-1" strike="noStrike">
                <a:solidFill>
                  <a:srgbClr val="ffffff"/>
                </a:solidFill>
                <a:latin typeface="Bookman Old Style"/>
                <a:ea typeface="ＭＳ Ｐゴシック"/>
              </a:rPr>
              <a:t>ía HU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389720" cy="53323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5280" y="1197000"/>
            <a:ext cx="8209080" cy="2837160"/>
          </a:xfrm>
          <a:prstGeom prst="rect">
            <a:avLst/>
          </a:prstGeom>
          <a:solidFill>
            <a:srgbClr val="ebf2a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Entre los efectos socio-culturales provocados por los descubrimientos geográficos se cuenta un cambio de percepción de Europa respecto del mundo.  Esta situación derivó en que los europeos comenzaron a desarrollar un nuevo pensamiento centrad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almen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una concepción antropocéntrica cuyo motor es la importancia de su ra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la idea de  evangelizar a otros pueb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 la necesidad de migrar hacia otros contin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) los deseos por obtener  mayor variedad  de produc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) las ansias expansionistas de algunas potencias europ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4365720"/>
            <a:ext cx="82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a clave correcta es 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Pregunta de Análisis.   Las alternativas A, B y C corresponden a elementos socio-culturales que explican la noción de superioridad de Europa sobre otras regiones del mundo.   Sin embargo, la labor evangelizadora y la migración transatlántica no son expresiones de esta concepción ideológica.   Las alternativas D y E no corresponden, pues constituyen efectos económicos y políticos, respectiv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19280" y="333360"/>
            <a:ext cx="5889600" cy="5335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studiemos con la Gu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24000" y="1052640"/>
            <a:ext cx="8569080" cy="4390560"/>
          </a:xfrm>
          <a:prstGeom prst="rect">
            <a:avLst/>
          </a:prstGeom>
          <a:solidFill>
            <a:srgbClr val="ebf2a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gunta 1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mos a Londres producir sus paños; a Holanda, sus telas; a Florencia, sus sedas (…) durante tanto tiempo cuanto nuestro capital pueda disfrutar de ellos; lo único que eso prueba es que todas las naciones trabajan para Madrid” (Palabras de un español, Alfonso Núñez de Castro en 167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relación con la expansión colonial y sus consecuencias para Europa, ¿qué se puede inferir de lo enunciado en el tex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landa y Francia eran las primeras potencias comerciales de Europa y surtían con productos a Españ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se a contar con un gran mercado colonial, España no era un país manufactur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comercio con Holanda e Inglaterra le sirvió a España para desarrollar las manufactu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fomentaron en España políticas librecambistas que estimulaban la exportación de manufactu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el siglo XVII, España recuperó el control del comercio a través del autoabastecimi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RECUERDA LOS TEMAS QUE REVISAMOS LA CLASE ANTERIOR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250920" y="1628640"/>
            <a:ext cx="8154720" cy="4824360"/>
            <a:chOff x="250920" y="1628640"/>
            <a:chExt cx="8154720" cy="4824360"/>
          </a:xfrm>
        </p:grpSpPr>
        <p:sp>
          <p:nvSpPr>
            <p:cNvPr id="97" name=""/>
            <p:cNvSpPr/>
            <p:nvPr/>
          </p:nvSpPr>
          <p:spPr>
            <a:xfrm>
              <a:off x="3078000" y="3355920"/>
              <a:ext cx="1905120" cy="990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  <a:ea typeface="ＭＳ Ｐゴシック"/>
                </a:rPr>
                <a:t>RUPTUR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  <a:ea typeface="ＭＳ Ｐゴシック"/>
                </a:rPr>
                <a:t>RELIGIO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0920" y="3271680"/>
              <a:ext cx="2286000" cy="1092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Bookman Old Style"/>
                  <a:ea typeface="ＭＳ Ｐゴシック"/>
                </a:rPr>
                <a:t>GUERRAS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Bookman Old Style"/>
                  <a:ea typeface="ＭＳ Ｐゴシック"/>
                </a:rPr>
                <a:t>RELIG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26000" y="3355920"/>
              <a:ext cx="2879640" cy="865080"/>
            </a:xfrm>
            <a:prstGeom prst="rect">
              <a:avLst/>
            </a:prstGeom>
            <a:solidFill>
              <a:srgbClr val="ffdb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Bookman Old Style"/>
                  <a:ea typeface="ＭＳ Ｐゴシック"/>
                </a:rPr>
                <a:t>CONFESIONALIZACIÓ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Bookman Old Style"/>
                  <a:ea typeface="ＭＳ Ｐゴシック"/>
                </a:rPr>
                <a:t>DE LA POLÍ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4086360" y="28526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86360" y="44370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1317240" y="22050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280120" y="22050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17600" y="22050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241280" y="43380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08920" y="22050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78000" y="551628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5742000" y="5516280"/>
              <a:ext cx="14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89280" y="1628640"/>
              <a:ext cx="2519280" cy="1440000"/>
            </a:xfrm>
            <a:prstGeom prst="ellipse">
              <a:avLst/>
            </a:prstGeom>
            <a:solidFill>
              <a:srgbClr val="f4e73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REFORM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PROTESTA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62360" y="5013000"/>
              <a:ext cx="2519280" cy="1440000"/>
            </a:xfrm>
            <a:prstGeom prst="ellipse">
              <a:avLst/>
            </a:prstGeom>
            <a:solidFill>
              <a:srgbClr val="b9f7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Bookman Old Style"/>
                </a:rPr>
                <a:t>CONTRARREFOR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Bookman Old Style"/>
                </a:rPr>
                <a:t>CAT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Bookman Old Style"/>
                  <a:ea typeface="ＭＳ Ｐゴシック"/>
                </a:rPr>
                <a:t>ÓL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7182000" y="422100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11280" y="206064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clave correcta es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Pregunta de análisis. El encabezado demuestra la dependencia manufacturera de España y el fenómeno de que España, pese a haber obtenido numerosos recursos de América, no desarrolló una capacidad industrial prop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2050920" y="692280"/>
          <a:ext cx="4176720" cy="5865840"/>
        </p:xfrm>
        <a:graphic>
          <a:graphicData uri="http://schemas.openxmlformats.org/drawingml/2006/table">
            <a:tbl>
              <a:tblPr/>
              <a:tblGrid>
                <a:gridCol w="865440"/>
                <a:gridCol w="1120680"/>
                <a:gridCol w="2190600"/>
              </a:tblGrid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A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BI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2124000" y="189000"/>
            <a:ext cx="49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oadway"/>
              </a:rPr>
              <a:t>REVISEMOS LA GUÍA HU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0" y="189000"/>
            <a:ext cx="8893080" cy="6669000"/>
            <a:chOff x="0" y="189000"/>
            <a:chExt cx="8893080" cy="6669000"/>
          </a:xfrm>
        </p:grpSpPr>
        <p:sp>
          <p:nvSpPr>
            <p:cNvPr id="248" name="PlaceHolder 1"/>
            <p:cNvSpPr>
              <a:spLocks noGrp="1"/>
            </p:cNvSpPr>
            <p:nvPr>
              <p:ph/>
            </p:nvPr>
          </p:nvSpPr>
          <p:spPr>
            <a:xfrm>
              <a:off x="468000" y="2276640"/>
              <a:ext cx="4105080" cy="3528720"/>
            </a:xfrm>
            <a:prstGeom prst="rect">
              <a:avLst/>
            </a:prstGeom>
            <a:solidFill>
              <a:srgbClr val="acb8f2"/>
            </a:solidFill>
            <a:ln w="9360">
              <a:solidFill>
                <a:srgbClr val="000000"/>
              </a:solidFill>
              <a:miter/>
            </a:ln>
          </p:spPr>
          <p:txBody>
            <a:bodyPr lIns="90000" rIns="90000" tIns="46800" bIns="46800" anchor="t">
              <a:normAutofit/>
            </a:bodyPr>
            <a:p>
              <a:pPr indent="0" algn="just">
                <a:lnSpc>
                  <a:spcPct val="80000"/>
                </a:lnSpc>
                <a:spcBef>
                  <a:spcPts val="4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- Europa medieval y Cristianismo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Feudalismo y Capitalismo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Arte y pensamiento moderno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Desarrollo del pensamiento cient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ífico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Ruptura de la unidad religios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Expansi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ón colonial europe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indent="0" algn="just">
                <a:lnSpc>
                  <a:spcPct val="80000"/>
                </a:lnSpc>
                <a:spcBef>
                  <a:spcPts val="4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indent="0" algn="just">
                <a:lnSpc>
                  <a:spcPct val="80000"/>
                </a:lnSpc>
                <a:spcBef>
                  <a:spcPts val="4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Estos temas los puedes encontrar en tu libro, en las p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áginas 91 A 167 (CAPÍTULOS III y IV) del tomo II  de CEPECH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0920" y="189000"/>
              <a:ext cx="8642160" cy="861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ffffff"/>
                  </a:solidFill>
                  <a:latin typeface="Bookman Old Style"/>
                </a:rPr>
                <a:t>La pr</a:t>
              </a:r>
              <a:r>
                <a:rPr b="1" i="1" lang="es-ES_tradnl" sz="2800" spc="-1" strike="noStrike">
                  <a:solidFill>
                    <a:srgbClr val="ffffff"/>
                  </a:solidFill>
                  <a:latin typeface="Bookman Old Style"/>
                  <a:ea typeface="ＭＳ Ｐゴシック"/>
                </a:rPr>
                <a:t>óxima clase se realizará la PRUEBA SH 121. En esta prueba se evalúan los siguientes temas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>
              <a:off x="4643280" y="2276640"/>
              <a:ext cx="4070520" cy="33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2"/>
            <a:stretch/>
          </p:blipFill>
          <p:spPr>
            <a:xfrm>
              <a:off x="0" y="6308640"/>
              <a:ext cx="1476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¿Qué estudiaremos en esta cl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3816360" cy="5112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a1a16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La expansión colonial europ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La inserción de América en el mundo occidental: beneficios y proble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Conceptos 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Colonial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Capitalismo.</a:t>
            </a:r>
            <a:r>
              <a:rPr b="1" i="1" lang="en-US" sz="12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man Old Style"/>
              </a:rPr>
              <a:t>          </a:t>
            </a:r>
            <a:r>
              <a:rPr b="1" i="1" lang="en-US" sz="1600" spc="-1" strike="noStrike">
                <a:solidFill>
                  <a:srgbClr val="000000"/>
                </a:solidFill>
                <a:latin typeface="Bookman Old Style"/>
              </a:rPr>
              <a:t>En tu libro estos  contenidos están   desde la página 161 A 1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211640" y="1341360"/>
            <a:ext cx="4751280" cy="511200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100000">
                <a:srgbClr val="93b84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•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statar que los grandes descubrimientos geográficos y avances en las ciencias cambiaron el ritmo de vida y las costumb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preciar que parte de la riqueza del mundo radica en su diversidad, en múltiples planos de la exist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mensionar el impacto que para Europa tuvo el descubrimiento de América y el intercambio de especies, imágenes y experiencias a través del Atlántico y cómo los europeos establecieron su visión en el nuevo m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preciar que en la época en estudio la organización social y política es fuertemente jerarquizada, con limitada particip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836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1640" y="907920"/>
            <a:ext cx="4608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PRENDIZAJ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5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403280" y="5950080"/>
            <a:ext cx="7272360" cy="3682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¿A quienes puedes distinguir en la imagen? ¿Qué represen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332000" y="189000"/>
            <a:ext cx="7308720" cy="5735520"/>
            <a:chOff x="1332000" y="189000"/>
            <a:chExt cx="7308720" cy="573552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1332000" y="549360"/>
              <a:ext cx="7308720" cy="537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2000" y="189000"/>
              <a:ext cx="7272360" cy="3682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OBSERVA ATENTAMENTE LA IMAGE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743880" cy="3789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620280"/>
            <a:ext cx="8050320" cy="1800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LA ERA DE LOS DESCUBRIMI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497800" cy="7477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I. FACTORES DE LOS DESCUBRIMI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1197000"/>
            <a:ext cx="5181480" cy="398880"/>
          </a:xfrm>
          <a:prstGeom prst="rect">
            <a:avLst/>
          </a:prstGeom>
          <a:solidFill>
            <a:srgbClr val="acb8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ＭＳ Ｐゴシック"/>
              </a:rPr>
              <a:t>I.1 FACTORES POLÍ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177336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 unificaciones territoriales y el deseo de los monarcas por expandir sus domin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8360" y="2637000"/>
            <a:ext cx="5867280" cy="3616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284720" y="2276640"/>
            <a:ext cx="41101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611064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</a:rPr>
              <a:t>I.2 FACTORES ECON</a:t>
            </a: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  <a:ea typeface="ＭＳ Ｐゴシック"/>
              </a:rPr>
              <a:t>ÓM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395280" y="907920"/>
            <a:ext cx="3816000" cy="5218200"/>
            <a:chOff x="395280" y="907920"/>
            <a:chExt cx="3816000" cy="5218200"/>
          </a:xfrm>
        </p:grpSpPr>
        <p:sp>
          <p:nvSpPr>
            <p:cNvPr id="133" name=""/>
            <p:cNvSpPr/>
            <p:nvPr/>
          </p:nvSpPr>
          <p:spPr>
            <a:xfrm>
              <a:off x="395280" y="1341360"/>
              <a:ext cx="2879640" cy="1313640"/>
            </a:xfrm>
            <a:prstGeom prst="rect">
              <a:avLst/>
            </a:prstGeom>
            <a:solidFill>
              <a:srgbClr val="cc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s necesidades de expansión de los mercados capitalistas (mercantilismo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276360" y="907920"/>
              <a:ext cx="93492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395280" y="3068640"/>
              <a:ext cx="3610080" cy="30574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136" name=""/>
            <p:cNvSpPr/>
            <p:nvPr/>
          </p:nvSpPr>
          <p:spPr>
            <a:xfrm>
              <a:off x="176364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572000" y="907920"/>
            <a:ext cx="4103640" cy="5754960"/>
            <a:chOff x="4572000" y="907920"/>
            <a:chExt cx="4103640" cy="5754960"/>
          </a:xfrm>
        </p:grpSpPr>
        <p:sp>
          <p:nvSpPr>
            <p:cNvPr id="138" name=""/>
            <p:cNvSpPr/>
            <p:nvPr/>
          </p:nvSpPr>
          <p:spPr>
            <a:xfrm>
              <a:off x="5651640" y="1341360"/>
              <a:ext cx="3024000" cy="1313640"/>
            </a:xfrm>
            <a:prstGeom prst="rect">
              <a:avLst/>
            </a:prstGeom>
            <a:solidFill>
              <a:srgbClr val="cc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Toma de Constantinopla y el cierre de las rutas terrestres a las India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5724360" y="2852640"/>
              <a:ext cx="2791080" cy="3810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140" name=""/>
            <p:cNvSpPr/>
            <p:nvPr/>
          </p:nvSpPr>
          <p:spPr>
            <a:xfrm>
              <a:off x="4572000" y="907920"/>
              <a:ext cx="107964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93080" y="2637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5335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</a:rPr>
              <a:t>I.3 FACTORES T</a:t>
            </a: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  <a:ea typeface="ＭＳ Ｐゴシック"/>
              </a:rPr>
              <a:t>ÉCN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1052640"/>
            <a:ext cx="3527640" cy="7038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arrollo de las técnicas de naveg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4437000"/>
            <a:ext cx="3581280" cy="3988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arrollo de la cartograf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332000" y="1844640"/>
            <a:ext cx="2735280" cy="2359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156360" y="907920"/>
            <a:ext cx="2087640" cy="1565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4284720" y="907920"/>
            <a:ext cx="1631880" cy="2089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5867280" y="3141720"/>
            <a:ext cx="2719440" cy="3436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4140360" y="4292640"/>
            <a:ext cx="1487160" cy="2124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835280" y="5734080"/>
            <a:ext cx="2449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RIQUE EL NAVEGANTE (ESCUELA DE NAVEGACIÓN  DE SAGRE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0" y="189000"/>
            <a:ext cx="8891640" cy="6669000"/>
            <a:chOff x="0" y="189000"/>
            <a:chExt cx="8891640" cy="6669000"/>
          </a:xfrm>
        </p:grpSpPr>
        <p:sp>
          <p:nvSpPr>
            <p:cNvPr id="153" name="PlaceHolder 1"/>
            <p:cNvSpPr>
              <a:spLocks noGrp="1"/>
            </p:cNvSpPr>
            <p:nvPr>
              <p:ph type="title"/>
            </p:nvPr>
          </p:nvSpPr>
          <p:spPr>
            <a:xfrm>
              <a:off x="395280" y="189000"/>
              <a:ext cx="8424720" cy="906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indent="0" algn="ctr">
                <a:lnSpc>
                  <a:spcPct val="100000"/>
                </a:lnSpc>
                <a:spcBef>
                  <a:spcPts val="174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ffffff"/>
                  </a:solidFill>
                  <a:latin typeface="Bookman Old Style"/>
                </a:rPr>
                <a:t>I.4 FACTORES PROVENIENTES DE LA MENTALIDAD DE LA </a:t>
              </a:r>
              <a:r>
                <a:rPr b="1" i="1" lang="es-ES_tradnl" sz="2800" spc="-1" strike="noStrike">
                  <a:solidFill>
                    <a:srgbClr val="ffffff"/>
                  </a:solidFill>
                  <a:latin typeface="Bookman Old Style"/>
                  <a:ea typeface="ＭＳ Ｐゴシック"/>
                </a:rPr>
                <a:t>ÉPOCA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5280" y="1268280"/>
              <a:ext cx="3384720" cy="862560"/>
            </a:xfrm>
            <a:prstGeom prst="rect">
              <a:avLst/>
            </a:prstGeom>
            <a:solidFill>
              <a:srgbClr val="ebf2a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l Humanismo y el dese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 fama y de aventur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24360" y="1197000"/>
              <a:ext cx="3167280" cy="1008720"/>
            </a:xfrm>
            <a:prstGeom prst="rect">
              <a:avLst/>
            </a:prstGeom>
            <a:solidFill>
              <a:srgbClr val="ebf2a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os relatos de lugares fantásticos y animales fabuloso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0" y="6308640"/>
              <a:ext cx="1476360" cy="54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2700360" y="2276640"/>
              <a:ext cx="3917880" cy="43923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158" name=""/>
            <p:cNvSpPr/>
            <p:nvPr/>
          </p:nvSpPr>
          <p:spPr>
            <a:xfrm>
              <a:off x="1619280" y="2133720"/>
              <a:ext cx="0" cy="30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19280" y="5157720"/>
              <a:ext cx="10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50846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7667640" y="2204640"/>
              <a:ext cx="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3:30:29Z</dcterms:created>
  <dc:creator>WinuE</dc:creator>
  <dc:description/>
  <dc:language>en-US</dc:language>
  <cp:lastModifiedBy>WinuE</cp:lastModifiedBy>
  <dcterms:modified xsi:type="dcterms:W3CDTF">2008-06-03T05:20:55Z</dcterms:modified>
  <cp:revision>29</cp:revision>
  <dc:subject/>
  <dc:title>Diapositiva 1</dc:title>
</cp:coreProperties>
</file>