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FEC-4ED5-4C6E-9A8C-53FDB96F5C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Izquierda: Alejandro VI, autor de las Bulas Inter Caetera de 1493, conocidas como las bulas de do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carta cosmog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a de Apiano, 15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Mapamundi de Ortelius, 15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gerencias para el docente para la resolu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pregu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pregunta es de comprensi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ext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estra que el interés comercial de los españoles, estuvo orientado a resolver sus necesidades y carencias productivas por la vía de comprar en Europa, en vez de producirlas por sí mismos. Esta sería, en definitiva, la causa del despilfarro español de metales preciosos y del retraso industrial que tendría España, en relación con el resto del con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alternativas son conclusiones er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eas del texto: A, porque del texto no se puede desprender ni demostrar el carácter de potencia manufacturera de esos países; C, porque el comercio con esos países llevó  a España a depender de las manufacturas del resto del continente; D, porque si España no producía (o lo hacía marginalmente), no podía exportar lo que no producía (además, el texto está planteado como justificación de las importaciones);y  E, porque redunda en la idea de que España, según el texto, produce, cuando, en realidad, impor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La P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sula Ibérica durante el reinado de los Reyes Católicos (imagen de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 Arriba, B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jula. Abajo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Pto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ico de 14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mapa America nova tabula, de Bleau, 1665, se representan los animales y nativos, de acuerdo a las descripciones realizadas por los viajeros. Tales descripciones son reflejo de la mentalidad de la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oca, sustentada en el deseo de aventura y f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1B00-2B2B-487D-B92A-399693BD2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F302-FB40-4F9D-80D5-51EC44272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63D6-6E3B-491A-B09F-231FDEF3C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9757-E6A1-4561-964E-4E0C47965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15E2C-7ACE-4B1B-BFD4-D6DDB17E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FA88-1EC5-4A77-862F-B0FC325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884B8-3CE1-49FB-84F3-F801228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09358-BA77-4AEF-A48F-EA48E72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F50BF-305E-4866-8C87-24517F5A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09F75-1562-4030-85AE-EFB9EB57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9DE59-5AF7-4570-9D08-B060A66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BD98-98FF-48B9-B67A-A59006CCF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FE0D8-211E-42DB-8CC6-24A0A4F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0C72-9D2D-4DDC-8DDB-5DE843A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41EE-08BF-4701-95D1-E9B4FD6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C5328-65CA-404C-BAB6-DDDC9FB2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355A-2E14-4EC1-91AE-3FD7C23A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72F0-3926-45A8-B111-4168E45A9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C7C7-3F2B-498B-821A-3F8B1EE15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AAC8-5C17-4B48-8E40-8F85BAB32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B4D0-6200-4980-BF73-896559561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38F9-1BEF-4E6F-91BD-E6E713C9B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2735-59ED-4C66-8120-CF13A3A98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0D3D-628E-4075-84B1-71DFDF4CA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33F-70B6-4736-A2EA-C7B2C81C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6517-3697-4536-975E-A67C1E5B6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840720" cy="244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CLASE 14: 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DESCUBRIMIENTOS GEOGRÁFICOS Y EXPANSIÓN COLONIAL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5364360" cy="32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5 FACTORES RELIG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3529080" cy="100872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objetivo de desarrollar una religión efectivamente univer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11280" y="2637000"/>
            <a:ext cx="3744720" cy="3430440"/>
            <a:chOff x="611280" y="2637000"/>
            <a:chExt cx="3744720" cy="34304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258920" y="2637000"/>
              <a:ext cx="2076480" cy="261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611280" y="5516640"/>
              <a:ext cx="37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ejandro VI, autor de la Bula Inter Caetera de 1493, conocida como la bula de donación.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40360" y="1413000"/>
            <a:ext cx="4173480" cy="703800"/>
            <a:chOff x="4140360" y="1413000"/>
            <a:chExt cx="4173480" cy="703800"/>
          </a:xfrm>
        </p:grpSpPr>
        <p:sp>
          <p:nvSpPr>
            <p:cNvPr id="169" name=""/>
            <p:cNvSpPr/>
            <p:nvPr/>
          </p:nvSpPr>
          <p:spPr>
            <a:xfrm>
              <a:off x="4932360" y="1413000"/>
              <a:ext cx="33814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donación de los territorios por descubri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249640" cy="32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4859280" y="2133720"/>
            <a:ext cx="3529080" cy="1062360"/>
            <a:chOff x="4859280" y="2133720"/>
            <a:chExt cx="3529080" cy="1062360"/>
          </a:xfrm>
        </p:grpSpPr>
        <p:sp>
          <p:nvSpPr>
            <p:cNvPr id="173" name=""/>
            <p:cNvSpPr/>
            <p:nvPr/>
          </p:nvSpPr>
          <p:spPr>
            <a:xfrm>
              <a:off x="4859280" y="2492280"/>
              <a:ext cx="35290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legitimidad de la esclavitud de los infie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672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9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I. CONSECUENCIA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125360"/>
            <a:ext cx="568944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1 CONSECUENCIAS SOCIOCUL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628640"/>
            <a:ext cx="3529080" cy="1656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mbio en la concep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mundo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2708280"/>
            <a:ext cx="3529080" cy="1655640"/>
          </a:xfrm>
          <a:prstGeom prst="ellipse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graciones europe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as partes del mund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789360"/>
            <a:ext cx="352908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mbios en la di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menticia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67192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00360" y="5886360"/>
            <a:ext cx="1150920" cy="97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5921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851280" y="587700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740720" y="580536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859280" y="590868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77080" y="5946840"/>
            <a:ext cx="936720" cy="91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2 CONSECUENCIAS POL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57200" y="1052640"/>
            <a:ext cx="8291520" cy="2422440"/>
            <a:chOff x="457200" y="1052640"/>
            <a:chExt cx="8291520" cy="2422440"/>
          </a:xfrm>
        </p:grpSpPr>
        <p:sp>
          <p:nvSpPr>
            <p:cNvPr id="190" name=""/>
            <p:cNvSpPr/>
            <p:nvPr/>
          </p:nvSpPr>
          <p:spPr>
            <a:xfrm>
              <a:off x="457200" y="1143000"/>
              <a:ext cx="52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encia colonial entre las potencias europeas, por ejemplo, entre España y Portug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22050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onización de vastas zonas del mund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44800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611280" y="2781360"/>
            <a:ext cx="8353440" cy="3573360"/>
            <a:chOff x="611280" y="2781360"/>
            <a:chExt cx="8353440" cy="35733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11280" y="2781360"/>
              <a:ext cx="5545080" cy="357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6300720" y="4005360"/>
              <a:ext cx="2664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n 1494 se firmó entre España y Portugal el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ratado de Tordesilla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mediante el cual se movió la línea a 370 leguas al oeste, con lo que las tierras que hoy ocupa Brasil, pasaron a ser posesión portuguesa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3 CONSECUENCIA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4005360"/>
            <a:ext cx="388764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arrollo mone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financiero en 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3933720"/>
            <a:ext cx="4175280" cy="165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n nuev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rciales como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ñías de In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3672000" cy="1511280"/>
          </a:xfrm>
          <a:prstGeom prst="ellipse">
            <a:avLst/>
          </a:prstGeom>
          <a:solidFill>
            <a:srgbClr val="eb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mplia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s merca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1557360"/>
            <a:ext cx="3637080" cy="1440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aso de una econom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terránea a una Atl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3640" y="981000"/>
            <a:ext cx="93672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981000"/>
            <a:ext cx="129528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4920" y="98100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981000"/>
            <a:ext cx="23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492360" y="404640"/>
            <a:ext cx="2592360" cy="119124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autoridad estatal, sustentada en una MONARQU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700280"/>
            <a:ext cx="2592360" cy="916920"/>
          </a:xfrm>
          <a:prstGeom prst="rect">
            <a:avLst/>
          </a:prstGeom>
          <a:solidFill>
            <a:srgbClr val="c3efe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jerarquía administrativa y un solo ejér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645000"/>
            <a:ext cx="2592360" cy="119124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territorial y establecimiento de Monarquí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700280"/>
            <a:ext cx="2592360" cy="1191240"/>
          </a:xfrm>
          <a:prstGeom prst="rect">
            <a:avLst/>
          </a:prstGeom>
          <a:solidFill>
            <a:srgbClr val="d7c7c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institucionalidad legal sustentada en la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4076640"/>
            <a:ext cx="2592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religión de carácter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5661000"/>
            <a:ext cx="568980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A LEY, UNA FE, UN R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060640"/>
            <a:ext cx="2952720" cy="1655640"/>
          </a:xfrm>
          <a:prstGeom prst="ellipse">
            <a:avLst/>
          </a:prstGeom>
          <a:solidFill>
            <a:srgbClr val="bbe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ESTADO MOD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16000" y="1915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16360" y="3645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645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51640" y="1916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716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56000" y="260280"/>
            <a:ext cx="4392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. ABSOL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POLÍTICO PREDOMINANTE ENTRE LOS SIGLOS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557360"/>
            <a:ext cx="4176720" cy="4111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ción de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religiosa: derecho div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filosófica: razón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ía de Orden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de una bur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a participación de los Es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e l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484280"/>
            <a:ext cx="6307200" cy="5184720"/>
            <a:chOff x="2268360" y="1484280"/>
            <a:chExt cx="6307200" cy="5184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4932360" y="1484280"/>
              <a:ext cx="3643200" cy="5184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2268360" y="609300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IS XIV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“EL ESTADO SOY YO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En s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ntesis, estos son los temas que estudiamos en esta cl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3429000" cy="914400"/>
          </a:xfrm>
          <a:prstGeom prst="rect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ón colonial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3581280" cy="762120"/>
          </a:xfrm>
          <a:prstGeom prst="rect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ubrimientos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3068640"/>
            <a:ext cx="2728800" cy="8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4724280"/>
            <a:ext cx="2895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40000" y="522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</a:rPr>
              <a:t>Realicemos la gu</a:t>
            </a: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a HU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89720" cy="533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1197000"/>
            <a:ext cx="8209080" cy="28371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Entre los efectos socio-culturales provocados por los descubrimientos geográficos se cuenta un cambio de percepción de Europa respecto del mundo.  Esta situación derivó en que los europeos comenzaron a desarrollar un nuevo pensamiento centr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una concepción antropocéntrica cuyo motor es la importancia de su 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a idea de  evangelizar a otros pueb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 necesidad de migrar hacia otros conti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os deseos por obtener  mayor variedad 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las ansias expansionistas de algunas pot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657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clave correcta es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gunta de Análisis.   Las alternativas A, B y C corresponden a elementos socio-culturales que explican la noción de superioridad de Europa sobre otras regiones del mundo.   Sin embargo, la labor evangelizadora y la migración transatlántica no son expresiones de esta concepción ideológica.   Las alternativas D y E no corresponden, pues constituyen efectos económicos y políticos,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33360"/>
            <a:ext cx="58896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udiemos con la Gu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052640"/>
            <a:ext cx="8569080" cy="43905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gunta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mos a Londres producir sus paños; a Holanda, sus telas; a Florencia, sus sedas (…) durante tanto tiempo cuanto nuestro capital pueda disfrutar de ellos; lo único que eso prueba es que todas las naciones trabajan para Madrid” (Palabras de un español, Alfonso Núñez de Castro en 16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relación con la expansión colonial y sus consecuencias para Europa, ¿qué se puede inferir de lo enunciado en el tex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anda y Francia eran las primeras potencias comerciales de Europa y surtían con productos a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contar con un gran mercado colonial, España no era un país manufactur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ercio con Holanda e Inglaterra le sirvió a España para desarrollar las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fomentaron en España políticas librecambistas que estimulaban la exportación de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siglo XVII, España recuperó el control del comercio a través del autoabast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CUERDA LOS TEMAS QUE REVISAMOS LA CLASE ANTERIOR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0920" y="1628640"/>
            <a:ext cx="8154720" cy="4824360"/>
            <a:chOff x="250920" y="1628640"/>
            <a:chExt cx="8154720" cy="4824360"/>
          </a:xfrm>
        </p:grpSpPr>
        <p:sp>
          <p:nvSpPr>
            <p:cNvPr id="97" name=""/>
            <p:cNvSpPr/>
            <p:nvPr/>
          </p:nvSpPr>
          <p:spPr>
            <a:xfrm>
              <a:off x="3078000" y="3355920"/>
              <a:ext cx="190512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UPT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3271680"/>
              <a:ext cx="2286000" cy="1092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GUERR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6000" y="3355920"/>
              <a:ext cx="2879640" cy="865080"/>
            </a:xfrm>
            <a:prstGeom prst="rect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CONFESIONAL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DE LA PO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86360" y="2852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4437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17240" y="2205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80120" y="220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7600" y="2205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1280" y="4338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8920" y="22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800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42000" y="55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9280" y="1628640"/>
              <a:ext cx="2519280" cy="1440000"/>
            </a:xfrm>
            <a:prstGeom prst="ellipse">
              <a:avLst/>
            </a:prstGeom>
            <a:solidFill>
              <a:srgbClr val="f4e7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REFOR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PROTES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62360" y="5013000"/>
              <a:ext cx="2519280" cy="1440000"/>
            </a:xfrm>
            <a:prstGeom prst="ellipse">
              <a:avLst/>
            </a:prstGeom>
            <a:solidFill>
              <a:srgbClr val="b9f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ONTRARRE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AT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Ó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82000" y="4221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06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análisis. El encabezado demuestra la dependencia manufacturera de España y el fenómeno de que España, pese a haber obtenido numerosos recursos de América, no desarrolló una capacidad industrial prop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050920" y="692280"/>
          <a:ext cx="4176720" cy="586584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124000" y="189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189000"/>
            <a:ext cx="8893080" cy="6669000"/>
            <a:chOff x="0" y="189000"/>
            <a:chExt cx="8893080" cy="6669000"/>
          </a:xfrm>
        </p:grpSpPr>
        <p:sp>
          <p:nvSpPr>
            <p:cNvPr id="248" name="PlaceHolder 1"/>
            <p:cNvSpPr>
              <a:spLocks noGrp="1"/>
            </p:cNvSpPr>
            <p:nvPr>
              <p:ph/>
            </p:nvPr>
          </p:nvSpPr>
          <p:spPr>
            <a:xfrm>
              <a:off x="468000" y="2276640"/>
              <a:ext cx="4105080" cy="3528720"/>
            </a:xfrm>
            <a:prstGeom prst="rect">
              <a:avLst/>
            </a:prstGeom>
            <a:solidFill>
              <a:srgbClr val="acb8f2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Europa medieval y Cristian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smo y Capital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rte y pensamiento moder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esarrollo del pensamiento cient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íf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Ruptura de la unidad religio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xpansi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lonial europ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tos temas los puedes encontrar en tu libro, en las p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ginas 91 A 167 (CAPÍTULOS III y IV) del tomo II  de CEPECH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189000"/>
              <a:ext cx="8642160" cy="8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La pr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óxima clase se realizará la PRUEBA SH 121. En esta prueba se evalúan los siguientes tema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643280" y="2276640"/>
              <a:ext cx="40705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816360" cy="511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1a16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expansión colonial europ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inserción de América en el mundo occidental: beneficios y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ceptos 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pitalismo.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En tu libro estos  contenidos están   desde la página 161 A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11640" y="1341360"/>
            <a:ext cx="4751280" cy="5112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93b84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atar que los grandes descubrimientos geográficos y avances en las ciencias cambiaron el ritmo de vida y las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parte de la riqueza del mundo radica en su diversidad, en múltiples planos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el impacto que para Europa tuvo el descubrimiento de América y el intercambio de especies, imágenes y experiencias a través del Atlántico y cómo los europeos establecieron su visión en el nuev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en la época en estudio la organización social y política es fuertemente jerarquizada, con limitada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07920"/>
            <a:ext cx="460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3280" y="5950080"/>
            <a:ext cx="7272360" cy="368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quienes puedes distinguir en la imagen? ¿Qué repres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2000" y="189000"/>
            <a:ext cx="7308720" cy="5735520"/>
            <a:chOff x="1332000" y="189000"/>
            <a:chExt cx="7308720" cy="5735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332000" y="549360"/>
              <a:ext cx="730872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2000" y="189000"/>
              <a:ext cx="7272360" cy="3682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SERVA ATENTAMENTE LA IMAG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7438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050320" cy="18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 ER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47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 FACTORE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5181480" cy="39888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.1 FACTORE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73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unificaciones territoriales y el deseo de los monarcas por expandir sus dom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867280" cy="361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110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11064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2 FACTORE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5280" y="907920"/>
            <a:ext cx="3816000" cy="5218200"/>
            <a:chOff x="395280" y="907920"/>
            <a:chExt cx="3816000" cy="5218200"/>
          </a:xfrm>
        </p:grpSpPr>
        <p:sp>
          <p:nvSpPr>
            <p:cNvPr id="133" name=""/>
            <p:cNvSpPr/>
            <p:nvPr/>
          </p:nvSpPr>
          <p:spPr>
            <a:xfrm>
              <a:off x="395280" y="1341360"/>
              <a:ext cx="287964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s necesidades de expansión de los mercados capitalistas (mercantilismo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76360" y="907920"/>
              <a:ext cx="934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95280" y="3068640"/>
              <a:ext cx="3610080" cy="3057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176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907920"/>
            <a:ext cx="4103640" cy="5754960"/>
            <a:chOff x="4572000" y="907920"/>
            <a:chExt cx="4103640" cy="5754960"/>
          </a:xfrm>
        </p:grpSpPr>
        <p:sp>
          <p:nvSpPr>
            <p:cNvPr id="138" name=""/>
            <p:cNvSpPr/>
            <p:nvPr/>
          </p:nvSpPr>
          <p:spPr>
            <a:xfrm>
              <a:off x="5651640" y="1341360"/>
              <a:ext cx="302400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Toma de Constantinopla y el cierre de las rutas terrestres a las Indi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24360" y="2852640"/>
              <a:ext cx="2791080" cy="3810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4572000" y="90792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63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3 FACTORES T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35276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s técnicas de nave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437000"/>
            <a:ext cx="358128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 car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7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867280" y="3141720"/>
            <a:ext cx="2719440" cy="343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1487160" cy="212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734080"/>
            <a:ext cx="244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QUE EL NAVEGANTE (ESCUELA DE NAVEGACIÓN  DE SAG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189000"/>
            <a:ext cx="8891640" cy="6669000"/>
            <a:chOff x="0" y="189000"/>
            <a:chExt cx="8891640" cy="6669000"/>
          </a:xfrm>
        </p:grpSpPr>
        <p:sp>
          <p:nvSpPr>
            <p:cNvPr id="153" name="PlaceHolder 1"/>
            <p:cNvSpPr>
              <a:spLocks noGrp="1"/>
            </p:cNvSpPr>
            <p:nvPr>
              <p:ph type="title"/>
            </p:nvPr>
          </p:nvSpPr>
          <p:spPr>
            <a:xfrm>
              <a:off x="395280" y="189000"/>
              <a:ext cx="8424720" cy="90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I.4 FACTORES PROVENIENTES DE LA MENTALIDAD DE LA 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ÉPO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1268280"/>
              <a:ext cx="3384720" cy="86256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Humanismo y el dese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 fama y de aven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197000"/>
              <a:ext cx="3167280" cy="100872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s relatos de lugares fantásticos y animales fabulo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00360" y="2276640"/>
              <a:ext cx="3917880" cy="439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1619280" y="2133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280" y="5157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67640" y="2204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5:20:55Z</dcterms:modified>
  <cp:revision>29</cp:revision>
  <dc:subject/>
  <dc:title>Diapositiva 1</dc:title>
</cp:coreProperties>
</file>