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9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7543-148A-4A1C-ABB6-3C6D3BB9A21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Izquierda: Alejandro VI, autor de las Bulas Inter Caetera de 1493, conocidas como las bulas de don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: carta cosmog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fica de Apiano, 15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Mapamundi de Ortelius, 156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gerencias para el docente para la resoluc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pregun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 pregunta es de comprensi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text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uestra que el interés comercial de los españoles, estuvo orientado a resolver sus necesidades y carencias productivas por la vía de comprar en Europa, en vez de producirlas por sí mismos. Esta sería, en definitiva, la causa del despilfarro español de metales preciosos y del retraso industrial que tendría España, en relación con el resto del contin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s alternativas son conclusiones err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eas del texto: A, porque del texto no se puede desprender ni demostrar el carácter de potencia manufacturera de esos países; C, porque el comercio con esos países llevó  a España a depender de las manufacturas del resto del continente; D, porque si España no producía (o lo hacía marginalmente), no podía exportar lo que no producía (además, el texto está planteado como justificación de las importaciones);y  E, porque redunda en la idea de que España, según el texto, produce, cuando, en realidad, impor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: La Pe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sula Ibérica durante el reinado de los Reyes Católicos (imagen de la derech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  Arriba, B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jula. Abajo: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Ptole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ico de 14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el mapa America nova tabula, de Bleau, 1665, se representan los animales y nativos, de acuerdo a las descripciones realizadas por los viajeros. Tales descripciones son reflejo de la mentalidad de la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poca, sustentada en el deseo de aventura y fa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DBEE-84D9-4865-AC6D-D0EA68CDB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5307-0ACD-410B-8BB1-CC2DFE79A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EDD4-6BF6-4E91-8C79-2316C659E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5F28-6CFD-47DC-A44B-DE16BA251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F3650-C1C1-4625-B635-C676FDA2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3EA0E-88A5-402D-A149-40787805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05D80-D519-451F-95C6-9CD70331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975D7-0A97-43F8-B559-726EFD81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70686-0F79-49AB-AA15-82786CEE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95F43-5472-4764-9318-13880DDF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A1705-BD5F-4A68-886A-932351A9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4CB6-3035-4EF0-A172-16641FA21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6337B-5E2B-4479-BDDD-21487D16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768F7-6544-41FD-991A-0763735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DBBC6-B91E-49B9-AB88-AC170770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8D6DD-552F-488B-BA33-3EE6D28F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37515-6FAD-4AFD-8EB7-89019F89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4CD6-21A6-44BD-967F-F2E63B4DC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9A51-916E-4652-858C-D2C5ACB9A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E4BD-229E-4EEC-84A1-FF7DAACF9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206E-CBAA-4ADE-A085-195CC862E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AB4E-6151-41D0-83F6-27C5726B4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2899-A51B-44D5-ABEE-8A2F56CFD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8877-7B70-4027-BE86-F107E0E13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13A7-7EB4-45E3-B32A-2A798F930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6916-679D-4D97-921F-C6B66F60F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6840720" cy="244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CLASE 14: </a:t>
            </a:r>
            <a:br>
              <a:rPr sz="4000"/>
            </a:br>
            <a:r>
              <a:rPr b="1" i="1" lang="en-US" sz="3200" spc="-1" strike="noStrike">
                <a:solidFill>
                  <a:srgbClr val="ffffff"/>
                </a:solidFill>
                <a:latin typeface="Bookman Old Style"/>
              </a:rPr>
              <a:t>DESCUBRIMIENTOS GEOGRÁFICOS Y EXPANSIÓN COLONIAL EUROP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5364360" cy="3281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.5 FACTORES RELIGI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268280"/>
            <a:ext cx="3529080" cy="100872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objetivo de desarrollar una religión efectivamente univers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611280" y="2637000"/>
            <a:ext cx="3744720" cy="3430440"/>
            <a:chOff x="611280" y="2637000"/>
            <a:chExt cx="3744720" cy="343044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258920" y="2637000"/>
              <a:ext cx="2076480" cy="26193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7" name=""/>
            <p:cNvSpPr/>
            <p:nvPr/>
          </p:nvSpPr>
          <p:spPr>
            <a:xfrm>
              <a:off x="611280" y="5516640"/>
              <a:ext cx="374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lejandro VI, autor de la Bula Inter Caetera de 1493, conocida como la bula de donación.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40360" y="1413000"/>
            <a:ext cx="4173480" cy="703800"/>
            <a:chOff x="4140360" y="1413000"/>
            <a:chExt cx="4173480" cy="703800"/>
          </a:xfrm>
        </p:grpSpPr>
        <p:sp>
          <p:nvSpPr>
            <p:cNvPr id="169" name=""/>
            <p:cNvSpPr/>
            <p:nvPr/>
          </p:nvSpPr>
          <p:spPr>
            <a:xfrm>
              <a:off x="4932360" y="1413000"/>
              <a:ext cx="3381480" cy="70380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donación de los territorios por descubri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1700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364000" y="3357720"/>
            <a:ext cx="2249640" cy="3240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4859280" y="2133720"/>
            <a:ext cx="3529080" cy="1062360"/>
            <a:chOff x="4859280" y="2133720"/>
            <a:chExt cx="3529080" cy="1062360"/>
          </a:xfrm>
        </p:grpSpPr>
        <p:sp>
          <p:nvSpPr>
            <p:cNvPr id="173" name=""/>
            <p:cNvSpPr/>
            <p:nvPr/>
          </p:nvSpPr>
          <p:spPr>
            <a:xfrm>
              <a:off x="4859280" y="2492280"/>
              <a:ext cx="3529080" cy="70380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legitimidad de la esclavitud de los infiel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6720" y="2133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9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I. CONSECUENCIAS DE LOS DESCUBR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1125360"/>
            <a:ext cx="5689440" cy="398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I.1 CONSECUENCIAS SOCIOCUL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1628640"/>
            <a:ext cx="3529080" cy="1656000"/>
          </a:xfrm>
          <a:prstGeom prst="ellipse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ambio en la concep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mundo de lo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4920" y="2708280"/>
            <a:ext cx="3529080" cy="1655640"/>
          </a:xfrm>
          <a:prstGeom prst="ellipse">
            <a:avLst/>
          </a:prstGeom>
          <a:solidFill>
            <a:srgbClr val="ebd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graciones europe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ras partes del mund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3789360"/>
            <a:ext cx="3529080" cy="16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mbios en la di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imenticia de lo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2671920" cy="58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00360" y="5886360"/>
            <a:ext cx="1150920" cy="971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5921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851280" y="5877000"/>
            <a:ext cx="1008000" cy="981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7740720" y="5805360"/>
            <a:ext cx="1403280" cy="1052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4859280" y="5908680"/>
            <a:ext cx="1008000" cy="949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877080" y="5946840"/>
            <a:ext cx="936720" cy="91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I.2 CONSECUENCIAS POL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457200" y="1052640"/>
            <a:ext cx="8291520" cy="2422440"/>
            <a:chOff x="457200" y="1052640"/>
            <a:chExt cx="8291520" cy="2422440"/>
          </a:xfrm>
        </p:grpSpPr>
        <p:sp>
          <p:nvSpPr>
            <p:cNvPr id="190" name=""/>
            <p:cNvSpPr/>
            <p:nvPr/>
          </p:nvSpPr>
          <p:spPr>
            <a:xfrm>
              <a:off x="457200" y="1143000"/>
              <a:ext cx="52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etencia colonial entre las potencias europeas, por ejemplo, entre España y Portug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360" y="2205000"/>
              <a:ext cx="532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lonización de vastas zonas del mund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6300720" y="1052640"/>
              <a:ext cx="2448000" cy="242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611280" y="2781360"/>
            <a:ext cx="8353440" cy="3573360"/>
            <a:chOff x="611280" y="2781360"/>
            <a:chExt cx="8353440" cy="357336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611280" y="2781360"/>
              <a:ext cx="5545080" cy="3573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6300720" y="4005360"/>
              <a:ext cx="26640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En 1494 se firmó entre España y Portugal el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ratado de Tordesillas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, mediante el cual se movió la línea a 370 leguas al oeste, con lo que las tierras que hoy ocupa Brasil, pasaron a ser posesión portuguesa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I.3 CONSECUENCIAS ECON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68360" y="4005360"/>
            <a:ext cx="3887640" cy="1584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arrollo monet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financiero en Euro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3933720"/>
            <a:ext cx="4175280" cy="165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gen nuevas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erciales como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ñías de Ind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557360"/>
            <a:ext cx="3672000" cy="1511280"/>
          </a:xfrm>
          <a:prstGeom prst="ellipse">
            <a:avLst/>
          </a:prstGeom>
          <a:solidFill>
            <a:srgbClr val="eb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mplia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las mercanc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92720" y="1557360"/>
            <a:ext cx="3637080" cy="1440000"/>
          </a:xfrm>
          <a:prstGeom prst="ellipse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aso de una econom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terránea a una Atlán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03640" y="981000"/>
            <a:ext cx="93672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981000"/>
            <a:ext cx="129528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834920" y="981000"/>
            <a:ext cx="230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981000"/>
            <a:ext cx="23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492360" y="404640"/>
            <a:ext cx="2592360" cy="119124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autoridad estatal, sustentada en una MONARQUÍA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700280"/>
            <a:ext cx="2592360" cy="916920"/>
          </a:xfrm>
          <a:prstGeom prst="rect">
            <a:avLst/>
          </a:prstGeom>
          <a:solidFill>
            <a:srgbClr val="c3efe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jerarquía administrativa y un solo ejérc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3645000"/>
            <a:ext cx="2592360" cy="1191240"/>
          </a:xfrm>
          <a:prstGeom prst="rect">
            <a:avLst/>
          </a:prstGeom>
          <a:solidFill>
            <a:srgbClr val="acb8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territorial y establecimiento de Monarquías 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1700280"/>
            <a:ext cx="2592360" cy="1191240"/>
          </a:xfrm>
          <a:prstGeom prst="rect">
            <a:avLst/>
          </a:prstGeom>
          <a:solidFill>
            <a:srgbClr val="d7c7c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una institucionalidad legal sustentada en la legitim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0720" y="4076640"/>
            <a:ext cx="259236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religión de carácter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5661000"/>
            <a:ext cx="5689800" cy="459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A LEY, UNA FE, UN RE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2060640"/>
            <a:ext cx="2952720" cy="1655640"/>
          </a:xfrm>
          <a:prstGeom prst="ellipse">
            <a:avLst/>
          </a:prstGeom>
          <a:solidFill>
            <a:srgbClr val="bbe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. ESTADO MOD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71636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916000" y="191592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916360" y="364500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3645000"/>
            <a:ext cx="936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51640" y="191628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371628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56000" y="260280"/>
            <a:ext cx="439236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V. ABSOLU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981000"/>
            <a:ext cx="78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POLÍTICO PREDOMINANTE ENTRE LOS SIGLOS XVII Y X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557360"/>
            <a:ext cx="4176720" cy="4111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ción del Po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ción religiosa: derecho div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ción filosófica: razón de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antía de Orden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ción de una burocr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sa participación de los Est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de la Ec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68360" y="1484280"/>
            <a:ext cx="6307200" cy="5184720"/>
            <a:chOff x="2268360" y="1484280"/>
            <a:chExt cx="6307200" cy="51847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4932360" y="1484280"/>
              <a:ext cx="3643200" cy="5184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24" name=""/>
            <p:cNvSpPr/>
            <p:nvPr/>
          </p:nvSpPr>
          <p:spPr>
            <a:xfrm>
              <a:off x="2268360" y="6093000"/>
              <a:ext cx="25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UIS XIV,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“EL ESTADO SOY YO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En s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ntesis, estos son los temas que estudiamos en esta cl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773360"/>
            <a:ext cx="3429000" cy="914400"/>
          </a:xfrm>
          <a:prstGeom prst="rect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ansión colonial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200400"/>
            <a:ext cx="3581280" cy="762120"/>
          </a:xfrm>
          <a:prstGeom prst="rect">
            <a:avLst/>
          </a:prstGeom>
          <a:solidFill>
            <a:srgbClr val="ebd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ubrimientos geo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6000" y="3068640"/>
            <a:ext cx="2728800" cy="8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6000" y="4724280"/>
            <a:ext cx="289548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340000" y="5229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Bookman Old Style"/>
              </a:rPr>
              <a:t>Realicemos la gu</a:t>
            </a:r>
            <a:r>
              <a:rPr b="1" i="1" lang="es-ES_tradnl" sz="44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a HU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89720" cy="5332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1197000"/>
            <a:ext cx="8209080" cy="283716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Entre los efectos socio-culturales provocados por los descubrimientos geográficos se cuenta un cambio de percepción de Europa respecto del mundo.  Esta situación derivó en que los europeos comenzaron a desarrollar un nuevo pensamiento centra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almen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una concepción antropocéntrica cuyo motor es la importancia de su r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la idea de  evangelizar a otros pueb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la necesidad de migrar hacia otros contin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los deseos por obtener  mayor variedad  d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las ansias expansionistas de algunas potencias europ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436572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a clave correcta es 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Pregunta de Análisis.   Las alternativas A, B y C corresponden a elementos socio-culturales que explican la noción de superioridad de Europa sobre otras regiones del mundo.   Sin embargo, la labor evangelizadora y la migración transatlántica no son expresiones de esta concepción ideológica.   Las alternativas D y E no corresponden, pues constituyen efectos económicos y políticos,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333360"/>
            <a:ext cx="58896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udiemos con la Gu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052640"/>
            <a:ext cx="8569080" cy="439056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gunta 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mos a Londres producir sus paños; a Holanda, sus telas; a Florencia, sus sedas (…) durante tanto tiempo cuanto nuestro capital pueda disfrutar de ellos; lo único que eso prueba es que todas las naciones trabajan para Madrid” (Palabras de un español, Alfonso Núñez de Castro en 16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relación con la expansión colonial y sus consecuencias para Europa, ¿qué se puede inferir de lo enunciado en el tex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landa y Francia eran las primeras potencias comerciales de Europa y surtían con productos a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se a contar con un gran mercado colonial, España no era un país manufactur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omercio con Holanda e Inglaterra le sirvió a España para desarrollar las manufactu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fomentaron en España políticas librecambistas que estimulaban la exportación de manufactu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l siglo XVII, España recuperó el control del comercio a través del autoabastec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ECUERDA LOS TEMAS QUE REVISAMOS LA CLASE ANTERIOR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50920" y="1628640"/>
            <a:ext cx="8154720" cy="4824360"/>
            <a:chOff x="250920" y="1628640"/>
            <a:chExt cx="8154720" cy="4824360"/>
          </a:xfrm>
        </p:grpSpPr>
        <p:sp>
          <p:nvSpPr>
            <p:cNvPr id="97" name=""/>
            <p:cNvSpPr/>
            <p:nvPr/>
          </p:nvSpPr>
          <p:spPr>
            <a:xfrm>
              <a:off x="3078000" y="3355920"/>
              <a:ext cx="1905120" cy="990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UPTUR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ELIGI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920" y="3271680"/>
              <a:ext cx="2286000" cy="1092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GUERRAS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ELIG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6000" y="3355920"/>
              <a:ext cx="2879640" cy="865080"/>
            </a:xfrm>
            <a:prstGeom prst="rect">
              <a:avLst/>
            </a:prstGeom>
            <a:solidFill>
              <a:srgbClr val="ffdb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CONFESIONAL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DE LA POLÍ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086360" y="28526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86360" y="4437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317240" y="2205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80120" y="220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7600" y="2205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41280" y="4338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08920" y="22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8000" y="5516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742000" y="55162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89280" y="1628640"/>
              <a:ext cx="2519280" cy="1440000"/>
            </a:xfrm>
            <a:prstGeom prst="ellipse">
              <a:avLst/>
            </a:prstGeom>
            <a:solidFill>
              <a:srgbClr val="f4e7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REFORM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PROTEST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62360" y="5013000"/>
              <a:ext cx="2519280" cy="1440000"/>
            </a:xfrm>
            <a:prstGeom prst="ellipse">
              <a:avLst/>
            </a:prstGeom>
            <a:solidFill>
              <a:srgbClr val="b9f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</a:rPr>
                <a:t>CONTRARREFOR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</a:rPr>
                <a:t>CAT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Ó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182000" y="42210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11280" y="2060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lave correcta es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regunta de análisis. El encabezado demuestra la dependencia manufacturera de España y el fenómeno de que España, pese a haber obtenido numerosos recursos de América, no desarrolló una capacidad industrial prop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050920" y="692280"/>
          <a:ext cx="4176720" cy="586584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2124000" y="18900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REVISEMOS LA GUÍA HU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189000"/>
            <a:ext cx="8893080" cy="6669000"/>
            <a:chOff x="0" y="189000"/>
            <a:chExt cx="8893080" cy="6669000"/>
          </a:xfrm>
        </p:grpSpPr>
        <p:sp>
          <p:nvSpPr>
            <p:cNvPr id="248" name="PlaceHolder 1"/>
            <p:cNvSpPr>
              <a:spLocks noGrp="1"/>
            </p:cNvSpPr>
            <p:nvPr>
              <p:ph/>
            </p:nvPr>
          </p:nvSpPr>
          <p:spPr>
            <a:xfrm>
              <a:off x="468000" y="2276640"/>
              <a:ext cx="4105080" cy="3528720"/>
            </a:xfrm>
            <a:prstGeom prst="rect">
              <a:avLst/>
            </a:prstGeom>
            <a:solidFill>
              <a:srgbClr val="acb8f2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 Europa medieval y Cristianism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Feudalismo y Capitalism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Arte y pensamiento modern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esarrollo del pensamiento cient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ífic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Ruptura de la unidad religio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xpansi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 colonial europe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tos temas los puedes encontrar en tu libro, en las p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áginas 91 A 167 (CAPÍTULOS III y IV) del tomo II  de CEPECH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0920" y="189000"/>
              <a:ext cx="8642160" cy="861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</a:rPr>
                <a:t>La pr</a:t>
              </a: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  <a:ea typeface="ＭＳ Ｐゴシック"/>
                </a:rPr>
                <a:t>óxima clase se realizará la PRUEBA SH 121. En esta prueba se evalúan los siguientes tema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4643280" y="2276640"/>
              <a:ext cx="407052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3816360" cy="511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a1a16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a expansión colonial europ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a inserción de América en el mundo occidental: beneficios y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Conceptos 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oloni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apitalismo.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En tu libro estos  contenidos están   desde la página 161 A 1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11640" y="1341360"/>
            <a:ext cx="4751280" cy="511200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93b84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atar que los grandes descubrimientos geográficos y avances en las ciencias cambiaron el ritmo de vida y las costum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ciar que parte de la riqueza del mundo radica en su diversidad, en múltiples planos de la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mensionar el impacto que para Europa tuvo el descubrimiento de América y el intercambio de especies, imágenes y experiencias a través del Atlántico y cómo los europeos establecieron su visión en el nuevo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ciar que en la época en estudio la organización social y política es fuertemente jerarquizada, con limitada particip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836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907920"/>
            <a:ext cx="4608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03280" y="5950080"/>
            <a:ext cx="7272360" cy="3682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A quienes puedes distinguir en la imagen? ¿Qué represen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32000" y="189000"/>
            <a:ext cx="7308720" cy="5735520"/>
            <a:chOff x="1332000" y="189000"/>
            <a:chExt cx="7308720" cy="57355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332000" y="549360"/>
              <a:ext cx="7308720" cy="53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2000" y="189000"/>
              <a:ext cx="7272360" cy="3682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BSERVA ATENTAMENTE LA IMAG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743880" cy="378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050320" cy="180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A ER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97800" cy="747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. FACTORES DE LOS DESCUBR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197000"/>
            <a:ext cx="5181480" cy="398880"/>
          </a:xfrm>
          <a:prstGeom prst="rect">
            <a:avLst/>
          </a:prstGeom>
          <a:solidFill>
            <a:srgbClr val="acb8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I.1 FACTORE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7733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unificaciones territoriales y el deseo de los monarcas por expandir sus domin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5867280" cy="361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1101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11064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.2 FACTORES ECON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ÓM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395280" y="907920"/>
            <a:ext cx="3816000" cy="5218200"/>
            <a:chOff x="395280" y="907920"/>
            <a:chExt cx="3816000" cy="5218200"/>
          </a:xfrm>
        </p:grpSpPr>
        <p:sp>
          <p:nvSpPr>
            <p:cNvPr id="133" name=""/>
            <p:cNvSpPr/>
            <p:nvPr/>
          </p:nvSpPr>
          <p:spPr>
            <a:xfrm>
              <a:off x="395280" y="1341360"/>
              <a:ext cx="2879640" cy="1313640"/>
            </a:xfrm>
            <a:prstGeom prst="rect">
              <a:avLst/>
            </a:prstGeom>
            <a:solidFill>
              <a:srgbClr val="cc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s necesidades de expansión de los mercados capitalistas (mercantilismo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76360" y="907920"/>
              <a:ext cx="93492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395280" y="3068640"/>
              <a:ext cx="3610080" cy="30574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176364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0" y="907920"/>
            <a:ext cx="4103640" cy="5754960"/>
            <a:chOff x="4572000" y="907920"/>
            <a:chExt cx="4103640" cy="5754960"/>
          </a:xfrm>
        </p:grpSpPr>
        <p:sp>
          <p:nvSpPr>
            <p:cNvPr id="138" name=""/>
            <p:cNvSpPr/>
            <p:nvPr/>
          </p:nvSpPr>
          <p:spPr>
            <a:xfrm>
              <a:off x="5651640" y="1341360"/>
              <a:ext cx="3024000" cy="1313640"/>
            </a:xfrm>
            <a:prstGeom prst="rect">
              <a:avLst/>
            </a:prstGeom>
            <a:solidFill>
              <a:srgbClr val="cc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Toma de Constantinopla y el cierre de las rutas terrestres a las India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5724360" y="2852640"/>
              <a:ext cx="2791080" cy="3810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40" name=""/>
            <p:cNvSpPr/>
            <p:nvPr/>
          </p:nvSpPr>
          <p:spPr>
            <a:xfrm>
              <a:off x="4572000" y="907920"/>
              <a:ext cx="1079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3080" y="2637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.3 FACTORES T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ÉC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052640"/>
            <a:ext cx="3527640" cy="7038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las técnicas de nave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4437000"/>
            <a:ext cx="3581280" cy="398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la cart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2735280" cy="235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56360" y="90792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284720" y="907920"/>
            <a:ext cx="1631880" cy="2089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5867280" y="3141720"/>
            <a:ext cx="2719440" cy="343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4140360" y="4292640"/>
            <a:ext cx="1487160" cy="212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35280" y="5734080"/>
            <a:ext cx="244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QUE EL NAVEGANTE (ESCUELA DE NAVEGACIÓN  DE SAG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189000"/>
            <a:ext cx="8891640" cy="6669000"/>
            <a:chOff x="0" y="189000"/>
            <a:chExt cx="8891640" cy="6669000"/>
          </a:xfrm>
        </p:grpSpPr>
        <p:sp>
          <p:nvSpPr>
            <p:cNvPr id="153" name="PlaceHolder 1"/>
            <p:cNvSpPr>
              <a:spLocks noGrp="1"/>
            </p:cNvSpPr>
            <p:nvPr>
              <p:ph type="title"/>
            </p:nvPr>
          </p:nvSpPr>
          <p:spPr>
            <a:xfrm>
              <a:off x="395280" y="189000"/>
              <a:ext cx="8424720" cy="90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indent="0" algn="ctr">
                <a:lnSpc>
                  <a:spcPct val="100000"/>
                </a:lnSpc>
                <a:spcBef>
                  <a:spcPts val="174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</a:rPr>
                <a:t>I.4 FACTORES PROVENIENTES DE LA MENTALIDAD DE LA </a:t>
              </a: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  <a:ea typeface="ＭＳ Ｐゴシック"/>
                </a:rPr>
                <a:t>ÉPOC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5280" y="1268280"/>
              <a:ext cx="3384720" cy="86256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 Humanismo y el dese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 fama y de aventu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4360" y="1197000"/>
              <a:ext cx="3167280" cy="100872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s relatos de lugares fantásticos y animales fabulos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2700360" y="2276640"/>
              <a:ext cx="3917880" cy="4392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58" name=""/>
            <p:cNvSpPr/>
            <p:nvPr/>
          </p:nvSpPr>
          <p:spPr>
            <a:xfrm>
              <a:off x="1619280" y="213372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19280" y="51577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5084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667640" y="220464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06-03T05:20:55Z</dcterms:modified>
  <cp:revision>29</cp:revision>
  <dc:subject/>
  <dc:title>Diapositiva 1</dc:title>
</cp:coreProperties>
</file>