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34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5.gif" ContentType="image/gif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CE0E-6ECD-413A-A021-6EA8E0D392A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imagen corresponde a Isaac Newton y, el dibujo corresponde a una caricatura en la que se ilustra cómo se llegó a la ley de gravitación univers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importante agregar que, con la excepc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molino de viento, estas aplicaciones técnicas y muchas otras, resultaron en artefactos individuales y no en producciones masivas (como en la Revolución Industrial). En todo caso, significaron un importante paso hacia el proceso de innovaciones técnicas que caracterizó a la Revolución Indust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imagen superior corresponde a Lavoisier, las inferiores a Diderot y Dalambert, creadores de la Enciclop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3724-ACA9-42F0-B21F-670F79F41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636E-0D67-403E-95EE-0125E2317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20E0-2F47-4D78-97F0-33F63A611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EAB6-FF6B-41A4-B2E2-CC2BFB083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ECBA3-DAB4-44D2-B214-F64BECB7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7D173-38FD-400F-8377-FD1145AB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C3588-35B3-41F6-B152-2DE24945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E0362-AB0A-40F2-BDF4-1DFB8357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1EAAA-6C14-4B22-AC0A-B75D2C28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9455E-FEC2-4278-9A3F-19C4FFD4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78D68-9ABC-43D3-A44E-B2EB929D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258A-E29A-4AB1-9C78-F51865CA9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0DC15-CDF2-41C9-B003-3EA5D479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8F534-F057-4C50-B097-30AB1E11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3505D-9B25-4175-A856-1A7ADA44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778CD-9A6F-4BD7-AB49-F2DE3368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FAA03-9234-44DF-A114-8C4BA6B6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6D26-F1B5-4CC2-9D8D-598E98A7A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89AA-CDDF-4139-B9FA-F4083E18C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47E4-2021-4171-80D3-16A1A3DEF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A326-9842-4251-B95F-ADBFA0DE5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1B89-0C79-4C32-9F47-E12E44F46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09A1-B6B7-467C-ADB7-37CA1116C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8AD0-303D-4228-969F-0856981DD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675B-618C-4E3C-9A0F-864EAD5CA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A9A0-A661-4ADE-B9F1-97C8F25FC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82560" y="836640"/>
            <a:ext cx="7561440" cy="1944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ff"/>
                </a:solidFill>
                <a:latin typeface="Bookman Old Style"/>
              </a:rPr>
              <a:t>CLASE 12: </a:t>
            </a:r>
            <a:br>
              <a:rPr sz="4000"/>
            </a:b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DESCUBRIMIENTOS CIENT</a:t>
            </a: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FICOS.</a:t>
            </a:r>
            <a:br>
              <a:rPr sz="3200"/>
            </a:b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Ciencia y Técnica en el Renacimiento.</a:t>
            </a:r>
            <a:r>
              <a:rPr b="0" i="1" lang="es-ES_tradnl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2828880" cy="3860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257440" y="4876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ogito, ergo sum” (Ren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scart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260280"/>
            <a:ext cx="5040000" cy="1151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d0d07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) EXPLOTACIONES MINE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stacó George Bauer con su libro De res metallica (155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3672000" cy="259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508720" y="2852640"/>
            <a:ext cx="3394080" cy="3789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250920" y="2421000"/>
            <a:ext cx="5040360" cy="1425600"/>
          </a:xfrm>
          <a:prstGeom prst="rect">
            <a:avLst/>
          </a:prstGeom>
          <a:solidFill>
            <a:srgbClr val="b0e5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) AGRICUL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 el aprovechamiento energético del agua y del viento gracias al desarrollo de molinos de papel y de har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724360" y="189000"/>
            <a:ext cx="2795760" cy="253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REVOLUCIÓN CIENTÍ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SAMIENTO RACIONALISTA  DE LA ÉPOCA DEL BARRO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1197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ckam y Della Mirandola constituyen las bases sobre la que se construyó el pensamiento barro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1916280"/>
            <a:ext cx="2519640" cy="2562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RANCIS BACO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n su obra “Nova Atlantis” y “Nova Organum”, plantea las bases de la ciencia moderna al postular que no existe verdad antes de su demostración empí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4724280"/>
            <a:ext cx="2521080" cy="1465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OHN LOCK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n su obra “Ensayo sobre el entendimiento humano”, sistematiza las ideas de Bac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2133720"/>
            <a:ext cx="2664000" cy="3385800"/>
          </a:xfrm>
          <a:prstGeom prst="rect">
            <a:avLst/>
          </a:prstGeom>
          <a:solidFill>
            <a:srgbClr val="f4d6a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NE DESCARTES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entó las bases del racionalismo moderno aplicando el método deductivo para postular en 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discurso del Méto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”, la duda metódica. Lo único que no se puede dudar es el hecho de estar pensando “cogito ergo sum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2205000"/>
            <a:ext cx="504720" cy="3706200"/>
          </a:xfrm>
          <a:prstGeom prst="rect">
            <a:avLst/>
          </a:prstGeom>
          <a:gradFill rotWithShape="0">
            <a:gsLst>
              <a:gs pos="0">
                <a:srgbClr val="f7fb4b"/>
              </a:gs>
              <a:gs pos="100000">
                <a:srgbClr val="a4a63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1700280"/>
            <a:ext cx="503280" cy="4957920"/>
          </a:xfrm>
          <a:prstGeom prst="rect">
            <a:avLst/>
          </a:prstGeom>
          <a:gradFill rotWithShape="0">
            <a:gsLst>
              <a:gs pos="0">
                <a:srgbClr val="f4d6aa"/>
              </a:gs>
              <a:gs pos="100000">
                <a:srgbClr val="d5bb9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360" y="2349360"/>
            <a:ext cx="503280" cy="3456000"/>
          </a:xfrm>
          <a:custGeom>
            <a:avLst/>
            <a:gdLst>
              <a:gd name="textAreaLeft" fmla="*/ 0 w 503280"/>
              <a:gd name="textAreaRight" fmla="*/ 181800 w 50328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2205000"/>
            <a:ext cx="287280" cy="31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2633760"/>
            <a:ext cx="826920" cy="853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4869000"/>
            <a:ext cx="826920" cy="863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150920" cy="1136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LA REVOLUCIÓN CIENTÍF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197000"/>
            <a:ext cx="828036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 puede situar cronológicamente en el medio siglo que transcurrió entre el “DISCURSO DEL MÉTODO”, de Descartes y los “PRINCIPIA”, de Sir Isaac New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0" y="2133720"/>
            <a:ext cx="8820000" cy="4724280"/>
            <a:chOff x="0" y="2133720"/>
            <a:chExt cx="8820000" cy="4724280"/>
          </a:xfrm>
        </p:grpSpPr>
        <p:sp>
          <p:nvSpPr>
            <p:cNvPr id="186" name=""/>
            <p:cNvSpPr/>
            <p:nvPr/>
          </p:nvSpPr>
          <p:spPr>
            <a:xfrm>
              <a:off x="539640" y="2637000"/>
              <a:ext cx="2592360" cy="253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TRONOMÍ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EPL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Leyes de movimientos orbitale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LILE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Teoría Heliocéntric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WT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ley de gravitación Univers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19640" y="2637000"/>
              <a:ext cx="2592360" cy="3083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TEMÁTIC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WTON y LEIBNIZ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istema de rotación para cálculo integral y diferencial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PI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inventa los logaritm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VIN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cálculo decim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27640" y="2637000"/>
              <a:ext cx="2592360" cy="3906000"/>
            </a:xfrm>
            <a:prstGeom prst="rect">
              <a:avLst/>
            </a:prstGeom>
            <a:gradFill rotWithShape="0">
              <a:gsLst>
                <a:gs pos="0">
                  <a:srgbClr val="5e7546"/>
                </a:gs>
                <a:gs pos="100000">
                  <a:srgbClr val="ccff99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EDICINA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HARVEY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, descubre la circulación mayor de la sang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ALPIGH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, descubre la circulación venosa y la función de los capilar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HOOKE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, escribe Micrographia, por primera vez se describe a la célul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1692360" y="2133720"/>
              <a:ext cx="129528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24360" y="2133720"/>
              <a:ext cx="1656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0" y="220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0" y="6308640"/>
              <a:ext cx="1476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4000" y="549360"/>
            <a:ext cx="2881080" cy="5157720"/>
          </a:xfrm>
          <a:prstGeom prst="rect">
            <a:avLst/>
          </a:prstGeom>
          <a:gradFill rotWithShape="0">
            <a:gsLst>
              <a:gs pos="0">
                <a:srgbClr val="60f6fa"/>
              </a:gs>
              <a:gs pos="100000">
                <a:srgbClr val="2b6f71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sarrolló las leyes de la mecá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LILE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s de la dinámica  y de la est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scubrió el magnet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SEND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udió la lu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ey de refracción de la lu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ICELL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sión atmosférica y PASCAL, demostraron la existencia del vací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348000" y="549360"/>
            <a:ext cx="2570040" cy="2527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1333800" cy="2000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32200" y="438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203640" y="3068640"/>
            <a:ext cx="3065400" cy="3600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012000" y="404640"/>
            <a:ext cx="2881080" cy="36316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37345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ÍM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 HELMONT, ROBERT BOYLE Y HOOK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an y descomponen gases.  Surgen los primeros estudios sobre el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K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eció las ley de elasticidad de los g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53440" cy="718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AVANCES Y APLICACIONES T</a:t>
            </a: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ÉC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4800600"/>
            <a:ext cx="220968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lescopi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entado por LIPPERSH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5280" y="1197000"/>
            <a:ext cx="8310600" cy="5131440"/>
            <a:chOff x="395280" y="1197000"/>
            <a:chExt cx="8310600" cy="5131440"/>
          </a:xfrm>
        </p:grpSpPr>
        <p:sp>
          <p:nvSpPr>
            <p:cNvPr id="203" name=""/>
            <p:cNvSpPr/>
            <p:nvPr/>
          </p:nvSpPr>
          <p:spPr>
            <a:xfrm>
              <a:off x="468360" y="5229360"/>
              <a:ext cx="28954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linos de viento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empleado en la fabricación de papel, creado por HOLLAN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92360" y="5229360"/>
              <a:ext cx="284184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oj de péndulo,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ventado por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el relojero Christian Huygens. Esto ocurrió, en el siglo XVII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6516720" y="1916280"/>
              <a:ext cx="2189160" cy="22860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395280" y="1197000"/>
              <a:ext cx="2976480" cy="39686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3564000" y="1197000"/>
              <a:ext cx="2536920" cy="396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140360" cy="2566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826920" y="3933720"/>
            <a:ext cx="27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ibote holandé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e mayor velocidad que el galeón del siglo X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500720" y="620640"/>
            <a:ext cx="4103640" cy="307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4427640" y="407664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RNOS DE REVERBER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e gran trascendencia para la metalurgia y la cristal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CIENCIA EN LA ILUST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1125360"/>
            <a:ext cx="61912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EN LA NATURALEZA NADA SE CREA NI SE DESTRUYE, SINO SÓLO SE TRANSFORMA” 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(Lavois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981840" y="981000"/>
            <a:ext cx="1324080" cy="1727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684360" y="21337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 mentalidad ilustrada valoró los progresos del conocimiento científico de la natur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285264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tribuye notablemente a ello la creación de la Enciclope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763640" y="3860640"/>
            <a:ext cx="2592360" cy="2225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724360" y="2852640"/>
            <a:ext cx="2603520" cy="400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4356000" y="4797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50920" y="476280"/>
            <a:ext cx="8497800" cy="6143400"/>
            <a:chOff x="250920" y="476280"/>
            <a:chExt cx="8497800" cy="6143400"/>
          </a:xfrm>
        </p:grpSpPr>
        <p:sp>
          <p:nvSpPr>
            <p:cNvPr id="224" name=""/>
            <p:cNvSpPr/>
            <p:nvPr/>
          </p:nvSpPr>
          <p:spPr>
            <a:xfrm>
              <a:off x="250920" y="476280"/>
              <a:ext cx="2592360" cy="2248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ÍMIC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VOISI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postula los principios fundamentales de la nueva ciencia. Se sintetizan los elementos del agu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3640" y="4724280"/>
              <a:ext cx="2592360" cy="1842840"/>
            </a:xfrm>
            <a:prstGeom prst="rect">
              <a:avLst/>
            </a:prstGeom>
            <a:gradFill rotWithShape="0">
              <a:gsLst>
                <a:gs pos="0">
                  <a:srgbClr val="60f6fa"/>
                </a:gs>
                <a:gs pos="100000">
                  <a:srgbClr val="2c7173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ÍSIC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ULOM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establece las leyes electromagnétic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nventa la pil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0920" y="2924280"/>
              <a:ext cx="2592360" cy="3631680"/>
            </a:xfrm>
            <a:prstGeom prst="rect">
              <a:avLst/>
            </a:prstGeom>
            <a:gradFill rotWithShape="0">
              <a:gsLst>
                <a:gs pos="0">
                  <a:srgbClr val="c5dcf7"/>
                </a:gs>
                <a:gs pos="100000">
                  <a:srgbClr val="5a6571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TRONOMÍ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SCHE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descubrió el planeta Uran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PLAC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Sintetiza los conocimientos desarrollados en astronomía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O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y otros, demuestran que la tierra es achatada en los pol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360" y="549360"/>
              <a:ext cx="2592360" cy="2248560"/>
            </a:xfrm>
            <a:prstGeom prst="rect">
              <a:avLst/>
            </a:prstGeom>
            <a:gradFill rotWithShape="0">
              <a:gsLst>
                <a:gs pos="0">
                  <a:srgbClr val="ddd1c1"/>
                </a:gs>
                <a:gs pos="100000">
                  <a:srgbClr val="656058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DICIN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ENN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descubre la vacuna contra la viruela. Desarrollo de la anatomía patológica  y de la histología (estudio de los tejidos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56360" y="4005360"/>
              <a:ext cx="2592360" cy="2614320"/>
            </a:xfrm>
            <a:prstGeom prst="rect">
              <a:avLst/>
            </a:prstGeom>
            <a:gradFill rotWithShape="0">
              <a:gsLst>
                <a:gs pos="0">
                  <a:srgbClr val="b0e593"/>
                </a:gs>
                <a:gs pos="100000">
                  <a:srgbClr val="516943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ZOOLOGÍA Y BOTÁNIC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FÓN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ublicó su “Historia Natural”, en la que se describe la las especies vegetales y animales conocidas en la époc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76720" y="1628640"/>
              <a:ext cx="2808000" cy="2519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92360" y="2060640"/>
              <a:ext cx="2376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VANCES DE LA CIENCIA DURANTE LA ILUST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843280" y="1484280"/>
              <a:ext cx="720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842920" y="3645000"/>
              <a:ext cx="576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508720" y="1413000"/>
              <a:ext cx="647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0" y="42210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6000" y="371628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8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En s</a:t>
            </a: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íntes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219320"/>
            <a:ext cx="69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Éstos son los temas que estudiamos ho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38080" y="1752480"/>
            <a:ext cx="7467840" cy="4191120"/>
            <a:chOff x="838080" y="1752480"/>
            <a:chExt cx="7467840" cy="4191120"/>
          </a:xfrm>
        </p:grpSpPr>
        <p:sp>
          <p:nvSpPr>
            <p:cNvPr id="239" name=""/>
            <p:cNvSpPr/>
            <p:nvPr/>
          </p:nvSpPr>
          <p:spPr>
            <a:xfrm>
              <a:off x="838080" y="3352680"/>
              <a:ext cx="2667240" cy="914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c8a07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cubrimient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ientíf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057400" y="20570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57400" y="20574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10080" y="1752480"/>
              <a:ext cx="2895840" cy="8384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b8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revolu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pernica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05320" y="38098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81080" y="42670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81080" y="54100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10080" y="3276720"/>
              <a:ext cx="2895840" cy="9144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irismo 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cionalis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57800" y="4800600"/>
              <a:ext cx="3048120" cy="114300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5e46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ísica, matemática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stronomía, óptica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químic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gradFill rotWithShape="0">
            <a:gsLst>
              <a:gs pos="0">
                <a:srgbClr val="ecb76a"/>
              </a:gs>
              <a:gs pos="100000">
                <a:srgbClr val="6c5430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AHORA TRABAJEMOS CON LA GUÍA HU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RECUERDA LO QUE ESTUDIAMOS LA CLASE ANTERIOR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09480" y="1523880"/>
            <a:ext cx="7320240" cy="3619800"/>
            <a:chOff x="609480" y="1523880"/>
            <a:chExt cx="7320240" cy="3619800"/>
          </a:xfrm>
        </p:grpSpPr>
        <p:sp>
          <p:nvSpPr>
            <p:cNvPr id="97" name=""/>
            <p:cNvSpPr/>
            <p:nvPr/>
          </p:nvSpPr>
          <p:spPr>
            <a:xfrm>
              <a:off x="609480" y="2743200"/>
              <a:ext cx="3124440" cy="99072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755e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amiento y a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dern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1320" y="1523880"/>
              <a:ext cx="2057400" cy="10670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umanis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nacenti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6000" y="2924280"/>
              <a:ext cx="2057400" cy="6858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rro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6000" y="4076640"/>
              <a:ext cx="2133720" cy="10670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5e75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asicismo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lust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33920" y="32004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81480" y="21337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8148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81480" y="3200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814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6920" y="15573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ESTUDIAMOS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4360" y="407520"/>
            <a:ext cx="8280360" cy="1067400"/>
          </a:xfrm>
          <a:prstGeom prst="rect">
            <a:avLst/>
          </a:prstGeom>
          <a:solidFill>
            <a:srgbClr val="f4d6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. En el siguiente diagrama falta un concepto importante que respon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un movimiento que fue desarrollado durante el Renacimiento y que sentó las bases de la ciencia moderna.   El término en cuestión corresponde a una corriente de pensamiento denomina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916360" y="1700280"/>
            <a:ext cx="5600520" cy="1896840"/>
            <a:chOff x="2916360" y="1700280"/>
            <a:chExt cx="5600520" cy="1896840"/>
          </a:xfrm>
        </p:grpSpPr>
        <p:sp>
          <p:nvSpPr>
            <p:cNvPr id="253" name=""/>
            <p:cNvSpPr/>
            <p:nvPr/>
          </p:nvSpPr>
          <p:spPr>
            <a:xfrm>
              <a:off x="2916360" y="1700280"/>
              <a:ext cx="1485720" cy="342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losofía cartesiana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16680" y="2682720"/>
              <a:ext cx="1371600" cy="296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uda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30480" y="2614680"/>
              <a:ext cx="1371600" cy="37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istencia de D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16680" y="1700280"/>
              <a:ext cx="160020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úsqueda conocimiento y ver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16480" y="3254400"/>
              <a:ext cx="799920" cy="342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gla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87880" y="2043000"/>
              <a:ext cx="1143000" cy="571320"/>
            </a:xfrm>
            <a:prstGeom prst="wedgeEllipseCallout">
              <a:avLst>
                <a:gd name="adj1" fmla="val -13722"/>
                <a:gd name="adj2" fmla="val -24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16760" y="2500560"/>
              <a:ext cx="7999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116760" y="1928880"/>
              <a:ext cx="7999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4402080" y="1814400"/>
              <a:ext cx="7999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402080" y="2500560"/>
              <a:ext cx="7999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59560" y="261468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86520" y="2439720"/>
            <a:ext cx="26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Arial"/>
              <a:buAutoNum type="alphaUcParenR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Empir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Arial"/>
              <a:buAutoNum type="alphaUcParenR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Rac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Arial"/>
              <a:buAutoNum type="alphaUcParenR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Natur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Arial"/>
              <a:buAutoNum type="alphaUcParenR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Existen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Arial"/>
              <a:buAutoNum type="alphaUcParenR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Ilu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4653000"/>
            <a:ext cx="842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8. La clave correcta es B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egunta de aplicación. El Racionalismo,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ponde a la utilización de la razón en la búsqueda de la verdad, fue una forma de alcanzar el conocimiento planteada por René Descartes y que desarrolla en su obra cúlmin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“El Discurso del Méto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”. En oposición al racionalismo, surge el empirismo, postulado por Bacon, que plantea que todo conocimiento debe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jeto a la demostración empírica. Por su parte, las claves restantes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sponden por ser atem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74600"/>
            <a:ext cx="9144000" cy="6677640"/>
          </a:xfrm>
          <a:prstGeom prst="rect">
            <a:avLst/>
          </a:prstGeom>
          <a:solidFill>
            <a:srgbClr val="f4d6a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. Los fundamentos que señala Descartes en su “Discurso del Método” se pueden resumir en los siguientes  fundamentos bajo  cuatro princip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primero consistía en no admitir jamás cosa alguna como verdadera sin haber conocido con evidencia que así era (…).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segundo, en dividir cada una de las dificultades examinar en tantas partes como fuera posible y necesario para su mejor solución.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tercero, en conducir con orden mis pensamientos, empezando por los objetos más simples y más fáciles de conocer, para ascender poco a poco, gradualmente, hasta el conocimiento de los más complejos (…).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 el último, en hacer en todo enumeraciones tan completas y revisiones tan amplias, que llegase a estar seguro de no haber omitido nada.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tracto del discurso del Método, Desc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relación a lo leído más sus conocimientos, se puede establecer como correcta la(s) siguiente(s) afirmación(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.  La única verdad es la realmente observable y medida a través de la exper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I. Se debe utilizar el análisis como base para la construcción de un nuevo cono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I. Se debe partir conociendo desde lo particular a lo gen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Sól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Sól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Sólo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) Sólo I y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) Sólo I, II y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5280" y="134136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9. La clave correcta es B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gunta de análisis. El enunciado I no corresp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es Descartes plantea en su obra los principios del racionalismo por sobre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pirismo. Por su parte, el enunciado III hace referencia al método inductiv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ario al deductivismo que postula el pensador europeo. Finalmente, sólo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unciado II coincide con el planteamiento de la obra cumbre de Desc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333360"/>
            <a:ext cx="8713800" cy="2562840"/>
          </a:xfrm>
          <a:prstGeom prst="rect">
            <a:avLst/>
          </a:prstGeom>
          <a:solidFill>
            <a:srgbClr val="f4d6a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La Época Moderna fue una época de cambios económicos, sociales y culturales. Desde el punto de vista cultural, ¿cuál fue la principal transformación de la Época Moderna, en relación con lo que había ocurrido en Europa hasta ento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Decadencia del espíritu religioso y la crisis final del Cristi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Desarrollo del conocimiento científico y sus aplicaciones téc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Consolidación de la influencia cultural árabe y ori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Sincretismo entre las lenguas europeas y las america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 Consolidación del pensamiento escolá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314172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 La clave correcta es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regunta de comprensión. Durante la Ép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na se verifica el despegue de la civilización europea de sus infl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ales orientales, observables hasta el Humanismo, y el desarrollo de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 de conocimiento científico, verdaderamente original. Las alternativas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as: A, porque el Cristianismo se universaliza, gracias a los descubr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áficos europeos; C, porque es contraria implícitamente a A; D, ya que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tible que este sincretismo, verificado indudablemente en América, haya 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una influencia en Europa en la Época Moderna, como lo exige el encabezado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, más bien ocurrió lo contrario, ya que el pensamiento escolástico comenzó a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ado con el racionalismo cartesiano (siglo XVI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2050920" y="692280"/>
          <a:ext cx="4176720" cy="586080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"/>
          <p:cNvSpPr/>
          <p:nvPr/>
        </p:nvSpPr>
        <p:spPr>
          <a:xfrm>
            <a:off x="2195640" y="2602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REVISEMOS LA GUÍA HU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3384360" cy="4896000"/>
          </a:xfrm>
          <a:prstGeom prst="rect">
            <a:avLst/>
          </a:prstGeom>
          <a:gradFill rotWithShape="0">
            <a:gsLst>
              <a:gs pos="0">
                <a:srgbClr val="8898ab"/>
              </a:gs>
              <a:gs pos="100000">
                <a:srgbClr val="c5dcf7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uptura de la unidad religiosa: Reforma y Contrarreforma; secularización de la vida social y cul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olicismo/ Protestant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oción Mod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a estos contenidos con la ayuda de tu libro (páginas 155 a 1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firstslide"/>
          </p:cNvPr>
          <p:cNvSpPr/>
          <p:nvPr/>
        </p:nvSpPr>
        <p:spPr>
          <a:xfrm>
            <a:off x="7956720" y="5634000"/>
            <a:ext cx="1008000" cy="1224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224000"/>
              <a:gd name="textAreaBottom" fmla="*/ 1158840 h 1224000"/>
            </a:gdLst>
            <a:ahLst/>
            <a:rect l="textAreaLeft" t="textAreaTop" r="textAreaRight" b="textAreaBottom"/>
            <a:pathLst>
              <a:path w="21600" h="26227">
                <a:moveTo>
                  <a:pt x="0" y="0"/>
                </a:moveTo>
                <a:lnTo>
                  <a:pt x="21600" y="0"/>
                </a:lnTo>
                <a:lnTo>
                  <a:pt x="21600" y="26227"/>
                </a:lnTo>
                <a:lnTo>
                  <a:pt x="0" y="26227"/>
                </a:lnTo>
                <a:close/>
              </a:path>
              <a:path fill="lightenLess" w="21600" h="262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27">
                <a:moveTo>
                  <a:pt x="21600" y="0"/>
                </a:moveTo>
                <a:lnTo>
                  <a:pt x="21600" y="26227"/>
                </a:lnTo>
                <a:lnTo>
                  <a:pt x="20200" y="24827"/>
                </a:lnTo>
                <a:lnTo>
                  <a:pt x="20200" y="1400"/>
                </a:lnTo>
                <a:close/>
              </a:path>
              <a:path fill="darkenLess" w="21600" h="26227">
                <a:moveTo>
                  <a:pt x="21600" y="26227"/>
                </a:moveTo>
                <a:lnTo>
                  <a:pt x="0" y="26227"/>
                </a:lnTo>
                <a:lnTo>
                  <a:pt x="1400" y="24827"/>
                </a:lnTo>
                <a:lnTo>
                  <a:pt x="20200" y="24827"/>
                </a:lnTo>
                <a:close/>
              </a:path>
              <a:path fill="lighten" w="21600" h="26227">
                <a:moveTo>
                  <a:pt x="0" y="262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27"/>
                </a:lnTo>
                <a:close/>
              </a:path>
              <a:path fill="darken" w="21600" h="26227">
                <a:moveTo>
                  <a:pt x="10800" y="6150"/>
                </a:moveTo>
                <a:lnTo>
                  <a:pt x="13376" y="8762"/>
                </a:lnTo>
                <a:lnTo>
                  <a:pt x="13376" y="7021"/>
                </a:lnTo>
                <a:lnTo>
                  <a:pt x="15152" y="7021"/>
                </a:lnTo>
                <a:lnTo>
                  <a:pt x="15152" y="10537"/>
                </a:lnTo>
                <a:lnTo>
                  <a:pt x="17763" y="13113"/>
                </a:lnTo>
                <a:lnTo>
                  <a:pt x="16109" y="13113"/>
                </a:lnTo>
                <a:lnTo>
                  <a:pt x="16109" y="20303"/>
                </a:lnTo>
                <a:lnTo>
                  <a:pt x="5491" y="20303"/>
                </a:lnTo>
                <a:lnTo>
                  <a:pt x="5491" y="13113"/>
                </a:lnTo>
                <a:lnTo>
                  <a:pt x="3837" y="13113"/>
                </a:lnTo>
                <a:close/>
              </a:path>
              <a:path fill="darkenLess" w="21600" h="26227">
                <a:moveTo>
                  <a:pt x="13376" y="8762"/>
                </a:moveTo>
                <a:lnTo>
                  <a:pt x="13376" y="7021"/>
                </a:lnTo>
                <a:lnTo>
                  <a:pt x="15152" y="7021"/>
                </a:lnTo>
                <a:lnTo>
                  <a:pt x="15152" y="10537"/>
                </a:lnTo>
                <a:close/>
              </a:path>
              <a:path fill="darkenLess" w="21600" h="26227">
                <a:moveTo>
                  <a:pt x="9877" y="16612"/>
                </a:moveTo>
                <a:lnTo>
                  <a:pt x="11723" y="16612"/>
                </a:lnTo>
                <a:lnTo>
                  <a:pt x="11723" y="20303"/>
                </a:lnTo>
                <a:lnTo>
                  <a:pt x="16109" y="20303"/>
                </a:lnTo>
                <a:lnTo>
                  <a:pt x="16109" y="13113"/>
                </a:lnTo>
                <a:lnTo>
                  <a:pt x="5491" y="13113"/>
                </a:lnTo>
                <a:lnTo>
                  <a:pt x="5491" y="20303"/>
                </a:lnTo>
                <a:lnTo>
                  <a:pt x="9877" y="20303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356000" y="1341360"/>
            <a:ext cx="3810240" cy="4102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40360" y="1197000"/>
            <a:ext cx="4824360" cy="51116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8db1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conocer como uno de los ras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l período la audacia y el espíritu emprendedor que se manifiesta en la conquista territorial, en el arte, el pensamiento y las costumbres, y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rgimiento del método como herramienta de cono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conocer al ser humano como el creador de la sociedad y de sus relaciones, consider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gros como el espíritu crítico e indagador que se traduce en una relación nueva con la natur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 tu libro estos  contenidos están  desde la página 131 hasta la 13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197000"/>
            <a:ext cx="3816360" cy="511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a9a9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s descubrimientos científico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 los siglos XVI al XVIII y sus efectos en la vida material y cultural de Europa, considerando los cambios en la vida cotidiana y en las visiones de mun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 concepto d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razó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” y discusión sobre sus efectos en el mundo mod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ir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zón/ Racion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étodo científ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3213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5118120" cy="666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45000" y="1103328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545000" y="1103328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545000" y="110332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56360" y="2708280"/>
            <a:ext cx="34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Lo que sabemos es una gota de agua; lo que ignoramos es el océano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Isaac New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126828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Si he hecho descubrimientos invaluables ha sido más por tener paciencia que cualqu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tro talento.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CIENCIA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Y TÉCNICA EN LA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MODERN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1413000"/>
            <a:ext cx="860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 uno de los procesos claves del período,  Si bien nace bajo la influencia  de las obras grecolatinas y bajo la influencia del pensamiento científico hebreo y árabe medieval, termina rompiendo con ellos para forjar un pensamiento científico europ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2997360"/>
            <a:ext cx="3313080" cy="1465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parece el concepto de ingeniero artista, hombre que posee la técnica y desarrolla la sensibilidad artís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59280" y="2492280"/>
            <a:ext cx="3198960" cy="4057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116000" y="4941720"/>
            <a:ext cx="3456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bre de inteligencia enciclopédica que lo llevó a explorar áreas como la física, la anatomía, la ciencia experimental y los artificios mecán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CIENCIA Y TÉCNICA EN EL RENACIMIEN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484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 todos los aportes renacentistas, el científico es el más irregular y el de menor desarrollo.  Sin embargo, tres ámbitos se destacar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24000" y="2565360"/>
            <a:ext cx="2592360" cy="4100400"/>
            <a:chOff x="324000" y="2565360"/>
            <a:chExt cx="2592360" cy="4100400"/>
          </a:xfrm>
        </p:grpSpPr>
        <p:sp>
          <p:nvSpPr>
            <p:cNvPr id="131" name=""/>
            <p:cNvSpPr/>
            <p:nvPr/>
          </p:nvSpPr>
          <p:spPr>
            <a:xfrm>
              <a:off x="468360" y="2565360"/>
              <a:ext cx="2305080" cy="12254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1280" y="292428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TEM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4000" y="4508640"/>
              <a:ext cx="2592360" cy="2157120"/>
            </a:xfrm>
            <a:prstGeom prst="rect">
              <a:avLst/>
            </a:prstGeom>
            <a:solidFill>
              <a:srgbClr val="aae67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Difusión de los clásicos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Euclides, Arquímides, Eratóstenes, Ptolomeo. Desarrollo del álgebra y la trigonomet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47640" y="378936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771640" y="2565360"/>
            <a:ext cx="3024360" cy="3134520"/>
            <a:chOff x="2771640" y="2565360"/>
            <a:chExt cx="3024360" cy="3134520"/>
          </a:xfrm>
        </p:grpSpPr>
        <p:sp>
          <p:nvSpPr>
            <p:cNvPr id="136" name=""/>
            <p:cNvSpPr/>
            <p:nvPr/>
          </p:nvSpPr>
          <p:spPr>
            <a:xfrm>
              <a:off x="3276720" y="2565360"/>
              <a:ext cx="2305080" cy="1225440"/>
            </a:xfrm>
            <a:prstGeom prst="ellips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64000" y="292428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DIC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71640" y="306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03640" y="4508640"/>
              <a:ext cx="2592360" cy="1191240"/>
            </a:xfrm>
            <a:prstGeom prst="rect">
              <a:avLst/>
            </a:prstGeom>
            <a:solidFill>
              <a:srgbClr val="87ddd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Vesalio funda las bases de la anatomía moderna, sustentada en la observ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00720" y="378936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580000" y="2565360"/>
            <a:ext cx="3024360" cy="3683160"/>
            <a:chOff x="5580000" y="2565360"/>
            <a:chExt cx="3024360" cy="3683160"/>
          </a:xfrm>
        </p:grpSpPr>
        <p:sp>
          <p:nvSpPr>
            <p:cNvPr id="142" name=""/>
            <p:cNvSpPr/>
            <p:nvPr/>
          </p:nvSpPr>
          <p:spPr>
            <a:xfrm>
              <a:off x="6012000" y="2565360"/>
              <a:ext cx="2305080" cy="1225440"/>
            </a:xfrm>
            <a:prstGeom prst="ellipse">
              <a:avLst/>
            </a:prstGeom>
            <a:gradFill rotWithShape="0">
              <a:gsLst>
                <a:gs pos="0">
                  <a:srgbClr val="fa9258"/>
                </a:gs>
                <a:gs pos="100000">
                  <a:srgbClr val="73432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12000" y="2924280"/>
              <a:ext cx="25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TRONOM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0000" y="3068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2000" y="4508640"/>
              <a:ext cx="2592360" cy="1739880"/>
            </a:xfrm>
            <a:prstGeom prst="rect">
              <a:avLst/>
            </a:prstGeom>
            <a:solidFill>
              <a:srgbClr val="f6daa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eoría Heliocéntricas de Nicolás Copérnico: el centro del Universo era el sol  y la tierra gira en torno a é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378936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La ciencia renacentista: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La revolución copern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50920" y="1197000"/>
            <a:ext cx="8704080" cy="5033880"/>
            <a:chOff x="250920" y="1197000"/>
            <a:chExt cx="8704080" cy="5033880"/>
          </a:xfrm>
        </p:grpSpPr>
        <p:sp>
          <p:nvSpPr>
            <p:cNvPr id="149" name=""/>
            <p:cNvSpPr/>
            <p:nvPr/>
          </p:nvSpPr>
          <p:spPr>
            <a:xfrm>
              <a:off x="3059280" y="2060640"/>
              <a:ext cx="2447640" cy="119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pérnico y el paradigma heliocéntric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867280" y="1197000"/>
              <a:ext cx="3087720" cy="5013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250920" y="1700280"/>
              <a:ext cx="2423880" cy="37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"/>
            <a:stretch/>
          </p:blipFill>
          <p:spPr>
            <a:xfrm>
              <a:off x="2843280" y="3860640"/>
              <a:ext cx="2808360" cy="237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07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Bookman Old Style"/>
              </a:rPr>
              <a:t>Desarrollo Técni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197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ámbitos más favorecidos con los avances técnicos del período  corresponden 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73360"/>
            <a:ext cx="4103640" cy="2665800"/>
          </a:xfrm>
          <a:prstGeom prst="rect">
            <a:avLst/>
          </a:prstGeom>
          <a:solidFill>
            <a:srgbClr val="cc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MUNDO MILIT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s técnicas de guerra, ingeniería y arquitectura militar tuvieron una notable expa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arec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s armas de fuego individuales como  el mosque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ayudado por las nuevas técnicas de fundición de hier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135240" cy="4797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4103640" cy="1971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9" name=""/>
          <p:cNvSpPr/>
          <p:nvPr/>
        </p:nvSpPr>
        <p:spPr>
          <a:xfrm flipV="1">
            <a:off x="3995640" y="2276640"/>
            <a:ext cx="158436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9280" y="549360"/>
            <a:ext cx="5040360" cy="1425600"/>
          </a:xfrm>
          <a:prstGeom prst="rect">
            <a:avLst/>
          </a:prstGeom>
          <a:solidFill>
            <a:srgbClr val="f4d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ARTES DE NAVEG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specialmente la cartografía.  Nacen en esta época el primer mapamundi de proyección cilíndrica (modelo Merc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2381400" cy="2629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4319280" cy="310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4081320" cy="3132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020000" y="2565360"/>
            <a:ext cx="212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reador de la proyección de Mercator, el flamenco Gerhard Kresser (152-15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06-03T04:25:28Z</dcterms:modified>
  <cp:revision>46</cp:revision>
  <dc:subject/>
  <dc:title>Diapositiva 1</dc:title>
</cp:coreProperties>
</file>