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5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087-527F-4266-9D2C-4966005377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imagen corresponde a Isaac Newton y, el dibujo corresponde a una caricatura en la que se ilustra cómo se llegó a la ley de gravitación univers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importante agregar que, con la excep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molino de viento, estas aplicaciones técnicas y muchas otras, resultaron en artefactos individuales y no en producciones masivas (como en la Revolución Industrial). En todo caso, significaron un importante paso hacia el proceso de innovaciones técnicas que caracterizó a la Revolución Indus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magen superior corresponde a Lavoisier, las inferiores a Diderot y Dalambert, creadores de la Enciclop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E28F-4BC2-4407-AAE6-42D9FFC1E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3ED8-08FB-47B3-B798-735A4D3A0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6F26-44DB-4946-A960-7083488B8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BFD0-20CA-440D-A389-CAA83B8C1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47F48-348A-4906-AF3E-51EC078A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5649F-ACB1-4840-AB3D-B17A2984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07D1A-94F8-4EE9-A677-55C775D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1127A-3BFF-42C3-9819-A7D72F60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90B48-D452-40F6-B9F0-19A6CEE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927CC-0AB9-46FA-8616-4DC88933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33DA-0030-466B-A183-84BB640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C86C-A3F0-4200-810B-D07140708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87D18-BC54-4C13-9FD2-99444EC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4FD6E-3D46-4B93-83BE-69DCD1F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9492F-CBCF-4DB8-B512-EE53177C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8D542-CEC5-4BDE-A17A-F3DBC4D7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D2C6A-3E0A-441D-9A4D-0DCB08FE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D2FA-C73D-49EF-8B17-FAC7AA2D5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3E61-D1B9-4B71-8311-A3FBA8BE5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461E-8D2E-4CCD-917B-EC42D77AE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EA22-2FCA-455D-9D95-9F19C03AF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16F3-CEE7-488A-A92D-5B12E2FAE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B7B3-357C-4140-B85E-17E95F085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412A-93C4-4FF4-A0C3-08BFC682F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44D9-4250-40BC-8073-6A9A31747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429D-6312-40C0-8DFE-74B24066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82560" y="836640"/>
            <a:ext cx="7561440" cy="1944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12: </a:t>
            </a:r>
            <a:br>
              <a:rPr sz="40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DESCUBRIMIENTOS CIENT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FICOS.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Ciencia y Técnica en el Renacimiento.</a:t>
            </a:r>
            <a:r>
              <a:rPr b="0" i="1" lang="es-ES_tradnl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2828880" cy="3860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257440" y="4876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ogito, ergo sum” (Ren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scar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260280"/>
            <a:ext cx="5040000" cy="1151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0d07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EXPLOTACIONES MI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tacó George Bauer con su libro De res metallica (155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672000" cy="25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33940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0920" y="2421000"/>
            <a:ext cx="5040360" cy="1425600"/>
          </a:xfrm>
          <a:prstGeom prst="rect">
            <a:avLst/>
          </a:prstGeom>
          <a:solidFill>
            <a:srgbClr val="b0e5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AGRI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 el aprovechamiento energético del agua y del viento gracias al desarrollo de molinos de papel y de har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724360" y="189000"/>
            <a:ext cx="2795760" cy="253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REVOLUCIÓN CIENT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RACIONALISTA  DE LA ÉPOCA DEL BARR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19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ckam y Della Mirandola constituyen las bases sobre la que se construyó el pensamiento barr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916280"/>
            <a:ext cx="25196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IS BAC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 su obra “Nova Atlantis” y “Nova Organum”, plantea las bases de la ciencia moderna al postular que no existe verdad antes de su demostración empí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24280"/>
            <a:ext cx="252108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OHN LOCK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 su obra “Ensayo sobre el entendimiento humano”, sistematiza las ideas de Ba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2133720"/>
            <a:ext cx="2664000" cy="338580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NE DESCARTES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ntó las bases del racionalismo moderno aplicando el método deductivo para postular en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discurso del Mét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, la duda metódica. Lo único que no se puede dudar es el hecho de estar pensando “cogito ergo sum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205000"/>
            <a:ext cx="504720" cy="3706200"/>
          </a:xfrm>
          <a:prstGeom prst="rect">
            <a:avLst/>
          </a:prstGeom>
          <a:gradFill rotWithShape="0">
            <a:gsLst>
              <a:gs pos="0">
                <a:srgbClr val="f7fb4b"/>
              </a:gs>
              <a:gs pos="100000">
                <a:srgbClr val="a4a63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1700280"/>
            <a:ext cx="503280" cy="4957920"/>
          </a:xfrm>
          <a:prstGeom prst="rect">
            <a:avLst/>
          </a:prstGeom>
          <a:gradFill rotWithShape="0">
            <a:gsLst>
              <a:gs pos="0">
                <a:srgbClr val="f4d6aa"/>
              </a:gs>
              <a:gs pos="100000">
                <a:srgbClr val="d5bb9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2349360"/>
            <a:ext cx="503280" cy="3456000"/>
          </a:xfrm>
          <a:custGeom>
            <a:avLst/>
            <a:gdLst>
              <a:gd name="textAreaLeft" fmla="*/ 0 w 503280"/>
              <a:gd name="textAreaRight" fmla="*/ 181800 w 5032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2205000"/>
            <a:ext cx="287280" cy="31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633760"/>
            <a:ext cx="826920" cy="85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82692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150920" cy="113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LA REVOLUCIÓN CIENTÍF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197000"/>
            <a:ext cx="8280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puede situar cronológicamente en el medio siglo que transcurrió entre el “DISCURSO DEL MÉTODO”, de Descartes y los “PRINCIPIA”, de Sir Isaac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2133720"/>
            <a:ext cx="8820000" cy="4724280"/>
            <a:chOff x="0" y="2133720"/>
            <a:chExt cx="8820000" cy="4724280"/>
          </a:xfrm>
        </p:grpSpPr>
        <p:sp>
          <p:nvSpPr>
            <p:cNvPr id="186" name=""/>
            <p:cNvSpPr/>
            <p:nvPr/>
          </p:nvSpPr>
          <p:spPr>
            <a:xfrm>
              <a:off x="539640" y="2637000"/>
              <a:ext cx="2592360" cy="253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TRONOMÍ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EPL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Leyes de movimientos orbital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LILE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Teoría Heliocéntr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T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ley de gravitación Univers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19640" y="2637000"/>
              <a:ext cx="2592360" cy="3083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EMÁT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TON y LEIBNIZ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stema de rotación para cálculo integral y diferencia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I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inventa los logaritm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VIN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cálculo decim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7640" y="2637000"/>
              <a:ext cx="2592360" cy="3906000"/>
            </a:xfrm>
            <a:prstGeom prst="rect">
              <a:avLst/>
            </a:prstGeom>
            <a:gradFill rotWithShape="0">
              <a:gsLst>
                <a:gs pos="0">
                  <a:srgbClr val="5e7546"/>
                </a:gs>
                <a:gs pos="100000">
                  <a:srgbClr val="ccff99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DICIN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ARVEY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descubre la circulación mayor de la sang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LPIGH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descubre la circulación venosa y la función de los capilar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OOKE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escribe Micrographia, por primera vez se describe a la célu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692360" y="2133720"/>
              <a:ext cx="12952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24360" y="2133720"/>
              <a:ext cx="165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220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549360"/>
            <a:ext cx="2881080" cy="5157720"/>
          </a:xfrm>
          <a:prstGeom prst="rect">
            <a:avLst/>
          </a:prstGeom>
          <a:gradFill rotWithShape="0">
            <a:gsLst>
              <a:gs pos="0">
                <a:srgbClr val="60f6fa"/>
              </a:gs>
              <a:gs pos="100000">
                <a:srgbClr val="2b6f71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arrolló las leyes de la mec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ILE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s de la dinámica  y de la est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cubrió el magne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SEND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udió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y de refracción de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ICELL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ión atmosférica y PASCAL, demostraron la existencia del vací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48000" y="549360"/>
            <a:ext cx="2570040" cy="252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1333800" cy="2000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3220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3065400" cy="360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012000" y="404640"/>
            <a:ext cx="2881080" cy="3631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37345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HELMONT, ROBERT BOYLE Y HOOK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an y descomponen gases.  Surgen los primeros estudios sobre el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K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ó las ley de elasticidad de los g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718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AVANCES Y APLICACIONES T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4800600"/>
            <a:ext cx="220968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scop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ntado por LIPPERS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5280" y="1197000"/>
            <a:ext cx="8310600" cy="5131440"/>
            <a:chOff x="395280" y="1197000"/>
            <a:chExt cx="8310600" cy="5131440"/>
          </a:xfrm>
        </p:grpSpPr>
        <p:sp>
          <p:nvSpPr>
            <p:cNvPr id="203" name=""/>
            <p:cNvSpPr/>
            <p:nvPr/>
          </p:nvSpPr>
          <p:spPr>
            <a:xfrm>
              <a:off x="468360" y="5229360"/>
              <a:ext cx="2895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linos de viento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empleado en la fabricación de papel, creado por HOLLA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92360" y="5229360"/>
              <a:ext cx="284184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oj de péndulo,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ado por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el relojero Christian Huygens. Esto ocurrió, en el siglo XVII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6516720" y="1916280"/>
              <a:ext cx="2189160" cy="2286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95280" y="1197000"/>
              <a:ext cx="2976480" cy="39686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3564000" y="1197000"/>
              <a:ext cx="2536920" cy="39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140360" cy="256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826920" y="3933720"/>
            <a:ext cx="27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ibote holandé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e mayor velocidad que el galeón del siglo X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4103640" cy="307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427640" y="407664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RNOS DE REVERBER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e gran trascendencia para la metalurgia y la cristal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 EN LA ILUST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125360"/>
            <a:ext cx="6191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EN LA NATURALEZA NADA SE CREA NI SE DESTRUYE, SINO SÓLO SE TRANSFORMA” 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Bookman Old Style"/>
              </a:rPr>
              <a:t>(Lavois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81840" y="981000"/>
            <a:ext cx="1324080" cy="172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684360" y="213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entalidad ilustrada valoró los progresos del conocimiento científico d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852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ibuye notablemente a ello la creación de la Enciclop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763640" y="3860640"/>
            <a:ext cx="2592360" cy="2225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24360" y="2852640"/>
            <a:ext cx="2603520" cy="40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4356000" y="47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50920" y="476280"/>
            <a:ext cx="8497800" cy="6143400"/>
            <a:chOff x="250920" y="476280"/>
            <a:chExt cx="8497800" cy="6143400"/>
          </a:xfrm>
        </p:grpSpPr>
        <p:sp>
          <p:nvSpPr>
            <p:cNvPr id="224" name=""/>
            <p:cNvSpPr/>
            <p:nvPr/>
          </p:nvSpPr>
          <p:spPr>
            <a:xfrm>
              <a:off x="250920" y="476280"/>
              <a:ext cx="2592360" cy="224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VOISI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postula los principios fundamentales de la nueva ciencia. Se sintetizan los elementos del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724280"/>
              <a:ext cx="2592360" cy="1842840"/>
            </a:xfrm>
            <a:prstGeom prst="rect">
              <a:avLst/>
            </a:prstGeom>
            <a:gradFill rotWithShape="0">
              <a:gsLst>
                <a:gs pos="0">
                  <a:srgbClr val="60f6fa"/>
                </a:gs>
                <a:gs pos="100000">
                  <a:srgbClr val="2c7173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ÍS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LOM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establece las leyes electromagnétic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venta la pi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0920" y="2924280"/>
              <a:ext cx="2592360" cy="3631680"/>
            </a:xfrm>
            <a:prstGeom prst="rect">
              <a:avLst/>
            </a:prstGeom>
            <a:gradFill rotWithShape="0">
              <a:gsLst>
                <a:gs pos="0">
                  <a:srgbClr val="c5dcf7"/>
                </a:gs>
                <a:gs pos="100000">
                  <a:srgbClr val="5a6571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TRONOMÍ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SCHE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descubrió el planeta Ura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PLAC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intetiza los conocimientos desarrollados en astronomí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y otros, demuestran que la tierra es achatada en los pol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360" y="549360"/>
              <a:ext cx="2592360" cy="2248560"/>
            </a:xfrm>
            <a:prstGeom prst="rect">
              <a:avLst/>
            </a:prstGeom>
            <a:gradFill rotWithShape="0">
              <a:gsLst>
                <a:gs pos="0">
                  <a:srgbClr val="ddd1c1"/>
                </a:gs>
                <a:gs pos="100000">
                  <a:srgbClr val="656058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DICIN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ENN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descubre la vacuna contra la viruela. Desarrollo de la anatomía patológica  y de la histología (estudio de los tejido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56360" y="4005360"/>
              <a:ext cx="2592360" cy="2614320"/>
            </a:xfrm>
            <a:prstGeom prst="rect">
              <a:avLst/>
            </a:prstGeom>
            <a:gradFill rotWithShape="0">
              <a:gsLst>
                <a:gs pos="0">
                  <a:srgbClr val="b0e593"/>
                </a:gs>
                <a:gs pos="100000">
                  <a:srgbClr val="516943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OOLOGÍA Y BOTÁN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ÓN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ublicó su “Historia Natural”, en la que se describe la las especies vegetales y animales conocidas en la épo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6720" y="1628640"/>
              <a:ext cx="2808000" cy="2519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2360" y="2060640"/>
              <a:ext cx="237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VANCES DE LA CIENCIA DURANTE LA ILUST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843280" y="148428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842920" y="364500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508720" y="1413000"/>
              <a:ext cx="64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0" y="4221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6000" y="3716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8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En s</a:t>
            </a: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ínte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219320"/>
            <a:ext cx="69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Éstos son los temas que estudiamos ho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1752480"/>
            <a:ext cx="7467840" cy="4191120"/>
            <a:chOff x="838080" y="1752480"/>
            <a:chExt cx="7467840" cy="4191120"/>
          </a:xfrm>
        </p:grpSpPr>
        <p:sp>
          <p:nvSpPr>
            <p:cNvPr id="239" name=""/>
            <p:cNvSpPr/>
            <p:nvPr/>
          </p:nvSpPr>
          <p:spPr>
            <a:xfrm>
              <a:off x="838080" y="3352680"/>
              <a:ext cx="2667240" cy="914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c8a07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cubrimi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ientíf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057400" y="20570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7400" y="20574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0080" y="1752480"/>
              <a:ext cx="2895840" cy="8384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b8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revolu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ernic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05320" y="3809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4267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0080" y="3276720"/>
              <a:ext cx="2895840" cy="914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irismo 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cionali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4800600"/>
              <a:ext cx="3048120" cy="114300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5e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ísica, matemátic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stronomía, óptic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químic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gradFill rotWithShape="0">
            <a:gsLst>
              <a:gs pos="0">
                <a:srgbClr val="ecb76a"/>
              </a:gs>
              <a:gs pos="100000">
                <a:srgbClr val="6c5430"/>
              </a:gs>
            </a:gsLst>
            <a:lin ang="81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AHORA TRABAJEMOS CON LA GUÍA HU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RECUERDA LO QUE ESTUDIAMOS LA CLASE ANTERIOR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1523880"/>
            <a:ext cx="7320240" cy="3619800"/>
            <a:chOff x="609480" y="1523880"/>
            <a:chExt cx="7320240" cy="3619800"/>
          </a:xfrm>
        </p:grpSpPr>
        <p:sp>
          <p:nvSpPr>
            <p:cNvPr id="97" name=""/>
            <p:cNvSpPr/>
            <p:nvPr/>
          </p:nvSpPr>
          <p:spPr>
            <a:xfrm>
              <a:off x="609480" y="2743200"/>
              <a:ext cx="3124440" cy="99072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75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amiento y 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r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1523880"/>
              <a:ext cx="2057400" cy="10670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umani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nacent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2924280"/>
              <a:ext cx="2057400" cy="6858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rro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6000" y="4076640"/>
              <a:ext cx="2133720" cy="10670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e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icismo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lust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3920" y="32004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1480" y="21337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32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14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920" y="1557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STUDIAMOS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4360" y="407520"/>
            <a:ext cx="8280360" cy="1067400"/>
          </a:xfrm>
          <a:prstGeom prst="rect">
            <a:avLst/>
          </a:prstGeom>
          <a:solidFill>
            <a:srgbClr val="f4d6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. En el siguiente diagrama falta un concepto importante que respo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un movimiento que fue desarrollado durante el Renacimiento y que sentó las bases de la ciencia moderna.   El término en cuestión corresponde a una corriente de pensamiento denomina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916360" y="1700280"/>
            <a:ext cx="5600520" cy="1896840"/>
            <a:chOff x="2916360" y="1700280"/>
            <a:chExt cx="5600520" cy="1896840"/>
          </a:xfrm>
        </p:grpSpPr>
        <p:sp>
          <p:nvSpPr>
            <p:cNvPr id="253" name=""/>
            <p:cNvSpPr/>
            <p:nvPr/>
          </p:nvSpPr>
          <p:spPr>
            <a:xfrm>
              <a:off x="2916360" y="1700280"/>
              <a:ext cx="1485720" cy="342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losofía cartesian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16680" y="2682720"/>
              <a:ext cx="1371600" cy="29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ud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30480" y="2614680"/>
              <a:ext cx="1371600" cy="37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stencia de D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16680" y="1700280"/>
              <a:ext cx="1600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úsqueda conocimiento y ver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16480" y="3254400"/>
              <a:ext cx="799920" cy="342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la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7880" y="2043000"/>
              <a:ext cx="1143000" cy="571320"/>
            </a:xfrm>
            <a:prstGeom prst="wedgeEllipseCallout">
              <a:avLst>
                <a:gd name="adj1" fmla="val -13722"/>
                <a:gd name="adj2" fmla="val -24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16760" y="250056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16760" y="1928880"/>
              <a:ext cx="799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4402080" y="181440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402080" y="250056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9560" y="26146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6520" y="2439720"/>
            <a:ext cx="26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mpi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Rac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Natur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x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Arial"/>
              <a:buAutoNum type="alphaUcParenR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Ilu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465300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8. La clave correcta es B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gunta de aplicación. El Racionalismo,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ponde a la utilización de la razón en la búsqueda de la verdad, fue una forma de alcanzar el conocimiento planteada por René Descartes y que desarrolla en su obra cúlmin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“El Discurso del Mét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. En oposición al racionalismo, surge el empirismo, postulado por Bacon, que plantea que todo conocimiento debe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jeto a la demostración empírica. Por su parte, las claves restante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en por ser a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74600"/>
            <a:ext cx="9144000" cy="667764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. Los fundamentos que señala Descartes en su “Discurso del Método” se pueden resumir en los siguientes  fundamentos bajo  cuatro princip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primero consistía en no admitir jamás cosa alguna como verdadera sin haber conocido con evidencia que así era (…)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segundo, en dividir cada una de las dificultades examinar en tantas partes como fuera posible y necesario para su mejor solución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tercero, en conducir con orden mis pensamientos, empezando por los objetos más simples y más fáciles de conocer, para ascender poco a poco, gradualmente, hasta el conocimiento de los más complejos (…)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el último, en hacer en todo enumeraciones tan completas y revisiones tan amplias, que llegase a estar seguro de no haber omitido nada.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tracto del discurso del Método, Desc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relación a lo leído más sus conocimientos, se puede establecer como correcta la(s) siguiente(s) afirmación(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.  La única verdad es la realmente observable y medida a través de la exper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Se debe utilizar el análisis como base para la construcción de un nuevo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Se debe partir conociendo desde lo particular a lo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Sól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Sól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Sólo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Sólo I y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Sólo I, II y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1341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9. La clave correcta es B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gunta de análisis. El enunciado I no corresp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es Descartes plantea en su obra los principios del racionalismo por sobre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irismo. Por su parte, el enunciado III hace referencia al método inductiv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rio al deductivismo que postula el pensador europeo. Finalmente, sól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unciado II coincide con el planteamiento de la obra cumbre de Desc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333360"/>
            <a:ext cx="8713800" cy="2562840"/>
          </a:xfrm>
          <a:prstGeom prst="rect">
            <a:avLst/>
          </a:prstGeom>
          <a:solidFill>
            <a:srgbClr val="f4d6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La Época Moderna fue una época de cambios económicos, sociales y culturales. Desde el punto de vista cultural, ¿cuál fue la principal transformación de la Época Moderna, en relación con lo que había ocurrido en Europa hasta ento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Decadencia del espíritu religioso y la crisis final del Cristi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Desarrollo del conocimiento científico y sus aplicaciones téc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Consolidación de la influencia cultural árabe y or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Sincretismo entre las lenguas europeas y las americ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Consolidación del pensamiento esco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314172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comprensión. Durante la Ép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a se verifica el despegue de la civilización europea de sus infl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les orientales, observables hasta el Humanismo, y el desarroll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de conocimiento científico, verdaderamente original. Las alternativa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as: A, porque el Cristianismo se universaliza, gracias a los descubr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áficos europeos; C, porque es contraria implícitamente a A; D, ya que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tible que este sincretismo, verificado indudablemente en América, haya 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a influencia en Europa en la Época Moderna, como lo exige el encabezado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 más bien ocurrió lo contrario, ya que el pensamiento escolástico comenzó a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ado con el racionalismo cartesiano (siglo XV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2050920" y="692280"/>
          <a:ext cx="4176720" cy="58608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2195640" y="26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384360" cy="4896000"/>
          </a:xfrm>
          <a:prstGeom prst="rect">
            <a:avLst/>
          </a:prstGeom>
          <a:gradFill rotWithShape="0">
            <a:gsLst>
              <a:gs pos="0">
                <a:srgbClr val="8898ab"/>
              </a:gs>
              <a:gs pos="100000">
                <a:srgbClr val="c5dcf7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ptura de la unidad religiosa: Reforma y Contrarreforma; secularización de la vida social y 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olicismo/ Protestan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oción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 estos contenidos con la ayuda de tu libro (páginas 155 a 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7956720" y="563400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3810240" cy="4102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1197000"/>
            <a:ext cx="4824360" cy="51116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8db1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nocer como uno de los ra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l período la audacia y el espíritu emprendedor que se manifiesta en la conquista territorial, en el arte, el pensamiento y las costumbres, y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rgimiento del método como herramienta de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nocer al ser humano como el creador de la sociedad y de sus relaciones, conside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ros como el espíritu crítico e indagador que se traduce en una relación nueva con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 tu libro estos  contenidos están  desde la página 131 hasta la 1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197000"/>
            <a:ext cx="3816360" cy="511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9a9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 descubrimientos científico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 los siglos XVI al XVIII y sus efectos en la vida material y cultural de Europa, considerando los cambios en la vida cotidiana y en las visiones de mun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 concepto d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razó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 y discusión sobre sus efectos en el mundo mod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ir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zón/ Racion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étodo cient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321300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118120" cy="666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45000" y="110332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56360" y="2708280"/>
            <a:ext cx="34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Lo que sabemos es una gota de agua; lo que ignoramos es el océano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Isaac New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2682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Si he hecho descubrimientos invaluables ha sido más por tener paciencia que cualq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o talento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Y TÉCNICA EN LA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MODER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413000"/>
            <a:ext cx="86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 uno de los procesos claves del período,  Si bien nace bajo la influencia  de las obras grecolatinas y bajo la influencia del pensamiento científico hebreo y árabe medieval, termina rompiendo con ellos para forjar un pensamiento científico europ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97360"/>
            <a:ext cx="331308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arece el concepto de ingeniero artista, hombre que posee la técnica y desarrolla la sensibilidad artís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3198960" cy="405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116000" y="4941720"/>
            <a:ext cx="3456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bre de inteligencia enciclopédica que lo llevó a explorar áreas como la física, la anatomía, la ciencia experimental y los artificios mecán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CIENCIA Y TÉCNICA EN EL RENACI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484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todos los aportes renacentistas, el científico es el más irregular y el de menor desarrollo.  Sin embargo, tres ámbitos se destac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000" y="2565360"/>
            <a:ext cx="2592360" cy="4100400"/>
            <a:chOff x="324000" y="2565360"/>
            <a:chExt cx="2592360" cy="4100400"/>
          </a:xfrm>
        </p:grpSpPr>
        <p:sp>
          <p:nvSpPr>
            <p:cNvPr id="131" name=""/>
            <p:cNvSpPr/>
            <p:nvPr/>
          </p:nvSpPr>
          <p:spPr>
            <a:xfrm>
              <a:off x="468360" y="2565360"/>
              <a:ext cx="2305080" cy="1225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2924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E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4508640"/>
              <a:ext cx="2592360" cy="2157120"/>
            </a:xfrm>
            <a:prstGeom prst="rect">
              <a:avLst/>
            </a:prstGeom>
            <a:solidFill>
              <a:srgbClr val="aae67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Difusión de los clásico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uclides, Arquímides, Eratóstenes, Ptolomeo. Desarrollo del álgebra y la trigonomet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764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71640" y="2565360"/>
            <a:ext cx="3024360" cy="3134520"/>
            <a:chOff x="2771640" y="2565360"/>
            <a:chExt cx="3024360" cy="3134520"/>
          </a:xfrm>
        </p:grpSpPr>
        <p:sp>
          <p:nvSpPr>
            <p:cNvPr id="136" name=""/>
            <p:cNvSpPr/>
            <p:nvPr/>
          </p:nvSpPr>
          <p:spPr>
            <a:xfrm>
              <a:off x="3276720" y="2565360"/>
              <a:ext cx="2305080" cy="122544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4000" y="2924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DIC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71640" y="306864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3640" y="4508640"/>
              <a:ext cx="2592360" cy="1191240"/>
            </a:xfrm>
            <a:prstGeom prst="rect">
              <a:avLst/>
            </a:prstGeom>
            <a:solidFill>
              <a:srgbClr val="87ddd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Vesalio funda las bases de la anatomía moderna, sustentada en la observ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80000" y="2565360"/>
            <a:ext cx="3024360" cy="3683160"/>
            <a:chOff x="5580000" y="2565360"/>
            <a:chExt cx="3024360" cy="3683160"/>
          </a:xfrm>
        </p:grpSpPr>
        <p:sp>
          <p:nvSpPr>
            <p:cNvPr id="142" name=""/>
            <p:cNvSpPr/>
            <p:nvPr/>
          </p:nvSpPr>
          <p:spPr>
            <a:xfrm>
              <a:off x="6012000" y="2565360"/>
              <a:ext cx="2305080" cy="1225440"/>
            </a:xfrm>
            <a:prstGeom prst="ellipse">
              <a:avLst/>
            </a:prstGeom>
            <a:gradFill rotWithShape="0">
              <a:gsLst>
                <a:gs pos="0">
                  <a:srgbClr val="fa9258"/>
                </a:gs>
                <a:gs pos="100000">
                  <a:srgbClr val="73432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2000" y="2924280"/>
              <a:ext cx="25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TR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3068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2000" y="4508640"/>
              <a:ext cx="2592360" cy="1739880"/>
            </a:xfrm>
            <a:prstGeom prst="rect">
              <a:avLst/>
            </a:prstGeom>
            <a:solidFill>
              <a:srgbClr val="f6daa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eoría Heliocéntricas de Nicolás Copérnico: el centro del Universo era el sol  y la tierra gira en torno a é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7893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a ciencia renacentista: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a revolución copern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0920" y="1197000"/>
            <a:ext cx="8704080" cy="5033880"/>
            <a:chOff x="250920" y="1197000"/>
            <a:chExt cx="8704080" cy="5033880"/>
          </a:xfrm>
        </p:grpSpPr>
        <p:sp>
          <p:nvSpPr>
            <p:cNvPr id="149" name=""/>
            <p:cNvSpPr/>
            <p:nvPr/>
          </p:nvSpPr>
          <p:spPr>
            <a:xfrm>
              <a:off x="3059280" y="2060640"/>
              <a:ext cx="2447640" cy="119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érnico y el paradigma heliocéntr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867280" y="1197000"/>
              <a:ext cx="3087720" cy="501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250920" y="1700280"/>
              <a:ext cx="2423880" cy="37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2843280" y="3860640"/>
              <a:ext cx="2808360" cy="237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Desarrollo Técn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19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ámbitos más favorecidos con los avances técnicos del período  corresponden 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73360"/>
            <a:ext cx="4103640" cy="266580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MUNDO MILI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 técnicas de guerra, ingeniería y arquitectura militar tuvieron una notable expa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arec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s armas de fuego individuales como  el mosque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yudado por las nuevas técnicas de fundición de hie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135240" cy="479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4103640" cy="197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flipV="1">
            <a:off x="3995640" y="227664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549360"/>
            <a:ext cx="5040360" cy="1425600"/>
          </a:xfrm>
          <a:prstGeom prst="rect">
            <a:avLst/>
          </a:prstGeom>
          <a:solidFill>
            <a:srgbClr val="f4d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ARTES DE NAVE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specialmente la cartografía.  Nacen en esta época el primer mapamundi de proyección cilíndrica (modelo Merc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2381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319280" cy="31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4081320" cy="313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020000" y="2565360"/>
            <a:ext cx="21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reador de la proyección de Mercator, el flamenco Gerhard Kresser (152-15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4:25:28Z</dcterms:modified>
  <cp:revision>46</cp:revision>
  <dc:subject/>
  <dc:title>Diapositiva 1</dc:title>
</cp:coreProperties>
</file>