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5.jpeg" ContentType="image/jpeg"/>
  <Override PartName="/ppt/media/image3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28.jpeg" ContentType="image/jpeg"/>
  <Override PartName="/ppt/media/image34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5.gif" ContentType="image/gif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30.jpeg" ContentType="image/jpeg"/>
  <Override PartName="/ppt/media/image31.jpeg" ContentType="image/jpeg"/>
  <Override PartName="/ppt/media/image33.jpeg" ContentType="image/jpeg"/>
  <Override PartName="/ppt/media/image6.png" ContentType="image/pn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png" ContentType="image/png"/>
  <Override PartName="/ppt/media/image18.jpeg" ContentType="image/jpeg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13C9B-8E84-44DF-8BB3-E9A601AC1C1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imagen corresponde a Isaac Newton y, el dibujo corresponde a una caricatura en la que se ilustra cómo se llegó a la ley de gravitación univers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s importante agregar que, con la excepci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l molino de viento, estas aplicaciones técnicas y muchas otras, resultaron en artefactos individuales y no en producciones masivas (como en la Revolución Industrial). En todo caso, significaron un importante paso hacia el proceso de innovaciones técnicas que caracterizó a la Revolución Industri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La imagen superior corresponde a Lavoisier, las inferiores a Diderot y Dalambert, creadores de la Encicloped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A0EF8-D07C-449B-BFDC-0AF8210556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67C73-1254-499A-AE15-D3228015AD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E77A7-E92A-47F4-B6EE-8A95076C61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F846B-000E-4083-B9F5-7F700DBAFB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33A13A-8E37-46BD-A50B-FF338CDE0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87B8A8-811B-4E75-9C1A-4F3DC98FB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E6949D-1D6B-46EC-AD9B-5498EFF2C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4B50AC-1F49-4F28-8AAB-C46892E16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731040-4022-4E87-84C1-B4842B985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230ABD-4748-4D7E-A0E4-638066A06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CF7446-2F03-4D33-80B8-9F62BECAB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A5F56-807C-429D-B3D6-4C1D54F71A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7B9725-681A-47F1-A6FF-19343B48C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354F6C-B90E-4BA7-8B32-0BB249305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FA2B47-7BE7-456B-9013-B36C6FD5F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63DD59-83FB-4BE2-A2E9-17AEF5CA0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2AF564-1BA2-414B-88E1-DDD5E3567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1C3A5-19CC-4D6A-A80B-03DF82B76B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64F02-07F9-41E8-8BFD-883FC5FAC2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01FEB-105D-48C2-AC41-402E02B613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3F552-3B5A-4335-87E2-4A71EB3DC3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BAB3B-2C2D-4471-9806-38F40BE008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EB2AE-7534-40C2-BA37-C74A49F6A9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FFC4A-C11F-4145-9936-A3DF282B75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77FD7-597B-4795-BFDC-47FB756593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3F456-4250-41E0-9C80-49223DE94D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3.pn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.png"/><Relationship Id="rId3" Type="http://schemas.openxmlformats.org/officeDocument/2006/relationships/image" Target="../media/image32.pn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82560" y="836640"/>
            <a:ext cx="7561440" cy="1944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fffff"/>
                </a:solidFill>
                <a:latin typeface="Bookman Old Style"/>
              </a:rPr>
              <a:t>CLASE 12: </a:t>
            </a:r>
            <a:br>
              <a:rPr sz="4000"/>
            </a:br>
            <a:r>
              <a:rPr b="1" i="1" lang="es-ES_tradnl" sz="3200" spc="-1" strike="noStrike">
                <a:solidFill>
                  <a:srgbClr val="ffffff"/>
                </a:solidFill>
                <a:latin typeface="Bookman Old Style"/>
              </a:rPr>
              <a:t>DESCUBRIMIENTOS CIENT</a:t>
            </a:r>
            <a:r>
              <a:rPr b="1" i="1" lang="es-ES_tradnl" sz="3200" spc="-1" strike="noStrike">
                <a:solidFill>
                  <a:srgbClr val="ffffff"/>
                </a:solidFill>
                <a:latin typeface="Bookman Old Style"/>
                <a:ea typeface="ＭＳ Ｐゴシック"/>
              </a:rPr>
              <a:t>ÍFICOS.</a:t>
            </a:r>
            <a:br>
              <a:rPr sz="3200"/>
            </a:br>
            <a:r>
              <a:rPr b="1" i="1" lang="es-ES_tradnl" sz="3200" spc="-1" strike="noStrike">
                <a:solidFill>
                  <a:srgbClr val="ffffff"/>
                </a:solidFill>
                <a:latin typeface="Bookman Old Style"/>
                <a:ea typeface="ＭＳ Ｐゴシック"/>
              </a:rPr>
              <a:t>Ciencia y Técnica en el Renacimiento.</a:t>
            </a:r>
            <a:r>
              <a:rPr b="0" i="1" lang="es-ES_tradnl" sz="3200" spc="-1" strike="noStrike">
                <a:solidFill>
                  <a:srgbClr val="ffffff"/>
                </a:solidFill>
                <a:latin typeface="Bookman Old Style"/>
              </a:rPr>
              <a:t> </a:t>
            </a:r>
            <a:br>
              <a:rPr sz="3200"/>
            </a:br>
            <a:r>
              <a:rPr b="1" i="1" lang="es-ES_tradnl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76360" y="0"/>
            <a:ext cx="388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Área: Historia y Ciencias Soci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Sección: Historia Univers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7636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6308640"/>
            <a:ext cx="1476360" cy="549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2050920" y="2997360"/>
            <a:ext cx="2828880" cy="38606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5257440" y="487656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Cogito, ergo sum” (Ren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 Descart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260280"/>
            <a:ext cx="5040000" cy="1151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d0d07c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) EXPLOTACIONES MINER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Destacó George Bauer con su libro De res metallica (1556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826920" y="4076640"/>
            <a:ext cx="3672000" cy="25956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5508720" y="2852640"/>
            <a:ext cx="3394080" cy="3789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68" name=""/>
          <p:cNvSpPr/>
          <p:nvPr/>
        </p:nvSpPr>
        <p:spPr>
          <a:xfrm>
            <a:off x="250920" y="2421000"/>
            <a:ext cx="5040360" cy="1425600"/>
          </a:xfrm>
          <a:prstGeom prst="rect">
            <a:avLst/>
          </a:prstGeom>
          <a:solidFill>
            <a:srgbClr val="b0e5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) AGRICULTUR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n el aprovechamiento energético del agua y del viento gracias al desarrollo de molinos de papel y de har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5724360" y="189000"/>
            <a:ext cx="2795760" cy="253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3324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Bookman Old Style"/>
              </a:rPr>
              <a:t>REVOLUCIÓN CIENTÍF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042920" y="90792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NSAMIENTO RACIONALISTA  DE LA ÉPOCA DEL BARRO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042920" y="119700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Ockam y Della Mirandola constituyen las bases sobre la que se construyó el pensamiento barro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900000" y="1916280"/>
            <a:ext cx="2519640" cy="256284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RANCIS BACON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 en su obra “Nova Atlantis” y “Nova Organum”, plantea las bases de la ciencia moderna al postular que no existe verdad antes de su demostración empír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00000" y="4724280"/>
            <a:ext cx="2521080" cy="146556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JOHN LOCK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 en su obra “Ensayo sobre el entendimiento humano”, sistematiza las ideas de Bac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00720" y="2133720"/>
            <a:ext cx="2664000" cy="3385800"/>
          </a:xfrm>
          <a:prstGeom prst="rect">
            <a:avLst/>
          </a:prstGeom>
          <a:solidFill>
            <a:srgbClr val="f4d6a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NE DESCARTES,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sentó las bases del racionalismo moderno aplicando el método deductivo para postular en “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l discurso del Métod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”, la duda metódica. Lo único que no se puede dudar es el hecho de estar pensando “cogito ergo sum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140360" y="2205000"/>
            <a:ext cx="504720" cy="3706200"/>
          </a:xfrm>
          <a:prstGeom prst="rect">
            <a:avLst/>
          </a:prstGeom>
          <a:gradFill rotWithShape="0">
            <a:gsLst>
              <a:gs pos="0">
                <a:srgbClr val="f7fb4b"/>
              </a:gs>
              <a:gs pos="100000">
                <a:srgbClr val="a4a63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64000" y="1700280"/>
            <a:ext cx="503280" cy="4957920"/>
          </a:xfrm>
          <a:prstGeom prst="rect">
            <a:avLst/>
          </a:prstGeom>
          <a:gradFill rotWithShape="0">
            <a:gsLst>
              <a:gs pos="0">
                <a:srgbClr val="f4d6aa"/>
              </a:gs>
              <a:gs pos="100000">
                <a:srgbClr val="d5bb94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492360" y="2349360"/>
            <a:ext cx="503280" cy="3456000"/>
          </a:xfrm>
          <a:custGeom>
            <a:avLst/>
            <a:gdLst>
              <a:gd name="textAreaLeft" fmla="*/ 0 w 503280"/>
              <a:gd name="textAreaRight" fmla="*/ 181800 w 503280"/>
              <a:gd name="textAreaTop" fmla="*/ 90000 h 3456000"/>
              <a:gd name="textAreaBottom" fmla="*/ 3366000 h 345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940360" y="2205000"/>
            <a:ext cx="287280" cy="3168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82440 h 3168720"/>
              <a:gd name="textAreaBottom" fmla="*/ 3086280 h 31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2633760"/>
            <a:ext cx="826920" cy="8539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0" y="4869000"/>
            <a:ext cx="826920" cy="8636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7164360" y="5516640"/>
            <a:ext cx="1150920" cy="1136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Bookman Old Style"/>
              </a:rPr>
              <a:t>LA REVOLUCIÓN CIENTÍFIC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68360" y="1197000"/>
            <a:ext cx="8280360" cy="91692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 puede situar cronológicamente en el medio siglo que transcurrió entre el “DISCURSO DEL MÉTODO”, de Descartes y los “PRINCIPIA”, de Sir Isaac Newt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0" y="2133720"/>
            <a:ext cx="8820000" cy="4724280"/>
            <a:chOff x="0" y="2133720"/>
            <a:chExt cx="8820000" cy="4724280"/>
          </a:xfrm>
        </p:grpSpPr>
        <p:sp>
          <p:nvSpPr>
            <p:cNvPr id="186" name=""/>
            <p:cNvSpPr/>
            <p:nvPr/>
          </p:nvSpPr>
          <p:spPr>
            <a:xfrm>
              <a:off x="539640" y="2637000"/>
              <a:ext cx="2592360" cy="253440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35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STRONOMÍA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KEPLE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, Leyes de movimientos orbitales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ALILEO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, Teoría Heliocéntric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EWTON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, ley de gravitación Universal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419640" y="2637000"/>
              <a:ext cx="2592360" cy="308304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757546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TEMÁTICA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EWTON y LEIBNIZ,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sistema de rotación para cálculo integral y diferencial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APIE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, inventa los logaritmo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EVINS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, cálculo decimal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227640" y="2637000"/>
              <a:ext cx="2592360" cy="3906000"/>
            </a:xfrm>
            <a:prstGeom prst="rect">
              <a:avLst/>
            </a:prstGeom>
            <a:gradFill rotWithShape="0">
              <a:gsLst>
                <a:gs pos="0">
                  <a:srgbClr val="5e7546"/>
                </a:gs>
                <a:gs pos="100000">
                  <a:srgbClr val="ccff99"/>
                </a:gs>
              </a:gsLst>
              <a:lin ang="135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MEDICINA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HARVEY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, descubre la circulación mayor de la sangr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MALPIGH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, descubre la circulación venosa y la función de los capilare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HOOKE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, escribe Micrographia, por primera vez se describe a la célul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1692360" y="2133720"/>
              <a:ext cx="129528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724360" y="2133720"/>
              <a:ext cx="165600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572000" y="220500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2" name="" descr=""/>
            <p:cNvPicPr/>
            <p:nvPr/>
          </p:nvPicPr>
          <p:blipFill>
            <a:blip r:embed="rId1"/>
            <a:stretch/>
          </p:blipFill>
          <p:spPr>
            <a:xfrm>
              <a:off x="0" y="6308640"/>
              <a:ext cx="1476360" cy="5493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24000" y="549360"/>
            <a:ext cx="2881080" cy="5157720"/>
          </a:xfrm>
          <a:prstGeom prst="rect">
            <a:avLst/>
          </a:prstGeom>
          <a:gradFill rotWithShape="0">
            <a:gsLst>
              <a:gs pos="0">
                <a:srgbClr val="60f6fa"/>
              </a:gs>
              <a:gs pos="100000">
                <a:srgbClr val="2b6f71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SIC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T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desarrolló las leyes de la mecán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LILEO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ases de la dinámica  y de la estát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I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descubrió el magnetis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SSENDI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studió la lu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NE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ley de refracción de la lu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RICELLI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esión atmosférica y PASCAL, demostraron la existencia del vacío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348000" y="549360"/>
            <a:ext cx="2570040" cy="25272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6588000" y="4365720"/>
            <a:ext cx="1333800" cy="2000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0" y="6308640"/>
            <a:ext cx="1476360" cy="54936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3832200" y="4384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3203640" y="3068640"/>
            <a:ext cx="3065400" cy="36003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6012000" y="404640"/>
            <a:ext cx="2881080" cy="36316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737345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ÍMIC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N HELMONT, ROBERT BOYLE Y HOOKE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udian y descomponen gases.  Surgen los primeros estudios sobre el oxíge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OKE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bleció las ley de elasticidad de los ga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353440" cy="71892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ff"/>
                </a:solidFill>
                <a:latin typeface="Bookman Old Style"/>
              </a:rPr>
              <a:t>AVANCES Y APLICACIONES T</a:t>
            </a:r>
            <a:r>
              <a:rPr b="1" i="1" lang="es-ES_tradnl" sz="3200" spc="-1" strike="noStrike">
                <a:solidFill>
                  <a:srgbClr val="ffffff"/>
                </a:solidFill>
                <a:latin typeface="Bookman Old Style"/>
                <a:ea typeface="ＭＳ Ｐゴシック"/>
              </a:rPr>
              <a:t>ÉCN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934320" y="4800600"/>
            <a:ext cx="2209680" cy="9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lescopi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ventado por LIPPERSH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5280" y="1197000"/>
            <a:ext cx="8310600" cy="5131440"/>
            <a:chOff x="395280" y="1197000"/>
            <a:chExt cx="8310600" cy="5131440"/>
          </a:xfrm>
        </p:grpSpPr>
        <p:sp>
          <p:nvSpPr>
            <p:cNvPr id="203" name=""/>
            <p:cNvSpPr/>
            <p:nvPr/>
          </p:nvSpPr>
          <p:spPr>
            <a:xfrm>
              <a:off x="468360" y="5229360"/>
              <a:ext cx="289548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Molinos de viento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empleado en la fabricación de papel, creado por HOLLAN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492360" y="5229360"/>
              <a:ext cx="2841840" cy="10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eloj de péndulo, </a:t>
              </a:r>
              <a:r>
                <a:rPr b="0" i="1" lang="es-ES_tradnl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nventado por </a:t>
              </a:r>
              <a:r>
                <a:rPr b="0" i="1" lang="es-ES_tradnl" sz="1400" spc="-1" strike="noStrike">
                  <a:solidFill>
                    <a:srgbClr val="000000"/>
                  </a:solidFill>
                  <a:latin typeface="Arial"/>
                </a:rPr>
                <a:t>el relojero Christian Huygens. Esto ocurrió, en el siglo XVII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s-ES_tradnl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5" name="" descr=""/>
            <p:cNvPicPr/>
            <p:nvPr/>
          </p:nvPicPr>
          <p:blipFill>
            <a:blip r:embed="rId1"/>
            <a:stretch/>
          </p:blipFill>
          <p:spPr>
            <a:xfrm>
              <a:off x="6516720" y="1916280"/>
              <a:ext cx="2189160" cy="228600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pic>
          <p:nvPicPr>
            <p:cNvPr id="206" name="" descr=""/>
            <p:cNvPicPr/>
            <p:nvPr/>
          </p:nvPicPr>
          <p:blipFill>
            <a:blip r:embed="rId2"/>
            <a:stretch/>
          </p:blipFill>
          <p:spPr>
            <a:xfrm>
              <a:off x="395280" y="1197000"/>
              <a:ext cx="2976480" cy="39686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pic>
          <p:nvPicPr>
            <p:cNvPr id="207" name="" descr=""/>
            <p:cNvPicPr/>
            <p:nvPr/>
          </p:nvPicPr>
          <p:blipFill>
            <a:blip r:embed="rId3"/>
            <a:stretch/>
          </p:blipFill>
          <p:spPr>
            <a:xfrm>
              <a:off x="3564000" y="1197000"/>
              <a:ext cx="2536920" cy="3960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0" y="6308640"/>
            <a:ext cx="1476360" cy="549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4140360" cy="2566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0" name=""/>
          <p:cNvSpPr/>
          <p:nvPr/>
        </p:nvSpPr>
        <p:spPr>
          <a:xfrm>
            <a:off x="826920" y="3933720"/>
            <a:ext cx="273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ibote holandé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de mayor velocidad que el galeón del siglo XV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4500720" y="620640"/>
            <a:ext cx="4103640" cy="307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2" name=""/>
          <p:cNvSpPr/>
          <p:nvPr/>
        </p:nvSpPr>
        <p:spPr>
          <a:xfrm>
            <a:off x="4427640" y="4076640"/>
            <a:ext cx="431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ORNOS DE REVERBERO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De gran trascendencia para la metalurgia y la cristal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0" y="6308640"/>
            <a:ext cx="1476360" cy="549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Bookman Old Style"/>
              </a:rPr>
              <a:t>CIENCIA EN LA ILUSTR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68360" y="1125360"/>
            <a:ext cx="6191280" cy="91692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Bookman Old Style"/>
              </a:rPr>
              <a:t>“</a:t>
            </a:r>
            <a:r>
              <a:rPr b="1" i="1" lang="es-ES_tradnl" sz="1800" spc="-1" strike="noStrike">
                <a:solidFill>
                  <a:srgbClr val="000000"/>
                </a:solidFill>
                <a:latin typeface="Bookman Old Style"/>
              </a:rPr>
              <a:t>EN LA NATURALEZA NADA SE CREA NI SE DESTRUYE, SINO SÓLO SE TRANSFORMA” </a:t>
            </a:r>
            <a:r>
              <a:rPr b="1" i="1" lang="es-ES_tradnl" sz="1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Bookman Old Style"/>
              </a:rPr>
              <a:t>(Lavoisi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981840" y="981000"/>
            <a:ext cx="1324080" cy="1727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7" name=""/>
          <p:cNvSpPr/>
          <p:nvPr/>
        </p:nvSpPr>
        <p:spPr>
          <a:xfrm>
            <a:off x="684360" y="2133720"/>
            <a:ext cx="56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a mentalidad ilustrada valoró los progresos del conocimiento científico de la naturalez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11280" y="2852640"/>
            <a:ext cx="56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ntribuye notablemente a ello la creación de la Encicloped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0" y="6308640"/>
            <a:ext cx="1476360" cy="5493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763640" y="3860640"/>
            <a:ext cx="2592360" cy="2225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>
            <a:off x="5724360" y="2852640"/>
            <a:ext cx="2603520" cy="4005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22" name=""/>
          <p:cNvSpPr/>
          <p:nvPr/>
        </p:nvSpPr>
        <p:spPr>
          <a:xfrm>
            <a:off x="4356000" y="479736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"/>
          <p:cNvGrpSpPr/>
          <p:nvPr/>
        </p:nvGrpSpPr>
        <p:grpSpPr>
          <a:xfrm>
            <a:off x="250920" y="476280"/>
            <a:ext cx="8497800" cy="6143400"/>
            <a:chOff x="250920" y="476280"/>
            <a:chExt cx="8497800" cy="6143400"/>
          </a:xfrm>
        </p:grpSpPr>
        <p:sp>
          <p:nvSpPr>
            <p:cNvPr id="224" name=""/>
            <p:cNvSpPr/>
            <p:nvPr/>
          </p:nvSpPr>
          <p:spPr>
            <a:xfrm>
              <a:off x="250920" y="476280"/>
              <a:ext cx="2592360" cy="22485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QUÍMIC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AVOISIE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, postula los principios fundamentales de la nueva ciencia. Se sintetizan los elementos del agu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203640" y="4724280"/>
              <a:ext cx="2592360" cy="1842840"/>
            </a:xfrm>
            <a:prstGeom prst="rect">
              <a:avLst/>
            </a:prstGeom>
            <a:gradFill rotWithShape="0">
              <a:gsLst>
                <a:gs pos="0">
                  <a:srgbClr val="60f6fa"/>
                </a:gs>
                <a:gs pos="100000">
                  <a:srgbClr val="2c7173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ÍSICA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ULOMB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, establece las leyes electromagnética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OLTA,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nventa la pil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50920" y="2924280"/>
              <a:ext cx="2592360" cy="3631680"/>
            </a:xfrm>
            <a:prstGeom prst="rect">
              <a:avLst/>
            </a:prstGeom>
            <a:gradFill rotWithShape="0">
              <a:gsLst>
                <a:gs pos="0">
                  <a:srgbClr val="c5dcf7"/>
                </a:gs>
                <a:gs pos="100000">
                  <a:srgbClr val="5a6571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STRONOMÍA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ERSCHEL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, descubrió el planeta Urano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APLAC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, Sintetiza los conocimientos desarrollados en astronomía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OK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y otros, demuestran que la tierra es achatada en los polo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156360" y="549360"/>
              <a:ext cx="2592360" cy="2248560"/>
            </a:xfrm>
            <a:prstGeom prst="rect">
              <a:avLst/>
            </a:prstGeom>
            <a:gradFill rotWithShape="0">
              <a:gsLst>
                <a:gs pos="0">
                  <a:srgbClr val="ddd1c1"/>
                </a:gs>
                <a:gs pos="100000">
                  <a:srgbClr val="656058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EDICINA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JENNE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, descubre la vacuna contra la viruela. Desarrollo de la anatomía patológica  y de la histología (estudio de los tejidos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156360" y="4005360"/>
              <a:ext cx="2592360" cy="2614320"/>
            </a:xfrm>
            <a:prstGeom prst="rect">
              <a:avLst/>
            </a:prstGeom>
            <a:gradFill rotWithShape="0">
              <a:gsLst>
                <a:gs pos="0">
                  <a:srgbClr val="b0e593"/>
                </a:gs>
                <a:gs pos="100000">
                  <a:srgbClr val="516943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ZOOLOGÍA Y BOTÁNICA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UFÓN,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publicó su “Historia Natural”, en la que se describe la las especies vegetales y animales conocidas en la époc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276720" y="1628640"/>
              <a:ext cx="2808000" cy="25196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b1b1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492360" y="2060640"/>
              <a:ext cx="2376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AVANCES DE LA CIENCIA DURANTE LA ILUSTRA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 flipV="1">
              <a:off x="2843280" y="1484280"/>
              <a:ext cx="72072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2842920" y="3645000"/>
              <a:ext cx="57636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5508720" y="1413000"/>
              <a:ext cx="64764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572000" y="422100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796000" y="3716280"/>
              <a:ext cx="36036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plit dir="in" orient="vert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9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38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Bookman Old Style"/>
              </a:rPr>
              <a:t>En s</a:t>
            </a:r>
            <a:r>
              <a:rPr b="1" i="1" lang="es-ES_tradnl" sz="3200" spc="-1" strike="noStrike">
                <a:solidFill>
                  <a:srgbClr val="000000"/>
                </a:solidFill>
                <a:latin typeface="Bookman Old Style"/>
                <a:ea typeface="ＭＳ Ｐゴシック"/>
              </a:rPr>
              <a:t>íntesi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62120" y="1219320"/>
            <a:ext cx="697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Bookman Old Style"/>
                <a:ea typeface="ＭＳ Ｐゴシック"/>
              </a:rPr>
              <a:t>Éstos son los temas que estudiamos ho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838080" y="1752480"/>
            <a:ext cx="7467840" cy="4191120"/>
            <a:chOff x="838080" y="1752480"/>
            <a:chExt cx="7467840" cy="4191120"/>
          </a:xfrm>
        </p:grpSpPr>
        <p:sp>
          <p:nvSpPr>
            <p:cNvPr id="239" name=""/>
            <p:cNvSpPr/>
            <p:nvPr/>
          </p:nvSpPr>
          <p:spPr>
            <a:xfrm>
              <a:off x="838080" y="3352680"/>
              <a:ext cx="2667240" cy="9144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c8a07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escubrimiento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ientífic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2057400" y="205704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057400" y="2057400"/>
              <a:ext cx="327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410080" y="1752480"/>
              <a:ext cx="2895840" cy="8384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b8b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a revolució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pernica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505320" y="380988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81080" y="426708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981080" y="5410080"/>
              <a:ext cx="327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410080" y="3276720"/>
              <a:ext cx="2895840" cy="91440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b1b16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mpirismo y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acionalism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257800" y="4800600"/>
              <a:ext cx="3048120" cy="1143000"/>
            </a:xfrm>
            <a:prstGeom prst="rect">
              <a:avLst/>
            </a:prstGeom>
            <a:gradFill rotWithShape="0">
              <a:gsLst>
                <a:gs pos="0">
                  <a:srgbClr val="cc99ff"/>
                </a:gs>
                <a:gs pos="100000">
                  <a:srgbClr val="5e467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ísica, matemática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astronomía, óptica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química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0" y="6308640"/>
            <a:ext cx="1476360" cy="549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8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0" y="5589720"/>
            <a:ext cx="9144000" cy="1268280"/>
          </a:xfrm>
          <a:prstGeom prst="rect">
            <a:avLst/>
          </a:prstGeom>
          <a:gradFill rotWithShape="0">
            <a:gsLst>
              <a:gs pos="0">
                <a:srgbClr val="ecb76a"/>
              </a:gs>
              <a:gs pos="100000">
                <a:srgbClr val="6c5430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man Old Style"/>
              </a:rPr>
              <a:t>AHORA TRABAJEMOS CON LA GUÍA HU 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Bookman Old Style"/>
              </a:rPr>
              <a:t>RECUERDA LO QUE ESTUDIAMOS LA CLASE ANTERIOR</a:t>
            </a:r>
            <a:r>
              <a:rPr b="1" i="1" lang="es-ES_tradnl" sz="2800" spc="-1" strike="noStrike">
                <a:solidFill>
                  <a:srgbClr val="ffffff"/>
                </a:solidFill>
                <a:latin typeface="Bookman Old Style"/>
                <a:ea typeface="ＭＳ Ｐゴシック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609480" y="1523880"/>
            <a:ext cx="7320240" cy="3619800"/>
            <a:chOff x="609480" y="1523880"/>
            <a:chExt cx="7320240" cy="3619800"/>
          </a:xfrm>
        </p:grpSpPr>
        <p:sp>
          <p:nvSpPr>
            <p:cNvPr id="97" name=""/>
            <p:cNvSpPr/>
            <p:nvPr/>
          </p:nvSpPr>
          <p:spPr>
            <a:xfrm>
              <a:off x="609480" y="2743200"/>
              <a:ext cx="3124440" cy="990720"/>
            </a:xfrm>
            <a:prstGeom prst="rect">
              <a:avLst/>
            </a:prstGeom>
            <a:gradFill rotWithShape="0">
              <a:gsLst>
                <a:gs pos="0">
                  <a:srgbClr val="ffcccc"/>
                </a:gs>
                <a:gs pos="100000">
                  <a:srgbClr val="755e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ensamiento y ar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modern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791320" y="1523880"/>
              <a:ext cx="2057400" cy="106704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755e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Humanism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enacentis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796000" y="2924280"/>
              <a:ext cx="2057400" cy="6858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Barroc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796000" y="4076640"/>
              <a:ext cx="2133720" cy="1067040"/>
            </a:xfrm>
            <a:prstGeom prst="rect">
              <a:avLst/>
            </a:prstGeom>
            <a:gradFill rotWithShape="0">
              <a:gsLst>
                <a:gs pos="0">
                  <a:srgbClr val="ccff99"/>
                </a:gs>
                <a:gs pos="100000">
                  <a:srgbClr val="5e75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lasicismo 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lustra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733920" y="320040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181480" y="2133720"/>
              <a:ext cx="0" cy="251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18148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181480" y="320040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181480" y="464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26920" y="1557360"/>
              <a:ext cx="19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Arial"/>
                </a:rPr>
                <a:t>ESTUDIAMOS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6308640"/>
            <a:ext cx="147636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684360" y="407520"/>
            <a:ext cx="8280360" cy="1067400"/>
          </a:xfrm>
          <a:prstGeom prst="rect">
            <a:avLst/>
          </a:prstGeom>
          <a:solidFill>
            <a:srgbClr val="f4d6a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8. En el siguiente diagrama falta un concepto importante que respon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 un movimiento que fue desarrollado durante el Renacimiento y que sentó las bases de la ciencia moderna.   El término en cuestión corresponde a una corriente de pensamiento denominad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2916360" y="1700280"/>
            <a:ext cx="5600520" cy="1896840"/>
            <a:chOff x="2916360" y="1700280"/>
            <a:chExt cx="5600520" cy="1896840"/>
          </a:xfrm>
        </p:grpSpPr>
        <p:sp>
          <p:nvSpPr>
            <p:cNvPr id="253" name=""/>
            <p:cNvSpPr/>
            <p:nvPr/>
          </p:nvSpPr>
          <p:spPr>
            <a:xfrm>
              <a:off x="2916360" y="1700280"/>
              <a:ext cx="1485720" cy="3427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ilosofía cartesiana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916680" y="2682720"/>
              <a:ext cx="1371600" cy="296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uda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030480" y="2614680"/>
              <a:ext cx="1371600" cy="3744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xistencia de Di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916680" y="1700280"/>
              <a:ext cx="1600200" cy="4572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úsqueda conocimiento y verda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316480" y="3254400"/>
              <a:ext cx="799920" cy="3427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gla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087880" y="2043000"/>
              <a:ext cx="1143000" cy="571320"/>
            </a:xfrm>
            <a:prstGeom prst="wedgeEllipseCallout">
              <a:avLst>
                <a:gd name="adj1" fmla="val -13722"/>
                <a:gd name="adj2" fmla="val -2477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116760" y="2500560"/>
              <a:ext cx="79992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6116760" y="1928880"/>
              <a:ext cx="79992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 flipV="1">
              <a:off x="4402080" y="1814400"/>
              <a:ext cx="79992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4402080" y="2500560"/>
              <a:ext cx="79992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659560" y="261468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686520" y="2439720"/>
            <a:ext cx="2604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68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4d4d4d"/>
              </a:buClr>
              <a:buFont typeface="Arial"/>
              <a:buAutoNum type="alphaUcParenR"/>
              <a:tabLst>
                <a:tab algn="l" pos="68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d4d4d"/>
                </a:solidFill>
                <a:latin typeface="Arial"/>
                <a:ea typeface="Times New Roman"/>
              </a:rPr>
              <a:t>Empir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4d4d4d"/>
              </a:buClr>
              <a:buFont typeface="Arial"/>
              <a:buAutoNum type="alphaUcParenR"/>
              <a:tabLst>
                <a:tab algn="l" pos="68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d4d4d"/>
                </a:solidFill>
                <a:latin typeface="Arial"/>
                <a:ea typeface="Times New Roman"/>
              </a:rPr>
              <a:t>Racional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4d4d4d"/>
              </a:buClr>
              <a:buFont typeface="Arial"/>
              <a:buAutoNum type="alphaUcParenR"/>
              <a:tabLst>
                <a:tab algn="l" pos="68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d4d4d"/>
                </a:solidFill>
                <a:latin typeface="Arial"/>
                <a:ea typeface="Times New Roman"/>
              </a:rPr>
              <a:t>Natural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4d4d4d"/>
              </a:buClr>
              <a:buFont typeface="Arial"/>
              <a:buAutoNum type="alphaUcParenR"/>
              <a:tabLst>
                <a:tab algn="l" pos="68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d4d4d"/>
                </a:solidFill>
                <a:latin typeface="Arial"/>
                <a:ea typeface="Times New Roman"/>
              </a:rPr>
              <a:t>Existencial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4d4d4d"/>
              </a:buClr>
              <a:buFont typeface="Arial"/>
              <a:buAutoNum type="alphaUcParenR"/>
              <a:tabLst>
                <a:tab algn="l" pos="68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d4d4d"/>
                </a:solidFill>
                <a:latin typeface="Arial"/>
                <a:ea typeface="Times New Roman"/>
              </a:rPr>
              <a:t>Ilust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95280" y="4653000"/>
            <a:ext cx="8424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8. La clave correcta es B.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Pregunta de aplicación. El Racionalismo, 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sponde a la utilización de la razón en la búsqueda de la verdad, fue una forma de alcanzar el conocimiento planteada por René Descartes y que desarrolla en su obra cúlmine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“El Discurso del Métod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”. En oposición al racionalismo, surge el empirismo, postulado por Bacon, que plantea que todo conocimiento debe 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ujeto a la demostración empírica. Por su parte, las claves restantes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rresponden por ser atempor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5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6" dur="500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0" y="174600"/>
            <a:ext cx="9144000" cy="6677640"/>
          </a:xfrm>
          <a:prstGeom prst="rect">
            <a:avLst/>
          </a:prstGeom>
          <a:solidFill>
            <a:srgbClr val="f4d6a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9. Los fundamentos que señala Descartes en su “Discurso del Método” se pueden resumir en los siguientes  fundamentos bajo  cuatro principi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El primero consistía en no admitir jamás cosa alguna como verdadera sin haber conocido con evidencia que así era (…).”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El segundo, en dividir cada una de las dificultades examinar en tantas partes como fuera posible y necesario para su mejor solución.”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El tercero, en conducir con orden mis pensamientos, empezando por los objetos más simples y más fáciles de conocer, para ascender poco a poco, gradualmente, hasta el conocimiento de los más complejos (…).”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Y el último, en hacer en todo enumeraciones tan completas y revisiones tan amplias, que llegase a estar seguro de no haber omitido nada.”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tracto del discurso del Método, Descar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 relación a lo leído más sus conocimientos, se puede establecer como correcta la(s) siguiente(s) afirmación(e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.  La única verdad es la realmente observable y medida a través de la experien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I. Se debe utilizar el análisis como base para la construcción de un nuevo conocimi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I. Se debe partir conociendo desde lo particular a lo gener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) Sólo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) Sólo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) Sólo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) Sólo I y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) Sólo I, II y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2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395280" y="1341360"/>
            <a:ext cx="8353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9. La clave correcta es B.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egunta de análisis. El enunciado I no correspond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ues Descartes plantea en su obra los principios del racionalismo por sobre 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mpirismo. Por su parte, el enunciado III hace referencia al método inductiv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ntrario al deductivismo que postula el pensador europeo. Finalmente, sólo 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nunciado II coincide con el planteamiento de la obra cumbre de Descar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250920" y="333360"/>
            <a:ext cx="8713800" cy="2562840"/>
          </a:xfrm>
          <a:prstGeom prst="rect">
            <a:avLst/>
          </a:prstGeom>
          <a:solidFill>
            <a:srgbClr val="f4d6a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. La Época Moderna fue una época de cambios económicos, sociales y culturales. Desde el punto de vista cultural, ¿cuál fue la principal transformación de la Época Moderna, en relación con lo que había ocurrido en Europa hasta entonc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Decadencia del espíritu religioso y la crisis final del Cristianis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 Desarrollo del conocimiento científico y sus aplicaciones técnic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) Consolidación de la influencia cultural árabe y orient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) Sincretismo entre las lenguas europeas y las american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) Consolidación del pensamiento escolást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79280" y="3141720"/>
            <a:ext cx="8713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. La clave correcta es 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Pregunta de comprensión. Durante la Épo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rna se verifica el despegue de la civilización europea de sus influe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lturales orientales, observables hasta el Humanismo, y el desarrollo de u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ructura de conocimiento científico, verdaderamente original. Las alternativas 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lsas: A, porque el Cristianismo se universaliza, gracias a los descubrimi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gráficos europeos; C, porque es contraria implícitamente a A; D, ya que 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utible que este sincretismo, verificado indudablemente en América, haya ten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una influencia en Europa en la Época Moderna, como lo exige el encabezado;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, más bien ocurrió lo contrario, ya que el pensamiento escolástico comenzó a 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erado con el racionalismo cartesiano (siglo XVII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7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0" name=""/>
          <p:cNvGraphicFramePr/>
          <p:nvPr/>
        </p:nvGraphicFramePr>
        <p:xfrm>
          <a:off x="2050920" y="692280"/>
          <a:ext cx="4176720" cy="5860800"/>
        </p:xfrm>
        <a:graphic>
          <a:graphicData uri="http://schemas.openxmlformats.org/drawingml/2006/table">
            <a:tbl>
              <a:tblPr/>
              <a:tblGrid>
                <a:gridCol w="865440"/>
                <a:gridCol w="1120680"/>
                <a:gridCol w="2190600"/>
              </a:tblGrid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E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LA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ABIL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ocimi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ocimi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ális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ns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ns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ocimi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ális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lic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ális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ns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ns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ocimi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ns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lic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ális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1" name=""/>
          <p:cNvSpPr/>
          <p:nvPr/>
        </p:nvSpPr>
        <p:spPr>
          <a:xfrm>
            <a:off x="2195640" y="260280"/>
            <a:ext cx="49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oadway"/>
              </a:rPr>
              <a:t>REVISEMOS LA GUÍA HU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0" y="6308640"/>
            <a:ext cx="1476360" cy="549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PREPARA PARA TU PRÓXIMA CLASE LOS SIGUIENTES CONTEN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3384360" cy="4896000"/>
          </a:xfrm>
          <a:prstGeom prst="rect">
            <a:avLst/>
          </a:prstGeom>
          <a:gradFill rotWithShape="0">
            <a:gsLst>
              <a:gs pos="0">
                <a:srgbClr val="8898ab"/>
              </a:gs>
              <a:gs pos="100000">
                <a:srgbClr val="c5dcf7"/>
              </a:gs>
            </a:gsLst>
            <a:lin ang="13500000"/>
          </a:gradFill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uptura de la unidad religiosa: Reforma y Contrarreforma; secularización de la vida social y cultur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ceptos cla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ig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tolicismo/ Protestantis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or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oción Moder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para estos contenidos con la ayuda de tu libro (páginas 155 a 16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>
            <a:hlinkClick r:id="" action="ppaction://hlinkshowjump?jump=firstslide"/>
          </p:cNvPr>
          <p:cNvSpPr/>
          <p:nvPr/>
        </p:nvSpPr>
        <p:spPr>
          <a:xfrm>
            <a:off x="7956720" y="5634000"/>
            <a:ext cx="1008000" cy="1224000"/>
          </a:xfrm>
          <a:custGeom>
            <a:avLst/>
            <a:gdLst>
              <a:gd name="textAreaLeft" fmla="*/ 65160 w 1008000"/>
              <a:gd name="textAreaRight" fmla="*/ 942840 w 1008000"/>
              <a:gd name="textAreaTop" fmla="*/ 65160 h 1224000"/>
              <a:gd name="textAreaBottom" fmla="*/ 1158840 h 1224000"/>
            </a:gdLst>
            <a:ahLst/>
            <a:rect l="textAreaLeft" t="textAreaTop" r="textAreaRight" b="textAreaBottom"/>
            <a:pathLst>
              <a:path w="21600" h="26227">
                <a:moveTo>
                  <a:pt x="0" y="0"/>
                </a:moveTo>
                <a:lnTo>
                  <a:pt x="21600" y="0"/>
                </a:lnTo>
                <a:lnTo>
                  <a:pt x="21600" y="26227"/>
                </a:lnTo>
                <a:lnTo>
                  <a:pt x="0" y="26227"/>
                </a:lnTo>
                <a:close/>
              </a:path>
              <a:path fill="lightenLess" w="21600" h="262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227">
                <a:moveTo>
                  <a:pt x="21600" y="0"/>
                </a:moveTo>
                <a:lnTo>
                  <a:pt x="21600" y="26227"/>
                </a:lnTo>
                <a:lnTo>
                  <a:pt x="20200" y="24827"/>
                </a:lnTo>
                <a:lnTo>
                  <a:pt x="20200" y="1400"/>
                </a:lnTo>
                <a:close/>
              </a:path>
              <a:path fill="darkenLess" w="21600" h="26227">
                <a:moveTo>
                  <a:pt x="21600" y="26227"/>
                </a:moveTo>
                <a:lnTo>
                  <a:pt x="0" y="26227"/>
                </a:lnTo>
                <a:lnTo>
                  <a:pt x="1400" y="24827"/>
                </a:lnTo>
                <a:lnTo>
                  <a:pt x="20200" y="24827"/>
                </a:lnTo>
                <a:close/>
              </a:path>
              <a:path fill="lighten" w="21600" h="26227">
                <a:moveTo>
                  <a:pt x="0" y="262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4827"/>
                </a:lnTo>
                <a:close/>
              </a:path>
              <a:path fill="darken" w="21600" h="26227">
                <a:moveTo>
                  <a:pt x="10800" y="6150"/>
                </a:moveTo>
                <a:lnTo>
                  <a:pt x="13376" y="8762"/>
                </a:lnTo>
                <a:lnTo>
                  <a:pt x="13376" y="7021"/>
                </a:lnTo>
                <a:lnTo>
                  <a:pt x="15152" y="7021"/>
                </a:lnTo>
                <a:lnTo>
                  <a:pt x="15152" y="10537"/>
                </a:lnTo>
                <a:lnTo>
                  <a:pt x="17763" y="13113"/>
                </a:lnTo>
                <a:lnTo>
                  <a:pt x="16109" y="13113"/>
                </a:lnTo>
                <a:lnTo>
                  <a:pt x="16109" y="20303"/>
                </a:lnTo>
                <a:lnTo>
                  <a:pt x="5491" y="20303"/>
                </a:lnTo>
                <a:lnTo>
                  <a:pt x="5491" y="13113"/>
                </a:lnTo>
                <a:lnTo>
                  <a:pt x="3837" y="13113"/>
                </a:lnTo>
                <a:close/>
              </a:path>
              <a:path fill="darkenLess" w="21600" h="26227">
                <a:moveTo>
                  <a:pt x="13376" y="8762"/>
                </a:moveTo>
                <a:lnTo>
                  <a:pt x="13376" y="7021"/>
                </a:lnTo>
                <a:lnTo>
                  <a:pt x="15152" y="7021"/>
                </a:lnTo>
                <a:lnTo>
                  <a:pt x="15152" y="10537"/>
                </a:lnTo>
                <a:close/>
              </a:path>
              <a:path fill="darkenLess" w="21600" h="26227">
                <a:moveTo>
                  <a:pt x="9877" y="16612"/>
                </a:moveTo>
                <a:lnTo>
                  <a:pt x="11723" y="16612"/>
                </a:lnTo>
                <a:lnTo>
                  <a:pt x="11723" y="20303"/>
                </a:lnTo>
                <a:lnTo>
                  <a:pt x="16109" y="20303"/>
                </a:lnTo>
                <a:lnTo>
                  <a:pt x="16109" y="13113"/>
                </a:lnTo>
                <a:lnTo>
                  <a:pt x="5491" y="13113"/>
                </a:lnTo>
                <a:lnTo>
                  <a:pt x="5491" y="20303"/>
                </a:lnTo>
                <a:lnTo>
                  <a:pt x="9877" y="20303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0" y="6308640"/>
            <a:ext cx="1476360" cy="5493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4356000" y="1341360"/>
            <a:ext cx="3810240" cy="41022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5619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¿Qué estudiaremos en esta cla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5280" y="836640"/>
            <a:ext cx="345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CONTEN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95640" y="907920"/>
            <a:ext cx="46087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APRENDIZAJES ESPE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6308640"/>
            <a:ext cx="1476360" cy="54936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140360" y="1197000"/>
            <a:ext cx="4824360" cy="5111640"/>
          </a:xfrm>
          <a:prstGeom prst="rect">
            <a:avLst/>
          </a:prstGeom>
          <a:gradFill rotWithShape="0">
            <a:gsLst>
              <a:gs pos="0">
                <a:srgbClr val="ccff66"/>
              </a:gs>
              <a:gs pos="100000">
                <a:srgbClr val="8db1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conocer como uno de los ras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l período la audacia y el espíritu emprendedor que se manifiesta en la conquista territorial, en el arte, el pensamiento y las costumbres, y 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urgimiento del método como herramienta de conocimi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conocer al ser humano como el creador de la sociedad y de sus relaciones, considera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ogros como el espíritu crítico e indagador que se traduce en una relación nueva con la naturalez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n tu libro estos  contenidos están  desde la página 131 hasta la 13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1197000"/>
            <a:ext cx="3816360" cy="51116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a9a96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os descubrimientos científico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de los siglos XVI al XVIII y sus efectos en la vida material y cultural de Europa, considerando los cambios en la vida cotidiana y en las visiones de mund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l concepto d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“razó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” y discusión sobre sus efectos en el mundo moder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nceptos cla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mpiris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azón/ Racionalis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étodo científ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500"/>
                            </p:stCondLst>
                            <p:childTnLst>
                              <p:par>
                                <p:cTn id="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476360" y="3213000"/>
            <a:ext cx="331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403280" y="0"/>
            <a:ext cx="5118120" cy="6669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545000" y="11033280"/>
            <a:ext cx="76320" cy="759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4545000" y="11033280"/>
            <a:ext cx="76320" cy="759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4545000" y="11033280"/>
            <a:ext cx="76320" cy="759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5256360" y="2708280"/>
            <a:ext cx="3419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"Lo que sabemos es una gota de agua; lo que ignoramos es el océano.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Isaac Newt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435640" y="1268280"/>
            <a:ext cx="35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"Si he hecho descubrimientos invaluables ha sido más por tener paciencia que cualqu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tro talento.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Bookman Old Style"/>
              </a:rPr>
              <a:t>CIENCIA</a:t>
            </a:r>
            <a:r>
              <a:rPr b="1" i="1" lang="en-US" sz="4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n-US" sz="4000" spc="-1" strike="noStrike">
                <a:solidFill>
                  <a:srgbClr val="ffffff"/>
                </a:solidFill>
                <a:latin typeface="Bookman Old Style"/>
              </a:rPr>
              <a:t>Y TÉCNICA EN LA</a:t>
            </a:r>
            <a:r>
              <a:rPr b="1" i="1" lang="en-US" sz="4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n-US" sz="4000" spc="-1" strike="noStrike">
                <a:solidFill>
                  <a:srgbClr val="ffffff"/>
                </a:solidFill>
                <a:latin typeface="Bookman Old Style"/>
              </a:rPr>
              <a:t>MODERNID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9280" y="1413000"/>
            <a:ext cx="8604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s uno de los procesos claves del período,  Si bien nace bajo la influencia  de las obras grecolatinas y bajo la influencia del pensamiento científico hebreo y árabe medieval, termina rompiendo con ellos para forjar un pensamiento científico europe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042920" y="2997360"/>
            <a:ext cx="3313080" cy="146556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parece el concepto de ingeniero artista, hombre que posee la técnica y desarrolla la sensibilidad artíst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859280" y="2492280"/>
            <a:ext cx="3198960" cy="4057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6" name=""/>
          <p:cNvSpPr/>
          <p:nvPr/>
        </p:nvSpPr>
        <p:spPr>
          <a:xfrm>
            <a:off x="1116000" y="4941720"/>
            <a:ext cx="34560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EONARDO DA VINC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mbre de inteligencia enciclopédica que lo llevó a explorar áreas como la física, la anatomía, la ciencia experimental y los artificios mecánic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0" y="6308640"/>
            <a:ext cx="1476360" cy="549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Bookman Old Style"/>
              </a:rPr>
              <a:t>CIENCIA Y TÉCNICA EN EL RENACIMIENT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71640" y="148428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 todos los aportes renacentistas, el científico es el más irregular y el de menor desarrollo.  Sin embargo, tres ámbitos se destacar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324000" y="2565360"/>
            <a:ext cx="2592360" cy="4100400"/>
            <a:chOff x="324000" y="2565360"/>
            <a:chExt cx="2592360" cy="4100400"/>
          </a:xfrm>
        </p:grpSpPr>
        <p:sp>
          <p:nvSpPr>
            <p:cNvPr id="131" name=""/>
            <p:cNvSpPr/>
            <p:nvPr/>
          </p:nvSpPr>
          <p:spPr>
            <a:xfrm>
              <a:off x="468360" y="2565360"/>
              <a:ext cx="2305080" cy="122544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11280" y="2924280"/>
              <a:ext cx="201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ATEMÁTIC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24000" y="4508640"/>
              <a:ext cx="2592360" cy="2157120"/>
            </a:xfrm>
            <a:prstGeom prst="rect">
              <a:avLst/>
            </a:prstGeom>
            <a:solidFill>
              <a:srgbClr val="aae674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Arial"/>
                </a:rPr>
                <a:t>Difusión de los clásicos: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Arial"/>
                </a:rPr>
                <a:t>Euclides, Arquímides, Eratóstenes, Ptolomeo. Desarrollo del álgebra y la trigonometrí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547640" y="3789360"/>
              <a:ext cx="0" cy="71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2771640" y="2565360"/>
            <a:ext cx="3024360" cy="3134520"/>
            <a:chOff x="2771640" y="2565360"/>
            <a:chExt cx="3024360" cy="3134520"/>
          </a:xfrm>
        </p:grpSpPr>
        <p:sp>
          <p:nvSpPr>
            <p:cNvPr id="136" name=""/>
            <p:cNvSpPr/>
            <p:nvPr/>
          </p:nvSpPr>
          <p:spPr>
            <a:xfrm>
              <a:off x="3276720" y="2565360"/>
              <a:ext cx="2305080" cy="1225440"/>
            </a:xfrm>
            <a:prstGeom prst="ellipse">
              <a:avLst/>
            </a:prstGeom>
            <a:gradFill rotWithShape="0">
              <a:gsLst>
                <a:gs pos="0">
                  <a:srgbClr val="00ccff"/>
                </a:gs>
                <a:gs pos="100000">
                  <a:srgbClr val="005e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64000" y="2924280"/>
              <a:ext cx="194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EDICI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771640" y="306864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203640" y="4508640"/>
              <a:ext cx="2592360" cy="1191240"/>
            </a:xfrm>
            <a:prstGeom prst="rect">
              <a:avLst/>
            </a:prstGeom>
            <a:solidFill>
              <a:srgbClr val="87ddd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Arial"/>
                </a:rPr>
                <a:t>Vesalio funda las bases de la anatomía moderna, sustentada en la observ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500720" y="3789360"/>
              <a:ext cx="0" cy="71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5580000" y="2565360"/>
            <a:ext cx="3024360" cy="3683160"/>
            <a:chOff x="5580000" y="2565360"/>
            <a:chExt cx="3024360" cy="3683160"/>
          </a:xfrm>
        </p:grpSpPr>
        <p:sp>
          <p:nvSpPr>
            <p:cNvPr id="142" name=""/>
            <p:cNvSpPr/>
            <p:nvPr/>
          </p:nvSpPr>
          <p:spPr>
            <a:xfrm>
              <a:off x="6012000" y="2565360"/>
              <a:ext cx="2305080" cy="1225440"/>
            </a:xfrm>
            <a:prstGeom prst="ellipse">
              <a:avLst/>
            </a:prstGeom>
            <a:gradFill rotWithShape="0">
              <a:gsLst>
                <a:gs pos="0">
                  <a:srgbClr val="fa9258"/>
                </a:gs>
                <a:gs pos="100000">
                  <a:srgbClr val="73432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012000" y="2924280"/>
              <a:ext cx="25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STRONOMÍ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580000" y="3068640"/>
              <a:ext cx="4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012000" y="4508640"/>
              <a:ext cx="2592360" cy="1739880"/>
            </a:xfrm>
            <a:prstGeom prst="rect">
              <a:avLst/>
            </a:prstGeom>
            <a:solidFill>
              <a:srgbClr val="f6daa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Teoría Heliocéntricas de Nicolás Copérnico: el centro del Universo era el sol  y la tierra gira en torno a él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164360" y="3789360"/>
              <a:ext cx="0" cy="71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plit dir="in" orient="ver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man Old Style"/>
              </a:rPr>
              <a:t>La ciencia renacentista: </a:t>
            </a:r>
            <a:br>
              <a:rPr sz="2800"/>
            </a:br>
            <a:r>
              <a:rPr b="1" i="1" lang="en-US" sz="2800" spc="-1" strike="noStrike">
                <a:solidFill>
                  <a:srgbClr val="ffffff"/>
                </a:solidFill>
                <a:latin typeface="Bookman Old Style"/>
              </a:rPr>
              <a:t>La revolución copernic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250920" y="1197000"/>
            <a:ext cx="8704080" cy="5033880"/>
            <a:chOff x="250920" y="1197000"/>
            <a:chExt cx="8704080" cy="5033880"/>
          </a:xfrm>
        </p:grpSpPr>
        <p:sp>
          <p:nvSpPr>
            <p:cNvPr id="149" name=""/>
            <p:cNvSpPr/>
            <p:nvPr/>
          </p:nvSpPr>
          <p:spPr>
            <a:xfrm>
              <a:off x="3059280" y="2060640"/>
              <a:ext cx="2447640" cy="11912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pérnico y el paradigma heliocéntrico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0" name="" descr=""/>
            <p:cNvPicPr/>
            <p:nvPr/>
          </p:nvPicPr>
          <p:blipFill>
            <a:blip r:embed="rId1"/>
            <a:stretch/>
          </p:blipFill>
          <p:spPr>
            <a:xfrm>
              <a:off x="5867280" y="1197000"/>
              <a:ext cx="3087720" cy="501336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pic>
          <p:nvPicPr>
            <p:cNvPr id="151" name="" descr=""/>
            <p:cNvPicPr/>
            <p:nvPr/>
          </p:nvPicPr>
          <p:blipFill>
            <a:blip r:embed="rId2"/>
            <a:stretch/>
          </p:blipFill>
          <p:spPr>
            <a:xfrm>
              <a:off x="250920" y="1700280"/>
              <a:ext cx="2423880" cy="373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" descr=""/>
            <p:cNvPicPr/>
            <p:nvPr/>
          </p:nvPicPr>
          <p:blipFill>
            <a:blip r:embed="rId3"/>
            <a:stretch/>
          </p:blipFill>
          <p:spPr>
            <a:xfrm>
              <a:off x="2843280" y="3860640"/>
              <a:ext cx="2808360" cy="237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0" y="6308640"/>
            <a:ext cx="1476360" cy="549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9079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Bookman Old Style"/>
              </a:rPr>
              <a:t>Desarrollo Técnic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1197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 ámbitos más favorecidos con los avances técnicos del período  corresponden 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1773360"/>
            <a:ext cx="4103640" cy="2665800"/>
          </a:xfrm>
          <a:prstGeom prst="rect">
            <a:avLst/>
          </a:prstGeom>
          <a:solidFill>
            <a:srgbClr val="ccff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MUNDO MILIT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as técnicas de guerra, ingeniería y arquitectura militar tuvieron una notable expans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parece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as armas de fuego individuales como  el mosquet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ayudado por las nuevas técnicas de fundición de hier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148360" y="1700280"/>
            <a:ext cx="3135240" cy="4797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468360" y="4508640"/>
            <a:ext cx="4103640" cy="1971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9" name=""/>
          <p:cNvSpPr/>
          <p:nvPr/>
        </p:nvSpPr>
        <p:spPr>
          <a:xfrm flipV="1">
            <a:off x="3995640" y="2276640"/>
            <a:ext cx="158436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79280" y="549360"/>
            <a:ext cx="5040360" cy="1425600"/>
          </a:xfrm>
          <a:prstGeom prst="rect">
            <a:avLst/>
          </a:prstGeom>
          <a:solidFill>
            <a:srgbClr val="f4d6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) ARTES DE NAVEGA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Especialmente la cartografía.  Nacen en esta época el primer mapamundi de proyección cilíndrica (modelo Mercat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219640" y="333360"/>
            <a:ext cx="2381400" cy="26290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4500720" y="3357720"/>
            <a:ext cx="4319280" cy="31082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468360" y="3357720"/>
            <a:ext cx="4081320" cy="31320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7020000" y="2565360"/>
            <a:ext cx="212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reador de la proyección de Mercator, el flamenco Gerhard Kresser (152-159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5T03:30:29Z</dcterms:created>
  <dc:creator>WinuE</dc:creator>
  <dc:description/>
  <dc:language>en-US</dc:language>
  <cp:lastModifiedBy>WinuE</cp:lastModifiedBy>
  <dcterms:modified xsi:type="dcterms:W3CDTF">2008-06-03T04:25:28Z</dcterms:modified>
  <cp:revision>46</cp:revision>
  <dc:subject/>
  <dc:title>Diapositiva 1</dc:title>
</cp:coreProperties>
</file>