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BF3-382A-46AA-A24E-2BD60AD78C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A7BF-17B3-41D2-B00F-F8749D90E0F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imágenes son solo de referencia conceptual; no tienen relación con la época medie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5A32-4024-4D51-9387-65F2E49AD25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números corresponden a : 1, Corona, 2 llaves de los dominios del Rey, 3, em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90B3-6CE0-4F6D-BE00-66E057555C8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006D-AD65-4E36-A7E5-FC3DD7B6A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89F6-F02D-4CEA-A095-C637F021F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BB0A-C7A3-4073-A661-BE86D30E3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D259-5B61-4F5B-A69F-CD3E5CCCE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3564C-5CB1-4E93-A622-74C57BEB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001F4-E4DA-4139-B36F-7147C81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FCCE5-9E96-4980-ACD0-2CDAF165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D098C-D1AA-42DD-96C1-8424D81C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A0121-2850-4440-B92B-022E5240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35917-BA7A-4E5E-BB49-F4799AB3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6DE23-5267-4362-8CEF-F6D8859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C4AA-AE90-4A31-A526-2D9BFA306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990ED-5878-4F00-AFCB-29AF8658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0C2F2-BBDF-4773-85B9-B6C2ACF1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3AEA0-CA7A-4F53-8F28-FB886CB4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FB758-4AD9-4F25-A895-D64C5C84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71D1C-F3E5-434B-BD69-080D216E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211B-6903-414C-AB79-DE7CF990C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1F7E-50CA-42CE-B640-9D597C665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D082-5588-41A0-887F-E8DD5A505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345F-C99E-4195-9DD8-8388CFB61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7A2B-1CC3-4377-8795-EFF284CE1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AB4C-B3D5-4A16-9FCD-2BE66E80C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FE61-04DD-44A1-B4C4-8D335D5B4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D981-F876-457A-93D1-D51CBF78616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B7C6-A936-469C-A278-AB948563040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7200720" cy="2087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Bookman Old Style"/>
              </a:rPr>
              <a:t>CLASE 9:</a:t>
            </a: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SOCIEDAD MEDIEVAL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CONSECUENCIAS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 DEL FEUD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65feudalismo-sociedad"/>
          <p:cNvPicPr/>
          <p:nvPr/>
        </p:nvPicPr>
        <p:blipFill>
          <a:blip r:embed="rId2"/>
          <a:stretch/>
        </p:blipFill>
        <p:spPr>
          <a:xfrm>
            <a:off x="3708360" y="2852640"/>
            <a:ext cx="2881440" cy="38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333360"/>
            <a:ext cx="79200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l feudalismo y la actividad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964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 el feudalismo entró en decadencia la actividad comercial y los intercambios con mone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3213000"/>
            <a:ext cx="1584360" cy="72072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5280" y="5084640"/>
            <a:ext cx="82090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su lugar se desarrollaron los intercambios locales sobre la base del trueque (bienes por servicios, o productos por productos) y la redistribución entre los nobles de los excedentes de la producción campe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inventor%20billete"/>
          <p:cNvPicPr/>
          <p:nvPr/>
        </p:nvPicPr>
        <p:blipFill>
          <a:blip r:embed="rId1"/>
          <a:stretch/>
        </p:blipFill>
        <p:spPr>
          <a:xfrm>
            <a:off x="5148360" y="2205000"/>
            <a:ext cx="3495600" cy="260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7" name="Picture 15" descr="59d7_1"/>
          <p:cNvPicPr/>
          <p:nvPr/>
        </p:nvPicPr>
        <p:blipFill>
          <a:blip r:embed="rId2"/>
          <a:stretch/>
        </p:blipFill>
        <p:spPr>
          <a:xfrm>
            <a:off x="826920" y="2133720"/>
            <a:ext cx="2664000" cy="2511360"/>
          </a:xfrm>
          <a:prstGeom prst="rect">
            <a:avLst/>
          </a:prstGeom>
          <a:ln w="0">
            <a:noFill/>
          </a:ln>
        </p:spPr>
      </p:pic>
      <p:sp>
        <p:nvSpPr>
          <p:cNvPr id="158" name="Line 16"/>
          <p:cNvSpPr/>
          <p:nvPr/>
        </p:nvSpPr>
        <p:spPr>
          <a:xfrm flipV="1">
            <a:off x="0" y="1989000"/>
            <a:ext cx="395928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250920" y="1916280"/>
            <a:ext cx="4103640" cy="27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611280" y="765000"/>
            <a:ext cx="7848360" cy="4597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man Old Style"/>
              </a:rPr>
              <a:t>¿Quiénes eran los señores en el feudal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Carlomagno"/>
          <p:cNvPicPr/>
          <p:nvPr/>
        </p:nvPicPr>
        <p:blipFill>
          <a:blip r:embed="rId1"/>
          <a:stretch/>
        </p:blipFill>
        <p:spPr>
          <a:xfrm>
            <a:off x="539640" y="2565360"/>
            <a:ext cx="20527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Text Box 11"/>
          <p:cNvSpPr/>
          <p:nvPr/>
        </p:nvSpPr>
        <p:spPr>
          <a:xfrm>
            <a:off x="395280" y="587700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os estamentos controlaban gran poder polít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seían territorios, ejércitos, burocracia, y administraban just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man Old Style"/>
              </a:rPr>
              <a:t>B. CONSECUENCIAS EN L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papa"/>
          <p:cNvPicPr/>
          <p:nvPr/>
        </p:nvPicPr>
        <p:blipFill>
          <a:blip r:embed="rId2"/>
          <a:stretch/>
        </p:blipFill>
        <p:spPr>
          <a:xfrm>
            <a:off x="3132000" y="2997360"/>
            <a:ext cx="2676600" cy="28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5" name="Oval 17"/>
          <p:cNvSpPr/>
          <p:nvPr/>
        </p:nvSpPr>
        <p:spPr>
          <a:xfrm>
            <a:off x="3492360" y="1628640"/>
            <a:ext cx="2303640" cy="863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p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6372360" y="1628640"/>
            <a:ext cx="2303280" cy="863640"/>
          </a:xfrm>
          <a:prstGeom prst="ellipse">
            <a:avLst/>
          </a:prstGeom>
          <a:solidFill>
            <a:srgbClr val="afe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nob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395280" y="1628640"/>
            <a:ext cx="2303640" cy="863640"/>
          </a:xfrm>
          <a:prstGeom prst="ellipse">
            <a:avLst/>
          </a:prstGeom>
          <a:solidFill>
            <a:srgbClr val="da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BAA10427"/>
          <p:cNvPicPr/>
          <p:nvPr/>
        </p:nvPicPr>
        <p:blipFill>
          <a:blip r:embed="rId3"/>
          <a:stretch/>
        </p:blipFill>
        <p:spPr>
          <a:xfrm>
            <a:off x="6372360" y="2637000"/>
            <a:ext cx="227160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" name="Line 22"/>
          <p:cNvSpPr/>
          <p:nvPr/>
        </p:nvSpPr>
        <p:spPr>
          <a:xfrm>
            <a:off x="2700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5795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2"/>
          <p:cNvGrpSpPr/>
          <p:nvPr/>
        </p:nvGrpSpPr>
        <p:grpSpPr>
          <a:xfrm>
            <a:off x="0" y="0"/>
            <a:ext cx="8964720" cy="6296040"/>
            <a:chOff x="0" y="0"/>
            <a:chExt cx="8964720" cy="6296040"/>
          </a:xfrm>
        </p:grpSpPr>
        <p:sp>
          <p:nvSpPr>
            <p:cNvPr id="172" name="Text Box 2"/>
            <p:cNvSpPr/>
            <p:nvPr/>
          </p:nvSpPr>
          <p:spPr>
            <a:xfrm>
              <a:off x="0" y="0"/>
              <a:ext cx="896472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política feudal: el debilitamiento de la monarqu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"/>
            <p:cNvSpPr/>
            <p:nvPr/>
          </p:nvSpPr>
          <p:spPr>
            <a:xfrm>
              <a:off x="324000" y="863640"/>
              <a:ext cx="8389800" cy="642600"/>
            </a:xfrm>
            <a:prstGeom prst="rect">
              <a:avLst/>
            </a:prstGeom>
            <a:solidFill>
              <a:srgbClr val="acf2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ebido al desarrollo del feudalismo, los monarcas perdieron gran parte de sus atribuciones como consecuencia del fortalecimiento del Papado y de la Noblez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4" descr="00GregorioMagno"/>
            <p:cNvPicPr/>
            <p:nvPr/>
          </p:nvPicPr>
          <p:blipFill>
            <a:blip r:embed="rId1"/>
            <a:stretch/>
          </p:blipFill>
          <p:spPr>
            <a:xfrm>
              <a:off x="324000" y="1871640"/>
              <a:ext cx="2631960" cy="3313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5" name="Picture 5" descr="Carlomagno"/>
            <p:cNvPicPr/>
            <p:nvPr/>
          </p:nvPicPr>
          <p:blipFill>
            <a:blip r:embed="rId2"/>
            <a:stretch/>
          </p:blipFill>
          <p:spPr>
            <a:xfrm>
              <a:off x="3708360" y="2592360"/>
              <a:ext cx="1428840" cy="230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6" name="Picture 6" descr="Sociedad agraria medieval"/>
            <p:cNvPicPr/>
            <p:nvPr/>
          </p:nvPicPr>
          <p:blipFill>
            <a:blip r:embed="rId3"/>
            <a:stretch/>
          </p:blipFill>
          <p:spPr>
            <a:xfrm>
              <a:off x="5761080" y="1916280"/>
              <a:ext cx="2975040" cy="3384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77" name="AutoShape 7"/>
            <p:cNvSpPr/>
            <p:nvPr/>
          </p:nvSpPr>
          <p:spPr>
            <a:xfrm>
              <a:off x="3059280" y="3384720"/>
              <a:ext cx="57636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"/>
            <p:cNvSpPr/>
            <p:nvPr/>
          </p:nvSpPr>
          <p:spPr>
            <a:xfrm rot="10800000">
              <a:off x="5219640" y="3384720"/>
              <a:ext cx="43200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0920" y="5327640"/>
              <a:ext cx="324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urante la Teocracia Pontificia, los Papas eran quienes investían a los rey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4284720" y="5472000"/>
              <a:ext cx="468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Fruto del desarrollo del feudalismo, la nobleza pasó a poseer ejército propio, justicia, impuest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smembramiento territorial de los Estados,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dad Me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95280" y="105264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algunos países el feudalismo exacerbó el poder local de la nobleza y de los príncipes territoriales, en perjuicio del poder unitario y centralista de los r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Mapa de Europa medieval"/>
          <p:cNvPicPr/>
          <p:nvPr/>
        </p:nvPicPr>
        <p:blipFill>
          <a:blip r:embed="rId1"/>
          <a:stretch/>
        </p:blipFill>
        <p:spPr>
          <a:xfrm>
            <a:off x="2411280" y="1725480"/>
            <a:ext cx="6443640" cy="5132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84" name="Text Box 7"/>
          <p:cNvSpPr/>
          <p:nvPr/>
        </p:nvSpPr>
        <p:spPr>
          <a:xfrm>
            <a:off x="0" y="2781360"/>
            <a:ext cx="24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división territorial fue el reflejo de las relaciones políticas y sociales que provocó el Feud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395280" y="1916280"/>
            <a:ext cx="28083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España (Castilla, León, Aragón, et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Fra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Alem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227640" y="1557360"/>
            <a:ext cx="273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Sustentada en el principio de que el poder del Rey está en el patrimonio del que dispone pero que no necesariamente  administra direct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635280" y="177336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Vasallos del monarca imponen la ocupación de los cargos públicos y lo heredable de el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3878280"/>
            <a:ext cx="2952720" cy="270576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centralización de la burocracia estatal y de la monarq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de los principados (disminuyen los vasallos del Rey y aumenta el nº de vasallos de príncipes territori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419640" y="3429000"/>
            <a:ext cx="2952720" cy="3123000"/>
          </a:xfrm>
          <a:prstGeom prst="rect">
            <a:avLst/>
          </a:prstGeom>
          <a:solidFill>
            <a:srgbClr val="b8ec8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usión entre las funciones públicas y la propiedad privada de los funcio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ierden significado conceptos como el de 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recho escrito cede paso al Derecho consuetu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83528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4788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606840"/>
            <a:ext cx="2376720" cy="2980080"/>
          </a:xfrm>
          <a:prstGeom prst="rect">
            <a:avLst/>
          </a:prstGeom>
          <a:solidFill>
            <a:srgbClr val="f2ee5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monarquía  intenta recupera sus territorios con apoyo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de el siglo XI el objetivo del Rey  fue contrarrestar la autarquía y autonomía de los vasa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50920" y="765000"/>
            <a:ext cx="2808360" cy="916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9a17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320364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daf7a7"/>
              </a:gs>
              <a:gs pos="100000">
                <a:srgbClr val="acc384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615636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19f38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667640" y="3141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Bookman Old Style"/>
              </a:rPr>
              <a:t>EN SUMA, EL FEUDALISMO PROVOCÓ EN LO POLÍTIC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95280" y="260280"/>
            <a:ext cx="568944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3. CONSECUENCIA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L FEUD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piramide feudal"/>
          <p:cNvPicPr/>
          <p:nvPr/>
        </p:nvPicPr>
        <p:blipFill>
          <a:blip r:embed="rId1"/>
          <a:stretch/>
        </p:blipFill>
        <p:spPr>
          <a:xfrm>
            <a:off x="6599160" y="0"/>
            <a:ext cx="254484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539640" y="2565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el Feudalismo se basaba en la entrega de un feudo por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68360" y="328464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a entrega la hacía un señor a otro noble, que pasaba a ser considerado su vas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8360" y="4005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 este modo, se estableció una jerarquía de señores y vasallos que cruzó a toda la sociedad. Cada uno de ellos controlaba a su propi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95280" y="5157720"/>
            <a:ext cx="6048360" cy="119124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sí,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ociedad mediev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pasó a estar j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rarquizad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del modo siguiente: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REALEZA, L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que incluye a los altos dignatarios de la Iglesia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BAJ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caballeros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24000" y="1557360"/>
            <a:ext cx="6048360" cy="8254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sociedad medieval: una sociedad jerarquizada y pirami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12"/>
          <p:cNvGrpSpPr/>
          <p:nvPr/>
        </p:nvGrpSpPr>
        <p:grpSpPr>
          <a:xfrm>
            <a:off x="539640" y="404640"/>
            <a:ext cx="8353440" cy="5334120"/>
            <a:chOff x="539640" y="404640"/>
            <a:chExt cx="8353440" cy="5334120"/>
          </a:xfrm>
        </p:grpSpPr>
        <p:sp>
          <p:nvSpPr>
            <p:cNvPr id="206" name="Text Box 2"/>
            <p:cNvSpPr/>
            <p:nvPr/>
          </p:nvSpPr>
          <p:spPr>
            <a:xfrm>
              <a:off x="539640" y="404640"/>
              <a:ext cx="792000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sociedad feudal: una sociedad estament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"/>
            <p:cNvSpPr/>
            <p:nvPr/>
          </p:nvSpPr>
          <p:spPr>
            <a:xfrm>
              <a:off x="611280" y="1197000"/>
              <a:ext cx="8136000" cy="91692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Recuerda que  un estamento es una agrupación social que se reconoce por características asociadas a la herencia, al nacimiento, a formas de identificación externa (la ropa, el idioma, etc.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4" descr="Vida de la nobleza 02"/>
            <p:cNvPicPr/>
            <p:nvPr/>
          </p:nvPicPr>
          <p:blipFill>
            <a:blip r:embed="rId1"/>
            <a:stretch/>
          </p:blipFill>
          <p:spPr>
            <a:xfrm>
              <a:off x="539640" y="2349360"/>
              <a:ext cx="2086200" cy="1422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9" name="Picture 5" descr="La nobleza y realeza en tiempos de Carlomagno"/>
            <p:cNvPicPr/>
            <p:nvPr/>
          </p:nvPicPr>
          <p:blipFill>
            <a:blip r:embed="rId2"/>
            <a:stretch/>
          </p:blipFill>
          <p:spPr>
            <a:xfrm>
              <a:off x="539640" y="3716280"/>
              <a:ext cx="2087640" cy="2022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10" name="Picture 6" descr="Soldados medievales"/>
            <p:cNvPicPr/>
            <p:nvPr/>
          </p:nvPicPr>
          <p:blipFill>
            <a:blip r:embed="rId3"/>
            <a:stretch/>
          </p:blipFill>
          <p:spPr>
            <a:xfrm>
              <a:off x="2771640" y="2349360"/>
              <a:ext cx="3816360" cy="33768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11" name="Text Box 7"/>
            <p:cNvSpPr/>
            <p:nvPr/>
          </p:nvSpPr>
          <p:spPr>
            <a:xfrm>
              <a:off x="6732720" y="2421000"/>
              <a:ext cx="216036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En este tipo de sociedad la movilidad es muy limitada: era muy difícil ascender socialme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SE NACE CAMPESINO Y SE MUERE COMO TAL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39640" y="620640"/>
            <a:ext cx="2808360" cy="633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A. LA REA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95280" y="1844640"/>
            <a:ext cx="33861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urante el Feudalismo el Rey está desprovisto de muchos de los poderes que había gozado durante la época de los Imperios territo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ntenta recuperar su poder gracias al desarrollo de l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zeranía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rey es soberano, no sólo de sus vasallos, sino también de los vasallos de sus vasa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Orona-llaves-emblema"/>
          <p:cNvPicPr/>
          <p:nvPr/>
        </p:nvPicPr>
        <p:blipFill>
          <a:blip r:embed="rId1"/>
          <a:stretch/>
        </p:blipFill>
        <p:spPr>
          <a:xfrm>
            <a:off x="4211640" y="836640"/>
            <a:ext cx="3873600" cy="524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2"/>
          <p:cNvSpPr/>
          <p:nvPr/>
        </p:nvSpPr>
        <p:spPr>
          <a:xfrm>
            <a:off x="611280" y="189000"/>
            <a:ext cx="7632720" cy="63324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B. LA NOBLEZA Y LA CABALL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211640" y="1052640"/>
            <a:ext cx="4681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sistema feudal nació y  se organizó en la idea de sostener una clase mil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 peculiaridad radica en la conciencia social, la Iglesia contribuye  fomentando una mentalidad caballeresca:  Los caballeros debían emplear sus armas a favor de la justic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Iglesia define un código ético para los caballe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samblea de Paz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tomar armas sólo en condiciones justas, respetando los campos cultivados, los pobres y las mujer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gua de Di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los caballeros no pueden luchar jueves, viernes, sábado y doming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caballería no sólo implica destreza militar, sino también, código de honor y una educ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5" descr="armadura-caballo"/>
          <p:cNvPicPr/>
          <p:nvPr/>
        </p:nvPicPr>
        <p:blipFill>
          <a:blip r:embed="rId1"/>
          <a:stretch/>
        </p:blipFill>
        <p:spPr>
          <a:xfrm>
            <a:off x="0" y="1125360"/>
            <a:ext cx="414036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6"/>
          <p:cNvSpPr/>
          <p:nvPr/>
        </p:nvSpPr>
        <p:spPr>
          <a:xfrm>
            <a:off x="0" y="32115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N LA ESTRUCTURA FEUDAL EL TRABAJO ERA UN OFICIO INNOBLE, EL QUE ERA DISFRUTADO POR LOS ESTAMENTOS SUPERIORES PERO QUE ERA DESARROLLADO POR   LOS SECTORES MÁS BAJOS DE LA SOCIEDAD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1116000" y="260280"/>
            <a:ext cx="6264360" cy="2951280"/>
            <a:chOff x="1116000" y="260280"/>
            <a:chExt cx="6264360" cy="2951280"/>
          </a:xfrm>
        </p:grpSpPr>
        <p:sp>
          <p:nvSpPr>
            <p:cNvPr id="220" name="Text Box 2"/>
            <p:cNvSpPr/>
            <p:nvPr/>
          </p:nvSpPr>
          <p:spPr>
            <a:xfrm>
              <a:off x="1116000" y="260280"/>
              <a:ext cx="626436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C. TRABAJADORES RURAL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7" descr="campesinos3"/>
            <p:cNvPicPr/>
            <p:nvPr/>
          </p:nvPicPr>
          <p:blipFill>
            <a:blip r:embed="rId1"/>
            <a:stretch/>
          </p:blipFill>
          <p:spPr>
            <a:xfrm>
              <a:off x="1116000" y="692280"/>
              <a:ext cx="6264360" cy="2519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222" name="Text Box 12"/>
          <p:cNvSpPr/>
          <p:nvPr/>
        </p:nvSpPr>
        <p:spPr>
          <a:xfrm>
            <a:off x="611280" y="5589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203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s actividades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79280" y="4221000"/>
            <a:ext cx="3095640" cy="10598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trabajo directo de la tier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IERVOS DE LA GL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348000" y="5373720"/>
            <a:ext cx="27352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artesanía y herrería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RTESAN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ERRER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6012000" y="4221000"/>
            <a:ext cx="266544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ervicio personal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DOMÉ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4643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565164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 flipH="1">
            <a:off x="3276720" y="44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¿Recuerdas lo que estudiamos en la clase a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250920" y="1413000"/>
            <a:ext cx="8281800" cy="4751280"/>
            <a:chOff x="250920" y="1413000"/>
            <a:chExt cx="8281800" cy="4751280"/>
          </a:xfrm>
        </p:grpSpPr>
        <p:sp>
          <p:nvSpPr>
            <p:cNvPr id="91" name="Text Box 3"/>
            <p:cNvSpPr/>
            <p:nvPr/>
          </p:nvSpPr>
          <p:spPr>
            <a:xfrm>
              <a:off x="684360" y="1413000"/>
              <a:ext cx="41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man Old Style"/>
                </a:rPr>
                <a:t>Haz memoria: estudiamo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"/>
            <p:cNvSpPr/>
            <p:nvPr/>
          </p:nvSpPr>
          <p:spPr>
            <a:xfrm>
              <a:off x="250920" y="3068640"/>
              <a:ext cx="1657080" cy="1512720"/>
            </a:xfrm>
            <a:prstGeom prst="ellipse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706e2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Feudal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1979640" y="1916280"/>
              <a:ext cx="1224000" cy="433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2050920" y="3573360"/>
              <a:ext cx="1152720" cy="576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>
              <a:off x="2050920" y="5445000"/>
              <a:ext cx="1152720" cy="432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3419640" y="1773360"/>
              <a:ext cx="2160360" cy="1008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65e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3564000" y="3213000"/>
              <a:ext cx="2160360" cy="12956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88a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Anteced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"/>
            <p:cNvSpPr/>
            <p:nvPr/>
          </p:nvSpPr>
          <p:spPr>
            <a:xfrm>
              <a:off x="3419640" y="4869000"/>
              <a:ext cx="2520720" cy="12952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s cla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5867280" y="2708280"/>
              <a:ext cx="26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Es importante que tengas presente estos aspectos, porque en esta clase estudiaremos las consecuencias del feudalism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CONSECUENCIAS CULTURALES DEL FEUD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79280" y="1197000"/>
            <a:ext cx="4392720" cy="47804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y el monasterio fueron relevantes en los actos religiosos, jurídicos, administrativos  y judi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se transformó en una fuente apetecible de riquezas debido a la afluencia de ofrendas, limosnas  y diez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os señores pasaron a percibir este último como una renta feudal más y  a percibirlo como otra prop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URANTE ESTA ÉPOCA UN OSCURANTISMO INTELECTUAL ENSOMBRECIÓ A LA IGLESIA: SURGEN REFORMAS DE CLUNY (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788000" y="1197000"/>
            <a:ext cx="3744720" cy="146556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PARICIÓN DE LOS FEUDOS DE BOLS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asignación de rentas, por parte de un señor, a cambio de homenaje y fidelidad de un vasall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788000" y="2781360"/>
            <a:ext cx="3744720" cy="64260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l DESARROLLO DE LOS TOR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TORneo"/>
          <p:cNvPicPr/>
          <p:nvPr/>
        </p:nvPicPr>
        <p:blipFill>
          <a:blip r:embed="rId1"/>
          <a:stretch/>
        </p:blipFill>
        <p:spPr>
          <a:xfrm>
            <a:off x="4859280" y="3573360"/>
            <a:ext cx="3635280" cy="258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24000" y="260280"/>
            <a:ext cx="8208720" cy="11512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ENCASTILLAMIENTO DE LA NOBL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El castillo es el elemento más característico en el feudalismo y se convirtió en el centro de administración señorial del fe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castillo medieval"/>
          <p:cNvPicPr/>
          <p:nvPr/>
        </p:nvPicPr>
        <p:blipFill>
          <a:blip r:embed="rId1"/>
          <a:stretch/>
        </p:blipFill>
        <p:spPr>
          <a:xfrm>
            <a:off x="250920" y="1557360"/>
            <a:ext cx="6840360" cy="513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7" name="Text Box 8"/>
          <p:cNvSpPr/>
          <p:nvPr/>
        </p:nvSpPr>
        <p:spPr>
          <a:xfrm>
            <a:off x="7164360" y="5373720"/>
            <a:ext cx="18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La imagen corresponde a El Hot Gravenste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, uno de los mejores castillos medievales ubicado en Gante, Bél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0"/>
          <p:cNvGrpSpPr/>
          <p:nvPr/>
        </p:nvGrpSpPr>
        <p:grpSpPr>
          <a:xfrm>
            <a:off x="324000" y="476280"/>
            <a:ext cx="8569080" cy="5616720"/>
            <a:chOff x="324000" y="476280"/>
            <a:chExt cx="8569080" cy="5616720"/>
          </a:xfrm>
        </p:grpSpPr>
        <p:sp>
          <p:nvSpPr>
            <p:cNvPr id="239" name="Text Box 2"/>
            <p:cNvSpPr/>
            <p:nvPr/>
          </p:nvSpPr>
          <p:spPr>
            <a:xfrm>
              <a:off x="468360" y="476280"/>
              <a:ext cx="74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En síntesis, ¿qué estudiamos en esta cla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9"/>
            <p:cNvGrpSpPr/>
            <p:nvPr/>
          </p:nvGrpSpPr>
          <p:grpSpPr>
            <a:xfrm>
              <a:off x="324000" y="1125360"/>
              <a:ext cx="8569080" cy="4967640"/>
              <a:chOff x="324000" y="1125360"/>
              <a:chExt cx="8569080" cy="496764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6084720" y="1125360"/>
                <a:ext cx="280836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Rur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cadencia del comerc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La tierra como recurso princip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"/>
              <p:cNvSpPr/>
              <p:nvPr/>
            </p:nvSpPr>
            <p:spPr>
              <a:xfrm>
                <a:off x="6227640" y="2924280"/>
                <a:ext cx="266544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piramid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estamen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18"/>
              <p:cNvGrpSpPr/>
              <p:nvPr/>
            </p:nvGrpSpPr>
            <p:grpSpPr>
              <a:xfrm>
                <a:off x="324000" y="1125360"/>
                <a:ext cx="5616360" cy="4967640"/>
                <a:chOff x="324000" y="1125360"/>
                <a:chExt cx="5616360" cy="4967640"/>
              </a:xfrm>
            </p:grpSpPr>
            <p:sp>
              <p:nvSpPr>
                <p:cNvPr id="244" name="Oval 3"/>
                <p:cNvSpPr/>
                <p:nvPr/>
              </p:nvSpPr>
              <p:spPr>
                <a:xfrm>
                  <a:off x="324000" y="2133720"/>
                  <a:ext cx="2232000" cy="187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f7a7"/>
                    </a:gs>
                    <a:gs pos="100000">
                      <a:srgbClr val="8a9d6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onsecuencias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del Feudalism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4"/>
                <p:cNvSpPr/>
                <p:nvPr/>
              </p:nvSpPr>
              <p:spPr>
                <a:xfrm>
                  <a:off x="2556000" y="1484280"/>
                  <a:ext cx="1368360" cy="5032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5"/>
                <p:cNvSpPr/>
                <p:nvPr/>
              </p:nvSpPr>
              <p:spPr>
                <a:xfrm>
                  <a:off x="3995640" y="1557360"/>
                  <a:ext cx="1656000" cy="368280"/>
                </a:xfrm>
                <a:prstGeom prst="rect">
                  <a:avLst/>
                </a:prstGeom>
                <a:solidFill>
                  <a:srgbClr val="acf2e1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Económ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6"/>
                <p:cNvSpPr/>
                <p:nvPr/>
              </p:nvSpPr>
              <p:spPr>
                <a:xfrm>
                  <a:off x="2771640" y="2997360"/>
                  <a:ext cx="1224000" cy="360360"/>
                </a:xfrm>
                <a:prstGeom prst="rightArrow">
                  <a:avLst>
                    <a:gd name="adj1" fmla="val 50000"/>
                    <a:gd name="adj2" fmla="val 84915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7"/>
                <p:cNvSpPr/>
                <p:nvPr/>
              </p:nvSpPr>
              <p:spPr>
                <a:xfrm>
                  <a:off x="4140360" y="3357720"/>
                  <a:ext cx="1152360" cy="368280"/>
                </a:xfrm>
                <a:prstGeom prst="rect">
                  <a:avLst/>
                </a:prstGeom>
                <a:solidFill>
                  <a:srgbClr val="f7f7a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ci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8"/>
                <p:cNvSpPr/>
                <p:nvPr/>
              </p:nvSpPr>
              <p:spPr>
                <a:xfrm flipH="1" rot="10800000">
                  <a:off x="2556000" y="4508280"/>
                  <a:ext cx="1296720" cy="5029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9"/>
                <p:cNvSpPr/>
                <p:nvPr/>
              </p:nvSpPr>
              <p:spPr>
                <a:xfrm>
                  <a:off x="4067280" y="4797360"/>
                  <a:ext cx="1152360" cy="368280"/>
                </a:xfrm>
                <a:prstGeom prst="rect">
                  <a:avLst/>
                </a:prstGeom>
                <a:solidFill>
                  <a:srgbClr val="ff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olí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0"/>
                <p:cNvSpPr/>
                <p:nvPr/>
              </p:nvSpPr>
              <p:spPr>
                <a:xfrm>
                  <a:off x="5724360" y="1125360"/>
                  <a:ext cx="216000" cy="1656000"/>
                </a:xfrm>
                <a:custGeom>
                  <a:avLst/>
                  <a:gdLst>
                    <a:gd name="textAreaLeft" fmla="*/ 137880 w 216000"/>
                    <a:gd name="textAreaRight" fmla="*/ 216360 w 216000"/>
                    <a:gd name="textAreaTop" fmla="*/ 42840 h 1656000"/>
                    <a:gd name="textAreaBottom" fmla="*/ 1613160 h 165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>
                  <a:off x="5867280" y="2924280"/>
                  <a:ext cx="73080" cy="129672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33480 h 1296720"/>
                    <a:gd name="textAreaBottom" fmla="*/ 1263240 h 1296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4"/>
                <p:cNvSpPr/>
                <p:nvPr/>
              </p:nvSpPr>
              <p:spPr>
                <a:xfrm>
                  <a:off x="5867280" y="4365720"/>
                  <a:ext cx="73080" cy="172728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45000 h 1727280"/>
                    <a:gd name="textAreaBottom" fmla="*/ 1682280 h 172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Text Box 15"/>
              <p:cNvSpPr/>
              <p:nvPr/>
            </p:nvSpPr>
            <p:spPr>
              <a:xfrm>
                <a:off x="6300720" y="4437000"/>
                <a:ext cx="251928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bilitamiento de la monarquí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ivisión territorial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ookman Old Style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351080"/>
            <a:ext cx="3600360" cy="452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Sociedad Medieval: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La ciudad y los orígenes del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iu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Mercado/ Merc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Burgues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apital/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Ganancia/ Precio/ Sal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7667640" y="5373720"/>
            <a:ext cx="1008000" cy="1224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27">
                <a:moveTo>
                  <a:pt x="0" y="0"/>
                </a:moveTo>
                <a:lnTo>
                  <a:pt x="21600" y="0"/>
                </a:lnTo>
                <a:lnTo>
                  <a:pt x="21600" y="26227"/>
                </a:lnTo>
                <a:lnTo>
                  <a:pt x="0" y="26227"/>
                </a:lnTo>
                <a:close/>
              </a:path>
              <a:path fill="lightenLess" w="21600" h="26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7">
                <a:moveTo>
                  <a:pt x="21600" y="0"/>
                </a:moveTo>
                <a:lnTo>
                  <a:pt x="21600" y="26227"/>
                </a:lnTo>
                <a:lnTo>
                  <a:pt x="20200" y="24827"/>
                </a:lnTo>
                <a:lnTo>
                  <a:pt x="20200" y="1400"/>
                </a:lnTo>
                <a:close/>
              </a:path>
              <a:path fill="darkenLess" w="21600" h="26227">
                <a:moveTo>
                  <a:pt x="21600" y="26227"/>
                </a:moveTo>
                <a:lnTo>
                  <a:pt x="0" y="26227"/>
                </a:lnTo>
                <a:lnTo>
                  <a:pt x="1400" y="24827"/>
                </a:lnTo>
                <a:lnTo>
                  <a:pt x="20200" y="24827"/>
                </a:lnTo>
                <a:close/>
              </a:path>
              <a:path fill="lighten" w="21600" h="26227">
                <a:moveTo>
                  <a:pt x="0" y="26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7"/>
                </a:lnTo>
                <a:close/>
              </a:path>
              <a:path fill="darken" w="21600" h="26227">
                <a:moveTo>
                  <a:pt x="10800" y="6150"/>
                </a:moveTo>
                <a:lnTo>
                  <a:pt x="13376" y="8762"/>
                </a:ln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lnTo>
                  <a:pt x="17763" y="13113"/>
                </a:lnTo>
                <a:lnTo>
                  <a:pt x="16109" y="13113"/>
                </a:lnTo>
                <a:lnTo>
                  <a:pt x="16109" y="20303"/>
                </a:lnTo>
                <a:lnTo>
                  <a:pt x="5491" y="20303"/>
                </a:lnTo>
                <a:lnTo>
                  <a:pt x="5491" y="13113"/>
                </a:lnTo>
                <a:lnTo>
                  <a:pt x="3837" y="13113"/>
                </a:lnTo>
                <a:close/>
              </a:path>
              <a:path fill="darkenLess" w="21600" h="26227">
                <a:moveTo>
                  <a:pt x="13376" y="8762"/>
                </a:move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close/>
              </a:path>
              <a:path fill="darkenLess" w="21600" h="26227">
                <a:moveTo>
                  <a:pt x="9877" y="16612"/>
                </a:moveTo>
                <a:lnTo>
                  <a:pt x="11723" y="16612"/>
                </a:lnTo>
                <a:lnTo>
                  <a:pt x="11723" y="20303"/>
                </a:lnTo>
                <a:lnTo>
                  <a:pt x="16109" y="20303"/>
                </a:lnTo>
                <a:lnTo>
                  <a:pt x="16109" y="13113"/>
                </a:lnTo>
                <a:lnTo>
                  <a:pt x="5491" y="13113"/>
                </a:lnTo>
                <a:lnTo>
                  <a:pt x="5491" y="20303"/>
                </a:lnTo>
                <a:lnTo>
                  <a:pt x="9877" y="20303"/>
                </a:lnTo>
                <a:close/>
              </a:path>
            </a:pathLst>
          </a:custGeom>
          <a:solidFill>
            <a:srgbClr val="da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iudmed"/>
          <p:cNvPicPr/>
          <p:nvPr/>
        </p:nvPicPr>
        <p:blipFill>
          <a:blip r:embed="rId1"/>
          <a:stretch/>
        </p:blipFill>
        <p:spPr>
          <a:xfrm>
            <a:off x="4067280" y="1341360"/>
            <a:ext cx="4895640" cy="375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95280" y="1484280"/>
            <a:ext cx="8569440" cy="4392720"/>
            <a:chOff x="395280" y="1484280"/>
            <a:chExt cx="8569440" cy="4392720"/>
          </a:xfrm>
        </p:grpSpPr>
        <p:sp>
          <p:nvSpPr>
            <p:cNvPr id="104" name="Text Box 6"/>
            <p:cNvSpPr/>
            <p:nvPr/>
          </p:nvSpPr>
          <p:spPr>
            <a:xfrm>
              <a:off x="826920" y="4653000"/>
              <a:ext cx="769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427640" y="1484280"/>
              <a:ext cx="4537080" cy="43927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6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onocer los rasgos fundamentales de la sociedad feudal y entenderla como una respuesta a las amenazas externas para los pueblos europe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Identificar formas de organización del medioevo europeo que alcanzan una larga duración y extensión espacial.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n tu libro estos  contenidos están  desde la página 125 hasta la 13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95280" y="1484280"/>
              <a:ext cx="3889440" cy="436284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8aa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Organización social de Europa medieval: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La Europa medieval como modelo de 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nceptos cl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estament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zación de la   socieda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aballerí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¿Qué nos dicen las siguientes imáge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agro_feudo"/>
          <p:cNvPicPr/>
          <p:nvPr/>
        </p:nvPicPr>
        <p:blipFill>
          <a:blip r:embed="rId1"/>
          <a:stretch/>
        </p:blipFill>
        <p:spPr>
          <a:xfrm>
            <a:off x="3780000" y="1844640"/>
            <a:ext cx="206352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9" name="Picture 9" descr="Piramide_feudal_a"/>
          <p:cNvPicPr/>
          <p:nvPr/>
        </p:nvPicPr>
        <p:blipFill>
          <a:blip r:embed="rId2"/>
          <a:stretch/>
        </p:blipFill>
        <p:spPr>
          <a:xfrm>
            <a:off x="5975280" y="1844640"/>
            <a:ext cx="3168720" cy="21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foTO quijote"/>
          <p:cNvPicPr/>
          <p:nvPr/>
        </p:nvPicPr>
        <p:blipFill>
          <a:blip r:embed="rId3"/>
          <a:stretch/>
        </p:blipFill>
        <p:spPr>
          <a:xfrm>
            <a:off x="6084720" y="40053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300px-Map_France_1477-es"/>
          <p:cNvPicPr/>
          <p:nvPr/>
        </p:nvPicPr>
        <p:blipFill>
          <a:blip r:embed="rId4"/>
          <a:stretch/>
        </p:blipFill>
        <p:spPr>
          <a:xfrm>
            <a:off x="0" y="1773360"/>
            <a:ext cx="3611520" cy="388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2" name="Picture 14" descr="calendario-agricola"/>
          <p:cNvPicPr/>
          <p:nvPr/>
        </p:nvPicPr>
        <p:blipFill>
          <a:blip r:embed="rId5"/>
          <a:stretch/>
        </p:blipFill>
        <p:spPr>
          <a:xfrm>
            <a:off x="2771640" y="4286160"/>
            <a:ext cx="3222720" cy="219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CONSECUENCIAS DEL FEUDAL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9640" y="1268280"/>
            <a:ext cx="2303640" cy="3957480"/>
          </a:xfrm>
          <a:prstGeom prst="rect">
            <a:avLst/>
          </a:prstGeom>
          <a:gradFill rotWithShape="0">
            <a:gsLst>
              <a:gs pos="0">
                <a:srgbClr val="f6a6f8"/>
              </a:gs>
              <a:gs pos="100000">
                <a:srgbClr val="b278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uralización de la economía (agricultura y ganaderí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Artesanía, metalurgia y herr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cadencia comercial y mone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92360" y="1268280"/>
            <a:ext cx="2303640" cy="2991600"/>
          </a:xfrm>
          <a:prstGeom prst="rect">
            <a:avLst/>
          </a:prstGeom>
          <a:gradFill rotWithShape="0">
            <a:gsLst>
              <a:gs pos="0">
                <a:srgbClr val="acf2e1"/>
              </a:gs>
              <a:gs pos="100000">
                <a:srgbClr val="88bfb1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588000" y="1268280"/>
            <a:ext cx="2087640" cy="3694680"/>
          </a:xfrm>
          <a:prstGeom prst="rect">
            <a:avLst/>
          </a:prstGeom>
          <a:gradFill rotWithShape="0">
            <a:gsLst>
              <a:gs pos="0">
                <a:srgbClr val="f8bfa6"/>
              </a:gs>
              <a:gs pos="100000">
                <a:srgbClr val="d2a28d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e una jerarquía feu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e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obleza feudal y caball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rabajadores rur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059280" y="4508640"/>
            <a:ext cx="3025440" cy="203724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9a63b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ncastill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os de bol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arrollo de los torne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2916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79600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00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6"/>
          <p:cNvGrpSpPr/>
          <p:nvPr/>
        </p:nvGrpSpPr>
        <p:grpSpPr>
          <a:xfrm>
            <a:off x="539640" y="260280"/>
            <a:ext cx="8137800" cy="1434960"/>
            <a:chOff x="539640" y="260280"/>
            <a:chExt cx="8137800" cy="1434960"/>
          </a:xfrm>
        </p:grpSpPr>
        <p:sp>
          <p:nvSpPr>
            <p:cNvPr id="122" name="Text Box 3"/>
            <p:cNvSpPr/>
            <p:nvPr/>
          </p:nvSpPr>
          <p:spPr>
            <a:xfrm>
              <a:off x="755640" y="260280"/>
              <a:ext cx="7921800" cy="52056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>
                  <a:solidFill>
                    <a:srgbClr val="ffffff"/>
                  </a:solidFill>
                  <a:latin typeface="Bookman Old Style"/>
                </a:rPr>
                <a:t>1. CONSECUENCIAS EN LA ECONOMÍ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"/>
            <p:cNvSpPr/>
            <p:nvPr/>
          </p:nvSpPr>
          <p:spPr>
            <a:xfrm>
              <a:off x="539640" y="1052640"/>
              <a:ext cx="792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Las actividades productivas  que más se desarrollaron en el feudalismo fuer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539640" y="1844640"/>
            <a:ext cx="7659720" cy="4641840"/>
            <a:chOff x="539640" y="1844640"/>
            <a:chExt cx="7659720" cy="4641840"/>
          </a:xfrm>
        </p:grpSpPr>
        <p:sp>
          <p:nvSpPr>
            <p:cNvPr id="125" name="Text Box 8"/>
            <p:cNvSpPr/>
            <p:nvPr/>
          </p:nvSpPr>
          <p:spPr>
            <a:xfrm>
              <a:off x="1979640" y="5661000"/>
              <a:ext cx="5111640" cy="825480"/>
            </a:xfrm>
            <a:prstGeom prst="rect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93913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RURALIZACIÓN DE LA ECONOM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5076720" y="414972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GRICUL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5076720" y="472428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GANAD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14" descr="ARadofin"/>
            <p:cNvPicPr/>
            <p:nvPr/>
          </p:nvPicPr>
          <p:blipFill>
            <a:blip r:embed="rId1"/>
            <a:stretch/>
          </p:blipFill>
          <p:spPr>
            <a:xfrm>
              <a:off x="4572000" y="1844640"/>
              <a:ext cx="3627360" cy="172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29" name="Picture 17" descr="AGRicultor"/>
            <p:cNvPicPr/>
            <p:nvPr/>
          </p:nvPicPr>
          <p:blipFill>
            <a:blip r:embed="rId2"/>
            <a:stretch/>
          </p:blipFill>
          <p:spPr>
            <a:xfrm>
              <a:off x="539640" y="1844640"/>
              <a:ext cx="3795840" cy="27259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0" name="Line 22"/>
            <p:cNvSpPr/>
            <p:nvPr/>
          </p:nvSpPr>
          <p:spPr>
            <a:xfrm>
              <a:off x="4643280" y="450864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4643280" y="450864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>
              <a:off x="4643280" y="494172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ERrero"/>
          <p:cNvPicPr/>
          <p:nvPr/>
        </p:nvPicPr>
        <p:blipFill>
          <a:blip r:embed="rId1"/>
          <a:stretch/>
        </p:blipFill>
        <p:spPr>
          <a:xfrm>
            <a:off x="179280" y="1557360"/>
            <a:ext cx="2517840" cy="3220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3203640" y="1197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ETALURGIA DEL HI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03640" y="2781360"/>
            <a:ext cx="2808360" cy="3682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0057_ensenar_imagen_comenio_artesano_07"/>
          <p:cNvPicPr/>
          <p:nvPr/>
        </p:nvPicPr>
        <p:blipFill>
          <a:blip r:embed="rId2"/>
          <a:stretch/>
        </p:blipFill>
        <p:spPr>
          <a:xfrm>
            <a:off x="6012000" y="4581360"/>
            <a:ext cx="2447640" cy="18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7" name="Picture 9" descr="cA00014_L"/>
          <p:cNvPicPr/>
          <p:nvPr/>
        </p:nvPicPr>
        <p:blipFill>
          <a:blip r:embed="rId3"/>
          <a:stretch/>
        </p:blipFill>
        <p:spPr>
          <a:xfrm>
            <a:off x="6264360" y="1700280"/>
            <a:ext cx="2879640" cy="2857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4788000" y="3213000"/>
            <a:ext cx="2305080" cy="50508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DESARROLLO DE  LA ARTES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industria textil medieval"/>
          <p:cNvPicPr/>
          <p:nvPr/>
        </p:nvPicPr>
        <p:blipFill>
          <a:blip r:embed="rId4"/>
          <a:stretch/>
        </p:blipFill>
        <p:spPr>
          <a:xfrm>
            <a:off x="2987640" y="3860640"/>
            <a:ext cx="2563920" cy="2853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3203640" y="1989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USTRIA TEXTIL A DOMIC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96720" y="404640"/>
            <a:ext cx="424836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Recursos Económ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6720" y="1197000"/>
            <a:ext cx="8352000" cy="36828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tierra se transformó en el principal recurso econó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6720" y="177336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urge  la necesidad de la nobleza por conservar y acrecentar sus dominios territoriales. Esto es lo que llevó al desarrollo de los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stamentos agnatici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y a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oncentración de la tierra en pocas man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Feudo siglo XIV"/>
          <p:cNvPicPr/>
          <p:nvPr/>
        </p:nvPicPr>
        <p:blipFill>
          <a:blip r:embed="rId1"/>
          <a:stretch/>
        </p:blipFill>
        <p:spPr>
          <a:xfrm>
            <a:off x="828720" y="2852640"/>
            <a:ext cx="3416400" cy="2124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9640" y="5157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la tierra incluye sus recursos naturales (agrícolas, mineros, ganaderos) y la mano de o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5005440" y="2852640"/>
            <a:ext cx="3503520" cy="3338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42920" y="333360"/>
            <a:ext cx="6985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Centro de produ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982800"/>
            <a:ext cx="7991640" cy="64260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 la tierra pasó a ser el recurso económico principal, la Hacienda (el feudo) pasó a ser el centro de producción medie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5640" y="50864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Hacienda le otorgó a su propietario (el señor o señor -vasallo) un gran poder económico y social, ya que pasó a administrar importantes recursos económicos y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Mascota_clip_image003"/>
          <p:cNvPicPr/>
          <p:nvPr/>
        </p:nvPicPr>
        <p:blipFill>
          <a:blip r:embed="rId1"/>
          <a:stretch/>
        </p:blipFill>
        <p:spPr>
          <a:xfrm>
            <a:off x="2050920" y="1700280"/>
            <a:ext cx="5040360" cy="33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03T03:48:22Z</dcterms:modified>
  <cp:revision>47</cp:revision>
  <dc:subject/>
  <dc:title>Diapositiva 1</dc:title>
</cp:coreProperties>
</file>