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BBDF-3692-47D1-8A57-14F7F3989F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A293-2BB4-4F67-AB84-60647953D5D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imágenes son solo de referencia conceptual; no tienen relación con la época medie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25E7-5D89-497A-ACA5-E820FA74766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números corresponden a : 1, Corona, 2 llaves de los dominios del Rey, 3, embl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15DD-74C2-426C-8D54-3F9EE1E4F54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713A-6E50-489D-8FB5-BF695B387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5E8C-39AE-4C5B-88DA-409EFB91D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4512-8121-44FD-AC24-8773D5E65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15B7-41C2-4278-B5EB-D312FBD87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40668-7209-40E7-817E-C68E2D21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75AFA-3EA2-4385-ACBF-3E2830E1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6ACA1-9F65-4DE8-83EB-00E1232B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371B3-6C71-4B83-8DDA-ED1EEB71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C56BE-CD39-49D9-BC83-754F9943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DA8A3-73C8-4AA7-A90C-4345A676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663CB-AD72-4B53-93F2-92811AE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BA79-0C6C-4B61-8316-D315C65ED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4CEDC-8EDD-4E0D-A50C-6E6559B7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334AC-F297-41B2-8BF9-15CDE75F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3D9BC-602A-4894-9641-B9956A5C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E8B04-4B0A-4DEB-A410-148582ED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7569A-65B7-4496-A3CE-82E8248D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CE65-DBAC-4F4A-9CB4-FE953E29F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5D0D-94A2-4221-97B4-F83E24501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3573-894C-40EE-83DB-7AF74DEB2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45FC-11CC-4CCA-B260-60E26606C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A0FD-04C7-4B04-877B-95CEFA6A4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E355-1C4C-4475-B194-047C65FB2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A81D-34EB-43DB-B3B3-D2E3FC847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8C6A-F7F1-4C51-B877-0C420AE069D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12E4-418B-43FF-8DFD-97B287C6B7A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7200720" cy="2087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Bookman Old Style"/>
              </a:rPr>
              <a:t>CLASE 9:</a:t>
            </a:r>
            <a:r>
              <a:rPr b="1" i="1" lang="es-ES_tradnl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br>
              <a:rPr sz="4000"/>
            </a:br>
            <a:r>
              <a:rPr b="1" i="1" lang="es-ES_tradnl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SOCIEDAD MEDIEVAL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CONSECUENCIAS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 DEL FEUDA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65feudalismo-sociedad"/>
          <p:cNvPicPr/>
          <p:nvPr/>
        </p:nvPicPr>
        <p:blipFill>
          <a:blip r:embed="rId2"/>
          <a:stretch/>
        </p:blipFill>
        <p:spPr>
          <a:xfrm>
            <a:off x="3708360" y="2852640"/>
            <a:ext cx="2881440" cy="38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333360"/>
            <a:ext cx="79200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El feudalismo y la actividad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9640" y="112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 el feudalismo entró en decadencia la actividad comercial y los intercambios con mone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3213000"/>
            <a:ext cx="1584360" cy="72072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5280" y="5084640"/>
            <a:ext cx="820908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su lugar se desarrollaron los intercambios locales sobre la base del trueque (bienes por servicios, o productos por productos) y la redistribución entre los nobles de los excedentes de la producción campe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inventor%20billete"/>
          <p:cNvPicPr/>
          <p:nvPr/>
        </p:nvPicPr>
        <p:blipFill>
          <a:blip r:embed="rId1"/>
          <a:stretch/>
        </p:blipFill>
        <p:spPr>
          <a:xfrm>
            <a:off x="5148360" y="2205000"/>
            <a:ext cx="3495600" cy="260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7" name="Picture 15" descr="59d7_1"/>
          <p:cNvPicPr/>
          <p:nvPr/>
        </p:nvPicPr>
        <p:blipFill>
          <a:blip r:embed="rId2"/>
          <a:stretch/>
        </p:blipFill>
        <p:spPr>
          <a:xfrm>
            <a:off x="826920" y="2133720"/>
            <a:ext cx="2664000" cy="2511360"/>
          </a:xfrm>
          <a:prstGeom prst="rect">
            <a:avLst/>
          </a:prstGeom>
          <a:ln w="0">
            <a:noFill/>
          </a:ln>
        </p:spPr>
      </p:pic>
      <p:sp>
        <p:nvSpPr>
          <p:cNvPr id="158" name="Line 16"/>
          <p:cNvSpPr/>
          <p:nvPr/>
        </p:nvSpPr>
        <p:spPr>
          <a:xfrm flipV="1">
            <a:off x="0" y="1989000"/>
            <a:ext cx="3959280" cy="273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250920" y="1916280"/>
            <a:ext cx="4103640" cy="27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611280" y="765000"/>
            <a:ext cx="7848360" cy="4597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man Old Style"/>
              </a:rPr>
              <a:t>¿Quiénes eran los señores en el feudali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Carlomagno"/>
          <p:cNvPicPr/>
          <p:nvPr/>
        </p:nvPicPr>
        <p:blipFill>
          <a:blip r:embed="rId1"/>
          <a:stretch/>
        </p:blipFill>
        <p:spPr>
          <a:xfrm>
            <a:off x="539640" y="2565360"/>
            <a:ext cx="2052720" cy="33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Text Box 11"/>
          <p:cNvSpPr/>
          <p:nvPr/>
        </p:nvSpPr>
        <p:spPr>
          <a:xfrm>
            <a:off x="395280" y="587700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os estamentos controlaban gran poder polít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oseían territorios, ejércitos, burocracia, y administraban just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man Old Style"/>
              </a:rPr>
              <a:t>B. CONSECUENCIAS EN LO POL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papa"/>
          <p:cNvPicPr/>
          <p:nvPr/>
        </p:nvPicPr>
        <p:blipFill>
          <a:blip r:embed="rId2"/>
          <a:stretch/>
        </p:blipFill>
        <p:spPr>
          <a:xfrm>
            <a:off x="3132000" y="2997360"/>
            <a:ext cx="2676600" cy="280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5" name="Oval 17"/>
          <p:cNvSpPr/>
          <p:nvPr/>
        </p:nvSpPr>
        <p:spPr>
          <a:xfrm>
            <a:off x="3492360" y="1628640"/>
            <a:ext cx="2303640" cy="863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p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6372360" y="1628640"/>
            <a:ext cx="2303280" cy="863640"/>
          </a:xfrm>
          <a:prstGeom prst="ellipse">
            <a:avLst/>
          </a:prstGeom>
          <a:solidFill>
            <a:srgbClr val="afe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nob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395280" y="1628640"/>
            <a:ext cx="2303640" cy="863640"/>
          </a:xfrm>
          <a:prstGeom prst="ellipse">
            <a:avLst/>
          </a:prstGeom>
          <a:solidFill>
            <a:srgbClr val="da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BAA10427"/>
          <p:cNvPicPr/>
          <p:nvPr/>
        </p:nvPicPr>
        <p:blipFill>
          <a:blip r:embed="rId3"/>
          <a:stretch/>
        </p:blipFill>
        <p:spPr>
          <a:xfrm>
            <a:off x="6372360" y="2637000"/>
            <a:ext cx="227160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9" name="Line 22"/>
          <p:cNvSpPr/>
          <p:nvPr/>
        </p:nvSpPr>
        <p:spPr>
          <a:xfrm>
            <a:off x="2700360" y="198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"/>
          <p:cNvSpPr/>
          <p:nvPr/>
        </p:nvSpPr>
        <p:spPr>
          <a:xfrm flipH="1">
            <a:off x="579564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2"/>
          <p:cNvGrpSpPr/>
          <p:nvPr/>
        </p:nvGrpSpPr>
        <p:grpSpPr>
          <a:xfrm>
            <a:off x="0" y="0"/>
            <a:ext cx="8964720" cy="6296040"/>
            <a:chOff x="0" y="0"/>
            <a:chExt cx="8964720" cy="6296040"/>
          </a:xfrm>
        </p:grpSpPr>
        <p:sp>
          <p:nvSpPr>
            <p:cNvPr id="172" name="Text Box 2"/>
            <p:cNvSpPr/>
            <p:nvPr/>
          </p:nvSpPr>
          <p:spPr>
            <a:xfrm>
              <a:off x="0" y="0"/>
              <a:ext cx="896472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La política feudal: el debilitamiento de la monarqu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"/>
            <p:cNvSpPr/>
            <p:nvPr/>
          </p:nvSpPr>
          <p:spPr>
            <a:xfrm>
              <a:off x="324000" y="863640"/>
              <a:ext cx="8389800" cy="642600"/>
            </a:xfrm>
            <a:prstGeom prst="rect">
              <a:avLst/>
            </a:prstGeom>
            <a:solidFill>
              <a:srgbClr val="acf2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Debido al desarrollo del feudalismo, los monarcas perdieron gran parte de sus atribuciones como consecuencia del fortalecimiento del Papado y de la Noblez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4" descr="00GregorioMagno"/>
            <p:cNvPicPr/>
            <p:nvPr/>
          </p:nvPicPr>
          <p:blipFill>
            <a:blip r:embed="rId1"/>
            <a:stretch/>
          </p:blipFill>
          <p:spPr>
            <a:xfrm>
              <a:off x="324000" y="1871640"/>
              <a:ext cx="2631960" cy="3313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5" name="Picture 5" descr="Carlomagno"/>
            <p:cNvPicPr/>
            <p:nvPr/>
          </p:nvPicPr>
          <p:blipFill>
            <a:blip r:embed="rId2"/>
            <a:stretch/>
          </p:blipFill>
          <p:spPr>
            <a:xfrm>
              <a:off x="3708360" y="2592360"/>
              <a:ext cx="1428840" cy="2305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6" name="Picture 6" descr="Sociedad agraria medieval"/>
            <p:cNvPicPr/>
            <p:nvPr/>
          </p:nvPicPr>
          <p:blipFill>
            <a:blip r:embed="rId3"/>
            <a:stretch/>
          </p:blipFill>
          <p:spPr>
            <a:xfrm>
              <a:off x="5761080" y="1916280"/>
              <a:ext cx="2975040" cy="3384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77" name="AutoShape 7"/>
            <p:cNvSpPr/>
            <p:nvPr/>
          </p:nvSpPr>
          <p:spPr>
            <a:xfrm>
              <a:off x="3059280" y="3384720"/>
              <a:ext cx="576360" cy="576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"/>
            <p:cNvSpPr/>
            <p:nvPr/>
          </p:nvSpPr>
          <p:spPr>
            <a:xfrm rot="10800000">
              <a:off x="5219640" y="3384720"/>
              <a:ext cx="432000" cy="576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0920" y="5327640"/>
              <a:ext cx="324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Durante la Teocracia Pontificia, los Papas eran quienes investían a los rey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4284720" y="5472000"/>
              <a:ext cx="4680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Fruto del desarrollo del feudalismo, la nobleza pasó a poseer ejército propio, justicia, impuest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Desmembramiento territorial de los Estados,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Edad Me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95280" y="1052640"/>
            <a:ext cx="85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algunos países el feudalismo exacerbó el poder local de la nobleza y de los príncipes territoriales, en perjuicio del poder unitario y centralista de los r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Mapa de Europa medieval"/>
          <p:cNvPicPr/>
          <p:nvPr/>
        </p:nvPicPr>
        <p:blipFill>
          <a:blip r:embed="rId1"/>
          <a:stretch/>
        </p:blipFill>
        <p:spPr>
          <a:xfrm>
            <a:off x="2411280" y="1725480"/>
            <a:ext cx="6443640" cy="5132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84" name="Text Box 7"/>
          <p:cNvSpPr/>
          <p:nvPr/>
        </p:nvSpPr>
        <p:spPr>
          <a:xfrm>
            <a:off x="0" y="2781360"/>
            <a:ext cx="24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división territorial fue el reflejo de las relaciones políticas y sociales que provocó el Feud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395280" y="1916280"/>
            <a:ext cx="28083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España (Castilla, León, Aragón, et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 Fra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 Alem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227640" y="1557360"/>
            <a:ext cx="273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Sustentada en el principio de que el poder del Rey está en el patrimonio del que dispone pero que no necesariamente  administra direct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635280" y="177336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Vasallos del monarca imponen la ocupación de los cargos públicos y lo heredable de el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3878280"/>
            <a:ext cx="2952720" cy="2705760"/>
          </a:xfrm>
          <a:prstGeom prst="rect">
            <a:avLst/>
          </a:prstGeom>
          <a:solidFill>
            <a:srgbClr val="ffd9b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centralización de la burocracia estatal y de la monarq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ragmentación de los principados (disminuyen los vasallos del Rey y aumenta el nº de vasallos de príncipes territoria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419640" y="3429000"/>
            <a:ext cx="2952720" cy="3123000"/>
          </a:xfrm>
          <a:prstGeom prst="rect">
            <a:avLst/>
          </a:prstGeom>
          <a:solidFill>
            <a:srgbClr val="b8ec8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usión entre las funciones públicas y la propiedad privada de los funcion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ierden significado conceptos como el de 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recho escrito cede paso al Derecho consuetudi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83528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4788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588000" y="3606840"/>
            <a:ext cx="2376720" cy="2980080"/>
          </a:xfrm>
          <a:prstGeom prst="rect">
            <a:avLst/>
          </a:prstGeom>
          <a:solidFill>
            <a:srgbClr val="f2ee5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monarquía  intenta recupera sus territorios con apoyo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de el siglo XI el objetivo del Rey  fue contrarrestar la autarquía y autonomía de los vasa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50920" y="765000"/>
            <a:ext cx="2808360" cy="916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9a17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ragmentación territorial del poder (rei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3203640" y="765000"/>
            <a:ext cx="2808360" cy="642600"/>
          </a:xfrm>
          <a:prstGeom prst="rect">
            <a:avLst/>
          </a:prstGeom>
          <a:gradFill rotWithShape="0">
            <a:gsLst>
              <a:gs pos="0">
                <a:srgbClr val="daf7a7"/>
              </a:gs>
              <a:gs pos="100000">
                <a:srgbClr val="acc384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ivatización del poder pol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6156360" y="765000"/>
            <a:ext cx="2808360" cy="642600"/>
          </a:xfrm>
          <a:prstGeom prst="rect">
            <a:avLst/>
          </a:prstGeom>
          <a:gradFill rotWithShape="0">
            <a:gsLst>
              <a:gs pos="0">
                <a:srgbClr val="f2ee54"/>
              </a:gs>
              <a:gs pos="100000">
                <a:srgbClr val="a19f38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urgimiento de Monarquías Feud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7667640" y="3141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324000" y="26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Bookman Old Style"/>
              </a:rPr>
              <a:t>EN SUMA, EL FEUDALISMO PROVOCÓ EN LO POLÍTIC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95280" y="260280"/>
            <a:ext cx="5689440" cy="101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3. CONSECUENCIA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DEL FEUD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piramide feudal"/>
          <p:cNvPicPr/>
          <p:nvPr/>
        </p:nvPicPr>
        <p:blipFill>
          <a:blip r:embed="rId1"/>
          <a:stretch/>
        </p:blipFill>
        <p:spPr>
          <a:xfrm>
            <a:off x="6599160" y="0"/>
            <a:ext cx="254484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539640" y="2565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cuerda que el Feudalismo se basaba en la entrega de un feudo por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68360" y="328464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a entrega la hacía un señor a otro noble, que pasaba a ser considerado su vas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8360" y="400536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 este modo, se estableció una jerarquía de señores y vasallos que cruzó a toda la sociedad. Cada uno de ellos controlaba a su propia servidu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95280" y="5157720"/>
            <a:ext cx="6048360" cy="119124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sí,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ociedad mediev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pasó a estar j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rarquizad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del modo siguiente: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REALEZA, LA NOBLEZ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(que incluye a los altos dignatarios de la Iglesia)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BAJA NOBLEZ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(caballeros)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SERVIDU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24000" y="1557360"/>
            <a:ext cx="6048360" cy="82548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sociedad medieval: una sociedad jerarquizada y piramid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12"/>
          <p:cNvGrpSpPr/>
          <p:nvPr/>
        </p:nvGrpSpPr>
        <p:grpSpPr>
          <a:xfrm>
            <a:off x="539640" y="404640"/>
            <a:ext cx="8353440" cy="5334120"/>
            <a:chOff x="539640" y="404640"/>
            <a:chExt cx="8353440" cy="5334120"/>
          </a:xfrm>
        </p:grpSpPr>
        <p:sp>
          <p:nvSpPr>
            <p:cNvPr id="206" name="Text Box 2"/>
            <p:cNvSpPr/>
            <p:nvPr/>
          </p:nvSpPr>
          <p:spPr>
            <a:xfrm>
              <a:off x="539640" y="404640"/>
              <a:ext cx="792000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La sociedad feudal: una sociedad estament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"/>
            <p:cNvSpPr/>
            <p:nvPr/>
          </p:nvSpPr>
          <p:spPr>
            <a:xfrm>
              <a:off x="611280" y="1197000"/>
              <a:ext cx="8136000" cy="91692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Recuerda que  un estamento es una agrupación social que se reconoce por características asociadas a la herencia, al nacimiento, a formas de identificación externa (la ropa, el idioma, etc.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4" descr="Vida de la nobleza 02"/>
            <p:cNvPicPr/>
            <p:nvPr/>
          </p:nvPicPr>
          <p:blipFill>
            <a:blip r:embed="rId1"/>
            <a:stretch/>
          </p:blipFill>
          <p:spPr>
            <a:xfrm>
              <a:off x="539640" y="2349360"/>
              <a:ext cx="2086200" cy="1422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9" name="Picture 5" descr="La nobleza y realeza en tiempos de Carlomagno"/>
            <p:cNvPicPr/>
            <p:nvPr/>
          </p:nvPicPr>
          <p:blipFill>
            <a:blip r:embed="rId2"/>
            <a:stretch/>
          </p:blipFill>
          <p:spPr>
            <a:xfrm>
              <a:off x="539640" y="3716280"/>
              <a:ext cx="2087640" cy="20224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10" name="Picture 6" descr="Soldados medievales"/>
            <p:cNvPicPr/>
            <p:nvPr/>
          </p:nvPicPr>
          <p:blipFill>
            <a:blip r:embed="rId3"/>
            <a:stretch/>
          </p:blipFill>
          <p:spPr>
            <a:xfrm>
              <a:off x="2771640" y="2349360"/>
              <a:ext cx="3816360" cy="33768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11" name="Text Box 7"/>
            <p:cNvSpPr/>
            <p:nvPr/>
          </p:nvSpPr>
          <p:spPr>
            <a:xfrm>
              <a:off x="6732720" y="2421000"/>
              <a:ext cx="2160360" cy="29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En este tipo de sociedad la movilidad es muy limitada: era muy difícil ascender socialmen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SE NACE CAMPESINO Y SE MUERE COMO TAL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539640" y="620640"/>
            <a:ext cx="2808360" cy="633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A. LA REAL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95280" y="1844640"/>
            <a:ext cx="33861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urante el Feudalismo el Rey está desprovisto de muchos de los poderes que había gozado durante la época de los Imperios territori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ntenta recuperar su poder gracias al desarrollo de l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uzeranía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“rey es soberano, no sólo de sus vasallos, sino también de los vasallos de sus vasa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Orona-llaves-emblema"/>
          <p:cNvPicPr/>
          <p:nvPr/>
        </p:nvPicPr>
        <p:blipFill>
          <a:blip r:embed="rId1"/>
          <a:stretch/>
        </p:blipFill>
        <p:spPr>
          <a:xfrm>
            <a:off x="4211640" y="836640"/>
            <a:ext cx="3873600" cy="524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2"/>
          <p:cNvSpPr/>
          <p:nvPr/>
        </p:nvSpPr>
        <p:spPr>
          <a:xfrm>
            <a:off x="611280" y="189000"/>
            <a:ext cx="7632720" cy="63324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B. LA NOBLEZA Y LA CABALL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4211640" y="1052640"/>
            <a:ext cx="46814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sistema feudal nació y  se organizó en la idea de sostener una clase mili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 peculiaridad radica en la conciencia social, la Iglesia contribuye  fomentando una mentalidad caballeresca:  Los caballeros debían emplear sus armas a favor de la justic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Iglesia define un código ético para los caballe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samblea de Paz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tomar armas sólo en condiciones justas, respetando los campos cultivados, los pobres y las mujer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Tregua de Dio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los caballeros no pueden luchar jueves, viernes, sábado y doming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caballería no sólo implica destreza militar, sino también, código de honor y una educ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5" descr="armadura-caballo"/>
          <p:cNvPicPr/>
          <p:nvPr/>
        </p:nvPicPr>
        <p:blipFill>
          <a:blip r:embed="rId1"/>
          <a:stretch/>
        </p:blipFill>
        <p:spPr>
          <a:xfrm>
            <a:off x="0" y="1125360"/>
            <a:ext cx="414036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6"/>
          <p:cNvSpPr/>
          <p:nvPr/>
        </p:nvSpPr>
        <p:spPr>
          <a:xfrm>
            <a:off x="0" y="321156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N LA ESTRUCTURA FEUDAL EL TRABAJO ERA UN OFICIO INNOBLE, EL QUE ERA DISFRUTADO POR LOS ESTAMENTOS SUPERIORES PERO QUE ERA DESARROLLADO POR   LOS SECTORES MÁS BAJOS DE LA SOCIEDAD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9"/>
          <p:cNvGrpSpPr/>
          <p:nvPr/>
        </p:nvGrpSpPr>
        <p:grpSpPr>
          <a:xfrm>
            <a:off x="1116000" y="260280"/>
            <a:ext cx="6264360" cy="2951280"/>
            <a:chOff x="1116000" y="260280"/>
            <a:chExt cx="6264360" cy="2951280"/>
          </a:xfrm>
        </p:grpSpPr>
        <p:sp>
          <p:nvSpPr>
            <p:cNvPr id="220" name="Text Box 2"/>
            <p:cNvSpPr/>
            <p:nvPr/>
          </p:nvSpPr>
          <p:spPr>
            <a:xfrm>
              <a:off x="1116000" y="260280"/>
              <a:ext cx="626436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C. TRABAJADORES RURAL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7" descr="campesinos3"/>
            <p:cNvPicPr/>
            <p:nvPr/>
          </p:nvPicPr>
          <p:blipFill>
            <a:blip r:embed="rId1"/>
            <a:stretch/>
          </p:blipFill>
          <p:spPr>
            <a:xfrm>
              <a:off x="1116000" y="692280"/>
              <a:ext cx="6264360" cy="2519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sp>
        <p:nvSpPr>
          <p:cNvPr id="222" name="Text Box 12"/>
          <p:cNvSpPr/>
          <p:nvPr/>
        </p:nvSpPr>
        <p:spPr>
          <a:xfrm>
            <a:off x="611280" y="5589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203640" y="429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Tres actividades princip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79280" y="4221000"/>
            <a:ext cx="3095640" cy="105984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trabajo directo de la tier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IERVOS DE LA GL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348000" y="5373720"/>
            <a:ext cx="273528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artesanía y herrería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RTESANO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ERRER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6012000" y="4221000"/>
            <a:ext cx="266544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ervicio personal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ERVICIO DOMÉ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4643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1"/>
          <p:cNvSpPr/>
          <p:nvPr/>
        </p:nvSpPr>
        <p:spPr>
          <a:xfrm>
            <a:off x="565164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2"/>
          <p:cNvSpPr/>
          <p:nvPr/>
        </p:nvSpPr>
        <p:spPr>
          <a:xfrm flipH="1">
            <a:off x="3276720" y="44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706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¿Recuerdas lo que estudiamos en la clase anter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250920" y="1413000"/>
            <a:ext cx="8281800" cy="4751280"/>
            <a:chOff x="250920" y="1413000"/>
            <a:chExt cx="8281800" cy="4751280"/>
          </a:xfrm>
        </p:grpSpPr>
        <p:sp>
          <p:nvSpPr>
            <p:cNvPr id="91" name="Text Box 3"/>
            <p:cNvSpPr/>
            <p:nvPr/>
          </p:nvSpPr>
          <p:spPr>
            <a:xfrm>
              <a:off x="684360" y="1413000"/>
              <a:ext cx="41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ookman Old Style"/>
                </a:rPr>
                <a:t>Haz memoria: estudiamo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"/>
            <p:cNvSpPr/>
            <p:nvPr/>
          </p:nvSpPr>
          <p:spPr>
            <a:xfrm>
              <a:off x="250920" y="3068640"/>
              <a:ext cx="1657080" cy="1512720"/>
            </a:xfrm>
            <a:prstGeom prst="ellipse">
              <a:avLst/>
            </a:prstGeom>
            <a:gradFill rotWithShape="0">
              <a:gsLst>
                <a:gs pos="0">
                  <a:srgbClr val="f2ee54"/>
                </a:gs>
                <a:gs pos="100000">
                  <a:srgbClr val="706e2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Feudal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1979640" y="1916280"/>
              <a:ext cx="1224000" cy="433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>
              <a:off x="2050920" y="3573360"/>
              <a:ext cx="1152720" cy="576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>
              <a:off x="2050920" y="5445000"/>
              <a:ext cx="1152720" cy="432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3419640" y="1773360"/>
              <a:ext cx="2160360" cy="1008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65e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"/>
            <p:cNvSpPr/>
            <p:nvPr/>
          </p:nvSpPr>
          <p:spPr>
            <a:xfrm>
              <a:off x="3564000" y="3213000"/>
              <a:ext cx="2160360" cy="12956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88a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Anteced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"/>
            <p:cNvSpPr/>
            <p:nvPr/>
          </p:nvSpPr>
          <p:spPr>
            <a:xfrm>
              <a:off x="3419640" y="4869000"/>
              <a:ext cx="2520720" cy="12952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Conceptos cla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5867280" y="2708280"/>
              <a:ext cx="2665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Es importante que tengas presente estos aspectos, porque en esta clase estudiaremos las consecuencias del feudalism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CONSECUENCIAS CULTURALES DEL FEUDA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79280" y="1197000"/>
            <a:ext cx="4392720" cy="478044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EUDALIZACIÓN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arroquia y el monasterio fueron relevantes en los actos religiosos, jurídicos, administrativos  y judi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arroquia se transformó en una fuente apetecible de riquezas debido a la afluencia de ofrendas, limosnas  y diez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os señores pasaron a percibir este último como una renta feudal más y  a percibirlo como otra prop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URANTE ESTA ÉPOCA UN OSCURANTISMO INTELECTUAL ENSOMBRECIÓ A LA IGLESIA: SURGEN REFORMAS DE CLUNY (9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788000" y="1197000"/>
            <a:ext cx="3744720" cy="146556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PARICIÓN DE LOS FEUDOS DE BOLS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asignación de rentas, por parte de un señor, a cambio de homenaje y fidelidad de un vasall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788000" y="2781360"/>
            <a:ext cx="3744720" cy="642600"/>
          </a:xfrm>
          <a:prstGeom prst="rect">
            <a:avLst/>
          </a:prstGeom>
          <a:solidFill>
            <a:srgbClr val="ffd9b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l DESARROLLO DE LOS TOR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TORneo"/>
          <p:cNvPicPr/>
          <p:nvPr/>
        </p:nvPicPr>
        <p:blipFill>
          <a:blip r:embed="rId1"/>
          <a:stretch/>
        </p:blipFill>
        <p:spPr>
          <a:xfrm>
            <a:off x="4859280" y="3573360"/>
            <a:ext cx="3635280" cy="258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324000" y="260280"/>
            <a:ext cx="8208720" cy="115128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ENCASTILLAMIENTO DE LA NOBL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El castillo es el elemento más característico en el feudalismo y se convirtió en el centro de administración señorial del feu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castillo medieval"/>
          <p:cNvPicPr/>
          <p:nvPr/>
        </p:nvPicPr>
        <p:blipFill>
          <a:blip r:embed="rId1"/>
          <a:stretch/>
        </p:blipFill>
        <p:spPr>
          <a:xfrm>
            <a:off x="250920" y="1557360"/>
            <a:ext cx="6840360" cy="513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7" name="Text Box 8"/>
          <p:cNvSpPr/>
          <p:nvPr/>
        </p:nvSpPr>
        <p:spPr>
          <a:xfrm>
            <a:off x="7164360" y="5373720"/>
            <a:ext cx="183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La imagen corresponde a El Hot Gravenstee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, uno de los mejores castillos medievales ubicado en Gante, Bél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0"/>
          <p:cNvGrpSpPr/>
          <p:nvPr/>
        </p:nvGrpSpPr>
        <p:grpSpPr>
          <a:xfrm>
            <a:off x="324000" y="476280"/>
            <a:ext cx="8569080" cy="5616720"/>
            <a:chOff x="324000" y="476280"/>
            <a:chExt cx="8569080" cy="5616720"/>
          </a:xfrm>
        </p:grpSpPr>
        <p:sp>
          <p:nvSpPr>
            <p:cNvPr id="239" name="Text Box 2"/>
            <p:cNvSpPr/>
            <p:nvPr/>
          </p:nvSpPr>
          <p:spPr>
            <a:xfrm>
              <a:off x="468360" y="476280"/>
              <a:ext cx="74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En síntesis, ¿qué estudiamos en esta cla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9"/>
            <p:cNvGrpSpPr/>
            <p:nvPr/>
          </p:nvGrpSpPr>
          <p:grpSpPr>
            <a:xfrm>
              <a:off x="324000" y="1125360"/>
              <a:ext cx="8569080" cy="4967640"/>
              <a:chOff x="324000" y="1125360"/>
              <a:chExt cx="8569080" cy="4967640"/>
            </a:xfrm>
          </p:grpSpPr>
          <p:sp>
            <p:nvSpPr>
              <p:cNvPr id="241" name="Text Box 11"/>
              <p:cNvSpPr/>
              <p:nvPr/>
            </p:nvSpPr>
            <p:spPr>
              <a:xfrm>
                <a:off x="6084720" y="1125360"/>
                <a:ext cx="280836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Ruraliz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ecadencia del comerc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La tierra como recurso princip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"/>
              <p:cNvSpPr/>
              <p:nvPr/>
            </p:nvSpPr>
            <p:spPr>
              <a:xfrm>
                <a:off x="6227640" y="2924280"/>
                <a:ext cx="266544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Sociedad piramid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Sociedad estamen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Group 18"/>
              <p:cNvGrpSpPr/>
              <p:nvPr/>
            </p:nvGrpSpPr>
            <p:grpSpPr>
              <a:xfrm>
                <a:off x="324000" y="1125360"/>
                <a:ext cx="5616360" cy="4967640"/>
                <a:chOff x="324000" y="1125360"/>
                <a:chExt cx="5616360" cy="4967640"/>
              </a:xfrm>
            </p:grpSpPr>
            <p:sp>
              <p:nvSpPr>
                <p:cNvPr id="244" name="Oval 3"/>
                <p:cNvSpPr/>
                <p:nvPr/>
              </p:nvSpPr>
              <p:spPr>
                <a:xfrm>
                  <a:off x="324000" y="2133720"/>
                  <a:ext cx="2232000" cy="187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f7a7"/>
                    </a:gs>
                    <a:gs pos="100000">
                      <a:srgbClr val="8a9d6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onsecuencias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del Feudalism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4"/>
                <p:cNvSpPr/>
                <p:nvPr/>
              </p:nvSpPr>
              <p:spPr>
                <a:xfrm>
                  <a:off x="2556000" y="1484280"/>
                  <a:ext cx="1368360" cy="5032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5"/>
                <p:cNvSpPr/>
                <p:nvPr/>
              </p:nvSpPr>
              <p:spPr>
                <a:xfrm>
                  <a:off x="3995640" y="1557360"/>
                  <a:ext cx="1656000" cy="368280"/>
                </a:xfrm>
                <a:prstGeom prst="rect">
                  <a:avLst/>
                </a:prstGeom>
                <a:solidFill>
                  <a:srgbClr val="acf2e1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Económ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6"/>
                <p:cNvSpPr/>
                <p:nvPr/>
              </p:nvSpPr>
              <p:spPr>
                <a:xfrm>
                  <a:off x="2771640" y="2997360"/>
                  <a:ext cx="1224000" cy="360360"/>
                </a:xfrm>
                <a:prstGeom prst="rightArrow">
                  <a:avLst>
                    <a:gd name="adj1" fmla="val 50000"/>
                    <a:gd name="adj2" fmla="val 84915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7"/>
                <p:cNvSpPr/>
                <p:nvPr/>
              </p:nvSpPr>
              <p:spPr>
                <a:xfrm>
                  <a:off x="4140360" y="3357720"/>
                  <a:ext cx="1152360" cy="368280"/>
                </a:xfrm>
                <a:prstGeom prst="rect">
                  <a:avLst/>
                </a:prstGeom>
                <a:solidFill>
                  <a:srgbClr val="f7f7a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ci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8"/>
                <p:cNvSpPr/>
                <p:nvPr/>
              </p:nvSpPr>
              <p:spPr>
                <a:xfrm flipH="1" rot="10800000">
                  <a:off x="2556000" y="4508280"/>
                  <a:ext cx="1296720" cy="5029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9"/>
                <p:cNvSpPr/>
                <p:nvPr/>
              </p:nvSpPr>
              <p:spPr>
                <a:xfrm>
                  <a:off x="4067280" y="4797360"/>
                  <a:ext cx="1152360" cy="368280"/>
                </a:xfrm>
                <a:prstGeom prst="rect">
                  <a:avLst/>
                </a:prstGeom>
                <a:solidFill>
                  <a:srgbClr val="ffcc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olí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10"/>
                <p:cNvSpPr/>
                <p:nvPr/>
              </p:nvSpPr>
              <p:spPr>
                <a:xfrm>
                  <a:off x="5724360" y="1125360"/>
                  <a:ext cx="216000" cy="1656000"/>
                </a:xfrm>
                <a:custGeom>
                  <a:avLst/>
                  <a:gdLst>
                    <a:gd name="textAreaLeft" fmla="*/ 137880 w 216000"/>
                    <a:gd name="textAreaRight" fmla="*/ 216360 w 216000"/>
                    <a:gd name="textAreaTop" fmla="*/ 42840 h 1656000"/>
                    <a:gd name="textAreaBottom" fmla="*/ 1613160 h 165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2"/>
                <p:cNvSpPr/>
                <p:nvPr/>
              </p:nvSpPr>
              <p:spPr>
                <a:xfrm>
                  <a:off x="5867280" y="2924280"/>
                  <a:ext cx="73080" cy="1296720"/>
                </a:xfrm>
                <a:custGeom>
                  <a:avLst/>
                  <a:gdLst>
                    <a:gd name="textAreaLeft" fmla="*/ 46800 w 73080"/>
                    <a:gd name="textAreaRight" fmla="*/ 73440 w 73080"/>
                    <a:gd name="textAreaTop" fmla="*/ 33480 h 1296720"/>
                    <a:gd name="textAreaBottom" fmla="*/ 1263240 h 1296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4"/>
                <p:cNvSpPr/>
                <p:nvPr/>
              </p:nvSpPr>
              <p:spPr>
                <a:xfrm>
                  <a:off x="5867280" y="4365720"/>
                  <a:ext cx="73080" cy="1727280"/>
                </a:xfrm>
                <a:custGeom>
                  <a:avLst/>
                  <a:gdLst>
                    <a:gd name="textAreaLeft" fmla="*/ 46800 w 73080"/>
                    <a:gd name="textAreaRight" fmla="*/ 73440 w 73080"/>
                    <a:gd name="textAreaTop" fmla="*/ 45000 h 1727280"/>
                    <a:gd name="textAreaBottom" fmla="*/ 1682280 h 172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Text Box 15"/>
              <p:cNvSpPr/>
              <p:nvPr/>
            </p:nvSpPr>
            <p:spPr>
              <a:xfrm>
                <a:off x="6300720" y="4437000"/>
                <a:ext cx="251928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ebilitamiento de la monarquía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ivisión territorial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Bookman Old Style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351080"/>
            <a:ext cx="3600360" cy="452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Bookman Old Style"/>
              </a:rPr>
              <a:t>Sociedad Medieval: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La ciudad y los orígenes del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Bookman Old Style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Ciu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Mercado/ Merc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Burgues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Capital/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Ganancia/ Precio/ Sal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7667640" y="5373720"/>
            <a:ext cx="1008000" cy="1224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224000"/>
              <a:gd name="textAreaBottom" fmla="*/ 1158840 h 1224000"/>
            </a:gdLst>
            <a:ahLst/>
            <a:rect l="textAreaLeft" t="textAreaTop" r="textAreaRight" b="textAreaBottom"/>
            <a:pathLst>
              <a:path w="21600" h="26227">
                <a:moveTo>
                  <a:pt x="0" y="0"/>
                </a:moveTo>
                <a:lnTo>
                  <a:pt x="21600" y="0"/>
                </a:lnTo>
                <a:lnTo>
                  <a:pt x="21600" y="26227"/>
                </a:lnTo>
                <a:lnTo>
                  <a:pt x="0" y="26227"/>
                </a:lnTo>
                <a:close/>
              </a:path>
              <a:path fill="lightenLess" w="21600" h="262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27">
                <a:moveTo>
                  <a:pt x="21600" y="0"/>
                </a:moveTo>
                <a:lnTo>
                  <a:pt x="21600" y="26227"/>
                </a:lnTo>
                <a:lnTo>
                  <a:pt x="20200" y="24827"/>
                </a:lnTo>
                <a:lnTo>
                  <a:pt x="20200" y="1400"/>
                </a:lnTo>
                <a:close/>
              </a:path>
              <a:path fill="darkenLess" w="21600" h="26227">
                <a:moveTo>
                  <a:pt x="21600" y="26227"/>
                </a:moveTo>
                <a:lnTo>
                  <a:pt x="0" y="26227"/>
                </a:lnTo>
                <a:lnTo>
                  <a:pt x="1400" y="24827"/>
                </a:lnTo>
                <a:lnTo>
                  <a:pt x="20200" y="24827"/>
                </a:lnTo>
                <a:close/>
              </a:path>
              <a:path fill="lighten" w="21600" h="26227">
                <a:moveTo>
                  <a:pt x="0" y="262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27"/>
                </a:lnTo>
                <a:close/>
              </a:path>
              <a:path fill="darken" w="21600" h="26227">
                <a:moveTo>
                  <a:pt x="10800" y="6150"/>
                </a:moveTo>
                <a:lnTo>
                  <a:pt x="13376" y="8762"/>
                </a:ln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lnTo>
                  <a:pt x="17763" y="13113"/>
                </a:lnTo>
                <a:lnTo>
                  <a:pt x="16109" y="13113"/>
                </a:lnTo>
                <a:lnTo>
                  <a:pt x="16109" y="20303"/>
                </a:lnTo>
                <a:lnTo>
                  <a:pt x="5491" y="20303"/>
                </a:lnTo>
                <a:lnTo>
                  <a:pt x="5491" y="13113"/>
                </a:lnTo>
                <a:lnTo>
                  <a:pt x="3837" y="13113"/>
                </a:lnTo>
                <a:close/>
              </a:path>
              <a:path fill="darkenLess" w="21600" h="26227">
                <a:moveTo>
                  <a:pt x="13376" y="8762"/>
                </a:move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close/>
              </a:path>
              <a:path fill="darkenLess" w="21600" h="26227">
                <a:moveTo>
                  <a:pt x="9877" y="16612"/>
                </a:moveTo>
                <a:lnTo>
                  <a:pt x="11723" y="16612"/>
                </a:lnTo>
                <a:lnTo>
                  <a:pt x="11723" y="20303"/>
                </a:lnTo>
                <a:lnTo>
                  <a:pt x="16109" y="20303"/>
                </a:lnTo>
                <a:lnTo>
                  <a:pt x="16109" y="13113"/>
                </a:lnTo>
                <a:lnTo>
                  <a:pt x="5491" y="13113"/>
                </a:lnTo>
                <a:lnTo>
                  <a:pt x="5491" y="20303"/>
                </a:lnTo>
                <a:lnTo>
                  <a:pt x="9877" y="20303"/>
                </a:lnTo>
                <a:close/>
              </a:path>
            </a:pathLst>
          </a:custGeom>
          <a:solidFill>
            <a:srgbClr val="da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ciudmed"/>
          <p:cNvPicPr/>
          <p:nvPr/>
        </p:nvPicPr>
        <p:blipFill>
          <a:blip r:embed="rId1"/>
          <a:stretch/>
        </p:blipFill>
        <p:spPr>
          <a:xfrm>
            <a:off x="4067280" y="1341360"/>
            <a:ext cx="4895640" cy="375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95280" y="1484280"/>
            <a:ext cx="8569440" cy="4392720"/>
            <a:chOff x="395280" y="1484280"/>
            <a:chExt cx="8569440" cy="4392720"/>
          </a:xfrm>
        </p:grpSpPr>
        <p:sp>
          <p:nvSpPr>
            <p:cNvPr id="104" name="Text Box 6"/>
            <p:cNvSpPr/>
            <p:nvPr/>
          </p:nvSpPr>
          <p:spPr>
            <a:xfrm>
              <a:off x="826920" y="4653000"/>
              <a:ext cx="769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4427640" y="1484280"/>
              <a:ext cx="4537080" cy="439272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6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onocer los rasgos fundamentales de la sociedad feudal y entenderla como una respuesta a las amenazas externas para los pueblos europe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Identificar formas de organización del medioevo europeo que alcanzan una larga duración y extensión espacial.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n tu libro estos  contenidos están  desde la página 125 hasta la 13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95280" y="1484280"/>
              <a:ext cx="3889440" cy="436284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8aa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Organización social de Europa medieval: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La Europa medieval como modelo de sociedad rur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nceptos cl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ciedad estament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Feudalización de la   socieda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aballerí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ciedad rur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Bookman Old Style"/>
              </a:rPr>
              <a:t>¿Qué nos dicen las siguientes imáge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agro_feudo"/>
          <p:cNvPicPr/>
          <p:nvPr/>
        </p:nvPicPr>
        <p:blipFill>
          <a:blip r:embed="rId1"/>
          <a:stretch/>
        </p:blipFill>
        <p:spPr>
          <a:xfrm>
            <a:off x="3780000" y="1844640"/>
            <a:ext cx="2063520" cy="234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9" name="Picture 9" descr="Piramide_feudal_a"/>
          <p:cNvPicPr/>
          <p:nvPr/>
        </p:nvPicPr>
        <p:blipFill>
          <a:blip r:embed="rId2"/>
          <a:stretch/>
        </p:blipFill>
        <p:spPr>
          <a:xfrm>
            <a:off x="5975280" y="1844640"/>
            <a:ext cx="3168720" cy="212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foTO quijote"/>
          <p:cNvPicPr/>
          <p:nvPr/>
        </p:nvPicPr>
        <p:blipFill>
          <a:blip r:embed="rId3"/>
          <a:stretch/>
        </p:blipFill>
        <p:spPr>
          <a:xfrm>
            <a:off x="6084720" y="4005360"/>
            <a:ext cx="2543400" cy="25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300px-Map_France_1477-es"/>
          <p:cNvPicPr/>
          <p:nvPr/>
        </p:nvPicPr>
        <p:blipFill>
          <a:blip r:embed="rId4"/>
          <a:stretch/>
        </p:blipFill>
        <p:spPr>
          <a:xfrm>
            <a:off x="0" y="1773360"/>
            <a:ext cx="3611520" cy="388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2" name="Picture 14" descr="calendario-agricola"/>
          <p:cNvPicPr/>
          <p:nvPr/>
        </p:nvPicPr>
        <p:blipFill>
          <a:blip r:embed="rId5"/>
          <a:stretch/>
        </p:blipFill>
        <p:spPr>
          <a:xfrm>
            <a:off x="2771640" y="4286160"/>
            <a:ext cx="3222720" cy="219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Bookman Old Style"/>
              </a:rPr>
              <a:t>CONSECUENCIAS DEL FEUDAL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9640" y="1268280"/>
            <a:ext cx="2303640" cy="3957480"/>
          </a:xfrm>
          <a:prstGeom prst="rect">
            <a:avLst/>
          </a:prstGeom>
          <a:gradFill rotWithShape="0">
            <a:gsLst>
              <a:gs pos="0">
                <a:srgbClr val="f6a6f8"/>
              </a:gs>
              <a:gs pos="100000">
                <a:srgbClr val="b278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uralización de la economía (agricultura y ganaderí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Artesanía, metalurgia y herr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cadencia comercial y mone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UTAR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92360" y="1268280"/>
            <a:ext cx="2303640" cy="2991600"/>
          </a:xfrm>
          <a:prstGeom prst="rect">
            <a:avLst/>
          </a:prstGeom>
          <a:gradFill rotWithShape="0">
            <a:gsLst>
              <a:gs pos="0">
                <a:srgbClr val="acf2e1"/>
              </a:gs>
              <a:gs pos="100000">
                <a:srgbClr val="88bfb1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ragmentación territorial del poder (rei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ivatización del poder pol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rgimiento de Monarquías Feud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588000" y="1268280"/>
            <a:ext cx="2087640" cy="3694680"/>
          </a:xfrm>
          <a:prstGeom prst="rect">
            <a:avLst/>
          </a:prstGeom>
          <a:gradFill rotWithShape="0">
            <a:gsLst>
              <a:gs pos="0">
                <a:srgbClr val="f8bfa6"/>
              </a:gs>
              <a:gs pos="100000">
                <a:srgbClr val="d2a28d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rge una jerarquía feu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e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obleza feudal y caball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Trabajadores rur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059280" y="4508640"/>
            <a:ext cx="3025440" cy="2037240"/>
          </a:xfrm>
          <a:prstGeom prst="rect">
            <a:avLst/>
          </a:prstGeom>
          <a:gradFill rotWithShape="0">
            <a:gsLst>
              <a:gs pos="0">
                <a:srgbClr val="f2ee54"/>
              </a:gs>
              <a:gs pos="100000">
                <a:srgbClr val="a9a63b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eudalización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ncastill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eudos de bol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sarrollo de los torne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2916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579600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500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6"/>
          <p:cNvGrpSpPr/>
          <p:nvPr/>
        </p:nvGrpSpPr>
        <p:grpSpPr>
          <a:xfrm>
            <a:off x="539640" y="260280"/>
            <a:ext cx="8137800" cy="1434960"/>
            <a:chOff x="539640" y="260280"/>
            <a:chExt cx="8137800" cy="1434960"/>
          </a:xfrm>
        </p:grpSpPr>
        <p:sp>
          <p:nvSpPr>
            <p:cNvPr id="122" name="Text Box 3"/>
            <p:cNvSpPr/>
            <p:nvPr/>
          </p:nvSpPr>
          <p:spPr>
            <a:xfrm>
              <a:off x="755640" y="260280"/>
              <a:ext cx="7921800" cy="52056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>
                  <a:solidFill>
                    <a:srgbClr val="ffffff"/>
                  </a:solidFill>
                  <a:latin typeface="Bookman Old Style"/>
                </a:rPr>
                <a:t>1. CONSECUENCIAS EN LA ECONOMÍ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"/>
            <p:cNvSpPr/>
            <p:nvPr/>
          </p:nvSpPr>
          <p:spPr>
            <a:xfrm>
              <a:off x="539640" y="1052640"/>
              <a:ext cx="792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Las actividades productivas  que más se desarrollaron en el feudalismo fuer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539640" y="1844640"/>
            <a:ext cx="7659720" cy="4641840"/>
            <a:chOff x="539640" y="1844640"/>
            <a:chExt cx="7659720" cy="4641840"/>
          </a:xfrm>
        </p:grpSpPr>
        <p:sp>
          <p:nvSpPr>
            <p:cNvPr id="125" name="Text Box 8"/>
            <p:cNvSpPr/>
            <p:nvPr/>
          </p:nvSpPr>
          <p:spPr>
            <a:xfrm>
              <a:off x="1979640" y="5661000"/>
              <a:ext cx="5111640" cy="825480"/>
            </a:xfrm>
            <a:prstGeom prst="rect">
              <a:avLst/>
            </a:prstGeom>
            <a:gradFill rotWithShape="0">
              <a:gsLst>
                <a:gs pos="0">
                  <a:srgbClr val="f2ee54"/>
                </a:gs>
                <a:gs pos="100000">
                  <a:srgbClr val="93913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RURALIZACIÓN DE LA ECONOM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5076720" y="4149720"/>
              <a:ext cx="2808360" cy="36828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GRICUL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5076720" y="4724280"/>
              <a:ext cx="2808360" cy="36828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GANAD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14" descr="ARadofin"/>
            <p:cNvPicPr/>
            <p:nvPr/>
          </p:nvPicPr>
          <p:blipFill>
            <a:blip r:embed="rId1"/>
            <a:stretch/>
          </p:blipFill>
          <p:spPr>
            <a:xfrm>
              <a:off x="4572000" y="1844640"/>
              <a:ext cx="3627360" cy="1727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29" name="Picture 17" descr="AGRicultor"/>
            <p:cNvPicPr/>
            <p:nvPr/>
          </p:nvPicPr>
          <p:blipFill>
            <a:blip r:embed="rId2"/>
            <a:stretch/>
          </p:blipFill>
          <p:spPr>
            <a:xfrm>
              <a:off x="539640" y="1844640"/>
              <a:ext cx="3795840" cy="27259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30" name="Line 22"/>
            <p:cNvSpPr/>
            <p:nvPr/>
          </p:nvSpPr>
          <p:spPr>
            <a:xfrm>
              <a:off x="4643280" y="450864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4643280" y="450864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"/>
            <p:cNvSpPr/>
            <p:nvPr/>
          </p:nvSpPr>
          <p:spPr>
            <a:xfrm>
              <a:off x="4643280" y="494172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HERrero"/>
          <p:cNvPicPr/>
          <p:nvPr/>
        </p:nvPicPr>
        <p:blipFill>
          <a:blip r:embed="rId1"/>
          <a:stretch/>
        </p:blipFill>
        <p:spPr>
          <a:xfrm>
            <a:off x="179280" y="1557360"/>
            <a:ext cx="2517840" cy="3220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3203640" y="1197000"/>
            <a:ext cx="2808360" cy="64260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ETALURGIA DEL HI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03640" y="2781360"/>
            <a:ext cx="2808360" cy="36828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IN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0057_ensenar_imagen_comenio_artesano_07"/>
          <p:cNvPicPr/>
          <p:nvPr/>
        </p:nvPicPr>
        <p:blipFill>
          <a:blip r:embed="rId2"/>
          <a:stretch/>
        </p:blipFill>
        <p:spPr>
          <a:xfrm>
            <a:off x="6012000" y="4581360"/>
            <a:ext cx="2447640" cy="181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7" name="Picture 9" descr="cA00014_L"/>
          <p:cNvPicPr/>
          <p:nvPr/>
        </p:nvPicPr>
        <p:blipFill>
          <a:blip r:embed="rId3"/>
          <a:stretch/>
        </p:blipFill>
        <p:spPr>
          <a:xfrm>
            <a:off x="6264360" y="1700280"/>
            <a:ext cx="2879640" cy="2857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0"/>
          <p:cNvSpPr/>
          <p:nvPr/>
        </p:nvSpPr>
        <p:spPr>
          <a:xfrm>
            <a:off x="4788000" y="3213000"/>
            <a:ext cx="2305080" cy="50508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DESARROLLO DE  LA ARTES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industria textil medieval"/>
          <p:cNvPicPr/>
          <p:nvPr/>
        </p:nvPicPr>
        <p:blipFill>
          <a:blip r:embed="rId4"/>
          <a:stretch/>
        </p:blipFill>
        <p:spPr>
          <a:xfrm>
            <a:off x="2987640" y="3860640"/>
            <a:ext cx="2563920" cy="2853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3203640" y="1989000"/>
            <a:ext cx="2808360" cy="64260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USTRIA TEXTIL A DOMICI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96720" y="404640"/>
            <a:ext cx="424836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Recursos Económ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96720" y="1197000"/>
            <a:ext cx="8352000" cy="36828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tierra se transformó en el principal recurso econó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96720" y="177336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urge  la necesidad de la nobleza por conservar y acrecentar sus dominios territoriales. Esto es lo que llevó al desarrollo de los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stamentos agnaticio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y a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oncentración de la tierra en pocas mano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Feudo siglo XIV"/>
          <p:cNvPicPr/>
          <p:nvPr/>
        </p:nvPicPr>
        <p:blipFill>
          <a:blip r:embed="rId1"/>
          <a:stretch/>
        </p:blipFill>
        <p:spPr>
          <a:xfrm>
            <a:off x="828720" y="2852640"/>
            <a:ext cx="3416400" cy="2124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39640" y="5157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cuerda que la tierra incluye sus recursos naturales (agrícolas, mineros, ganaderos) y la mano de o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5005440" y="2852640"/>
            <a:ext cx="3503520" cy="3338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42920" y="333360"/>
            <a:ext cx="6985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Centro de produ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00000" y="982800"/>
            <a:ext cx="7991640" cy="64260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 la tierra pasó a ser el recurso económico principal, la Hacienda (el feudo) pasó a ser el centro de producción medie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5640" y="50864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Hacienda le otorgó a su propietario (el señor o señor -vasallo) un gran poder económico y social, ya que pasó a administrar importantes recursos económicos y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Mascota_clip_image003"/>
          <p:cNvPicPr/>
          <p:nvPr/>
        </p:nvPicPr>
        <p:blipFill>
          <a:blip r:embed="rId1"/>
          <a:stretch/>
        </p:blipFill>
        <p:spPr>
          <a:xfrm>
            <a:off x="2050920" y="1700280"/>
            <a:ext cx="5040360" cy="33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mago</cp:lastModifiedBy>
  <dcterms:modified xsi:type="dcterms:W3CDTF">2008-10-03T03:48:22Z</dcterms:modified>
  <cp:revision>47</cp:revision>
  <dc:subject/>
  <dc:title>Diapositiva 1</dc:title>
</cp:coreProperties>
</file>