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0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1FAC-DE03-415C-BDEE-848549ABB24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3305-E673-4955-BA3C-9E3F7162F21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s imágenes son solo de referencia conceptual; no tienen relación con la época medie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37E3-A9FE-4835-BB77-36678AEA113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os números corresponden a : 1, Corona, 2 llaves de los dominios del Rey, 3, emble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DE0C-4ACF-4FAD-952F-7B8D1365D2E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75F01-E38F-4256-8B8C-B10B58F101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E65A6-5772-4354-A5A7-0AB19D278F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78C53-DB9E-4F11-B992-CEA7443327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7FD65-2E6D-48A5-9500-5E6408245F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384ABB-3715-4E64-A559-36697ED9A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F500D2-12FB-4A5A-92DE-BFB72748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C12583-A1EB-4FAF-97FE-00309FAD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41E72-AAA5-49B2-9BA8-17BF4E89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C3D74-A338-4222-97D0-C6896961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0BAB6-9532-4FAE-9D5C-86B06317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24CAD-F286-4A7F-BF11-1108C999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21928-63CC-4F54-BB66-CCBE43C416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FE97ED-90E5-4BBE-8FB2-F0C1C802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0D659-B289-41D3-8543-A3FB43D4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B092B-AEC0-431C-A75B-733B7995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761313-E8EC-4B16-813A-6947336A5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19B41-3276-47DC-B0CB-629268AEC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2417B-CDD6-4971-85C5-AADEF64B90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FDB92-E5A7-470F-B615-91BC09672D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3E2EB-09B2-4777-8188-E6D15F84BE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E486B-FB9D-42CF-B49E-9533239358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296A0-9849-4FFF-A64A-3434F5A368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C20ED-279E-4112-9461-0E2958D35F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52872-E9DA-4E1A-BCA3-1B032D2100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677A-05B1-4039-B234-F5001E8E265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7" descr="Huniversal sello agua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7" descr="Huniversal sello agua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D561-B03E-466E-AD1A-443B84F4B94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0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19280" y="620280"/>
            <a:ext cx="7200720" cy="20876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ffff"/>
                </a:solidFill>
                <a:latin typeface="Bookman Old Style"/>
              </a:rPr>
              <a:t>CLASE 9:</a:t>
            </a:r>
            <a:r>
              <a:rPr b="1" i="1" lang="es-ES_tradnl" sz="4000" spc="-1" strike="noStrike">
                <a:solidFill>
                  <a:srgbClr val="ffffff"/>
                </a:solidFill>
                <a:latin typeface="Bookman Old Style"/>
              </a:rPr>
              <a:t> </a:t>
            </a:r>
            <a:br>
              <a:rPr sz="4000"/>
            </a:br>
            <a:r>
              <a:rPr b="1" i="1" lang="es-ES_tradnl" sz="4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es-ES_tradnl" sz="3200" spc="-1" strike="noStrike">
                <a:solidFill>
                  <a:srgbClr val="ffffff"/>
                </a:solidFill>
                <a:latin typeface="Bookman Old Style"/>
              </a:rPr>
              <a:t>SOCIEDAD MEDIEVAL</a:t>
            </a:r>
            <a:br>
              <a:rPr sz="3200"/>
            </a:br>
            <a:r>
              <a:rPr b="1" i="1" lang="es-ES_tradnl" sz="3200" spc="-1" strike="noStrike">
                <a:solidFill>
                  <a:srgbClr val="ffffff"/>
                </a:solidFill>
                <a:latin typeface="Bookman Old Style"/>
              </a:rPr>
              <a:t>CONSECUENCIAS</a:t>
            </a:r>
            <a:br>
              <a:rPr sz="3200"/>
            </a:br>
            <a:r>
              <a:rPr b="1" i="1" lang="es-ES_tradnl" sz="3200" spc="-1" strike="noStrike">
                <a:solidFill>
                  <a:srgbClr val="ffffff"/>
                </a:solidFill>
                <a:latin typeface="Bookman Old Style"/>
              </a:rPr>
              <a:t> DEL FEUDALIS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476360" y="0"/>
            <a:ext cx="38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Área: Historia y Ciencias Soc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Sección: Historia Unive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Huniversal 1ªhoja"/>
          <p:cNvPicPr/>
          <p:nvPr/>
        </p:nvPicPr>
        <p:blipFill>
          <a:blip r:embed="rId1"/>
          <a:stretch/>
        </p:blipFill>
        <p:spPr>
          <a:xfrm>
            <a:off x="0" y="0"/>
            <a:ext cx="147636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65feudalismo-sociedad"/>
          <p:cNvPicPr/>
          <p:nvPr/>
        </p:nvPicPr>
        <p:blipFill>
          <a:blip r:embed="rId2"/>
          <a:stretch/>
        </p:blipFill>
        <p:spPr>
          <a:xfrm>
            <a:off x="3708360" y="2852640"/>
            <a:ext cx="2881440" cy="3816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611280" y="333360"/>
            <a:ext cx="7920000" cy="45972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Bookman Old Style"/>
              </a:rPr>
              <a:t>El feudalismo y la actividad comer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539640" y="1125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n el feudalismo entró en decadencia la actividad comercial y los intercambios con mone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492360" y="3213000"/>
            <a:ext cx="1584360" cy="72072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395280" y="5084640"/>
            <a:ext cx="8209080" cy="916920"/>
          </a:xfrm>
          <a:prstGeom prst="rect">
            <a:avLst/>
          </a:prstGeom>
          <a:solidFill>
            <a:srgbClr val="f7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n su lugar se desarrollaron los intercambios locales sobre la base del trueque (bienes por servicios, o productos por productos) y la redistribución entre los nobles de los excedentes de la producción campes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3" descr="inventor%20billete"/>
          <p:cNvPicPr/>
          <p:nvPr/>
        </p:nvPicPr>
        <p:blipFill>
          <a:blip r:embed="rId1"/>
          <a:stretch/>
        </p:blipFill>
        <p:spPr>
          <a:xfrm>
            <a:off x="5148360" y="2205000"/>
            <a:ext cx="3495600" cy="2600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57" name="Picture 15" descr="59d7_1"/>
          <p:cNvPicPr/>
          <p:nvPr/>
        </p:nvPicPr>
        <p:blipFill>
          <a:blip r:embed="rId2"/>
          <a:stretch/>
        </p:blipFill>
        <p:spPr>
          <a:xfrm>
            <a:off x="826920" y="2133720"/>
            <a:ext cx="2664000" cy="2511360"/>
          </a:xfrm>
          <a:prstGeom prst="rect">
            <a:avLst/>
          </a:prstGeom>
          <a:ln w="0">
            <a:noFill/>
          </a:ln>
        </p:spPr>
      </p:pic>
      <p:sp>
        <p:nvSpPr>
          <p:cNvPr id="158" name="Line 16"/>
          <p:cNvSpPr/>
          <p:nvPr/>
        </p:nvSpPr>
        <p:spPr>
          <a:xfrm flipV="1">
            <a:off x="0" y="1989000"/>
            <a:ext cx="3959280" cy="2735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7"/>
          <p:cNvSpPr/>
          <p:nvPr/>
        </p:nvSpPr>
        <p:spPr>
          <a:xfrm>
            <a:off x="250920" y="1916280"/>
            <a:ext cx="4103640" cy="273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611280" y="765000"/>
            <a:ext cx="7848360" cy="459720"/>
          </a:xfrm>
          <a:prstGeom prst="rect">
            <a:avLst/>
          </a:prstGeom>
          <a:solidFill>
            <a:srgbClr val="f7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Bookman Old Style"/>
              </a:rPr>
              <a:t>¿Quiénes eran los señores en el feudalism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9" descr="Carlomagno"/>
          <p:cNvPicPr/>
          <p:nvPr/>
        </p:nvPicPr>
        <p:blipFill>
          <a:blip r:embed="rId1"/>
          <a:stretch/>
        </p:blipFill>
        <p:spPr>
          <a:xfrm>
            <a:off x="539640" y="2565360"/>
            <a:ext cx="2052720" cy="3311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2" name="Text Box 11"/>
          <p:cNvSpPr/>
          <p:nvPr/>
        </p:nvSpPr>
        <p:spPr>
          <a:xfrm>
            <a:off x="395280" y="5877000"/>
            <a:ext cx="828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stos estamentos controlaban gran poder polític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poseían territorios, ejércitos, burocracia, y administraban justi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Bookman Old Style"/>
              </a:rPr>
              <a:t>B. CONSECUENCIAS EN LO POLÍ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6" descr="papa"/>
          <p:cNvPicPr/>
          <p:nvPr/>
        </p:nvPicPr>
        <p:blipFill>
          <a:blip r:embed="rId2"/>
          <a:stretch/>
        </p:blipFill>
        <p:spPr>
          <a:xfrm>
            <a:off x="3132000" y="2997360"/>
            <a:ext cx="2676600" cy="2808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5" name="Oval 17"/>
          <p:cNvSpPr/>
          <p:nvPr/>
        </p:nvSpPr>
        <p:spPr>
          <a:xfrm>
            <a:off x="3492360" y="1628640"/>
            <a:ext cx="2303640" cy="863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Pap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8"/>
          <p:cNvSpPr/>
          <p:nvPr/>
        </p:nvSpPr>
        <p:spPr>
          <a:xfrm>
            <a:off x="6372360" y="1628640"/>
            <a:ext cx="2303280" cy="863640"/>
          </a:xfrm>
          <a:prstGeom prst="ellipse">
            <a:avLst/>
          </a:prstGeom>
          <a:solidFill>
            <a:srgbClr val="afef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nobl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9"/>
          <p:cNvSpPr/>
          <p:nvPr/>
        </p:nvSpPr>
        <p:spPr>
          <a:xfrm>
            <a:off x="395280" y="1628640"/>
            <a:ext cx="2303640" cy="863640"/>
          </a:xfrm>
          <a:prstGeom prst="ellipse">
            <a:avLst/>
          </a:prstGeom>
          <a:solidFill>
            <a:srgbClr val="daf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real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1" descr="BAA10427"/>
          <p:cNvPicPr/>
          <p:nvPr/>
        </p:nvPicPr>
        <p:blipFill>
          <a:blip r:embed="rId3"/>
          <a:stretch/>
        </p:blipFill>
        <p:spPr>
          <a:xfrm>
            <a:off x="6372360" y="2637000"/>
            <a:ext cx="2271600" cy="360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9" name="Line 22"/>
          <p:cNvSpPr/>
          <p:nvPr/>
        </p:nvSpPr>
        <p:spPr>
          <a:xfrm>
            <a:off x="2700360" y="1989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3"/>
          <p:cNvSpPr/>
          <p:nvPr/>
        </p:nvSpPr>
        <p:spPr>
          <a:xfrm flipH="1">
            <a:off x="5795640" y="1989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12"/>
          <p:cNvGrpSpPr/>
          <p:nvPr/>
        </p:nvGrpSpPr>
        <p:grpSpPr>
          <a:xfrm>
            <a:off x="0" y="0"/>
            <a:ext cx="8964720" cy="6296040"/>
            <a:chOff x="0" y="0"/>
            <a:chExt cx="8964720" cy="6296040"/>
          </a:xfrm>
        </p:grpSpPr>
        <p:sp>
          <p:nvSpPr>
            <p:cNvPr id="172" name="Text Box 2"/>
            <p:cNvSpPr/>
            <p:nvPr/>
          </p:nvSpPr>
          <p:spPr>
            <a:xfrm>
              <a:off x="0" y="0"/>
              <a:ext cx="8964720" cy="459720"/>
            </a:xfrm>
            <a:prstGeom prst="rect">
              <a:avLst/>
            </a:prstGeom>
            <a:solidFill>
              <a:srgbClr val="0000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ffffff"/>
                  </a:solidFill>
                  <a:latin typeface="Bookman Old Style"/>
                </a:rPr>
                <a:t>La política feudal: el debilitamiento de la monarquí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3"/>
            <p:cNvSpPr/>
            <p:nvPr/>
          </p:nvSpPr>
          <p:spPr>
            <a:xfrm>
              <a:off x="324000" y="863640"/>
              <a:ext cx="8389800" cy="642600"/>
            </a:xfrm>
            <a:prstGeom prst="rect">
              <a:avLst/>
            </a:prstGeom>
            <a:solidFill>
              <a:srgbClr val="acf2e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Arial"/>
                </a:rPr>
                <a:t>Debido al desarrollo del feudalismo, los monarcas perdieron gran parte de sus atribuciones como consecuencia del fortalecimiento del Papado y de la Noblez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4" name="Picture 4" descr="00GregorioMagno"/>
            <p:cNvPicPr/>
            <p:nvPr/>
          </p:nvPicPr>
          <p:blipFill>
            <a:blip r:embed="rId1"/>
            <a:stretch/>
          </p:blipFill>
          <p:spPr>
            <a:xfrm>
              <a:off x="324000" y="1871640"/>
              <a:ext cx="2631960" cy="33130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175" name="Picture 5" descr="Carlomagno"/>
            <p:cNvPicPr/>
            <p:nvPr/>
          </p:nvPicPr>
          <p:blipFill>
            <a:blip r:embed="rId2"/>
            <a:stretch/>
          </p:blipFill>
          <p:spPr>
            <a:xfrm>
              <a:off x="3708360" y="2592360"/>
              <a:ext cx="1428840" cy="23050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176" name="Picture 6" descr="Sociedad agraria medieval"/>
            <p:cNvPicPr/>
            <p:nvPr/>
          </p:nvPicPr>
          <p:blipFill>
            <a:blip r:embed="rId3"/>
            <a:stretch/>
          </p:blipFill>
          <p:spPr>
            <a:xfrm>
              <a:off x="5761080" y="1916280"/>
              <a:ext cx="2975040" cy="33843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177" name="AutoShape 7"/>
            <p:cNvSpPr/>
            <p:nvPr/>
          </p:nvSpPr>
          <p:spPr>
            <a:xfrm>
              <a:off x="3059280" y="3384720"/>
              <a:ext cx="576360" cy="5760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8"/>
            <p:cNvSpPr/>
            <p:nvPr/>
          </p:nvSpPr>
          <p:spPr>
            <a:xfrm rot="10800000">
              <a:off x="5219640" y="3384720"/>
              <a:ext cx="432000" cy="5760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9"/>
            <p:cNvSpPr/>
            <p:nvPr/>
          </p:nvSpPr>
          <p:spPr>
            <a:xfrm>
              <a:off x="250920" y="5327640"/>
              <a:ext cx="3241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Arial"/>
                </a:rPr>
                <a:t>Durante la Teocracia Pontificia, los Papas eran quienes investían a los rey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0"/>
            <p:cNvSpPr/>
            <p:nvPr/>
          </p:nvSpPr>
          <p:spPr>
            <a:xfrm>
              <a:off x="4284720" y="5472000"/>
              <a:ext cx="4680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00"/>
                  </a:solidFill>
                  <a:latin typeface="Arial"/>
                </a:rPr>
                <a:t>Fruto del desarrollo del feudalismo, la nobleza pasó a poseer ejército propio, justicia, impuesto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Bookman Old Style"/>
              </a:rPr>
              <a:t>Desmembramiento territorial de los Estados, en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Bookman Old Style"/>
              </a:rPr>
              <a:t>Edad Med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395280" y="1052640"/>
            <a:ext cx="859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n algunos países el feudalismo exacerbó el poder local de la nobleza y de los príncipes territoriales, en perjuicio del poder unitario y centralista de los rey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Mapa de Europa medieval"/>
          <p:cNvPicPr/>
          <p:nvPr/>
        </p:nvPicPr>
        <p:blipFill>
          <a:blip r:embed="rId1"/>
          <a:stretch/>
        </p:blipFill>
        <p:spPr>
          <a:xfrm>
            <a:off x="2411280" y="1725480"/>
            <a:ext cx="6443640" cy="51325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184" name="Text Box 7"/>
          <p:cNvSpPr/>
          <p:nvPr/>
        </p:nvSpPr>
        <p:spPr>
          <a:xfrm>
            <a:off x="0" y="2781360"/>
            <a:ext cx="241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a división territorial fue el reflejo de las relaciones políticas y sociales que provocó el Feudal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3"/>
          <p:cNvSpPr/>
          <p:nvPr/>
        </p:nvSpPr>
        <p:spPr>
          <a:xfrm>
            <a:off x="395280" y="1916280"/>
            <a:ext cx="280836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-España (Castilla, León, Aragón, etc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- Fra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- Aleman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6227640" y="1557360"/>
            <a:ext cx="2737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Sustentada en el principio de que el poder del Rey está en el patrimonio del que dispone pero que no necesariamente  administra directa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3635280" y="1773360"/>
            <a:ext cx="2305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Vasallos del monarca imponen la ocupación de los cargos públicos y lo heredable de el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324000" y="3878280"/>
            <a:ext cx="2952720" cy="2705760"/>
          </a:xfrm>
          <a:prstGeom prst="rect">
            <a:avLst/>
          </a:prstGeom>
          <a:solidFill>
            <a:srgbClr val="ffd9b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Descentralización de la burocracia estatal y de la monarqu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Fragmentación de los principados (disminuyen los vasallos del Rey y aumenta el nº de vasallos de príncipes territoria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3419640" y="3429000"/>
            <a:ext cx="2952720" cy="3123000"/>
          </a:xfrm>
          <a:prstGeom prst="rect">
            <a:avLst/>
          </a:prstGeom>
          <a:solidFill>
            <a:srgbClr val="b8ec84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Fusión entre las funciones públicas y la propiedad privada de los funcionar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Pierden significado conceptos como el de Repúbl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Derecho escrito cede paso al Derecho consuetudin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>
            <a:off x="1835280" y="35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9"/>
          <p:cNvSpPr/>
          <p:nvPr/>
        </p:nvSpPr>
        <p:spPr>
          <a:xfrm>
            <a:off x="4788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6588000" y="3606840"/>
            <a:ext cx="2376720" cy="2980080"/>
          </a:xfrm>
          <a:prstGeom prst="rect">
            <a:avLst/>
          </a:prstGeom>
          <a:solidFill>
            <a:srgbClr val="f2ee54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a monarquía  intenta recupera sus territorios con apoyo de la Igles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Desde el siglo XI el objetivo del Rey  fue contrarrestar la autarquía y autonomía de los vasa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250920" y="765000"/>
            <a:ext cx="2808360" cy="9169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c9a179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Fragmentación territorial del poder (rein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3203640" y="765000"/>
            <a:ext cx="2808360" cy="642600"/>
          </a:xfrm>
          <a:prstGeom prst="rect">
            <a:avLst/>
          </a:prstGeom>
          <a:gradFill rotWithShape="0">
            <a:gsLst>
              <a:gs pos="0">
                <a:srgbClr val="daf7a7"/>
              </a:gs>
              <a:gs pos="100000">
                <a:srgbClr val="acc384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Privatización del poder polí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3"/>
          <p:cNvSpPr/>
          <p:nvPr/>
        </p:nvSpPr>
        <p:spPr>
          <a:xfrm>
            <a:off x="6156360" y="765000"/>
            <a:ext cx="2808360" cy="642600"/>
          </a:xfrm>
          <a:prstGeom prst="rect">
            <a:avLst/>
          </a:prstGeom>
          <a:gradFill rotWithShape="0">
            <a:gsLst>
              <a:gs pos="0">
                <a:srgbClr val="f2ee54"/>
              </a:gs>
              <a:gs pos="100000">
                <a:srgbClr val="a19f38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Surgimiento de Monarquías Feud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>
            <a:off x="7667640" y="314172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324000" y="26028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Bookman Old Style"/>
              </a:rPr>
              <a:t>EN SUMA, EL FEUDALISMO PROVOCÓ EN LO POLÍTICO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395280" y="260280"/>
            <a:ext cx="5689440" cy="101592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Bookman Old Style"/>
              </a:rPr>
              <a:t>3. CONSECUENCIAS SOCI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Bookman Old Style"/>
              </a:rPr>
              <a:t>DEL FEUDAL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piramide feudal"/>
          <p:cNvPicPr/>
          <p:nvPr/>
        </p:nvPicPr>
        <p:blipFill>
          <a:blip r:embed="rId1"/>
          <a:stretch/>
        </p:blipFill>
        <p:spPr>
          <a:xfrm>
            <a:off x="6599160" y="0"/>
            <a:ext cx="254484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4"/>
          <p:cNvSpPr/>
          <p:nvPr/>
        </p:nvSpPr>
        <p:spPr>
          <a:xfrm>
            <a:off x="539640" y="256536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ecuerda que el Feudalismo se basaba en la entrega de un feudo por servic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468360" y="328464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sta entrega la hacía un señor a otro noble, que pasaba a ser considerado su vasal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468360" y="4005360"/>
            <a:ext cx="59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De este modo, se estableció una jerarquía de señores y vasallos que cruzó a toda la sociedad. Cada uno de ellos controlaba a su propia servidumb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395280" y="5157720"/>
            <a:ext cx="6048360" cy="1191240"/>
          </a:xfrm>
          <a:prstGeom prst="rect">
            <a:avLst/>
          </a:prstGeom>
          <a:solidFill>
            <a:srgbClr val="da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sí, l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ociedad medieval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pasó a estar j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rarquizada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del modo siguiente: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LA REALEZA, LA NOBLEZA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(que incluye a los altos dignatarios de la Iglesia),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LA BAJA NOBLEZA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(caballeros),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LA SERVIDUMB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324000" y="1557360"/>
            <a:ext cx="6048360" cy="825480"/>
          </a:xfrm>
          <a:prstGeom prst="rect">
            <a:avLst/>
          </a:prstGeom>
          <a:solidFill>
            <a:srgbClr val="f7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La sociedad medieval: una sociedad jerarquizada y piramid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12"/>
          <p:cNvGrpSpPr/>
          <p:nvPr/>
        </p:nvGrpSpPr>
        <p:grpSpPr>
          <a:xfrm>
            <a:off x="539640" y="404640"/>
            <a:ext cx="8353440" cy="5334120"/>
            <a:chOff x="539640" y="404640"/>
            <a:chExt cx="8353440" cy="5334120"/>
          </a:xfrm>
        </p:grpSpPr>
        <p:sp>
          <p:nvSpPr>
            <p:cNvPr id="206" name="Text Box 2"/>
            <p:cNvSpPr/>
            <p:nvPr/>
          </p:nvSpPr>
          <p:spPr>
            <a:xfrm>
              <a:off x="539640" y="404640"/>
              <a:ext cx="7920000" cy="459720"/>
            </a:xfrm>
            <a:prstGeom prst="rect">
              <a:avLst/>
            </a:prstGeom>
            <a:solidFill>
              <a:srgbClr val="0000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ffffff"/>
                  </a:solidFill>
                  <a:latin typeface="Bookman Old Style"/>
                </a:rPr>
                <a:t>La sociedad feudal: una sociedad estamental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3"/>
            <p:cNvSpPr/>
            <p:nvPr/>
          </p:nvSpPr>
          <p:spPr>
            <a:xfrm>
              <a:off x="611280" y="1197000"/>
              <a:ext cx="8136000" cy="916920"/>
            </a:xfrm>
            <a:prstGeom prst="rect">
              <a:avLst/>
            </a:prstGeom>
            <a:solidFill>
              <a:srgbClr val="f7f7a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Arial"/>
                </a:rPr>
                <a:t>Recuerda que  un estamento es una agrupación social que se reconoce por características asociadas a la herencia, al nacimiento, a formas de identificación externa (la ropa, el idioma, etc.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8" name="Picture 4" descr="Vida de la nobleza 02"/>
            <p:cNvPicPr/>
            <p:nvPr/>
          </p:nvPicPr>
          <p:blipFill>
            <a:blip r:embed="rId1"/>
            <a:stretch/>
          </p:blipFill>
          <p:spPr>
            <a:xfrm>
              <a:off x="539640" y="2349360"/>
              <a:ext cx="2086200" cy="1422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209" name="Picture 5" descr="La nobleza y realeza en tiempos de Carlomagno"/>
            <p:cNvPicPr/>
            <p:nvPr/>
          </p:nvPicPr>
          <p:blipFill>
            <a:blip r:embed="rId2"/>
            <a:stretch/>
          </p:blipFill>
          <p:spPr>
            <a:xfrm>
              <a:off x="539640" y="3716280"/>
              <a:ext cx="2087640" cy="20224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210" name="Picture 6" descr="Soldados medievales"/>
            <p:cNvPicPr/>
            <p:nvPr/>
          </p:nvPicPr>
          <p:blipFill>
            <a:blip r:embed="rId3"/>
            <a:stretch/>
          </p:blipFill>
          <p:spPr>
            <a:xfrm>
              <a:off x="2771640" y="2349360"/>
              <a:ext cx="3816360" cy="337680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211" name="Text Box 7"/>
            <p:cNvSpPr/>
            <p:nvPr/>
          </p:nvSpPr>
          <p:spPr>
            <a:xfrm>
              <a:off x="6732720" y="2421000"/>
              <a:ext cx="2160360" cy="29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En este tipo de sociedad la movilidad es muy limitada: era muy difícil ascender socialment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SE NACE CAMPESINO Y SE MUERE COMO TAL”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4"/>
          <p:cNvSpPr/>
          <p:nvPr/>
        </p:nvSpPr>
        <p:spPr>
          <a:xfrm>
            <a:off x="539640" y="620640"/>
            <a:ext cx="2808360" cy="6336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Bookman Old Style"/>
              </a:rPr>
              <a:t>A. LA REAL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95280" y="1844640"/>
            <a:ext cx="338616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Durante el Feudalismo el Rey está desprovisto de muchos de los poderes que había gozado durante la época de los Imperios territorial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Intenta recuperar su poder gracias al desarrollo de la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Suzeranía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“rey es soberano, no sólo de sus vasallos, sino también de los vasallos de sus vasal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COrona-llaves-emblema"/>
          <p:cNvPicPr/>
          <p:nvPr/>
        </p:nvPicPr>
        <p:blipFill>
          <a:blip r:embed="rId1"/>
          <a:stretch/>
        </p:blipFill>
        <p:spPr>
          <a:xfrm>
            <a:off x="4211640" y="836640"/>
            <a:ext cx="3873600" cy="5249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2"/>
          <p:cNvSpPr/>
          <p:nvPr/>
        </p:nvSpPr>
        <p:spPr>
          <a:xfrm>
            <a:off x="611280" y="189000"/>
            <a:ext cx="7632720" cy="63324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Bookman Old Style"/>
              </a:rPr>
              <a:t>B. LA NOBLEZA Y LA CABALLE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4211640" y="1052640"/>
            <a:ext cx="468144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El sistema feudal nació y  se organizó en la idea de sostener una clase milit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Su peculiaridad radica en la conciencia social, la Iglesia contribuye  fomentando una mentalidad caballeresca:  Los caballeros debían emplear sus armas a favor de la justici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a Iglesia define un código ético para los caballer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Asamblea de Paz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(tomar armas sólo en condiciones justas, respetando los campos cultivados, los pobres y las mujer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Tregua de Dios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(los caballeros no pueden luchar jueves, viernes, sábado y doming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a caballería no sólo implica destreza militar, sino también, código de honor y una educa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5" descr="armadura-caballo"/>
          <p:cNvPicPr/>
          <p:nvPr/>
        </p:nvPicPr>
        <p:blipFill>
          <a:blip r:embed="rId1"/>
          <a:stretch/>
        </p:blipFill>
        <p:spPr>
          <a:xfrm>
            <a:off x="0" y="1125360"/>
            <a:ext cx="4140360" cy="4608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6"/>
          <p:cNvSpPr/>
          <p:nvPr/>
        </p:nvSpPr>
        <p:spPr>
          <a:xfrm>
            <a:off x="0" y="321156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EN LA ESTRUCTURA FEUDAL EL TRABAJO ERA UN OFICIO INNOBLE, EL QUE ERA DISFRUTADO POR LOS ESTAMENTOS SUPERIORES PERO QUE ERA DESARROLLADO POR   LOS SECTORES MÁS BAJOS DE LA SOCIEDAD.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9"/>
          <p:cNvGrpSpPr/>
          <p:nvPr/>
        </p:nvGrpSpPr>
        <p:grpSpPr>
          <a:xfrm>
            <a:off x="1116000" y="260280"/>
            <a:ext cx="6264360" cy="2951280"/>
            <a:chOff x="1116000" y="260280"/>
            <a:chExt cx="6264360" cy="2951280"/>
          </a:xfrm>
        </p:grpSpPr>
        <p:sp>
          <p:nvSpPr>
            <p:cNvPr id="220" name="Text Box 2"/>
            <p:cNvSpPr/>
            <p:nvPr/>
          </p:nvSpPr>
          <p:spPr>
            <a:xfrm>
              <a:off x="1116000" y="260280"/>
              <a:ext cx="6264360" cy="459720"/>
            </a:xfrm>
            <a:prstGeom prst="rect">
              <a:avLst/>
            </a:prstGeom>
            <a:solidFill>
              <a:srgbClr val="0000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ffffff"/>
                  </a:solidFill>
                  <a:latin typeface="Bookman Old Style"/>
                </a:rPr>
                <a:t>C. TRABAJADORES RURAL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1" name="Picture 7" descr="campesinos3"/>
            <p:cNvPicPr/>
            <p:nvPr/>
          </p:nvPicPr>
          <p:blipFill>
            <a:blip r:embed="rId1"/>
            <a:stretch/>
          </p:blipFill>
          <p:spPr>
            <a:xfrm>
              <a:off x="1116000" y="692280"/>
              <a:ext cx="6264360" cy="25192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</p:grpSp>
      <p:sp>
        <p:nvSpPr>
          <p:cNvPr id="222" name="Text Box 12"/>
          <p:cNvSpPr/>
          <p:nvPr/>
        </p:nvSpPr>
        <p:spPr>
          <a:xfrm>
            <a:off x="611280" y="558972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3203640" y="429264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Tres actividades principa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6"/>
          <p:cNvSpPr/>
          <p:nvPr/>
        </p:nvSpPr>
        <p:spPr>
          <a:xfrm>
            <a:off x="179280" y="4221000"/>
            <a:ext cx="3095640" cy="1059840"/>
          </a:xfrm>
          <a:prstGeom prst="rect">
            <a:avLst/>
          </a:prstGeom>
          <a:solidFill>
            <a:srgbClr val="f7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El trabajo directo de la tierr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SIERVOS DE LA GLE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7"/>
          <p:cNvSpPr/>
          <p:nvPr/>
        </p:nvSpPr>
        <p:spPr>
          <a:xfrm>
            <a:off x="3348000" y="5373720"/>
            <a:ext cx="2735280" cy="916920"/>
          </a:xfrm>
          <a:prstGeom prst="rect">
            <a:avLst/>
          </a:prstGeom>
          <a:solidFill>
            <a:srgbClr val="f7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a artesanía y herrería.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ARTESANOS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HERRER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6012000" y="4221000"/>
            <a:ext cx="2665440" cy="916920"/>
          </a:xfrm>
          <a:prstGeom prst="rect">
            <a:avLst/>
          </a:prstGeom>
          <a:solidFill>
            <a:srgbClr val="f7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Servicio personal.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SERVICIO DOMÉS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0"/>
          <p:cNvSpPr/>
          <p:nvPr/>
        </p:nvSpPr>
        <p:spPr>
          <a:xfrm>
            <a:off x="464328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1"/>
          <p:cNvSpPr/>
          <p:nvPr/>
        </p:nvSpPr>
        <p:spPr>
          <a:xfrm>
            <a:off x="565164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2"/>
          <p:cNvSpPr/>
          <p:nvPr/>
        </p:nvSpPr>
        <p:spPr>
          <a:xfrm flipH="1">
            <a:off x="3276720" y="4437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7063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Bookman Old Style"/>
              </a:rPr>
              <a:t>¿Recuerdas lo que estudiamos en la clase anteri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3"/>
          <p:cNvGrpSpPr/>
          <p:nvPr/>
        </p:nvGrpSpPr>
        <p:grpSpPr>
          <a:xfrm>
            <a:off x="250920" y="1413000"/>
            <a:ext cx="8281800" cy="4751280"/>
            <a:chOff x="250920" y="1413000"/>
            <a:chExt cx="8281800" cy="4751280"/>
          </a:xfrm>
        </p:grpSpPr>
        <p:sp>
          <p:nvSpPr>
            <p:cNvPr id="91" name="Text Box 3"/>
            <p:cNvSpPr/>
            <p:nvPr/>
          </p:nvSpPr>
          <p:spPr>
            <a:xfrm>
              <a:off x="684360" y="1413000"/>
              <a:ext cx="41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Bookman Old Style"/>
                </a:rPr>
                <a:t>Haz memoria: estudiamo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4"/>
            <p:cNvSpPr/>
            <p:nvPr/>
          </p:nvSpPr>
          <p:spPr>
            <a:xfrm>
              <a:off x="250920" y="3068640"/>
              <a:ext cx="1657080" cy="1512720"/>
            </a:xfrm>
            <a:prstGeom prst="ellipse">
              <a:avLst/>
            </a:prstGeom>
            <a:gradFill rotWithShape="0">
              <a:gsLst>
                <a:gs pos="0">
                  <a:srgbClr val="f2ee54"/>
                </a:gs>
                <a:gs pos="100000">
                  <a:srgbClr val="706e2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Bookman Old Style"/>
                </a:rPr>
                <a:t>Feudalism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5"/>
            <p:cNvSpPr/>
            <p:nvPr/>
          </p:nvSpPr>
          <p:spPr>
            <a:xfrm>
              <a:off x="1979640" y="1916280"/>
              <a:ext cx="1224000" cy="4330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6"/>
            <p:cNvSpPr/>
            <p:nvPr/>
          </p:nvSpPr>
          <p:spPr>
            <a:xfrm>
              <a:off x="2050920" y="3573360"/>
              <a:ext cx="1152720" cy="5763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7"/>
            <p:cNvSpPr/>
            <p:nvPr/>
          </p:nvSpPr>
          <p:spPr>
            <a:xfrm>
              <a:off x="2050920" y="5445000"/>
              <a:ext cx="1152720" cy="4320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8"/>
            <p:cNvSpPr/>
            <p:nvPr/>
          </p:nvSpPr>
          <p:spPr>
            <a:xfrm>
              <a:off x="3419640" y="1773360"/>
              <a:ext cx="2160360" cy="1008000"/>
            </a:xfrm>
            <a:prstGeom prst="ellipse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765e4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Bookman Old Style"/>
                </a:rPr>
                <a:t>Concep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9"/>
            <p:cNvSpPr/>
            <p:nvPr/>
          </p:nvSpPr>
          <p:spPr>
            <a:xfrm>
              <a:off x="3564000" y="3213000"/>
              <a:ext cx="2160360" cy="129564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6688a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Bookman Old Style"/>
                </a:rPr>
                <a:t>Anteceden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"/>
            <p:cNvSpPr/>
            <p:nvPr/>
          </p:nvSpPr>
          <p:spPr>
            <a:xfrm>
              <a:off x="3419640" y="4869000"/>
              <a:ext cx="2520720" cy="12952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48e8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Bookman Old Style"/>
                </a:rPr>
                <a:t>Conceptos cla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1"/>
            <p:cNvSpPr/>
            <p:nvPr/>
          </p:nvSpPr>
          <p:spPr>
            <a:xfrm>
              <a:off x="5867280" y="2708280"/>
              <a:ext cx="26654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Arial"/>
                </a:rPr>
                <a:t>Es importante que tengas presente estos aspectos, porque en esta clase estudiaremos las consecuencias del feudalismo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</a:rPr>
              <a:t>CONSECUENCIAS CULTURALES DEL FEUDAL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179280" y="1197000"/>
            <a:ext cx="4392720" cy="4780440"/>
          </a:xfrm>
          <a:prstGeom prst="rect">
            <a:avLst/>
          </a:prstGeom>
          <a:solidFill>
            <a:srgbClr val="f7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FEUDALIZACIÓN DE LA IGLES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a parroquia y el monasterio fueron relevantes en los actos religiosos, jurídicos, administrativos  y judici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a parroquia se transformó en una fuente apetecible de riquezas debido a la afluencia de ofrendas, limosnas  y diez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os señores pasaron a percibir este último como una renta feudal más y  a percibirlo como otra propie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DURANTE ESTA ÉPOCA UN OSCURANTISMO INTELECTUAL ENSOMBRECIÓ A LA IGLESIA: SURGEN REFORMAS DE CLUNY (9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4788000" y="1197000"/>
            <a:ext cx="3744720" cy="1465560"/>
          </a:xfrm>
          <a:prstGeom prst="rect">
            <a:avLst/>
          </a:prstGeom>
          <a:solidFill>
            <a:srgbClr val="da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APARICIÓN DE LOS FEUDOS DE BOLSA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 (asignación de rentas, por parte de un señor, a cambio de homenaje y fidelidad de un vasall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4788000" y="2781360"/>
            <a:ext cx="3744720" cy="642600"/>
          </a:xfrm>
          <a:prstGeom prst="rect">
            <a:avLst/>
          </a:prstGeom>
          <a:solidFill>
            <a:srgbClr val="ffd9b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El DESARROLLO DE LOS TORN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1" descr="TORneo"/>
          <p:cNvPicPr/>
          <p:nvPr/>
        </p:nvPicPr>
        <p:blipFill>
          <a:blip r:embed="rId1"/>
          <a:stretch/>
        </p:blipFill>
        <p:spPr>
          <a:xfrm>
            <a:off x="4859280" y="3573360"/>
            <a:ext cx="3635280" cy="258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4"/>
          <p:cNvSpPr/>
          <p:nvPr/>
        </p:nvSpPr>
        <p:spPr>
          <a:xfrm>
            <a:off x="324000" y="260280"/>
            <a:ext cx="8208720" cy="115128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Bookman Old Style"/>
              </a:rPr>
              <a:t>ENCASTILLAMIENTO DE LA NOBLE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Arial"/>
              </a:rPr>
              <a:t>El castillo es el elemento más característico en el feudalismo y se convirtió en el centro de administración señorial del feu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7" descr="castillo medieval"/>
          <p:cNvPicPr/>
          <p:nvPr/>
        </p:nvPicPr>
        <p:blipFill>
          <a:blip r:embed="rId1"/>
          <a:stretch/>
        </p:blipFill>
        <p:spPr>
          <a:xfrm>
            <a:off x="250920" y="1557360"/>
            <a:ext cx="6840360" cy="5130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37" name="Text Box 8"/>
          <p:cNvSpPr/>
          <p:nvPr/>
        </p:nvSpPr>
        <p:spPr>
          <a:xfrm>
            <a:off x="7164360" y="5373720"/>
            <a:ext cx="1835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La imagen corresponde a El Hot Gravensteen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:, uno de los mejores castillos medievales ubicado en Gante, Bél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20"/>
          <p:cNvGrpSpPr/>
          <p:nvPr/>
        </p:nvGrpSpPr>
        <p:grpSpPr>
          <a:xfrm>
            <a:off x="324000" y="476280"/>
            <a:ext cx="8569080" cy="5616720"/>
            <a:chOff x="324000" y="476280"/>
            <a:chExt cx="8569080" cy="5616720"/>
          </a:xfrm>
        </p:grpSpPr>
        <p:sp>
          <p:nvSpPr>
            <p:cNvPr id="239" name="Text Box 2"/>
            <p:cNvSpPr/>
            <p:nvPr/>
          </p:nvSpPr>
          <p:spPr>
            <a:xfrm>
              <a:off x="468360" y="476280"/>
              <a:ext cx="741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Arial"/>
                </a:rPr>
                <a:t>En síntesis, ¿qué estudiamos en esta clase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19"/>
            <p:cNvGrpSpPr/>
            <p:nvPr/>
          </p:nvGrpSpPr>
          <p:grpSpPr>
            <a:xfrm>
              <a:off x="324000" y="1125360"/>
              <a:ext cx="8569080" cy="4967640"/>
              <a:chOff x="324000" y="1125360"/>
              <a:chExt cx="8569080" cy="4967640"/>
            </a:xfrm>
          </p:grpSpPr>
          <p:sp>
            <p:nvSpPr>
              <p:cNvPr id="241" name="Text Box 11"/>
              <p:cNvSpPr/>
              <p:nvPr/>
            </p:nvSpPr>
            <p:spPr>
              <a:xfrm>
                <a:off x="6084720" y="1125360"/>
                <a:ext cx="2808360" cy="147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800" spc="-1" strike="noStrike">
                    <a:solidFill>
                      <a:srgbClr val="000000"/>
                    </a:solidFill>
                    <a:latin typeface="Arial"/>
                  </a:rPr>
                  <a:t>Ruralizació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800" spc="-1" strike="noStrike">
                    <a:solidFill>
                      <a:srgbClr val="000000"/>
                    </a:solidFill>
                    <a:latin typeface="Arial"/>
                  </a:rPr>
                  <a:t>Decadencia del comerc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800" spc="-1" strike="noStrike">
                    <a:solidFill>
                      <a:srgbClr val="000000"/>
                    </a:solidFill>
                    <a:latin typeface="Arial"/>
                  </a:rPr>
                  <a:t>La tierra como recurso princip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13"/>
              <p:cNvSpPr/>
              <p:nvPr/>
            </p:nvSpPr>
            <p:spPr>
              <a:xfrm>
                <a:off x="6227640" y="2924280"/>
                <a:ext cx="2665440" cy="12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800" spc="-1" strike="noStrike">
                    <a:solidFill>
                      <a:srgbClr val="000000"/>
                    </a:solidFill>
                    <a:latin typeface="Arial"/>
                  </a:rPr>
                  <a:t>Sociedad piramid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800" spc="-1" strike="noStrike">
                    <a:solidFill>
                      <a:srgbClr val="000000"/>
                    </a:solidFill>
                    <a:latin typeface="Arial"/>
                  </a:rPr>
                  <a:t>Sociedad estament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3" name="Group 18"/>
              <p:cNvGrpSpPr/>
              <p:nvPr/>
            </p:nvGrpSpPr>
            <p:grpSpPr>
              <a:xfrm>
                <a:off x="324000" y="1125360"/>
                <a:ext cx="5616360" cy="4967640"/>
                <a:chOff x="324000" y="1125360"/>
                <a:chExt cx="5616360" cy="4967640"/>
              </a:xfrm>
            </p:grpSpPr>
            <p:sp>
              <p:nvSpPr>
                <p:cNvPr id="244" name="Oval 3"/>
                <p:cNvSpPr/>
                <p:nvPr/>
              </p:nvSpPr>
              <p:spPr>
                <a:xfrm>
                  <a:off x="324000" y="2133720"/>
                  <a:ext cx="2232000" cy="1871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af7a7"/>
                    </a:gs>
                    <a:gs pos="100000">
                      <a:srgbClr val="8a9d6a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Consecuencias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del Feudalism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AutoShape 4"/>
                <p:cNvSpPr/>
                <p:nvPr/>
              </p:nvSpPr>
              <p:spPr>
                <a:xfrm>
                  <a:off x="2556000" y="1484280"/>
                  <a:ext cx="1368360" cy="50328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Text Box 5"/>
                <p:cNvSpPr/>
                <p:nvPr/>
              </p:nvSpPr>
              <p:spPr>
                <a:xfrm>
                  <a:off x="3995640" y="1557360"/>
                  <a:ext cx="1656000" cy="368280"/>
                </a:xfrm>
                <a:prstGeom prst="rect">
                  <a:avLst/>
                </a:prstGeom>
                <a:solidFill>
                  <a:srgbClr val="acf2e1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Económica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AutoShape 6"/>
                <p:cNvSpPr/>
                <p:nvPr/>
              </p:nvSpPr>
              <p:spPr>
                <a:xfrm>
                  <a:off x="2771640" y="2997360"/>
                  <a:ext cx="1224000" cy="360360"/>
                </a:xfrm>
                <a:prstGeom prst="rightArrow">
                  <a:avLst>
                    <a:gd name="adj1" fmla="val 50000"/>
                    <a:gd name="adj2" fmla="val 84915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Text Box 7"/>
                <p:cNvSpPr/>
                <p:nvPr/>
              </p:nvSpPr>
              <p:spPr>
                <a:xfrm>
                  <a:off x="4140360" y="3357720"/>
                  <a:ext cx="1152360" cy="368280"/>
                </a:xfrm>
                <a:prstGeom prst="rect">
                  <a:avLst/>
                </a:prstGeom>
                <a:solidFill>
                  <a:srgbClr val="f7f7a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Soci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AutoShape 8"/>
                <p:cNvSpPr/>
                <p:nvPr/>
              </p:nvSpPr>
              <p:spPr>
                <a:xfrm flipH="1" rot="10800000">
                  <a:off x="2556000" y="4508280"/>
                  <a:ext cx="1296720" cy="50292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Text Box 9"/>
                <p:cNvSpPr/>
                <p:nvPr/>
              </p:nvSpPr>
              <p:spPr>
                <a:xfrm>
                  <a:off x="4067280" y="4797360"/>
                  <a:ext cx="1152360" cy="368280"/>
                </a:xfrm>
                <a:prstGeom prst="rect">
                  <a:avLst/>
                </a:prstGeom>
                <a:solidFill>
                  <a:srgbClr val="ffcc99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000000"/>
                      </a:solidFill>
                      <a:latin typeface="Arial"/>
                    </a:rPr>
                    <a:t>Política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AutoShape 10"/>
                <p:cNvSpPr/>
                <p:nvPr/>
              </p:nvSpPr>
              <p:spPr>
                <a:xfrm>
                  <a:off x="5724360" y="1125360"/>
                  <a:ext cx="216000" cy="1656000"/>
                </a:xfrm>
                <a:custGeom>
                  <a:avLst/>
                  <a:gdLst>
                    <a:gd name="textAreaLeft" fmla="*/ 137880 w 216000"/>
                    <a:gd name="textAreaRight" fmla="*/ 216360 w 216000"/>
                    <a:gd name="textAreaTop" fmla="*/ 42840 h 1656000"/>
                    <a:gd name="textAreaBottom" fmla="*/ 1613160 h 1656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AutoShape 12"/>
                <p:cNvSpPr/>
                <p:nvPr/>
              </p:nvSpPr>
              <p:spPr>
                <a:xfrm>
                  <a:off x="5867280" y="2924280"/>
                  <a:ext cx="73080" cy="1296720"/>
                </a:xfrm>
                <a:custGeom>
                  <a:avLst/>
                  <a:gdLst>
                    <a:gd name="textAreaLeft" fmla="*/ 46800 w 73080"/>
                    <a:gd name="textAreaRight" fmla="*/ 73440 w 73080"/>
                    <a:gd name="textAreaTop" fmla="*/ 33480 h 1296720"/>
                    <a:gd name="textAreaBottom" fmla="*/ 1263240 h 1296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AutoShape 14"/>
                <p:cNvSpPr/>
                <p:nvPr/>
              </p:nvSpPr>
              <p:spPr>
                <a:xfrm>
                  <a:off x="5867280" y="4365720"/>
                  <a:ext cx="73080" cy="1727280"/>
                </a:xfrm>
                <a:custGeom>
                  <a:avLst/>
                  <a:gdLst>
                    <a:gd name="textAreaLeft" fmla="*/ 46800 w 73080"/>
                    <a:gd name="textAreaRight" fmla="*/ 73440 w 73080"/>
                    <a:gd name="textAreaTop" fmla="*/ 45000 h 1727280"/>
                    <a:gd name="textAreaBottom" fmla="*/ 1682280 h 1727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4" name="Text Box 15"/>
              <p:cNvSpPr/>
              <p:nvPr/>
            </p:nvSpPr>
            <p:spPr>
              <a:xfrm>
                <a:off x="6300720" y="4437000"/>
                <a:ext cx="2519280" cy="147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800" spc="-1" strike="noStrike">
                    <a:solidFill>
                      <a:srgbClr val="000000"/>
                    </a:solidFill>
                    <a:latin typeface="Arial"/>
                  </a:rPr>
                  <a:t>Debilitamiento de la monarquía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800" spc="-1" strike="noStrike">
                    <a:solidFill>
                      <a:srgbClr val="000000"/>
                    </a:solidFill>
                    <a:latin typeface="Arial"/>
                  </a:rPr>
                  <a:t>División territorial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Bookman Old Style"/>
              </a:rPr>
              <a:t>PREPARA PARA TU PRÓXIMA CLASE LOS SIGUIENTE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560" y="1351080"/>
            <a:ext cx="3600360" cy="452592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Bookman Old Style"/>
              </a:rPr>
              <a:t>Sociedad Medieval: capital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Bookman Old Style"/>
              </a:rPr>
              <a:t>La ciudad y los orígenes del capital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Bookman Old Style"/>
              </a:rPr>
              <a:t>Conceptos cl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Bookman Old Style"/>
              </a:rPr>
              <a:t>Ciu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Bookman Old Style"/>
              </a:rPr>
              <a:t>Mercado/ Merca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Bookman Old Style"/>
              </a:rPr>
              <a:t>Burgues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Bookman Old Style"/>
              </a:rPr>
              <a:t>Capital/ Capital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Bookman Old Style"/>
              </a:rPr>
              <a:t>Ganancia/ Precio/ Sal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4">
            <a:hlinkClick r:id="" action="ppaction://hlinkshowjump?jump=firstslide"/>
          </p:cNvPr>
          <p:cNvSpPr/>
          <p:nvPr/>
        </p:nvSpPr>
        <p:spPr>
          <a:xfrm>
            <a:off x="7667640" y="5373720"/>
            <a:ext cx="1008000" cy="1224000"/>
          </a:xfrm>
          <a:custGeom>
            <a:avLst/>
            <a:gdLst>
              <a:gd name="textAreaLeft" fmla="*/ 65160 w 1008000"/>
              <a:gd name="textAreaRight" fmla="*/ 942840 w 1008000"/>
              <a:gd name="textAreaTop" fmla="*/ 65160 h 1224000"/>
              <a:gd name="textAreaBottom" fmla="*/ 1158840 h 1224000"/>
            </a:gdLst>
            <a:ahLst/>
            <a:rect l="textAreaLeft" t="textAreaTop" r="textAreaRight" b="textAreaBottom"/>
            <a:pathLst>
              <a:path w="21600" h="26227">
                <a:moveTo>
                  <a:pt x="0" y="0"/>
                </a:moveTo>
                <a:lnTo>
                  <a:pt x="21600" y="0"/>
                </a:lnTo>
                <a:lnTo>
                  <a:pt x="21600" y="26227"/>
                </a:lnTo>
                <a:lnTo>
                  <a:pt x="0" y="26227"/>
                </a:lnTo>
                <a:close/>
              </a:path>
              <a:path fill="lightenLess" w="21600" h="262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227">
                <a:moveTo>
                  <a:pt x="21600" y="0"/>
                </a:moveTo>
                <a:lnTo>
                  <a:pt x="21600" y="26227"/>
                </a:lnTo>
                <a:lnTo>
                  <a:pt x="20200" y="24827"/>
                </a:lnTo>
                <a:lnTo>
                  <a:pt x="20200" y="1400"/>
                </a:lnTo>
                <a:close/>
              </a:path>
              <a:path fill="darkenLess" w="21600" h="26227">
                <a:moveTo>
                  <a:pt x="21600" y="26227"/>
                </a:moveTo>
                <a:lnTo>
                  <a:pt x="0" y="26227"/>
                </a:lnTo>
                <a:lnTo>
                  <a:pt x="1400" y="24827"/>
                </a:lnTo>
                <a:lnTo>
                  <a:pt x="20200" y="24827"/>
                </a:lnTo>
                <a:close/>
              </a:path>
              <a:path fill="lighten" w="21600" h="26227">
                <a:moveTo>
                  <a:pt x="0" y="262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4827"/>
                </a:lnTo>
                <a:close/>
              </a:path>
              <a:path fill="darken" w="21600" h="26227">
                <a:moveTo>
                  <a:pt x="10800" y="6150"/>
                </a:moveTo>
                <a:lnTo>
                  <a:pt x="13376" y="8762"/>
                </a:lnTo>
                <a:lnTo>
                  <a:pt x="13376" y="7021"/>
                </a:lnTo>
                <a:lnTo>
                  <a:pt x="15152" y="7021"/>
                </a:lnTo>
                <a:lnTo>
                  <a:pt x="15152" y="10537"/>
                </a:lnTo>
                <a:lnTo>
                  <a:pt x="17763" y="13113"/>
                </a:lnTo>
                <a:lnTo>
                  <a:pt x="16109" y="13113"/>
                </a:lnTo>
                <a:lnTo>
                  <a:pt x="16109" y="20303"/>
                </a:lnTo>
                <a:lnTo>
                  <a:pt x="5491" y="20303"/>
                </a:lnTo>
                <a:lnTo>
                  <a:pt x="5491" y="13113"/>
                </a:lnTo>
                <a:lnTo>
                  <a:pt x="3837" y="13113"/>
                </a:lnTo>
                <a:close/>
              </a:path>
              <a:path fill="darkenLess" w="21600" h="26227">
                <a:moveTo>
                  <a:pt x="13376" y="8762"/>
                </a:moveTo>
                <a:lnTo>
                  <a:pt x="13376" y="7021"/>
                </a:lnTo>
                <a:lnTo>
                  <a:pt x="15152" y="7021"/>
                </a:lnTo>
                <a:lnTo>
                  <a:pt x="15152" y="10537"/>
                </a:lnTo>
                <a:close/>
              </a:path>
              <a:path fill="darkenLess" w="21600" h="26227">
                <a:moveTo>
                  <a:pt x="9877" y="16612"/>
                </a:moveTo>
                <a:lnTo>
                  <a:pt x="11723" y="16612"/>
                </a:lnTo>
                <a:lnTo>
                  <a:pt x="11723" y="20303"/>
                </a:lnTo>
                <a:lnTo>
                  <a:pt x="16109" y="20303"/>
                </a:lnTo>
                <a:lnTo>
                  <a:pt x="16109" y="13113"/>
                </a:lnTo>
                <a:lnTo>
                  <a:pt x="5491" y="13113"/>
                </a:lnTo>
                <a:lnTo>
                  <a:pt x="5491" y="20303"/>
                </a:lnTo>
                <a:lnTo>
                  <a:pt x="9877" y="20303"/>
                </a:lnTo>
                <a:close/>
              </a:path>
            </a:pathLst>
          </a:custGeom>
          <a:solidFill>
            <a:srgbClr val="daf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7" descr="ciudmed"/>
          <p:cNvPicPr/>
          <p:nvPr/>
        </p:nvPicPr>
        <p:blipFill>
          <a:blip r:embed="rId1"/>
          <a:stretch/>
        </p:blipFill>
        <p:spPr>
          <a:xfrm>
            <a:off x="4067280" y="1341360"/>
            <a:ext cx="4895640" cy="375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</a:rPr>
              <a:t>¿Qué estudiaremos en esta cl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95280" y="836640"/>
            <a:ext cx="34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CONTE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995640" y="907920"/>
            <a:ext cx="4608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APRENDIZAJES ESP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5"/>
          <p:cNvGrpSpPr/>
          <p:nvPr/>
        </p:nvGrpSpPr>
        <p:grpSpPr>
          <a:xfrm>
            <a:off x="395280" y="1484280"/>
            <a:ext cx="8569440" cy="4392720"/>
            <a:chOff x="395280" y="1484280"/>
            <a:chExt cx="8569440" cy="4392720"/>
          </a:xfrm>
        </p:grpSpPr>
        <p:sp>
          <p:nvSpPr>
            <p:cNvPr id="104" name="Text Box 6"/>
            <p:cNvSpPr/>
            <p:nvPr/>
          </p:nvSpPr>
          <p:spPr>
            <a:xfrm>
              <a:off x="826920" y="4653000"/>
              <a:ext cx="769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8"/>
            <p:cNvSpPr/>
            <p:nvPr/>
          </p:nvSpPr>
          <p:spPr>
            <a:xfrm>
              <a:off x="4427640" y="1484280"/>
              <a:ext cx="4537080" cy="439272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5e76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Conocer los rasgos fundamentales de la sociedad feudal y entenderla como una respuesta a las amenazas externas para los pueblos europeo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Identificar formas de organización del medioevo europeo que alcanzan una larga duración y extensión espacial.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En tu libro estos  contenidos están  desde la página 125 hasta la 131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395280" y="1484280"/>
              <a:ext cx="3889440" cy="436284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88aa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Organización social de Europa medieval: 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La Europa medieval como modelo de sociedad rural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onceptos clav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Sociedad estamental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Feudalización de la   sociedad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Caballerí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Sociedad rural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Bookman Old Style"/>
              </a:rPr>
              <a:t>¿Qué nos dicen las siguientes imáge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agro_feudo"/>
          <p:cNvPicPr/>
          <p:nvPr/>
        </p:nvPicPr>
        <p:blipFill>
          <a:blip r:embed="rId1"/>
          <a:stretch/>
        </p:blipFill>
        <p:spPr>
          <a:xfrm>
            <a:off x="3780000" y="1844640"/>
            <a:ext cx="2063520" cy="2344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09" name="Picture 9" descr="Piramide_feudal_a"/>
          <p:cNvPicPr/>
          <p:nvPr/>
        </p:nvPicPr>
        <p:blipFill>
          <a:blip r:embed="rId2"/>
          <a:stretch/>
        </p:blipFill>
        <p:spPr>
          <a:xfrm>
            <a:off x="5975280" y="1844640"/>
            <a:ext cx="3168720" cy="2125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foTO quijote"/>
          <p:cNvPicPr/>
          <p:nvPr/>
        </p:nvPicPr>
        <p:blipFill>
          <a:blip r:embed="rId3"/>
          <a:stretch/>
        </p:blipFill>
        <p:spPr>
          <a:xfrm>
            <a:off x="6084720" y="4005360"/>
            <a:ext cx="2543400" cy="2543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300px-Map_France_1477-es"/>
          <p:cNvPicPr/>
          <p:nvPr/>
        </p:nvPicPr>
        <p:blipFill>
          <a:blip r:embed="rId4"/>
          <a:stretch/>
        </p:blipFill>
        <p:spPr>
          <a:xfrm>
            <a:off x="0" y="1773360"/>
            <a:ext cx="3611520" cy="388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12" name="Picture 14" descr="calendario-agricola"/>
          <p:cNvPicPr/>
          <p:nvPr/>
        </p:nvPicPr>
        <p:blipFill>
          <a:blip r:embed="rId5"/>
          <a:stretch/>
        </p:blipFill>
        <p:spPr>
          <a:xfrm>
            <a:off x="2771640" y="4286160"/>
            <a:ext cx="3222720" cy="2198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split dir="in" orient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Bookman Old Style"/>
              </a:rPr>
              <a:t>CONSECUENCIAS DEL FEUDALIS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539640" y="1268280"/>
            <a:ext cx="2303640" cy="3957480"/>
          </a:xfrm>
          <a:prstGeom prst="rect">
            <a:avLst/>
          </a:prstGeom>
          <a:gradFill rotWithShape="0">
            <a:gsLst>
              <a:gs pos="0">
                <a:srgbClr val="f6a6f8"/>
              </a:gs>
              <a:gs pos="100000">
                <a:srgbClr val="b278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ECONÓM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Ruralización de la economía (agricultura y ganaderí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Artesanía, metalurgia y herrer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Decadencia comercial y moneta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AUTARQU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492360" y="1268280"/>
            <a:ext cx="2303640" cy="2991600"/>
          </a:xfrm>
          <a:prstGeom prst="rect">
            <a:avLst/>
          </a:prstGeom>
          <a:gradFill rotWithShape="0">
            <a:gsLst>
              <a:gs pos="0">
                <a:srgbClr val="acf2e1"/>
              </a:gs>
              <a:gs pos="100000">
                <a:srgbClr val="88bfb1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POLÍ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Fragmentación territorial del poder (rein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Privatización del poder polí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Surgimiento de Monarquías Feud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588000" y="1268280"/>
            <a:ext cx="2087640" cy="3694680"/>
          </a:xfrm>
          <a:prstGeom prst="rect">
            <a:avLst/>
          </a:prstGeom>
          <a:gradFill rotWithShape="0">
            <a:gsLst>
              <a:gs pos="0">
                <a:srgbClr val="f8bfa6"/>
              </a:gs>
              <a:gs pos="100000">
                <a:srgbClr val="d2a28d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SO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Surge una jerarquía feud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Reale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Nobleza feudal y caballer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Trabajadores rural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059280" y="4508640"/>
            <a:ext cx="3025440" cy="2037240"/>
          </a:xfrm>
          <a:prstGeom prst="rect">
            <a:avLst/>
          </a:prstGeom>
          <a:gradFill rotWithShape="0">
            <a:gsLst>
              <a:gs pos="0">
                <a:srgbClr val="f2ee54"/>
              </a:gs>
              <a:gs pos="100000">
                <a:srgbClr val="a9a63b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CULTU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Feudalización de la igles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Encastilla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Feudos de bol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Desarrollo de los torne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2916360" y="2781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5796000" y="278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4500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6"/>
          <p:cNvGrpSpPr/>
          <p:nvPr/>
        </p:nvGrpSpPr>
        <p:grpSpPr>
          <a:xfrm>
            <a:off x="539640" y="260280"/>
            <a:ext cx="8137800" cy="1434960"/>
            <a:chOff x="539640" y="260280"/>
            <a:chExt cx="8137800" cy="1434960"/>
          </a:xfrm>
        </p:grpSpPr>
        <p:sp>
          <p:nvSpPr>
            <p:cNvPr id="122" name="Text Box 3"/>
            <p:cNvSpPr/>
            <p:nvPr/>
          </p:nvSpPr>
          <p:spPr>
            <a:xfrm>
              <a:off x="755640" y="260280"/>
              <a:ext cx="7921800" cy="520560"/>
            </a:xfrm>
            <a:prstGeom prst="rect">
              <a:avLst/>
            </a:prstGeom>
            <a:solidFill>
              <a:srgbClr val="0000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800" spc="-1" strike="noStrike">
                  <a:solidFill>
                    <a:srgbClr val="ffffff"/>
                  </a:solidFill>
                  <a:latin typeface="Bookman Old Style"/>
                </a:rPr>
                <a:t>1. CONSECUENCIAS EN LA ECONOMÍA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4"/>
            <p:cNvSpPr/>
            <p:nvPr/>
          </p:nvSpPr>
          <p:spPr>
            <a:xfrm>
              <a:off x="539640" y="1052640"/>
              <a:ext cx="792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Arial"/>
                </a:rPr>
                <a:t>Las actividades productivas  que más se desarrollaron en el feudalismo fueron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25"/>
          <p:cNvGrpSpPr/>
          <p:nvPr/>
        </p:nvGrpSpPr>
        <p:grpSpPr>
          <a:xfrm>
            <a:off x="539640" y="1844640"/>
            <a:ext cx="7659720" cy="4641840"/>
            <a:chOff x="539640" y="1844640"/>
            <a:chExt cx="7659720" cy="4641840"/>
          </a:xfrm>
        </p:grpSpPr>
        <p:sp>
          <p:nvSpPr>
            <p:cNvPr id="125" name="Text Box 8"/>
            <p:cNvSpPr/>
            <p:nvPr/>
          </p:nvSpPr>
          <p:spPr>
            <a:xfrm>
              <a:off x="1979640" y="5661000"/>
              <a:ext cx="5111640" cy="825480"/>
            </a:xfrm>
            <a:prstGeom prst="rect">
              <a:avLst/>
            </a:prstGeom>
            <a:gradFill rotWithShape="0">
              <a:gsLst>
                <a:gs pos="0">
                  <a:srgbClr val="f2ee54"/>
                </a:gs>
                <a:gs pos="100000">
                  <a:srgbClr val="93913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Arial"/>
                </a:rPr>
                <a:t>RURALIZACIÓN DE LA ECONOMÍ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9"/>
            <p:cNvSpPr/>
            <p:nvPr/>
          </p:nvSpPr>
          <p:spPr>
            <a:xfrm>
              <a:off x="5076720" y="4149720"/>
              <a:ext cx="2808360" cy="368280"/>
            </a:xfrm>
            <a:prstGeom prst="rect">
              <a:avLst/>
            </a:prstGeom>
            <a:solidFill>
              <a:srgbClr val="f7f7a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AGRICULTU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0"/>
            <p:cNvSpPr/>
            <p:nvPr/>
          </p:nvSpPr>
          <p:spPr>
            <a:xfrm>
              <a:off x="5076720" y="4724280"/>
              <a:ext cx="2808360" cy="368280"/>
            </a:xfrm>
            <a:prstGeom prst="rect">
              <a:avLst/>
            </a:prstGeom>
            <a:solidFill>
              <a:srgbClr val="f7f7a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GANADER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Picture 14" descr="ARadofin"/>
            <p:cNvPicPr/>
            <p:nvPr/>
          </p:nvPicPr>
          <p:blipFill>
            <a:blip r:embed="rId1"/>
            <a:stretch/>
          </p:blipFill>
          <p:spPr>
            <a:xfrm>
              <a:off x="4572000" y="1844640"/>
              <a:ext cx="3627360" cy="17272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129" name="Picture 17" descr="AGRicultor"/>
            <p:cNvPicPr/>
            <p:nvPr/>
          </p:nvPicPr>
          <p:blipFill>
            <a:blip r:embed="rId2"/>
            <a:stretch/>
          </p:blipFill>
          <p:spPr>
            <a:xfrm>
              <a:off x="539640" y="1844640"/>
              <a:ext cx="3795840" cy="27259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130" name="Line 22"/>
            <p:cNvSpPr/>
            <p:nvPr/>
          </p:nvSpPr>
          <p:spPr>
            <a:xfrm>
              <a:off x="4643280" y="4508640"/>
              <a:ext cx="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3"/>
            <p:cNvSpPr/>
            <p:nvPr/>
          </p:nvSpPr>
          <p:spPr>
            <a:xfrm>
              <a:off x="4643280" y="450864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4"/>
            <p:cNvSpPr/>
            <p:nvPr/>
          </p:nvSpPr>
          <p:spPr>
            <a:xfrm>
              <a:off x="4643280" y="494172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HERrero"/>
          <p:cNvPicPr/>
          <p:nvPr/>
        </p:nvPicPr>
        <p:blipFill>
          <a:blip r:embed="rId1"/>
          <a:stretch/>
        </p:blipFill>
        <p:spPr>
          <a:xfrm>
            <a:off x="179280" y="1557360"/>
            <a:ext cx="2517840" cy="3220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4" name="Text Box 5"/>
          <p:cNvSpPr/>
          <p:nvPr/>
        </p:nvSpPr>
        <p:spPr>
          <a:xfrm>
            <a:off x="3203640" y="1197000"/>
            <a:ext cx="2808360" cy="642600"/>
          </a:xfrm>
          <a:prstGeom prst="rect">
            <a:avLst/>
          </a:prstGeom>
          <a:solidFill>
            <a:srgbClr val="f7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METALURGIA DEL HIE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203640" y="2781360"/>
            <a:ext cx="2808360" cy="368280"/>
          </a:xfrm>
          <a:prstGeom prst="rect">
            <a:avLst/>
          </a:prstGeom>
          <a:solidFill>
            <a:srgbClr val="f7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MIN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0057_ensenar_imagen_comenio_artesano_07"/>
          <p:cNvPicPr/>
          <p:nvPr/>
        </p:nvPicPr>
        <p:blipFill>
          <a:blip r:embed="rId2"/>
          <a:stretch/>
        </p:blipFill>
        <p:spPr>
          <a:xfrm>
            <a:off x="6012000" y="4581360"/>
            <a:ext cx="2447640" cy="1811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37" name="Picture 9" descr="cA00014_L"/>
          <p:cNvPicPr/>
          <p:nvPr/>
        </p:nvPicPr>
        <p:blipFill>
          <a:blip r:embed="rId3"/>
          <a:stretch/>
        </p:blipFill>
        <p:spPr>
          <a:xfrm>
            <a:off x="6264360" y="1700280"/>
            <a:ext cx="2879640" cy="285732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10"/>
          <p:cNvSpPr/>
          <p:nvPr/>
        </p:nvSpPr>
        <p:spPr>
          <a:xfrm>
            <a:off x="4788000" y="3213000"/>
            <a:ext cx="2305080" cy="505080"/>
          </a:xfrm>
          <a:custGeom>
            <a:avLst/>
            <a:gdLst>
              <a:gd name="textAreaLeft" fmla="*/ 403200 w 2305080"/>
              <a:gd name="textAreaRight" fmla="*/ 1671120 w 230508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971640" y="333360"/>
            <a:ext cx="6408720" cy="45972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Bookman Old Style"/>
              </a:rPr>
              <a:t>DESARROLLO DE  LA ARTESAN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2" descr="industria textil medieval"/>
          <p:cNvPicPr/>
          <p:nvPr/>
        </p:nvPicPr>
        <p:blipFill>
          <a:blip r:embed="rId4"/>
          <a:stretch/>
        </p:blipFill>
        <p:spPr>
          <a:xfrm>
            <a:off x="2987640" y="3860640"/>
            <a:ext cx="2563920" cy="2853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3"/>
          <p:cNvSpPr/>
          <p:nvPr/>
        </p:nvSpPr>
        <p:spPr>
          <a:xfrm>
            <a:off x="3203640" y="1989000"/>
            <a:ext cx="2808360" cy="642600"/>
          </a:xfrm>
          <a:prstGeom prst="rect">
            <a:avLst/>
          </a:prstGeom>
          <a:solidFill>
            <a:srgbClr val="f7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INDUSTRIA TEXTIL A DOMICI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396720" y="404640"/>
            <a:ext cx="4248360" cy="45972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Bookman Old Style"/>
              </a:rPr>
              <a:t>Recursos Económic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396720" y="1197000"/>
            <a:ext cx="8352000" cy="368280"/>
          </a:xfrm>
          <a:prstGeom prst="rect">
            <a:avLst/>
          </a:prstGeom>
          <a:solidFill>
            <a:srgbClr val="da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a tierra se transformó en el principal recurso económ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396720" y="1773360"/>
            <a:ext cx="835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urge  la necesidad de la nobleza por conservar y acrecentar sus dominios territoriales. Esto es lo que llevó al desarrollo de los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estamentos agnaticios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y a l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concentración de la tierra en pocas manos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Feudo siglo XIV"/>
          <p:cNvPicPr/>
          <p:nvPr/>
        </p:nvPicPr>
        <p:blipFill>
          <a:blip r:embed="rId1"/>
          <a:stretch/>
        </p:blipFill>
        <p:spPr>
          <a:xfrm>
            <a:off x="828720" y="2852640"/>
            <a:ext cx="3416400" cy="2124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39640" y="515772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ecuerda que la tierra incluye sus recursos naturales (agrícolas, mineros, ganaderos) y la mano de ob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2" descr=""/>
          <p:cNvPicPr/>
          <p:nvPr/>
        </p:nvPicPr>
        <p:blipFill>
          <a:blip r:embed="rId2"/>
          <a:stretch/>
        </p:blipFill>
        <p:spPr>
          <a:xfrm>
            <a:off x="5005440" y="2852640"/>
            <a:ext cx="3503520" cy="3338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042920" y="333360"/>
            <a:ext cx="698508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Bookman Old Style"/>
              </a:rPr>
              <a:t>Centro de produc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900000" y="982800"/>
            <a:ext cx="7991640" cy="642600"/>
          </a:xfrm>
          <a:prstGeom prst="rect">
            <a:avLst/>
          </a:prstGeom>
          <a:solidFill>
            <a:srgbClr val="daf7a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i la tierra pasó a ser el recurso económico principal, la Hacienda (el feudo) pasó a ser el centro de producción mediev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755640" y="508644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a Hacienda le otorgó a su propietario (el señor o señor -vasallo) un gran poder económico y social, ya que pasó a administrar importantes recursos económicos y huma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0" descr="Mascota_clip_image003"/>
          <p:cNvPicPr/>
          <p:nvPr/>
        </p:nvPicPr>
        <p:blipFill>
          <a:blip r:embed="rId1"/>
          <a:stretch/>
        </p:blipFill>
        <p:spPr>
          <a:xfrm>
            <a:off x="2050920" y="1700280"/>
            <a:ext cx="5040360" cy="33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03:30:29Z</dcterms:created>
  <dc:creator>WinuE</dc:creator>
  <dc:description/>
  <dc:language>en-US</dc:language>
  <cp:lastModifiedBy>mago</cp:lastModifiedBy>
  <dcterms:modified xsi:type="dcterms:W3CDTF">2008-10-03T03:48:22Z</dcterms:modified>
  <cp:revision>47</cp:revision>
  <dc:subject/>
  <dc:title>Diapositiva 1</dc:title>
</cp:coreProperties>
</file>