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E762-107D-495E-BBA2-EA4FFEB85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321E-1B98-4255-852F-BCE38F626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060E-7FAA-41B7-B314-7137E75F1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1B83-D43A-48D1-9F26-29BFE1A8F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88C6-90F3-49C8-9255-35510D30E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3D72-655E-421D-AA42-679D5C55A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8F39-F083-487C-ADC7-CA0439625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DB66-4362-4A0C-8E23-B7D095A23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9A21-FFBD-4177-90EF-9C5F2F3E6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4CDF-812E-43AF-8E5C-5F81B1BC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DF63-9177-4B96-96D0-848B81D73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8CFC-5A3C-4EFA-9F84-CEBA53FFA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F08F0-FF21-4E28-8722-83D5C7E67E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otic@med.uchile.cl" TargetMode="Externa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scielo.cl/scielo.php?script=sci_serial&amp;pid=1726-569X&amp;lng=es&amp;nrm=iso" TargetMode="External"/><Relationship Id="rId2" Type="http://schemas.openxmlformats.org/officeDocument/2006/relationships/hyperlink" Target="http://www.scielo.cl/scielo.php?script=sci_serial&amp;pid=1726-569X&amp;lng=es&amp;nrm=iso" TargetMode="External"/><Relationship Id="rId3" Type="http://schemas.openxmlformats.org/officeDocument/2006/relationships/hyperlink" Target="http://www.scielo.cl/scielo.php?script=sci_serial&amp;pid=1726-569X&amp;lng=es&amp;nrm=iso" TargetMode="External"/><Relationship Id="rId4" Type="http://schemas.openxmlformats.org/officeDocument/2006/relationships/hyperlink" Target="http://www.scielo.cl/scielo.php?script=sci_serial&amp;pid=0301-732X&amp;lng=es&amp;nrm=iso" TargetMode="External"/><Relationship Id="rId5" Type="http://schemas.openxmlformats.org/officeDocument/2006/relationships/hyperlink" Target="http://www.scielo.cl/scielo.php?script=sci_serial&amp;pid=0365-9402&amp;lng=es&amp;nrm=iso" TargetMode="External"/><Relationship Id="rId6" Type="http://schemas.openxmlformats.org/officeDocument/2006/relationships/hyperlink" Target="http://www.scielo.cl/scielo.php?script=sci_serial&amp;pid=0717-9553&amp;lng=es&amp;nrm=iso" TargetMode="External"/><Relationship Id="rId7" Type="http://schemas.openxmlformats.org/officeDocument/2006/relationships/hyperlink" Target="http://www.scielo.cl/scielo.php?script=sci_serial&amp;pid=0717-9502&amp;lng=es&amp;nrm=iso" TargetMode="External"/><Relationship Id="rId8" Type="http://schemas.openxmlformats.org/officeDocument/2006/relationships/hyperlink" Target="http://www.scielo.cl/scielo.php?script=sci_serial&amp;pid=0717-9502&amp;lng=es&amp;nrm=iso" TargetMode="External"/><Relationship Id="rId9" Type="http://schemas.openxmlformats.org/officeDocument/2006/relationships/hyperlink" Target="http://www.scielo.cl/scielo.php?script=sci_serial&amp;pid=0717-9502&amp;lng=es&amp;nrm=iso" TargetMode="External"/><Relationship Id="rId10" Type="http://schemas.openxmlformats.org/officeDocument/2006/relationships/hyperlink" Target="http://www.scielo.cl/scielo.php?script=sci_serial&amp;pid=0717-9502&amp;lng=es&amp;nrm=iso" TargetMode="External"/><Relationship Id="rId11" Type="http://schemas.openxmlformats.org/officeDocument/2006/relationships/hyperlink" Target="http://www.scielo.cl/scielo.php?script=sci_serial&amp;pid=0717-9502&amp;lng=es&amp;nrm=iso" TargetMode="External"/><Relationship Id="rId12" Type="http://schemas.openxmlformats.org/officeDocument/2006/relationships/hyperlink" Target="http://www.scielo.cl/scielo.php?script=sci_serial&amp;pid=0717-9502&amp;lng=es&amp;nrm=iso" TargetMode="External"/><Relationship Id="rId13" Type="http://schemas.openxmlformats.org/officeDocument/2006/relationships/hyperlink" Target="http://www.scielo.cl/scielo.php?script=sci_serial&amp;pid=0717-9502&amp;lng=es&amp;nrm=iso" TargetMode="External"/><Relationship Id="rId14" Type="http://schemas.openxmlformats.org/officeDocument/2006/relationships/hyperlink" Target="http://www.scielo.cl/scielo.php?script=sci_serial&amp;pid=0717-9502&amp;lng=es&amp;nrm=iso" TargetMode="External"/><Relationship Id="rId15" Type="http://schemas.openxmlformats.org/officeDocument/2006/relationships/hyperlink" Target="http://www.scielo.cl/scielo.php?script=sci_serial&amp;pid=0716-0720&amp;lng=es&amp;nrm=iso" TargetMode="External"/><Relationship Id="rId16" Type="http://schemas.openxmlformats.org/officeDocument/2006/relationships/hyperlink" Target="http://www.scielo.cl/scielo.php?script=sci_serial&amp;pid=0717-7712&amp;lng=es&amp;nrm=iso" TargetMode="External"/><Relationship Id="rId17" Type="http://schemas.openxmlformats.org/officeDocument/2006/relationships/hyperlink" Target="http://www.scielo.cl/scielo.php?script=sci_serial&amp;pid=0716-9868&amp;lng=es&amp;nrm=iso" TargetMode="External"/><Relationship Id="rId18" Type="http://schemas.openxmlformats.org/officeDocument/2006/relationships/hyperlink" Target="http://www.scielo.cl/scielo.php?script=sci_serial&amp;pid=0718-4026&amp;lng=es&amp;nrm=iso" TargetMode="External"/><Relationship Id="rId19" Type="http://schemas.openxmlformats.org/officeDocument/2006/relationships/hyperlink" Target="http://www.scielo.cl/scielo.php?script=sci_serial&amp;pid=0717-7348&amp;lng=es&amp;nrm=iso" TargetMode="External"/><Relationship Id="rId20" Type="http://schemas.openxmlformats.org/officeDocument/2006/relationships/hyperlink" Target="http://www.scielo.cl/scielo.php?script=sci_serial&amp;pid=0716-1018&amp;lng=es&amp;nrm=iso" TargetMode="External"/><Relationship Id="rId21" Type="http://schemas.openxmlformats.org/officeDocument/2006/relationships/hyperlink" Target="http://www.scielo.cl/scielo.php?script=sci_serial&amp;pid=0716-1018&amp;lng=es&amp;nrm=iso" TargetMode="External"/><Relationship Id="rId22" Type="http://schemas.openxmlformats.org/officeDocument/2006/relationships/hyperlink" Target="http://www.scielo.cl/scielo.php?script=sci_serial&amp;pid=0716-1018&amp;lng=es&amp;nrm=iso" TargetMode="External"/><Relationship Id="rId23" Type="http://schemas.openxmlformats.org/officeDocument/2006/relationships/hyperlink" Target="http://www.scielo.cl/scielo.php?script=sci_serial&amp;pid=0717-9227&amp;lng=es&amp;nrm=iso" TargetMode="External"/><Relationship Id="rId24" Type="http://schemas.openxmlformats.org/officeDocument/2006/relationships/hyperlink" Target="http://www.scielo.cl/scielo.php?script=sci_serial&amp;pid=0717-9227&amp;lng=es&amp;nrm=iso" TargetMode="External"/><Relationship Id="rId25" Type="http://schemas.openxmlformats.org/officeDocument/2006/relationships/hyperlink" Target="http://www.scielo.cl/scielo.php?script=sci_serial&amp;pid=0717-9227&amp;lng=es&amp;nrm=iso" TargetMode="External"/><Relationship Id="rId26" Type="http://schemas.openxmlformats.org/officeDocument/2006/relationships/hyperlink" Target="http://www.scielo.cl/scielo.php?script=sci_serial&amp;pid=0717-7518&amp;lng=es&amp;nrm=iso" TargetMode="External"/><Relationship Id="rId27" Type="http://schemas.openxmlformats.org/officeDocument/2006/relationships/hyperlink" Target="http://www.scielo.cl/scielo.php?script=sci_serial&amp;pid=0717-7526&amp;lng=es&amp;nrm=iso" TargetMode="External"/><Relationship Id="rId28" Type="http://schemas.openxmlformats.org/officeDocument/2006/relationships/hyperlink" Target="http://www.scielo.cl/scielo.php?script=sci_serial&amp;pid=0370-4106&amp;lng=es&amp;nrm=iso" TargetMode="External"/><Relationship Id="rId29" Type="http://schemas.openxmlformats.org/officeDocument/2006/relationships/hyperlink" Target="http://www.scielo.cl/scielo.php?script=sci_serial&amp;pid=0717-9308&amp;lng=es&amp;nrm=iso" TargetMode="External"/><Relationship Id="rId30" Type="http://schemas.openxmlformats.org/officeDocument/2006/relationships/hyperlink" Target="http://www.scielo.cl/scielo.php?script=sci_serial&amp;pid=0718-4816&amp;lng=es&amp;nrm=iso" TargetMode="External"/><Relationship Id="rId31" Type="http://schemas.openxmlformats.org/officeDocument/2006/relationships/hyperlink" Target="http://www.scielo.cl/scielo.php?script=sci_serial&amp;pid=0034-9887&amp;lng=es&amp;nrm=iso" TargetMode="External"/><Relationship Id="rId3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scielo.cl/scielo.php?script=sci_serial&amp;pid=0717-6996&amp;lng=es&amp;nrm=iso" TargetMode="External"/><Relationship Id="rId2" Type="http://schemas.openxmlformats.org/officeDocument/2006/relationships/hyperlink" Target="http://www.scielo.cl/scielo.php?script=sci_serial&amp;pid=0718-6894&amp;lng=es&amp;nrm=iso" TargetMode="External"/><Relationship Id="rId3" Type="http://schemas.openxmlformats.org/officeDocument/2006/relationships/hyperlink" Target="http://www.scielo.cl/scielo.php?script=sci_serial&amp;pid=0717-7356&amp;lng=es&amp;nrm=iso" TargetMode="External"/><Relationship Id="rId4" Type="http://schemas.openxmlformats.org/officeDocument/2006/relationships/hyperlink" Target="http://www.scielo.cl/scielo.php?script=sci_serial&amp;pid=0717-554X&amp;lng=es&amp;nrm=iso" TargetMode="External"/><Relationship Id="rId5" Type="http://schemas.openxmlformats.org/officeDocument/2006/relationships/hyperlink" Target="http://www.scielo.cl/scielo.php?script=sci_serial&amp;pid=0717-554X&amp;lng=es&amp;nrm=iso" TargetMode="External"/><Relationship Id="rId6" Type="http://schemas.openxmlformats.org/officeDocument/2006/relationships/hyperlink" Target="http://www.scielo.cl/scielo.php?script=sci_serial&amp;pid=0717-554X&amp;lng=es&amp;nrm=iso" TargetMode="External"/><Relationship Id="rId7" Type="http://schemas.openxmlformats.org/officeDocument/2006/relationships/hyperlink" Target="http://www.scielo.cl/scielo.php?script=sci_serial&amp;pid=0717-6821&amp;lng=es&amp;nrm=iso" TargetMode="External"/><Relationship Id="rId8" Type="http://schemas.openxmlformats.org/officeDocument/2006/relationships/hyperlink" Target="http://www.scielo.cl/scielo.php?script=sci_serial&amp;pid=0717-6821&amp;lng=es&amp;nrm=iso" TargetMode="External"/><Relationship Id="rId9" Type="http://schemas.openxmlformats.org/officeDocument/2006/relationships/hyperlink" Target="http://www.scielo.cl/scielo.php?script=sci_serial&amp;pid=0717-6821&amp;lng=es&amp;nrm=iso" TargetMode="External"/><Relationship Id="rId10" Type="http://schemas.openxmlformats.org/officeDocument/2006/relationships/hyperlink" Target="http://www.scielo.cl/scielo.php?script=sci_serial&amp;pid=0717-6821&amp;lng=es&amp;nrm=iso" TargetMode="External"/><Relationship Id="rId11" Type="http://schemas.openxmlformats.org/officeDocument/2006/relationships/hyperlink" Target="http://www.scielo.cl/scielo.php?script=sci_serial&amp;pid=0717-6821&amp;lng=es&amp;nrm=iso" TargetMode="External"/><Relationship Id="rId12" Type="http://schemas.openxmlformats.org/officeDocument/2006/relationships/hyperlink" Target="http://www.scielo.cl/scielo.php?script=sci_serial&amp;pid=0717-6821&amp;lng=es&amp;nrm=iso" TargetMode="External"/><Relationship Id="rId13" Type="http://schemas.openxmlformats.org/officeDocument/2006/relationships/hyperlink" Target="http://www.scielo.cl/scielo.php?script=sci_serial&amp;pid=0717-6821&amp;lng=es&amp;nrm=iso" TargetMode="External"/><Relationship Id="rId14" Type="http://schemas.openxmlformats.org/officeDocument/2006/relationships/hyperlink" Target="http://www.scielo.cl/scielo.php?script=sci_serial&amp;pid=0717-6821&amp;lng=es&amp;nrm=iso" TargetMode="External"/><Relationship Id="rId15" Type="http://schemas.openxmlformats.org/officeDocument/2006/relationships/hyperlink" Target="http://www.scielo.cl/scielo.php?script=sci_serial&amp;pid=0717-6821&amp;lng=es&amp;nrm=iso" TargetMode="External"/><Relationship Id="rId16" Type="http://schemas.openxmlformats.org/officeDocument/2006/relationships/hyperlink" Target="http://www.scielo.cl/scielo.php?script=sci_serial&amp;pid=0717-6821&amp;lng=es&amp;nrm=iso" TargetMode="External"/><Relationship Id="rId17" Type="http://schemas.openxmlformats.org/officeDocument/2006/relationships/hyperlink" Target="http://www.scielo.cl/scielo.php?script=sci_serial&amp;pid=0717-6821&amp;lng=es&amp;nrm=iso" TargetMode="External"/><Relationship Id="rId18" Type="http://schemas.openxmlformats.org/officeDocument/2006/relationships/hyperlink" Target="http://www.scielo.cl/scielo.php?script=sci_serial&amp;pid=0250-7161&amp;lng=es&amp;nrm=iso" TargetMode="External"/><Relationship Id="rId19" Type="http://schemas.openxmlformats.org/officeDocument/2006/relationships/hyperlink" Target="http://www.scielo.cl/scielo.php?script=sci_serial&amp;pid=0718-1043&amp;lng=es&amp;nrm=iso" TargetMode="External"/><Relationship Id="rId20" Type="http://schemas.openxmlformats.org/officeDocument/2006/relationships/hyperlink" Target="http://www.scielo.cl/scielo.php?script=sci_serial&amp;pid=0718-1043&amp;lng=es&amp;nrm=iso" TargetMode="External"/><Relationship Id="rId21" Type="http://schemas.openxmlformats.org/officeDocument/2006/relationships/hyperlink" Target="http://www.scielo.cl/scielo.php?script=sci_serial&amp;pid=0718-1043&amp;lng=es&amp;nrm=iso" TargetMode="External"/><Relationship Id="rId22" Type="http://schemas.openxmlformats.org/officeDocument/2006/relationships/hyperlink" Target="http://www.scielo.cl/scielo.php?script=sci_serial&amp;pid=0718-5200&amp;lng=es&amp;nrm=iso" TargetMode="External"/><Relationship Id="rId23" Type="http://schemas.openxmlformats.org/officeDocument/2006/relationships/hyperlink" Target="http://www.scielo.cl/scielo.php?script=sci_serial&amp;pid=0718-5286&amp;lng=es&amp;nrm=iso" TargetMode="External"/><Relationship Id="rId24" Type="http://schemas.openxmlformats.org/officeDocument/2006/relationships/hyperlink" Target="http://www.scielo.cl/scielo.php?script=sci_serial&amp;pid=0717-7194&amp;lng=es&amp;nrm=iso" TargetMode="External"/><Relationship Id="rId25" Type="http://schemas.openxmlformats.org/officeDocument/2006/relationships/hyperlink" Target="http://www.scielo.cl/scielo.php?script=sci_serial&amp;pid=0718-0012&amp;lng=es&amp;nrm=iso" TargetMode="External"/><Relationship Id="rId26" Type="http://schemas.openxmlformats.org/officeDocument/2006/relationships/hyperlink" Target="http://www.scielo.cl/scielo.php?script=sci_serial&amp;pid=0718-0012&amp;lng=es&amp;nrm=iso" TargetMode="External"/><Relationship Id="rId27" Type="http://schemas.openxmlformats.org/officeDocument/2006/relationships/hyperlink" Target="http://www.scielo.cl/scielo.php?script=sci_serial&amp;pid=0718-1876&amp;lng=es&amp;nrm=iso" TargetMode="External"/><Relationship Id="rId28" Type="http://schemas.openxmlformats.org/officeDocument/2006/relationships/hyperlink" Target="http://www.scielo.cl/scielo.php?script=sci_serial&amp;pid=0718-1876&amp;lng=es&amp;nrm=iso" TargetMode="External"/><Relationship Id="rId29" Type="http://schemas.openxmlformats.org/officeDocument/2006/relationships/hyperlink" Target="http://www.scielo.cl/scielo.php?script=sci_serial&amp;pid=0718-1876&amp;lng=es&amp;nrm=iso" TargetMode="External"/><Relationship Id="rId30" Type="http://schemas.openxmlformats.org/officeDocument/2006/relationships/hyperlink" Target="http://www.scielo.cl/scielo.php?script=sci_serial&amp;pid=0718-1876&amp;lng=es&amp;nrm=iso" TargetMode="External"/><Relationship Id="rId31" Type="http://schemas.openxmlformats.org/officeDocument/2006/relationships/hyperlink" Target="http://www.scielo.cl/scielo.php?script=sci_serial&amp;pid=0718-1876&amp;lng=es&amp;nrm=iso" TargetMode="External"/><Relationship Id="rId32" Type="http://schemas.openxmlformats.org/officeDocument/2006/relationships/hyperlink" Target="http://www.scielo.cl/scielo.php?script=sci_serial&amp;pid=0718-1876&amp;lng=es&amp;nrm=iso" TargetMode="External"/><Relationship Id="rId33" Type="http://schemas.openxmlformats.org/officeDocument/2006/relationships/hyperlink" Target="http://www.scielo.cl/scielo.php?script=sci_serial&amp;pid=0718-1876&amp;lng=es&amp;nrm=iso" TargetMode="External"/><Relationship Id="rId34" Type="http://schemas.openxmlformats.org/officeDocument/2006/relationships/hyperlink" Target="http://www.scielo.cl/scielo.php?script=sci_serial&amp;pid=0718-1876&amp;lng=es&amp;nrm=iso" TargetMode="External"/><Relationship Id="rId35" Type="http://schemas.openxmlformats.org/officeDocument/2006/relationships/hyperlink" Target="http://www.scielo.cl/scielo.php?script=sci_serial&amp;pid=0718-1876&amp;lng=es&amp;nrm=iso" TargetMode="External"/><Relationship Id="rId36" Type="http://schemas.openxmlformats.org/officeDocument/2006/relationships/hyperlink" Target="http://www.scielo.cl/scielo.php?script=sci_serial&amp;pid=0718-1876&amp;lng=es&amp;nrm=iso" TargetMode="External"/><Relationship Id="rId37" Type="http://schemas.openxmlformats.org/officeDocument/2006/relationships/hyperlink" Target="http://www.scielo.cl/scielo.php?script=sci_serial&amp;pid=0718-1876&amp;lng=es&amp;nrm=iso" TargetMode="External"/><Relationship Id="rId38" Type="http://schemas.openxmlformats.org/officeDocument/2006/relationships/hyperlink" Target="http://www.scielo.cl/scielo.php?script=sci_serial&amp;pid=0718-1876&amp;lng=es&amp;nrm=iso" TargetMode="External"/><Relationship Id="rId39" Type="http://schemas.openxmlformats.org/officeDocument/2006/relationships/hyperlink" Target="http://www.scielo.cl/scielo.php?script=sci_serial&amp;pid=0718-1876&amp;lng=es&amp;nrm=iso" TargetMode="External"/><Relationship Id="rId40" Type="http://schemas.openxmlformats.org/officeDocument/2006/relationships/hyperlink" Target="http://www.scielo.cl/scielo.php?script=sci_serial&amp;pid=0718-1876&amp;lng=es&amp;nrm=iso" TargetMode="External"/><Relationship Id="rId41" Type="http://schemas.openxmlformats.org/officeDocument/2006/relationships/hyperlink" Target="http://www.scielo.cl/scielo.php?script=sci_serial&amp;pid=0718-1876&amp;lng=es&amp;nrm=iso" TargetMode="External"/><Relationship Id="rId42" Type="http://schemas.openxmlformats.org/officeDocument/2006/relationships/hyperlink" Target="http://www.scielo.cl/scielo.php?script=sci_serial&amp;pid=0718-1876&amp;lng=es&amp;nrm=iso" TargetMode="External"/><Relationship Id="rId43" Type="http://schemas.openxmlformats.org/officeDocument/2006/relationships/hyperlink" Target="http://www.scielo.cl/scielo.php?script=sci_serial&amp;pid=0718-2244&amp;lng=es&amp;nrm=iso" TargetMode="External"/><Relationship Id="rId44" Type="http://schemas.openxmlformats.org/officeDocument/2006/relationships/hyperlink" Target="http://www.scielo.cl/scielo.php?script=sci_serial&amp;pid=0718-2244&amp;lng=es&amp;nrm=iso" TargetMode="External"/><Relationship Id="rId45" Type="http://schemas.openxmlformats.org/officeDocument/2006/relationships/hyperlink" Target="http://www.scielo.cl/scielo.php?script=sci_serial&amp;pid=0718-6568&amp;lng=es&amp;nrm=iso" TargetMode="External"/><Relationship Id="rId46" Type="http://schemas.openxmlformats.org/officeDocument/2006/relationships/hyperlink" Target="http://www.scielo.cl/scielo.php?script=sci_serial&amp;pid=0718-2228&amp;lng=es&amp;nrm=iso" TargetMode="External"/><Relationship Id="rId47" Type="http://schemas.openxmlformats.org/officeDocument/2006/relationships/hyperlink" Target="http://www.scielo.cl/scielo.php?script=sci_serial&amp;pid=0718-2228&amp;lng=es&amp;nrm=iso" TargetMode="External"/><Relationship Id="rId48" Type="http://schemas.openxmlformats.org/officeDocument/2006/relationships/hyperlink" Target="http://www.scielo.cl/scielo.php?script=sci_serial&amp;pid=0718-2228&amp;lng=es&amp;nrm=iso" TargetMode="External"/><Relationship Id="rId49" Type="http://schemas.openxmlformats.org/officeDocument/2006/relationships/hyperlink" Target="http://www.scielo.cl/scielo.php?script=sci_serial&amp;pid=0718-8072&amp;lng=es&amp;nrm=iso" TargetMode="External"/><Relationship Id="rId50" Type="http://schemas.openxmlformats.org/officeDocument/2006/relationships/hyperlink" Target="http://www.scielo.cl/scielo.php?script=sci_serial&amp;pid=0718-3437&amp;lng=es&amp;nrm=iso" TargetMode="External"/><Relationship Id="rId51" Type="http://schemas.openxmlformats.org/officeDocument/2006/relationships/hyperlink" Target="http://www.scielo.cl/scielo.php?script=sci_serial&amp;pid=0718-090X&amp;lng=es&amp;nrm=iso" TargetMode="External"/><Relationship Id="rId52" Type="http://schemas.openxmlformats.org/officeDocument/2006/relationships/hyperlink" Target="http://www.scielo.cl/scielo.php?script=sci_serial&amp;pid=0718-0950&amp;lng=es&amp;nrm=iso" TargetMode="External"/><Relationship Id="rId53" Type="http://schemas.openxmlformats.org/officeDocument/2006/relationships/hyperlink" Target="http://www.scielo.cl/scielo.php?script=sci_serial&amp;pid=0718-6851&amp;lng=es&amp;nrm=iso" TargetMode="External"/><Relationship Id="rId54" Type="http://schemas.openxmlformats.org/officeDocument/2006/relationships/hyperlink" Target="http://www.scielo.cl/scielo.php?script=sci_serial&amp;pid=0716-5455&amp;lng=es&amp;nrm=iso" TargetMode="External"/><Relationship Id="rId55" Type="http://schemas.openxmlformats.org/officeDocument/2006/relationships/hyperlink" Target="http://www.scielo.cl/scielo.php?script=sci_serial&amp;pid=0718-3402&amp;lng=es&amp;nrm=iso" TargetMode="External"/><Relationship Id="rId56" Type="http://schemas.openxmlformats.org/officeDocument/2006/relationships/hyperlink" Target="http://www.scielo.cl/scielo.php?script=sci_serial&amp;pid=0718-4808&amp;lng=es&amp;nrm=iso" TargetMode="External"/><Relationship Id="rId57" Type="http://schemas.openxmlformats.org/officeDocument/2006/relationships/hyperlink" Target="http://www.scielo.cl/scielo.php?script=sci_serial&amp;pid=0718-2236&amp;lng=es&amp;nrm=iso" TargetMode="External"/><Relationship Id="rId58" Type="http://schemas.openxmlformats.org/officeDocument/2006/relationships/hyperlink" Target="http://www.scielo.cl/scielo.php?script=sci_serial&amp;pid=0718-2376&amp;lng=es&amp;nrm=iso" TargetMode="External"/><Relationship Id="rId59" Type="http://schemas.openxmlformats.org/officeDocument/2006/relationships/hyperlink" Target="http://www.scielo.cl/scielo.php?script=sci_serial&amp;pid=0718-2376&amp;lng=es&amp;nrm=iso" TargetMode="External"/><Relationship Id="rId60" Type="http://schemas.openxmlformats.org/officeDocument/2006/relationships/hyperlink" Target="http://www.scielo.cl/scielo.php?script=sci_serial&amp;pid=0718-2376&amp;lng=es&amp;nrm=iso" TargetMode="External"/><Relationship Id="rId6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scielo.cl/scielo.php?script=sci_serial&amp;pid=0717-6848&amp;lng=es&amp;nrm=iso" TargetMode="External"/><Relationship Id="rId2" Type="http://schemas.openxmlformats.org/officeDocument/2006/relationships/hyperlink" Target="http://www.scielo.cl/scielo.php?script=sci_serial&amp;pid=0718-7181&amp;lng=es&amp;nrm=iso" TargetMode="External"/><Relationship Id="rId3" Type="http://schemas.openxmlformats.org/officeDocument/2006/relationships/hyperlink" Target="http://www.scielo.cl/scielo.php?script=sci_serial&amp;pid=0718-7181&amp;lng=es&amp;nrm=iso" TargetMode="External"/><Relationship Id="rId4" Type="http://schemas.openxmlformats.org/officeDocument/2006/relationships/hyperlink" Target="http://www.scielo.cl/scielo.php?script=sci_serial&amp;pid=0718-2201&amp;lng=es&amp;nrm=iso" TargetMode="External"/><Relationship Id="rId5" Type="http://schemas.openxmlformats.org/officeDocument/2006/relationships/hyperlink" Target="http://www.scielo.cl/scielo.php?script=sci_serial&amp;pid=0718-0462&amp;lng=es&amp;nrm=iso" TargetMode="External"/><Relationship Id="rId6" Type="http://schemas.openxmlformats.org/officeDocument/2006/relationships/hyperlink" Target="http://www.scielo.cl/scielo.php?script=sci_serial&amp;pid=0071-1713&amp;lng=es&amp;nrm=iso" TargetMode="External"/><Relationship Id="rId7" Type="http://schemas.openxmlformats.org/officeDocument/2006/relationships/hyperlink" Target="http://www.scielo.cl/scielo.php?script=sci_serial&amp;pid=0718-0705&amp;lng=es&amp;nrm=iso" TargetMode="External"/><Relationship Id="rId8" Type="http://schemas.openxmlformats.org/officeDocument/2006/relationships/hyperlink" Target="http://www.scielo.cl/scielo.php?script=sci_serial&amp;pid=0716-5811&amp;lng=es&amp;nrm=iso" TargetMode="External"/><Relationship Id="rId9" Type="http://schemas.openxmlformats.org/officeDocument/2006/relationships/hyperlink" Target="http://www.scielo.cl/scielo.php?script=sci_serial&amp;pid=0718-2244&amp;lng=es&amp;nrm=iso" TargetMode="External"/><Relationship Id="rId10" Type="http://schemas.openxmlformats.org/officeDocument/2006/relationships/hyperlink" Target="http://www.scielo.cl/scielo.php?script=sci_serial&amp;pid=0718-2244&amp;lng=es&amp;nrm=iso" TargetMode="External"/><Relationship Id="rId11" Type="http://schemas.openxmlformats.org/officeDocument/2006/relationships/hyperlink" Target="http://www.scielo.cl/scielo.php?script=sci_serial&amp;pid=0718-2228&amp;lng=es&amp;nrm=iso" TargetMode="External"/><Relationship Id="rId12" Type="http://schemas.openxmlformats.org/officeDocument/2006/relationships/hyperlink" Target="http://www.scielo.cl/scielo.php?script=sci_serial&amp;pid=0718-2228&amp;lng=es&amp;nrm=iso" TargetMode="External"/><Relationship Id="rId13" Type="http://schemas.openxmlformats.org/officeDocument/2006/relationships/hyperlink" Target="http://www.scielo.cl/scielo.php?script=sci_serial&amp;pid=0718-4883&amp;lng=es&amp;nrm=iso" TargetMode="External"/><Relationship Id="rId1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Escuela de Terapia Ocupacional</a:t>
            </a:r>
            <a:br>
              <a:rPr sz="2000"/>
            </a:b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Facultad de Medicina</a:t>
            </a:r>
            <a:br>
              <a:rPr sz="2000"/>
            </a:b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3644640"/>
            <a:ext cx="64008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Oportunidades para Desarrollo Científico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Integ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Basado en power de la Dirección de Investigación Científ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Facultad de Medicina, Universidad de Chile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736560" cy="1589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227664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Fondos Concurs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FONDECYT Regu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Financia competitivamente iniciativas presentadas por investigadores de trayectoria demostrada, sin importar el área o procedencia institucion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aracterístic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duración de 2 a 4 añ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abierto a todas las áreas del conoci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investigador responsable con o sin coinvestiga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financia: honorarios, tesistas, personal técnico, viajes, gastos de operación y bien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e capital. Monto máximo asignado: $50.000.000 por añ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FONDECYT Inici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iciativa para formar nuevos científicos. Se requiere grado académico de doctor o  especialidad médica (últimos 5 años), preferentemente hasta 45 añ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aracterístic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duración de 2 a 3 añ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abierto a todas las áreas de conoci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postulantes con patrocin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financia: honorarios, tesistas, personal técnico, viajes, gastos de operación y bien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e capital. Monto máximo asignado: $20.000.000 por añ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01080" y="189000"/>
            <a:ext cx="782640" cy="712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Fondos Concurs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FONIS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(Fondo Nacional de Investigación y Desarrollo en Salu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inancia proyectos que generen nuevo conocimiento para contribuir a mejorar la toma de decisiones en salud, abarcando desde el diseño de políticas sanitarias hasta el nivel de decisiones clíni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eneficiari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instituciones legalmente constituidas, como servicios de salud,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universidades, centros de estudios, municipios, institutos profesionales,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stitutos de investigación, fundaciones y ot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investigadores individuales y/o grupos de trabajo. En caso que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vestigación requiera aporte institucional (capacidades, infraestructur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sonal, pacientes, etc.), se deberá contar con patrocinio instituc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101080" y="189000"/>
            <a:ext cx="782640" cy="712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Fondos Concurs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uración:  18 meses, excepcionalmente se aprobarán proyectos por hasta dos añ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Financiamiento máximo: $25.000.000.- (honorarios, subcontratos, capacitación, equipos, software, infraestructura, material fungible, pasajes y viáticos, seminarios, publicaciones, difusión, propiedad intelectual, gastos general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roceso de selecc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es-CL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rimera fase: árbitros expertos designados por Consejo de FONIS evalúan las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deas del proyecto o pre-proyectos y  seleccionan los que pasan a la siguiente f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egunda fase: se solicitan propuestas de proyectos in exten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os Comités de FONIS evalúan:</a:t>
            </a:r>
            <a:r>
              <a:rPr b="0" lang="es-CL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alidad del proyecto, pertinencia, impacto y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plicabilidad y solicitan opinión de expertos independient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l</a:t>
            </a:r>
            <a:r>
              <a:rPr b="0" lang="es-CL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nsejo de FONIS selecciona los proyectos que se aprueb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atificación de la selección por medio de Resolución de CONICY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101080" y="189000"/>
            <a:ext cx="782640" cy="712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Fondos Concurs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ONIS Concurso Nacional de Programas de Formación en Metodología de la Investigación Aplicada en Sal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u objetivo es aumentar la competitividad de los proyectos presentados a FONIS y la capacidad de los investigadores para formular y desarrollar propuestas de investigación de salud aplica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módulos: Metodología de la investigación clínica, Metodología de 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vestigación en Salud Pública y Metodología de la investig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ualitativa en salu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CL" sz="1600" spc="-1" strike="noStrike">
                <a:solidFill>
                  <a:srgbClr val="ff6600"/>
                </a:solidFill>
                <a:latin typeface="Arial"/>
              </a:rPr>
              <a:t>-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ueden postular entidades sin fines de lucro de educación superior o centros de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vestigación que realicen formación de profesionales e investig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duración: 6 a 10 me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financiamiento: $40.000.000.- (entidad debe financiar 20% del costo tot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8101080" y="189000"/>
            <a:ext cx="782640" cy="712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Fondos Concurs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ONIDE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Fondo de Investigación Educativa (FONIDE) fue creado el año 2006 con el propósito de fomentar y apoyar la labor de investigación en educación en ámbito nacion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a ello, busca promover la realización de estudios de calidad, relevantes para la toma de decisiones de políticas educativas y para la gestión de los distintos niveles del sistema escolar chile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8101080" y="189000"/>
            <a:ext cx="782640" cy="712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Fondos Concurs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ueden participar Universidades, Institutos Profesionales y Centros Privados de Educ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as instituciones que postulen deben designar un Investigador Princip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Áreas temáticas prioritarias del 2do. concurso: Calidad y Equidad Educativa, Sistema Educativo, Desarrollo Docente y Gestión de la Educ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uración máxima: 10 me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Financiamiento máximo: $20.000.00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riterios de evaluación: Importancia del tema; Consistencia del Proyecto; Metodología propuesta; Antecedentes Institucionales y Capacidad del Equipo; Resultados espera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101080" y="189000"/>
            <a:ext cx="782640" cy="712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Fondos Concurs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ONDEF: Fondo de Fomento al Desarrollo Científico y Tecnológ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Concurso Nacional de Proyectos de Investigación y Desarrollo (I+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Entrega financiamiento a universidades, institutos de investigación y desarrollo y otros sin fines de lucro que coinvierten junto a empresas.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Área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6600"/>
                </a:solidFill>
                <a:latin typeface="Arial"/>
              </a:rPr>
              <a:t>-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Tradicionales de la economía nacional (agropecuaria, forestal, pesca , minería..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e alto dinamismo en la construcción de valor (tecnologías de información 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omunicaciones y manufactur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Alto impacto social: salud y educ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os proyectos deben considera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mponente de investigación científ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esarrollo de solu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nov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rotección intelectual de result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Transferencia de resultados para generación negocios productivos o servic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101080" y="189000"/>
            <a:ext cx="782640" cy="7128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Fondos Concurs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ORFO: Corporación de Fomento de la P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RFO a través de Innova Chile estimula la innovación empresarial, apoyando a que las empresas accedan a nuevas tecnologías y desarrollen nuevos productos y servicios de mayor valor y diferenci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nvestigación y Desarrollo de Interés Púb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RFO ofrece líneas de financiamiento para acercar al mundo productivo la investigación y desarrollo que realizan las universidades, institutos tecnológicos y organismos públicos, cuyas labores influyen en el entorno de las empres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Innovación precompetitiva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: para investigación y desarrollo en universidades y centros tecnológicos que en el mediano y largo plazo tenga aplicación en el sector productiv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Interés público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: para proyectos de universidades, centros tecnológicos y organismos públicos, orientados a mejorar la operación de mercados y sectores productivos. Ej. elaboración de normas técnicas, apoyo a la regulación y la generación de información relevante para la toma de decisiones de la autoridad públ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101080" y="189000"/>
            <a:ext cx="782640" cy="7128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Fondos Concurs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oncursos Vicerrectoría de Investigación y Desarrollo (V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Fondo central para la investigación y la creación artística de la Universidad, que se distribuye en diversas actividades que implican el financiamiento de proyectos de investigación, de programas institucionales y actividades adicionales para apoyar la investig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royectos de Inici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poya la formación de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cadémicos jóvenes en investigación. Financia proyectos de investigación originales, que conduzcan a la producción de nuevos conocimientos, mediante la aplicación del método científico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22 horas y nombramiento vig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grado académico de doctor, magíster o especialidad médica (5 añ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edad máxima: 35 años y 40 si posee postdoctor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2 años de dur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IR + 1 académico coinvestigad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$6.500.000/año (mat. fungible, equipos, bibliografía, publicaciones, viajes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y viáticos nacional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8101080" y="189000"/>
            <a:ext cx="782640" cy="712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Fondos Concurs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oncursos Vicerrectoría de Investigación y Desarrollo (V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royectos de Enlace (FONDECYT)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Tiene la finalidad de mantener activas las líneas de investigación de la Universidad, que han sido interrumpidas al no aprobarse un proyecto del concurso Regular FONDECYT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7520" indent="0">
              <a:spcBef>
                <a:spcPts val="400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pueden postular IR de proyectos FONDECYT rechazados  en el concurso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anterior, que hayan finalizado un proyecto Regular durante los últimos 2 añ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7520" indent="0">
              <a:spcBef>
                <a:spcPts val="400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y que presenten un nuevo proyecto al concurso FONDECYT sigui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7520" indent="0">
              <a:spcBef>
                <a:spcPts val="400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7520" indent="0">
              <a:spcBef>
                <a:spcPts val="400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$3.000.000 (mat. fungible, accesorios, pago servicios externos, difusión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resultad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101080" y="189000"/>
            <a:ext cx="782640" cy="7128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Propuestas para Estrategia de Desarrollo de Investigación en Unidades Académicas en la Universidad de 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lanificac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lan Estratégic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roblemas de inter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Fuentes de financia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nálisis de Factibi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cuerdo entre los miembros de unidad académica, formación de equip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rofesional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Formación de recurs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rear condiciones necesarias para el desarrollo de proyec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nocimiento de métodos de gestión y evaluación de actividad científ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Valoración de actividad científica (I+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olabo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teracción entre miembros de unidades académ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teracción con grupos de excelencia, flexibilización, diversific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poyo Instituc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Fondos Concurs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Vicerrectoría de Investigación y Desarrollo (V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yudas de vi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stán destinadas a financiar presentaciones a congresos nacionales o internacionales y estadías cortas de investigación en el extranjero (inscripción, estadía y pasaje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ueden postular académicos con jerarquía académica vigente mínima de 11 hora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e dará prioridad a académicos JC en formación (profesor asistente, profesor instructor y ayudan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Reparación de equip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Financia en forma parcial hasta el 50% del valor de la reparación, el resto del financiamiento es por parte de la Faculta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8101080" y="189000"/>
            <a:ext cx="782640" cy="7128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Proyectos en Ciencias Sociales, Humanidades y Edu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omenta la investigación de los académicos en Ciencias Sociales, Humanidades y Educación. Sólo financia proyectos de investigación que conduzcan a la producción de nuevos conocimientos mediante la aplicación de métodos rigurosos y valederos, que no consideren aspectos tratados en otros proyectos que hayan sido aprobados o que se encuentren en ejecución, patrocinados y/o financiados por instituciones públicas, privadas o extranje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onvocatoria 2009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Apertura: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24 de abril 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ierre: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 25 de may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nforme de Avance Proyecto en Cs. Sociales, Humanidades y Educación 2008: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06 de noviembre de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nforme Final Proyecto en Cs. Sociales, Humanidades y Educación 2007: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08 de enero de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Re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Vicerectoría de Investigación y Desarrol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http://www.uchile.cl/uchile.portal?_nfpb=true&amp;_pageLabel=inv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uentes de financiami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alend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Apoyo para la Presentación de Proyectos Científicos a Fondos Concurs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Búsqueda prospectiva de fuentes de financiamiento para investigación de acuerdo al perfil de los investigador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sesoría en el diseño y redacción de proyectos de investig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Búsqueda de colaboradores para la formación de equipos de investig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reevaluación técnica de los proyectos de investig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reevaluación científica de los proyectos por investigador experto en el área temát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poyo bioestadísti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formación y contac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ra. Rosa Hinojosa, Secreta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irección: Av. Independencia Nª1027 (Facultad de Medicin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Teléfonos: (56 2) 978 6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rreo electrónico: rhinojosa</a:t>
            </a: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@med.uchile.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Otras Fuentes de Financi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ECI: Agencia Española de Cooperación internac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nvocatoria abierta y perman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grama de Cooperación interuniversitaria e Investigación Científica entre España e iberoamé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LACSO: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nsejo Latinoamericano de Ciencias Sociales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grama Regional de Becas de investigación. Becas de iniciación, consolidación y nivel super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227664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vestigación de calidad</a:t>
            </a:r>
            <a:br>
              <a:rPr sz="4400"/>
            </a:b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ubli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Investigación Public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vistas Scielo: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IENCIAS DE LA SALUD</a:t>
            </a:r>
            <a:br>
              <a:rPr sz="1800"/>
            </a:b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cta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bioethica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19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Archivos de medicina veterinaria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29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Boletín chileno de parasitología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5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Ciencia y enfermería - Revista iberoamericana de investigación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International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Journal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of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Morphology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27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arasitología al día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9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arasitología latinoamericana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13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Revista chilena de anatomía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14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Revista chilena de cirugía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23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Revista chilena de enfermedades respiratorias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30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Revista chilena de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infectología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56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Revista chilena de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neuro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-psiquiatría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40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Revista chilena de nutrición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31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Revista chilena de obstetricia y ginecología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46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Revista chilena de pediatría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407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Revista chilena de radiología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30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Revista de otorrinolaringología y cirugía de cabeza y cuello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Revista médica de Chile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122  números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Public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evistas Scielo: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IENCIAS SOCIALES APLICADAS</a:t>
            </a:r>
            <a:br>
              <a:rPr sz="1400"/>
            </a:b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RQ (Santiago) - arquitectura, diseño, urbanismo, Chile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25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Boletín del Museo Chileno de Arte Precolombino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2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hungará (Arica) - Revista de antropología chilena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25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Cinta de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moebio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4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Cuadernos de economía -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Latin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American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Journal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of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Economics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22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EURE (Santiago) - Revista latinoamericana de estudios urbano regionales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35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Estudios atacameños - Arqueología y antropología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surandinas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16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Estudios constitucionales - Revista Semestral del Centro de Estudios Constitucionales de Chile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Estudios de economía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5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Historia (Santiago)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15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Ius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 et Praxis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16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Journal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of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theoretical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32"/>
              </a:rPr>
              <a:t>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33"/>
              </a:rPr>
              <a:t>and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34"/>
              </a:rPr>
              <a:t>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35"/>
              </a:rPr>
              <a:t>applied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36"/>
              </a:rPr>
              <a:t>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37"/>
              </a:rPr>
              <a:t>electronic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38"/>
              </a:rPr>
              <a:t>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39"/>
              </a:rPr>
              <a:t>commerce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40"/>
              </a:rPr>
              <a:t>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41"/>
              </a:rPr>
              <a:t>research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42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4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43"/>
              </a:rPr>
              <a:t>Magallania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44"/>
              </a:rPr>
              <a:t> (Punta Arenas)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9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Polis (Santiago)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4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es-CL" sz="1400" spc="-1" strike="noStrike">
                <a:solidFill>
                  <a:srgbClr val="333399"/>
                </a:solidFill>
                <a:latin typeface="Arial"/>
              </a:rPr>
              <a:t>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46"/>
              </a:rPr>
              <a:t>Psykhe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47"/>
              </a:rPr>
              <a:t> (Santiago)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48"/>
              </a:rPr>
              <a:t> </a:t>
            </a:r>
            <a:r>
              <a:rPr b="0" lang="es-CL" sz="1400" spc="-1" strike="noStrike">
                <a:solidFill>
                  <a:srgbClr val="333399"/>
                </a:solidFill>
                <a:latin typeface="Arial"/>
              </a:rPr>
              <a:t>- 11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49"/>
              </a:rPr>
              <a:t>Revista chilena de derecho privado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1  número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50"/>
              </a:rPr>
              <a:t>Revista chilena de derecho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11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51"/>
              </a:rPr>
              <a:t>Revista de ciencia política (Santiago)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16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52"/>
              </a:rPr>
              <a:t>Revista de derecho (Valdivia)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12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53"/>
              </a:rPr>
              <a:t>Revista de derecho (Valparaíso)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3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54"/>
              </a:rPr>
              <a:t>Revista de estudios histórico-jurídicos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12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55"/>
              </a:rPr>
              <a:t>Revista de geografía Norte Grande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9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56"/>
              </a:rPr>
              <a:t>Terapia psicológica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5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57"/>
              </a:rPr>
              <a:t>Ultima década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19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58"/>
              </a:rPr>
              <a:t>Universum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59"/>
              </a:rPr>
              <a:t> (Talca) - Revista de humanidades y ciencias sociales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60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11  números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Public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vistas Scielo: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   HUMANIDADES</a:t>
            </a:r>
            <a:br>
              <a:rPr sz="1800"/>
            </a:b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cta literaria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14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isthesis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- Revista Chilena de Investigaciones Estéticas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Alpha (Osorno) - Revista de artes, letras y filosofía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9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Atenea (Concepción)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13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Estudios filológicos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13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Estudios pedagógicos (Valdivia)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16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Literatura y lingüística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11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Magallania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 (Punta Arenas)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9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Psykhe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 (Santiago)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11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RLA. Revista de lingüística teórica y aplicada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6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Revista chilena de literatura - 11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Revista de filosofía - 4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Revista musical chilena - 27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Revista signos - Estudios de lingüística - 25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Teología y vida - 29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Ultima década - 19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Universum (Talca) - Revista de humanidades y ciencias sociales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Revistas I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MERICAN JOURNAL OF OCCUPATIONAL THERAPY DISABILITY AND REHABILIT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JOURNAL OF INTERPROFESSIONAL C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FANTS AND YOUNG CHILDR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BREAST CANCER RESEARCH AND TREAT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USTRALIAN OCCUPATIONAL THERAPY JOUR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JOURNAL OF REHABILITATION RESEARCH AND DEVELOPM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HONG KONG JOURNAL OF OCCUPATIONAL THERAP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TERNATIONAL JOURNAL OF REHABILITATION RESEAR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Investigación de la ETOUCH: Relevante y de C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Investigación de Relev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sponde a las necesidades país (objetivos sanitari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ejora la calidad de vida de las perso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Investigación de C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inanci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ublic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Nutre la práctica doc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n este contexto. ¿Qué investigación debe desarrollar la ETOUC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7664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vestigación releva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Áreas Prioritarias para la ETOUCH según los objetivos sanitarios de la épo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Salud infantil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: promoción del desarrollo integral, trastornos hipercinéticos y de la atención, maltrato infanti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Traumatismo y accidentes;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 </a:t>
            </a: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salud de la mujer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: climaterio y cáncer del cuello de útero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Desafío derivados del envejecimiento y cambios sociales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: envejecimiento, estilos de vida, aspectos relacionados con el trabajo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Áreas Prioritarias para la ETOUCH según los objetivos sanitarios de la épo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Enfermedad cardiovascular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Cáncer,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Enfermedades mentales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: depresión, esquizofreni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Alzheimer y demencia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Alcohol y drogas;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Diabetes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VIH SIDA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Cuidado paliativos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27664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vestigación de ca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227664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vestigación de calidad</a:t>
            </a:r>
            <a:br>
              <a:rPr sz="4400"/>
            </a:b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Financia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Investigación Financiada: Fondos Estatales Concursables I+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Destinados a Ciencia Bás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FONDECYT Regul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FONDECYT Inici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Iniciativa Milenio (Núcleos, Institut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Orientados Preferentemente a Tecnología y Desarro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FONDECYT Regul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FON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FONDE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FON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royecto Bicentenario (Inserción y Anill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INNOVA Ch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Orientados a Formación de Investiga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rograma Nacional de Becas de Postgrado (CONICY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mplemento de Tesis Doctoral (CONICY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royectos de Posdoctorado (FONDECY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ecas Doctorales del Programa MECESUP (EDUCACIÓ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57080" y="6453360"/>
            <a:ext cx="265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Fuentes: CONICYT, Academia Chilena de Ciencia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101080" y="189000"/>
            <a:ext cx="782640" cy="712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1T00:11:38Z</dcterms:created>
  <dc:creator>Luis Michea</dc:creator>
  <dc:description/>
  <dc:language>en-US</dc:language>
  <cp:lastModifiedBy>Fac. de Medicina</cp:lastModifiedBy>
  <dcterms:modified xsi:type="dcterms:W3CDTF">2009-11-05T18:57:08Z</dcterms:modified>
  <cp:revision>99</cp:revision>
  <dc:subject/>
  <dc:title>Diapositiva 1</dc:title>
</cp:coreProperties>
</file>