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248-4FA3-4F77-86E4-BFDF32D8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ED4-89B0-4E19-BD94-C8DEA0DB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021-07CF-494A-B9FD-D91167D9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623-9238-481E-A135-853B5432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08D-061C-4443-9D4E-AD7DC12F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4FA-4A64-4551-B435-6B6A3DC0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DFC-2BC4-4B58-83DE-B699584C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11F-1667-4617-9133-C009CF3B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546-1778-4572-9EC6-70E58AA7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AC1-1170-4DE2-B60A-1E2A3654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5EA-D3E0-4CA3-A2E9-032B519B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FC3-C3F7-4181-BE84-6BA53CE2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0CD1-3B5C-4422-AF5D-F0587AA70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otic@med.uchile.c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1726-569X&amp;lng=es&amp;nrm=iso" TargetMode="External"/><Relationship Id="rId2" Type="http://schemas.openxmlformats.org/officeDocument/2006/relationships/hyperlink" Target="http://www.scielo.cl/scielo.php?script=sci_serial&amp;pid=1726-569X&amp;lng=es&amp;nrm=iso" TargetMode="External"/><Relationship Id="rId3" Type="http://schemas.openxmlformats.org/officeDocument/2006/relationships/hyperlink" Target="http://www.scielo.cl/scielo.php?script=sci_serial&amp;pid=1726-569X&amp;lng=es&amp;nrm=iso" TargetMode="External"/><Relationship Id="rId4" Type="http://schemas.openxmlformats.org/officeDocument/2006/relationships/hyperlink" Target="http://www.scielo.cl/scielo.php?script=sci_serial&amp;pid=0301-732X&amp;lng=es&amp;nrm=iso" TargetMode="External"/><Relationship Id="rId5" Type="http://schemas.openxmlformats.org/officeDocument/2006/relationships/hyperlink" Target="http://www.scielo.cl/scielo.php?script=sci_serial&amp;pid=0365-9402&amp;lng=es&amp;nrm=iso" TargetMode="External"/><Relationship Id="rId6" Type="http://schemas.openxmlformats.org/officeDocument/2006/relationships/hyperlink" Target="http://www.scielo.cl/scielo.php?script=sci_serial&amp;pid=0717-9553&amp;lng=es&amp;nrm=iso" TargetMode="External"/><Relationship Id="rId7" Type="http://schemas.openxmlformats.org/officeDocument/2006/relationships/hyperlink" Target="http://www.scielo.cl/scielo.php?script=sci_serial&amp;pid=0717-9502&amp;lng=es&amp;nrm=iso" TargetMode="External"/><Relationship Id="rId8" Type="http://schemas.openxmlformats.org/officeDocument/2006/relationships/hyperlink" Target="http://www.scielo.cl/scielo.php?script=sci_serial&amp;pid=0717-9502&amp;lng=es&amp;nrm=iso" TargetMode="External"/><Relationship Id="rId9" Type="http://schemas.openxmlformats.org/officeDocument/2006/relationships/hyperlink" Target="http://www.scielo.cl/scielo.php?script=sci_serial&amp;pid=0717-9502&amp;lng=es&amp;nrm=iso" TargetMode="External"/><Relationship Id="rId10" Type="http://schemas.openxmlformats.org/officeDocument/2006/relationships/hyperlink" Target="http://www.scielo.cl/scielo.php?script=sci_serial&amp;pid=0717-9502&amp;lng=es&amp;nrm=iso" TargetMode="External"/><Relationship Id="rId11" Type="http://schemas.openxmlformats.org/officeDocument/2006/relationships/hyperlink" Target="http://www.scielo.cl/scielo.php?script=sci_serial&amp;pid=0717-9502&amp;lng=es&amp;nrm=iso" TargetMode="External"/><Relationship Id="rId12" Type="http://schemas.openxmlformats.org/officeDocument/2006/relationships/hyperlink" Target="http://www.scielo.cl/scielo.php?script=sci_serial&amp;pid=0717-9502&amp;lng=es&amp;nrm=iso" TargetMode="External"/><Relationship Id="rId13" Type="http://schemas.openxmlformats.org/officeDocument/2006/relationships/hyperlink" Target="http://www.scielo.cl/scielo.php?script=sci_serial&amp;pid=0717-9502&amp;lng=es&amp;nrm=iso" TargetMode="External"/><Relationship Id="rId14" Type="http://schemas.openxmlformats.org/officeDocument/2006/relationships/hyperlink" Target="http://www.scielo.cl/scielo.php?script=sci_serial&amp;pid=0717-9502&amp;lng=es&amp;nrm=iso" TargetMode="External"/><Relationship Id="rId15" Type="http://schemas.openxmlformats.org/officeDocument/2006/relationships/hyperlink" Target="http://www.scielo.cl/scielo.php?script=sci_serial&amp;pid=0716-0720&amp;lng=es&amp;nrm=iso" TargetMode="External"/><Relationship Id="rId16" Type="http://schemas.openxmlformats.org/officeDocument/2006/relationships/hyperlink" Target="http://www.scielo.cl/scielo.php?script=sci_serial&amp;pid=0717-7712&amp;lng=es&amp;nrm=iso" TargetMode="External"/><Relationship Id="rId17" Type="http://schemas.openxmlformats.org/officeDocument/2006/relationships/hyperlink" Target="http://www.scielo.cl/scielo.php?script=sci_serial&amp;pid=0716-9868&amp;lng=es&amp;nrm=iso" TargetMode="External"/><Relationship Id="rId18" Type="http://schemas.openxmlformats.org/officeDocument/2006/relationships/hyperlink" Target="http://www.scielo.cl/scielo.php?script=sci_serial&amp;pid=0718-4026&amp;lng=es&amp;nrm=iso" TargetMode="External"/><Relationship Id="rId19" Type="http://schemas.openxmlformats.org/officeDocument/2006/relationships/hyperlink" Target="http://www.scielo.cl/scielo.php?script=sci_serial&amp;pid=0717-7348&amp;lng=es&amp;nrm=iso" TargetMode="External"/><Relationship Id="rId20" Type="http://schemas.openxmlformats.org/officeDocument/2006/relationships/hyperlink" Target="http://www.scielo.cl/scielo.php?script=sci_serial&amp;pid=0716-1018&amp;lng=es&amp;nrm=iso" TargetMode="External"/><Relationship Id="rId21" Type="http://schemas.openxmlformats.org/officeDocument/2006/relationships/hyperlink" Target="http://www.scielo.cl/scielo.php?script=sci_serial&amp;pid=0716-1018&amp;lng=es&amp;nrm=iso" TargetMode="External"/><Relationship Id="rId22" Type="http://schemas.openxmlformats.org/officeDocument/2006/relationships/hyperlink" Target="http://www.scielo.cl/scielo.php?script=sci_serial&amp;pid=0716-1018&amp;lng=es&amp;nrm=iso" TargetMode="External"/><Relationship Id="rId23" Type="http://schemas.openxmlformats.org/officeDocument/2006/relationships/hyperlink" Target="http://www.scielo.cl/scielo.php?script=sci_serial&amp;pid=0717-9227&amp;lng=es&amp;nrm=iso" TargetMode="External"/><Relationship Id="rId24" Type="http://schemas.openxmlformats.org/officeDocument/2006/relationships/hyperlink" Target="http://www.scielo.cl/scielo.php?script=sci_serial&amp;pid=0717-9227&amp;lng=es&amp;nrm=iso" TargetMode="External"/><Relationship Id="rId25" Type="http://schemas.openxmlformats.org/officeDocument/2006/relationships/hyperlink" Target="http://www.scielo.cl/scielo.php?script=sci_serial&amp;pid=0717-9227&amp;lng=es&amp;nrm=iso" TargetMode="External"/><Relationship Id="rId26" Type="http://schemas.openxmlformats.org/officeDocument/2006/relationships/hyperlink" Target="http://www.scielo.cl/scielo.php?script=sci_serial&amp;pid=0717-7518&amp;lng=es&amp;nrm=iso" TargetMode="External"/><Relationship Id="rId27" Type="http://schemas.openxmlformats.org/officeDocument/2006/relationships/hyperlink" Target="http://www.scielo.cl/scielo.php?script=sci_serial&amp;pid=0717-7526&amp;lng=es&amp;nrm=iso" TargetMode="External"/><Relationship Id="rId28" Type="http://schemas.openxmlformats.org/officeDocument/2006/relationships/hyperlink" Target="http://www.scielo.cl/scielo.php?script=sci_serial&amp;pid=0370-4106&amp;lng=es&amp;nrm=iso" TargetMode="External"/><Relationship Id="rId29" Type="http://schemas.openxmlformats.org/officeDocument/2006/relationships/hyperlink" Target="http://www.scielo.cl/scielo.php?script=sci_serial&amp;pid=0717-9308&amp;lng=es&amp;nrm=iso" TargetMode="External"/><Relationship Id="rId30" Type="http://schemas.openxmlformats.org/officeDocument/2006/relationships/hyperlink" Target="http://www.scielo.cl/scielo.php?script=sci_serial&amp;pid=0718-4816&amp;lng=es&amp;nrm=iso" TargetMode="External"/><Relationship Id="rId31" Type="http://schemas.openxmlformats.org/officeDocument/2006/relationships/hyperlink" Target="http://www.scielo.cl/scielo.php?script=sci_serial&amp;pid=0034-9887&amp;lng=es&amp;nrm=iso" TargetMode="External"/><Relationship Id="rId3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996&amp;lng=es&amp;nrm=iso" TargetMode="External"/><Relationship Id="rId2" Type="http://schemas.openxmlformats.org/officeDocument/2006/relationships/hyperlink" Target="http://www.scielo.cl/scielo.php?script=sci_serial&amp;pid=0718-6894&amp;lng=es&amp;nrm=iso" TargetMode="External"/><Relationship Id="rId3" Type="http://schemas.openxmlformats.org/officeDocument/2006/relationships/hyperlink" Target="http://www.scielo.cl/scielo.php?script=sci_serial&amp;pid=0717-7356&amp;lng=es&amp;nrm=iso" TargetMode="External"/><Relationship Id="rId4" Type="http://schemas.openxmlformats.org/officeDocument/2006/relationships/hyperlink" Target="http://www.scielo.cl/scielo.php?script=sci_serial&amp;pid=0717-554X&amp;lng=es&amp;nrm=iso" TargetMode="External"/><Relationship Id="rId5" Type="http://schemas.openxmlformats.org/officeDocument/2006/relationships/hyperlink" Target="http://www.scielo.cl/scielo.php?script=sci_serial&amp;pid=0717-554X&amp;lng=es&amp;nrm=iso" TargetMode="External"/><Relationship Id="rId6" Type="http://schemas.openxmlformats.org/officeDocument/2006/relationships/hyperlink" Target="http://www.scielo.cl/scielo.php?script=sci_serial&amp;pid=0717-554X&amp;lng=es&amp;nrm=iso" TargetMode="External"/><Relationship Id="rId7" Type="http://schemas.openxmlformats.org/officeDocument/2006/relationships/hyperlink" Target="http://www.scielo.cl/scielo.php?script=sci_serial&amp;pid=0717-6821&amp;lng=es&amp;nrm=iso" TargetMode="External"/><Relationship Id="rId8" Type="http://schemas.openxmlformats.org/officeDocument/2006/relationships/hyperlink" Target="http://www.scielo.cl/scielo.php?script=sci_serial&amp;pid=0717-6821&amp;lng=es&amp;nrm=iso" TargetMode="External"/><Relationship Id="rId9" Type="http://schemas.openxmlformats.org/officeDocument/2006/relationships/hyperlink" Target="http://www.scielo.cl/scielo.php?script=sci_serial&amp;pid=0717-6821&amp;lng=es&amp;nrm=iso" TargetMode="External"/><Relationship Id="rId10" Type="http://schemas.openxmlformats.org/officeDocument/2006/relationships/hyperlink" Target="http://www.scielo.cl/scielo.php?script=sci_serial&amp;pid=0717-6821&amp;lng=es&amp;nrm=iso" TargetMode="External"/><Relationship Id="rId11" Type="http://schemas.openxmlformats.org/officeDocument/2006/relationships/hyperlink" Target="http://www.scielo.cl/scielo.php?script=sci_serial&amp;pid=0717-6821&amp;lng=es&amp;nrm=iso" TargetMode="External"/><Relationship Id="rId12" Type="http://schemas.openxmlformats.org/officeDocument/2006/relationships/hyperlink" Target="http://www.scielo.cl/scielo.php?script=sci_serial&amp;pid=0717-6821&amp;lng=es&amp;nrm=iso" TargetMode="External"/><Relationship Id="rId13" Type="http://schemas.openxmlformats.org/officeDocument/2006/relationships/hyperlink" Target="http://www.scielo.cl/scielo.php?script=sci_serial&amp;pid=0717-6821&amp;lng=es&amp;nrm=iso" TargetMode="External"/><Relationship Id="rId14" Type="http://schemas.openxmlformats.org/officeDocument/2006/relationships/hyperlink" Target="http://www.scielo.cl/scielo.php?script=sci_serial&amp;pid=0717-6821&amp;lng=es&amp;nrm=iso" TargetMode="External"/><Relationship Id="rId15" Type="http://schemas.openxmlformats.org/officeDocument/2006/relationships/hyperlink" Target="http://www.scielo.cl/scielo.php?script=sci_serial&amp;pid=0717-6821&amp;lng=es&amp;nrm=iso" TargetMode="External"/><Relationship Id="rId16" Type="http://schemas.openxmlformats.org/officeDocument/2006/relationships/hyperlink" Target="http://www.scielo.cl/scielo.php?script=sci_serial&amp;pid=0717-6821&amp;lng=es&amp;nrm=iso" TargetMode="External"/><Relationship Id="rId17" Type="http://schemas.openxmlformats.org/officeDocument/2006/relationships/hyperlink" Target="http://www.scielo.cl/scielo.php?script=sci_serial&amp;pid=0717-6821&amp;lng=es&amp;nrm=iso" TargetMode="External"/><Relationship Id="rId18" Type="http://schemas.openxmlformats.org/officeDocument/2006/relationships/hyperlink" Target="http://www.scielo.cl/scielo.php?script=sci_serial&amp;pid=0250-7161&amp;lng=es&amp;nrm=iso" TargetMode="External"/><Relationship Id="rId19" Type="http://schemas.openxmlformats.org/officeDocument/2006/relationships/hyperlink" Target="http://www.scielo.cl/scielo.php?script=sci_serial&amp;pid=0718-1043&amp;lng=es&amp;nrm=iso" TargetMode="External"/><Relationship Id="rId20" Type="http://schemas.openxmlformats.org/officeDocument/2006/relationships/hyperlink" Target="http://www.scielo.cl/scielo.php?script=sci_serial&amp;pid=0718-1043&amp;lng=es&amp;nrm=iso" TargetMode="External"/><Relationship Id="rId21" Type="http://schemas.openxmlformats.org/officeDocument/2006/relationships/hyperlink" Target="http://www.scielo.cl/scielo.php?script=sci_serial&amp;pid=0718-1043&amp;lng=es&amp;nrm=iso" TargetMode="External"/><Relationship Id="rId22" Type="http://schemas.openxmlformats.org/officeDocument/2006/relationships/hyperlink" Target="http://www.scielo.cl/scielo.php?script=sci_serial&amp;pid=0718-5200&amp;lng=es&amp;nrm=iso" TargetMode="External"/><Relationship Id="rId23" Type="http://schemas.openxmlformats.org/officeDocument/2006/relationships/hyperlink" Target="http://www.scielo.cl/scielo.php?script=sci_serial&amp;pid=0718-5286&amp;lng=es&amp;nrm=iso" TargetMode="External"/><Relationship Id="rId24" Type="http://schemas.openxmlformats.org/officeDocument/2006/relationships/hyperlink" Target="http://www.scielo.cl/scielo.php?script=sci_serial&amp;pid=0717-7194&amp;lng=es&amp;nrm=iso" TargetMode="External"/><Relationship Id="rId25" Type="http://schemas.openxmlformats.org/officeDocument/2006/relationships/hyperlink" Target="http://www.scielo.cl/scielo.php?script=sci_serial&amp;pid=0718-0012&amp;lng=es&amp;nrm=iso" TargetMode="External"/><Relationship Id="rId26" Type="http://schemas.openxmlformats.org/officeDocument/2006/relationships/hyperlink" Target="http://www.scielo.cl/scielo.php?script=sci_serial&amp;pid=0718-0012&amp;lng=es&amp;nrm=iso" TargetMode="External"/><Relationship Id="rId27" Type="http://schemas.openxmlformats.org/officeDocument/2006/relationships/hyperlink" Target="http://www.scielo.cl/scielo.php?script=sci_serial&amp;pid=0718-1876&amp;lng=es&amp;nrm=iso" TargetMode="External"/><Relationship Id="rId28" Type="http://schemas.openxmlformats.org/officeDocument/2006/relationships/hyperlink" Target="http://www.scielo.cl/scielo.php?script=sci_serial&amp;pid=0718-1876&amp;lng=es&amp;nrm=iso" TargetMode="External"/><Relationship Id="rId29" Type="http://schemas.openxmlformats.org/officeDocument/2006/relationships/hyperlink" Target="http://www.scielo.cl/scielo.php?script=sci_serial&amp;pid=0718-1876&amp;lng=es&amp;nrm=iso" TargetMode="External"/><Relationship Id="rId30" Type="http://schemas.openxmlformats.org/officeDocument/2006/relationships/hyperlink" Target="http://www.scielo.cl/scielo.php?script=sci_serial&amp;pid=0718-1876&amp;lng=es&amp;nrm=iso" TargetMode="External"/><Relationship Id="rId31" Type="http://schemas.openxmlformats.org/officeDocument/2006/relationships/hyperlink" Target="http://www.scielo.cl/scielo.php?script=sci_serial&amp;pid=0718-1876&amp;lng=es&amp;nrm=iso" TargetMode="External"/><Relationship Id="rId32" Type="http://schemas.openxmlformats.org/officeDocument/2006/relationships/hyperlink" Target="http://www.scielo.cl/scielo.php?script=sci_serial&amp;pid=0718-1876&amp;lng=es&amp;nrm=iso" TargetMode="External"/><Relationship Id="rId33" Type="http://schemas.openxmlformats.org/officeDocument/2006/relationships/hyperlink" Target="http://www.scielo.cl/scielo.php?script=sci_serial&amp;pid=0718-1876&amp;lng=es&amp;nrm=iso" TargetMode="External"/><Relationship Id="rId34" Type="http://schemas.openxmlformats.org/officeDocument/2006/relationships/hyperlink" Target="http://www.scielo.cl/scielo.php?script=sci_serial&amp;pid=0718-1876&amp;lng=es&amp;nrm=iso" TargetMode="External"/><Relationship Id="rId35" Type="http://schemas.openxmlformats.org/officeDocument/2006/relationships/hyperlink" Target="http://www.scielo.cl/scielo.php?script=sci_serial&amp;pid=0718-1876&amp;lng=es&amp;nrm=iso" TargetMode="External"/><Relationship Id="rId36" Type="http://schemas.openxmlformats.org/officeDocument/2006/relationships/hyperlink" Target="http://www.scielo.cl/scielo.php?script=sci_serial&amp;pid=0718-1876&amp;lng=es&amp;nrm=iso" TargetMode="External"/><Relationship Id="rId37" Type="http://schemas.openxmlformats.org/officeDocument/2006/relationships/hyperlink" Target="http://www.scielo.cl/scielo.php?script=sci_serial&amp;pid=0718-1876&amp;lng=es&amp;nrm=iso" TargetMode="External"/><Relationship Id="rId38" Type="http://schemas.openxmlformats.org/officeDocument/2006/relationships/hyperlink" Target="http://www.scielo.cl/scielo.php?script=sci_serial&amp;pid=0718-1876&amp;lng=es&amp;nrm=iso" TargetMode="External"/><Relationship Id="rId39" Type="http://schemas.openxmlformats.org/officeDocument/2006/relationships/hyperlink" Target="http://www.scielo.cl/scielo.php?script=sci_serial&amp;pid=0718-1876&amp;lng=es&amp;nrm=iso" TargetMode="External"/><Relationship Id="rId40" Type="http://schemas.openxmlformats.org/officeDocument/2006/relationships/hyperlink" Target="http://www.scielo.cl/scielo.php?script=sci_serial&amp;pid=0718-1876&amp;lng=es&amp;nrm=iso" TargetMode="External"/><Relationship Id="rId41" Type="http://schemas.openxmlformats.org/officeDocument/2006/relationships/hyperlink" Target="http://www.scielo.cl/scielo.php?script=sci_serial&amp;pid=0718-1876&amp;lng=es&amp;nrm=iso" TargetMode="External"/><Relationship Id="rId42" Type="http://schemas.openxmlformats.org/officeDocument/2006/relationships/hyperlink" Target="http://www.scielo.cl/scielo.php?script=sci_serial&amp;pid=0718-1876&amp;lng=es&amp;nrm=iso" TargetMode="External"/><Relationship Id="rId43" Type="http://schemas.openxmlformats.org/officeDocument/2006/relationships/hyperlink" Target="http://www.scielo.cl/scielo.php?script=sci_serial&amp;pid=0718-2244&amp;lng=es&amp;nrm=iso" TargetMode="External"/><Relationship Id="rId44" Type="http://schemas.openxmlformats.org/officeDocument/2006/relationships/hyperlink" Target="http://www.scielo.cl/scielo.php?script=sci_serial&amp;pid=0718-2244&amp;lng=es&amp;nrm=iso" TargetMode="External"/><Relationship Id="rId45" Type="http://schemas.openxmlformats.org/officeDocument/2006/relationships/hyperlink" Target="http://www.scielo.cl/scielo.php?script=sci_serial&amp;pid=0718-6568&amp;lng=es&amp;nrm=iso" TargetMode="External"/><Relationship Id="rId46" Type="http://schemas.openxmlformats.org/officeDocument/2006/relationships/hyperlink" Target="http://www.scielo.cl/scielo.php?script=sci_serial&amp;pid=0718-2228&amp;lng=es&amp;nrm=iso" TargetMode="External"/><Relationship Id="rId47" Type="http://schemas.openxmlformats.org/officeDocument/2006/relationships/hyperlink" Target="http://www.scielo.cl/scielo.php?script=sci_serial&amp;pid=0718-2228&amp;lng=es&amp;nrm=iso" TargetMode="External"/><Relationship Id="rId48" Type="http://schemas.openxmlformats.org/officeDocument/2006/relationships/hyperlink" Target="http://www.scielo.cl/scielo.php?script=sci_serial&amp;pid=0718-2228&amp;lng=es&amp;nrm=iso" TargetMode="External"/><Relationship Id="rId49" Type="http://schemas.openxmlformats.org/officeDocument/2006/relationships/hyperlink" Target="http://www.scielo.cl/scielo.php?script=sci_serial&amp;pid=0718-8072&amp;lng=es&amp;nrm=iso" TargetMode="External"/><Relationship Id="rId50" Type="http://schemas.openxmlformats.org/officeDocument/2006/relationships/hyperlink" Target="http://www.scielo.cl/scielo.php?script=sci_serial&amp;pid=0718-3437&amp;lng=es&amp;nrm=iso" TargetMode="External"/><Relationship Id="rId51" Type="http://schemas.openxmlformats.org/officeDocument/2006/relationships/hyperlink" Target="http://www.scielo.cl/scielo.php?script=sci_serial&amp;pid=0718-090X&amp;lng=es&amp;nrm=iso" TargetMode="External"/><Relationship Id="rId52" Type="http://schemas.openxmlformats.org/officeDocument/2006/relationships/hyperlink" Target="http://www.scielo.cl/scielo.php?script=sci_serial&amp;pid=0718-0950&amp;lng=es&amp;nrm=iso" TargetMode="External"/><Relationship Id="rId53" Type="http://schemas.openxmlformats.org/officeDocument/2006/relationships/hyperlink" Target="http://www.scielo.cl/scielo.php?script=sci_serial&amp;pid=0718-6851&amp;lng=es&amp;nrm=iso" TargetMode="External"/><Relationship Id="rId54" Type="http://schemas.openxmlformats.org/officeDocument/2006/relationships/hyperlink" Target="http://www.scielo.cl/scielo.php?script=sci_serial&amp;pid=0716-5455&amp;lng=es&amp;nrm=iso" TargetMode="External"/><Relationship Id="rId55" Type="http://schemas.openxmlformats.org/officeDocument/2006/relationships/hyperlink" Target="http://www.scielo.cl/scielo.php?script=sci_serial&amp;pid=0718-3402&amp;lng=es&amp;nrm=iso" TargetMode="External"/><Relationship Id="rId56" Type="http://schemas.openxmlformats.org/officeDocument/2006/relationships/hyperlink" Target="http://www.scielo.cl/scielo.php?script=sci_serial&amp;pid=0718-4808&amp;lng=es&amp;nrm=iso" TargetMode="External"/><Relationship Id="rId57" Type="http://schemas.openxmlformats.org/officeDocument/2006/relationships/hyperlink" Target="http://www.scielo.cl/scielo.php?script=sci_serial&amp;pid=0718-2236&amp;lng=es&amp;nrm=iso" TargetMode="External"/><Relationship Id="rId58" Type="http://schemas.openxmlformats.org/officeDocument/2006/relationships/hyperlink" Target="http://www.scielo.cl/scielo.php?script=sci_serial&amp;pid=0718-2376&amp;lng=es&amp;nrm=iso" TargetMode="External"/><Relationship Id="rId59" Type="http://schemas.openxmlformats.org/officeDocument/2006/relationships/hyperlink" Target="http://www.scielo.cl/scielo.php?script=sci_serial&amp;pid=0718-2376&amp;lng=es&amp;nrm=iso" TargetMode="External"/><Relationship Id="rId60" Type="http://schemas.openxmlformats.org/officeDocument/2006/relationships/hyperlink" Target="http://www.scielo.cl/scielo.php?script=sci_serial&amp;pid=0718-2376&amp;lng=es&amp;nrm=iso" TargetMode="External"/><Relationship Id="rId6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848&amp;lng=es&amp;nrm=iso" TargetMode="External"/><Relationship Id="rId2" Type="http://schemas.openxmlformats.org/officeDocument/2006/relationships/hyperlink" Target="http://www.scielo.cl/scielo.php?script=sci_serial&amp;pid=0718-7181&amp;lng=es&amp;nrm=iso" TargetMode="External"/><Relationship Id="rId3" Type="http://schemas.openxmlformats.org/officeDocument/2006/relationships/hyperlink" Target="http://www.scielo.cl/scielo.php?script=sci_serial&amp;pid=0718-7181&amp;lng=es&amp;nrm=iso" TargetMode="External"/><Relationship Id="rId4" Type="http://schemas.openxmlformats.org/officeDocument/2006/relationships/hyperlink" Target="http://www.scielo.cl/scielo.php?script=sci_serial&amp;pid=0718-2201&amp;lng=es&amp;nrm=iso" TargetMode="External"/><Relationship Id="rId5" Type="http://schemas.openxmlformats.org/officeDocument/2006/relationships/hyperlink" Target="http://www.scielo.cl/scielo.php?script=sci_serial&amp;pid=0718-0462&amp;lng=es&amp;nrm=iso" TargetMode="External"/><Relationship Id="rId6" Type="http://schemas.openxmlformats.org/officeDocument/2006/relationships/hyperlink" Target="http://www.scielo.cl/scielo.php?script=sci_serial&amp;pid=0071-1713&amp;lng=es&amp;nrm=iso" TargetMode="External"/><Relationship Id="rId7" Type="http://schemas.openxmlformats.org/officeDocument/2006/relationships/hyperlink" Target="http://www.scielo.cl/scielo.php?script=sci_serial&amp;pid=0718-0705&amp;lng=es&amp;nrm=iso" TargetMode="External"/><Relationship Id="rId8" Type="http://schemas.openxmlformats.org/officeDocument/2006/relationships/hyperlink" Target="http://www.scielo.cl/scielo.php?script=sci_serial&amp;pid=0716-5811&amp;lng=es&amp;nrm=iso" TargetMode="External"/><Relationship Id="rId9" Type="http://schemas.openxmlformats.org/officeDocument/2006/relationships/hyperlink" Target="http://www.scielo.cl/scielo.php?script=sci_serial&amp;pid=0718-2244&amp;lng=es&amp;nrm=iso" TargetMode="External"/><Relationship Id="rId10" Type="http://schemas.openxmlformats.org/officeDocument/2006/relationships/hyperlink" Target="http://www.scielo.cl/scielo.php?script=sci_serial&amp;pid=0718-2244&amp;lng=es&amp;nrm=iso" TargetMode="External"/><Relationship Id="rId11" Type="http://schemas.openxmlformats.org/officeDocument/2006/relationships/hyperlink" Target="http://www.scielo.cl/scielo.php?script=sci_serial&amp;pid=0718-2228&amp;lng=es&amp;nrm=iso" TargetMode="External"/><Relationship Id="rId12" Type="http://schemas.openxmlformats.org/officeDocument/2006/relationships/hyperlink" Target="http://www.scielo.cl/scielo.php?script=sci_serial&amp;pid=0718-2228&amp;lng=es&amp;nrm=iso" TargetMode="External"/><Relationship Id="rId13" Type="http://schemas.openxmlformats.org/officeDocument/2006/relationships/hyperlink" Target="http://www.scielo.cl/scielo.php?script=sci_serial&amp;pid=0718-4883&amp;lng=es&amp;nrm=iso" TargetMode="External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Oportunidades para Desarrollo Científic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asado en power de la Dirección de Investigación Cient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cultad de Medicina, Universidad de Chi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736560" cy="158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competitivamente iniciativas presentadas por investigadores de trayectoria demostrada, sin importar el área o procedencia institu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4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l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nvestigador responsable con o sin co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5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iciativa para formar nuevos científicos. Se requiere grado académico de doctor o  especialidad médica (últimos 5 años), preferentemente hasta 45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3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ostulantes con patroc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2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ONI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Fondo Nacional de Investigación y Desarrollo en Sal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ancia proyectos que generen nuevo conocimiento para contribuir a mejorar la toma de decisiones en salud, abarcando desde el diseño de políticas sanitarias hasta el nivel de decisiones clí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ar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stituciones legalmente constituidas, como servicios de salud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versidades, centros de estudios, municipios, institutos profesionales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itutos de investigación, fundaciones y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vestigadores individuales y/o grupos de trabajo. En caso qu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stigación requiera aporte institucional (capacidades, infraestruc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sonal, pacientes, etc.), se deberá contar con patrocinio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:  18 meses, excepcionalmente se aprobarán proyectos por hasta dos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5.000.000.- (honorarios, subcontratos, capacitación, equipos, software, infraestructura, material fungible, pasajes y viáticos, seminarios, publicaciones, difusión, propiedad intelectual, gastos gener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 de sele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imera fase: árbitros expertos designados por Consejo de FONIS evalúan la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deas del proyecto o pre-proyectos y  seleccionan los que pasan a la siguiente 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nda fase: se solicitan propuestas de proyectos in ext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Comités de FONIS evalúan: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idad del proyecto, pertinencia, impacto 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licabilidad y solicitan opinión de expertos independi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jo de FONIS selecciona los proyectos que se aprue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tificación de la selección por medio de Resolución de CONICY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S Concurso Nacional de Programas de Formación en Metodología de la Investigación Aplicada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 objetivo es aumentar la competitividad de los proyectos presentados a FONIS y la capacidad de los investigadores para formular y desarrollar propuestas de investigación de salud aplic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ódulos: Metodología de la investigación clínica, Metodología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en Salud Pública y Metodología de la investig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litativa en sal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entidades sin fines de lucro de educación superior o centros de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que realicen formación de profesionales 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uración: 6 a 10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financiamiento: $40.000.000.- (entidad debe financiar 20% del costo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Fondo de Investigación Educativa (FONIDE) fue creado el año 2006 con el propósito de fomentar y apoyar la labor de investigación en educación en ámbito n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ello, busca promover la realización de estudios de calidad, relevantes para la toma de decisiones de políticas educativas y para la gestión de los distintos niveles del sistema escolar chil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articipar Universidades, Institutos Profesionales y Centros Privados de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instituciones que postulen deben designar un Investigador Princip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reas temáticas prioritarias del 2do. concurso: Calidad y Equidad Educativa, Sistema Educativo, Desarrollo Docente y Gestión de la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 máxima: 10 m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0.000.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iterios de evaluación: Importancia del tema; Consistencia del Proyecto; Metodología propuesta; Antecedentes Institucionales y Capacidad del Equipo; Resultados esper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DEF: Fondo de Fomento al Desarrollo Científico y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curso Nacional de Proyectos de Investigación y Desarrollo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ga financiamiento a universidades, institutos de investigación y desarrollo y otros sin fines de lucro que coinvierten junto a empresas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Áre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icionales de la economía nacional (agropecuaria, forestal, pesca , minería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alto dinamismo en la construcción de valor (tecnologías de informa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manufact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lto impacto social: salud y edu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proyectos deben consider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onente de investigación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arrollo de solu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ción intelectual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nsferencia de resultados para generación negocios productivos 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FO: Corporación de Fomento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a través de Innova Chile estimula la innovación empresarial, apoyando a que las empresas accedan a nuevas tecnologías y desarrollen nuevos productos y servicios de mayor valor y diferenci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stigación y Desarrollo de Interés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ofrece líneas de financiamiento para acercar al mundo productivo la investigación y desarrollo que realizan las universidades, institutos tecnológicos y organismos públicos, cuyas labores influyen en el entorno de las empre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novación precompetitiv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investigación y desarrollo en universidades y centros tecnológicos que en el mediano y largo plazo tenga aplicación en el sector produ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terés públic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proyectos de universidades, centros tecnológicos y organismos públicos, orientados a mejorar la operación de mercados y sectores productivos. Ej. elaboración de normas técnicas, apoyo a la regulación y la generación de información relevante para la toma de decisiones de la autoridad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ndo central para la investigación y la creación artística de la Universidad, que se distribuye en diversas actividades que implican el financiamiento de proyectos de investigación, de programas institucionales y actividades adicionales para apoyar la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Ini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a la formación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adémicos jóvenes en investigación. Financia proyectos de investigación originales, que conduzcan a la producción de nuevos conocimientos, mediante la aplicación del método científic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2 horas y nombramiento v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grado académico de doctor, magíster o especialidad médica (5 añ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edad máxima: 35 años y 40 si posee postdoct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 años de 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R + 1 académico coinvestig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6.500.000/año (mat. fungible, equipos, bibliografía, publicaciones, viaj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viáticos nacion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Enlace (FONDECYT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ene la finalidad de mantener activas las líneas de investigación de la Universidad, que han sido interrumpidas al no aprobarse un proyecto del concurso Regular FONDECYT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ueden postular IR de proyectos FONDECYT rechazados  en el concurs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anterior, que hayan finalizado un proyecto Regular durante los últimos 2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que presenten un nuevo proyecto al concurso FONDECYT sigu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3.000.000 (mat. fungible, accesorios, pago servicios externos, difusión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result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puestas para Estrategia de Desarrollo de Investigación en Unidades Académicas en la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lanific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n Estraté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blemas de inter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uerdo entre los miembros de unidad académica, formación de equi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condiciones necesarias para el desarrollo de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ocimiento de métodos de gestión y evaluación de actividad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ación de actividad científica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entre miembros de unidades acadé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con grupos de excelencia, flexibilización, divers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yudas de vi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án destinadas a financiar presentaciones a congresos nacionales o internacionales y estadías cortas de investigación en el extranjero (inscripción, estadía y pasaj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académicos con jerarquía académica vigente mínima de 11 ho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dará prioridad a académicos JC en formación (profesor asistente, profesor instructor y ayuda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paración de 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en forma parcial hasta el 50% del valor de la reparación, el resto del financiamiento es por parte de la Facult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yectos en Ciencias Sociales, Humanidades y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menta la investigación de los académicos en Ciencias Sociales, Humanidades y Educación. Sólo financia proyectos de investigación que conduzcan a la producción de nuevos conocimientos mediante la aplicación de métodos rigurosos y valederos, que no consideren aspectos tratados en otros proyectos que hayan sido aprobados o que se encuentren en ejecución, patrocinados y/o financiados por instituciones públicas, privadas o extranje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vocatoria 2009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pertura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4 de abril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ierre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 25 de may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de Avance Proyecto en Cs. Sociales, Humanidades y Educación 2008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6 de noviembre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Final Proyecto en Cs. Sociales, Humanidades y Educación 2007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8 de enero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cerectoría de Investigación y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ttp://www.uchile.cl/uchile.portal?_nfpb=true&amp;_pageLabel=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entes de financi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end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poyo para la Presentación de Proyectos Científicos a 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prospectiva de fuentes de financiamiento para investigación de acuerdo al perfil de los investig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esoría en el diseño y redacción de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de colaboradores para la formación de equip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técnica de los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científica de los proyectos por investigador experto en el área te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bioestadís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formación y conta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ra. Rosa Hinojosa, Secre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rección: Av. Independencia Nª1027 (Facultad de Medic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léfonos: (56 2) 978 6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reo electrónico: rhinojosa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@med.u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Otras Fuentes de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ECI: Agencia Española de Cooperación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ocatoria abierta y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Cooperación interuniversitaria e Investigación Científica entre España e ibero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CSO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jo Latinoamericano de Ciencias Soc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Regional de Becas de investigación. Becas de iniciación, consolidación y nivel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b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Pub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ENCIAS DE LA SALUD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ethic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chivos de medicina veterin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letín chileno de parasit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encia y enfermería - Revista iberoamericana de investiga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ternatio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our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f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orphology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arasitología al d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arasitología latinoamerican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evista chilena de anatom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evista chilena de ciru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Revista chilena de enfermedades respiratori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fectologí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neuro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-psiqu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Revista chilena de nutri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Revista chilena de obstetricia y ginec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Revista chilena de ped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evista chilena de radi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Revista de otorrinolaringología y cirugía de cabeza y cuell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Revista médica de Chil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22  númer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IENCIAS SOCIALES APLICADAS</a:t>
            </a:r>
            <a:br>
              <a:rPr sz="1400"/>
            </a:b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Q (Santiago) - arquitectura, diseño, urbanismo,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letín del Museo Chileno de Arte Precolombin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ungará (Arica) - Revista de antropología chilen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inta de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oebio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adernos de economía -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ati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merica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Economic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EURE (Santiago) - Revista latinoamericana de estudios urbano regionale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studios atacameños - Arqueología y antropología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urandina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Estudios constitucionales - Revista Semestral del Centro de Estudios Constitucionales de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Estudios de economí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istori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u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et Praxi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theoretic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an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applie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electronic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commerc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research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Magallania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 (Punta Arenas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Polis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Psykh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 (Santiago)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 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Revista chilena de derecho privad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  número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Revista chilena de derech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Revista de ciencia polític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Revista de derecho (Valdivia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Revista de derecho (Valparaís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Revista de estudios histórico-jurídico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Revista de geografía Norte Grand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Terapia psicológic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Ultima décad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Universum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 (Talca) - Revista de humanidades y ciencias sociale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   HUMANIDADE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liter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isthesis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- Revista Chilena de Investigaciones Estét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lpha (Osorno) - Revista de artes, letras y filosof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tenea (Concepción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studios filológic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tudios pedagógicos (Valdivia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iteratura y lingüístic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agallani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(Punta Arenas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sykh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(Santiago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LA. Revista de lingüística teórica y aplicad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chilena de literatura 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de filosofía - 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musical chilena 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signos - Estudios de lingüística - 2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Teología y vida 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ltima década 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niversum (Talca) - Revista de humanidades y ciencias sociale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vistas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MERICAN JOURNAL OF OCCUPATIONAL THERAPY DISABILITY AND REHABILI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INTERPROFESSIONAL C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ANTS AND YOUNG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REAST CANCER RESEARCH AND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STRALIAN OCCUPATIONAL THERAPY JOU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REHABILITATION RESEARCH AND DEVELOP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ONG KONG JOURNAL OF OCCUPATIONAL THERA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NATIONAL JOURNAL OF REHABILITATION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de la ETOUCH: Relevante y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Relev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onde a las necesidades país (objetivos sanita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 la calidad de vida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nanc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b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utre la práctica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 este contexto. ¿Qué investigación debe desarrollar la ETOU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relev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infanti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promoción del desarrollo integral, trastornos hipercinéticos y de la atención, maltrato infant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Traumatismo y accidente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de la muj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climaterio y cáncer del cuello de úter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esafío derivados del envejecimiento y cambios soci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nvejecimiento, estilos de vida, aspectos relacionados con el trabaj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 cardiovascula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áncer,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es ment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depresión, esquizofren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zheimer y demenci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cohol y droga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iabet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VIH SID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uidado paliativ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Financiada: Fondos Estatales Concursables I+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tinados a Cienci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iciativa Milenio (Núcleos, Institu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Preferentemente a Tecnología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 Bicentenario (Inserción y Anill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NOVA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a Formación de 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grama Nacional de Becas de Postgrado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lemento de Tesis Doctoral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s de Posdoctorado (FONDE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ecas Doctorales del Programa MECESUP (EDUC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7080" y="6453360"/>
            <a:ext cx="26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uentes: CONICYT, Academia Chilena de Ciencia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0:11:38Z</dcterms:created>
  <dc:creator>Luis Michea</dc:creator>
  <dc:description/>
  <dc:language>en-US</dc:language>
  <cp:lastModifiedBy>Fac. de Medicina</cp:lastModifiedBy>
  <dcterms:modified xsi:type="dcterms:W3CDTF">2009-11-05T18:57:08Z</dcterms:modified>
  <cp:revision>99</cp:revision>
  <dc:subject/>
  <dc:title>Diapositiva 1</dc:title>
</cp:coreProperties>
</file>