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FAE-7810-491E-BC48-2ABD4514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F34-CE19-4AC8-887E-BFCA575E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BCA-126E-47C1-886F-169235AA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2B1-D52B-4D00-BA7C-D1F8D416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650C-2B55-4955-B537-69903296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57B-A10C-46E3-93D9-F909002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59F0-DD74-4450-9940-45E18AF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D5BD-839E-4215-815E-75770DA5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5814-1C88-43B2-85F5-08804C78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A274-EBEB-462D-AB96-54ABE33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EB65-40D6-47B9-92C6-A2260A94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C97-340F-4309-910B-4FF6DF2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B2C5-5840-4F6B-8F97-87C2849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863-771A-4C54-B094-FC31033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B416-AF71-44E9-8404-9B5DAA00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B0DA-2ECB-4A0A-88B5-EDE0CEFB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60D5-081F-4384-ACA6-319B1390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6F8-D649-49AB-8E0B-7230302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B02-7F53-4F17-B17B-AD68FA5F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D21-290A-4715-A2D3-9B07392A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E39-F343-4AA9-A841-73CB94B6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C6D-6689-49C9-B125-14D3128A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508-A931-4A45-8641-1CD623D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9EF-B885-4DA8-A6E4-F4949E7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B72-65AE-4810-AD7E-F3AE8036509E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6B37-F93A-4BAA-ACBB-7C5350518AA6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036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Comic Sans MS"/>
              </a:rPr>
              <a:t>CASOS CLINIC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24000" y="515772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EPARTAMENTOS DE PEDIATRIA Y CIRUGIA INFANTIL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a. Andrea Mena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a. Thelma Sua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. Marcelo Duchelan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a. María Angélica Pérez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0285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95640" y="1989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Comic Sans MS"/>
              </a:rPr>
              <a:t>Revisando Pediatría  para el E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237360"/>
            <a:ext cx="12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Verdana"/>
              </a:rPr>
              <a:t>GUIA ALIMENTACION LACTATE MENOR DE 2 AÑOS, MINSAL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277920"/>
            <a:ext cx="8075520" cy="588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6381720"/>
            <a:ext cx="756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Verdana"/>
              </a:rPr>
              <a:t>GUIA ALIMENTACION LACTATE MENOR DE 2 AÑOS, MINSAL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Consulta porque inició fiebre (máx. de 39 grados C axilar) hace 3 días. Mantiene buen estado general , no vomita, tiene rechazo alimentario parcial. En estos tres días de fiebre, los padres han consultado en dos oportunidades. El médico que lo atendió solicitó Rx de tórax, examen de orina y hemograma , que según la madre, “salieron normales”.Se indicacó paracetamol 100 mg vía oral si la temperatura es mayor o igual a 38,5.</a:t>
            </a:r>
            <a:r>
              <a:rPr b="0" lang="es-E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segunda consulta ayer  por temperatura axilar de 39,8 grados, pero no tenía nuevos síntomas : sin vómitos, sin diarrea, sin tos. El pediatra que lo atendió ayer y le indicó Diclofenaco 10 gotas vía oral y lo observó durante 2 horas en el servicio de urgencia, constató descenso de la fiebre y no estimó necesario repetir exámenes. Hoy el paciente amanece con estas lesiones cutáne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91280" cy="5181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Cual es su diagnóstic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Estima Ud necesario realizar algún examen de laboratorio y/o radiológico ?Porqué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En su opinión, cuál sería la Etiología posible? Agente infeccios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dre le pregunta sobre medidas de aislamiento ya que tiene otro hijo de 2 años 7 meses y quiere evitar el contagio. ¿Cuál sería su indicació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ndicaciones a la madre (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e acuerdo a las recomendaciones del manejo de la fiebre, ¿Cuál habría sido su indicación si la madre le hubiera consultado a UD. la primera vez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dre le muestra el carné de vacunas y le pregunta si alguna de ellas hubiese prevenido este cuadro. ¿Qué vacunas espera que el menor tenga ya administradas, cual es su respuesta a la mad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SO CLINICO Nº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ctante varón de 1 año 6 meses que consulta por historia de 2 días de vómitos, luego fiebre y se agregan deposiciones líquidas frecuentes, fétidas. Ud. lo evalúa en el servicio de urgencia donde objetiva en el examen físico lo siguiente: tº 37.7 ºC, pulso 102 por minuto, FR 32 por minuto, llanto con lágrimas, mucosa oral húmeda, fontanela a nivel. Su peso actual es de 11.200 igual que el último peso en su control sano de hace una semana atrás. Acude a jardín infantil donde informan que hay 2 casos simila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so clínico nº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iego, lactante de 8 meses sin antecedentes mórbidos perinatales, parto eutócic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ctualmente pesa 10.000 grs. y mide 74 cm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e indicaría probióticos,  antibióticos, antieméticos, antidiarreicos y porqué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1268280"/>
            <a:ext cx="61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uál es su diagnóstico y posible etiologí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2852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e solicitaría algún examen en el servicio de urge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78936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Que indicaciones le daría a la mamá (régimen, líquidos a tomar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Que le llama la atención en el examen físico y que acción realizaría al respecto?, que le preguntaría a la mad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841760" y="16495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uando le diría que consulte nuevame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2708280"/>
            <a:ext cx="456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visaría al jardín infant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 mismo paciente consulta por persistencia de deposiciones alteradas a los 7 días de evolución, la mamá refiere que ha cumplido con las indicaciones dadas, pero sigue con deposiciones líquidas 3  a 4 veces al día, sin vómito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l examen físico sin deshidratación, afebril, con dermatitis irritativa en zona del pañal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ómo trataría la Dermatiti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1484280"/>
            <a:ext cx="6777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ual sería la etiología probable de la evolución del cuadro diarreic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6840" y="277668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ual sería la conducta a segu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352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Cuál Es su diagnóstico Nutricional, si utiliza las nuevas curva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M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4835520" cy="48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08720" y="36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3573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21080" cy="3049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050920" y="141300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957920" cy="340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8388360" y="429264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SPUE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/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/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/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AGNOSTICO INTEGR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Qué hitos del Desarrollo psicomotor en las áreas de coordinación, motor grueso, motor fino, lenguaje y social, debiera ten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tor Grueso: sienta sin apo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tor Fino: pinza inmad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ordinación: mov. de rastril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enguaje: disílabos sin signific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cial: juegos, angustia separ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cuáles serían las indicaciones de alimentación que debe señalar a la madre?, incluya alimentación láctea y sólida, indicando medidas, porciones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 mamaderas + almuerzo inicio cena + post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amaderas de 200 o 250 cc. al 7,5% de LPF + azúcar a 2,5% + cereal al  3 - 5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49:15Z</dcterms:created>
  <dc:creator>thelmy</dc:creator>
  <dc:description/>
  <dc:language>en-US</dc:language>
  <cp:lastModifiedBy> </cp:lastModifiedBy>
  <dcterms:modified xsi:type="dcterms:W3CDTF">2008-09-05T15:57:27Z</dcterms:modified>
  <cp:revision>9</cp:revision>
  <dc:subject/>
  <dc:title>CASOS CLIN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