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6A0-348A-4554-9242-E0CA72CC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AAB-1AA0-495A-BA1F-1AC9D36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817-EBA3-495C-A549-4C49B022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C1C-408F-4892-B85C-225ADDBD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ED64-5F95-44C3-8340-850D9028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3EE8-43A2-402B-832F-D57DCD12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CB2C-9EED-4D5C-8894-B1695887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103D-E7A3-4672-9528-6AD3596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0259-4A19-4D87-BA52-C089DC07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34F2-2EB3-463C-B2D8-B5839849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77D1-42A0-4A97-894D-A7A8A2A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C96-7608-4F94-B5C3-228DDA2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276B-2E97-4BDF-9351-5E7A4F7B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C1B6-1FA5-4507-BABA-949D7B8D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F93-75AB-42C0-A570-040D5DEC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C001-820E-4F17-838B-8DB5675E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511D-6510-49DA-B888-D1750630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194-0248-426A-B262-F357DD93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601-71EF-4C57-80A3-46B15AD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388-E141-42CF-9FB2-EFE54D1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B75-2349-4F01-ADFD-AA7E2AB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AC3-5830-4704-BE8D-3DADBDBE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99B-560F-4945-8798-8BED130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B5D-6075-4EC9-BCDB-D62C138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1467-EBA1-44A5-9AC2-434C381DAAC6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95E1-0310-4052-B940-E799C2522B23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7036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Comic Sans MS"/>
              </a:rPr>
              <a:t>CASOS CLINIC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24000" y="515772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EPARTAMENTOS DE PEDIATRIA Y CIRUGIA INFANTIL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a. Andrea Mena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a. Thelma Sua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. Marcelo Duchelan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Dra. María Angélica Pérez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0285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95640" y="1989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Comic Sans MS"/>
              </a:rPr>
              <a:t>Revisando Pediatría  para el E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6237360"/>
            <a:ext cx="12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Verdana"/>
              </a:rPr>
              <a:t>GUIA ALIMENTACION LACTATE MENOR DE 2 AÑOS, MINSAL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277920"/>
            <a:ext cx="8075520" cy="588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6381720"/>
            <a:ext cx="756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Verdana"/>
              </a:rPr>
              <a:t>GUIA ALIMENTACION LACTATE MENOR DE 2 AÑOS, MINSAL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Consulta porque inició fiebre (máx. de 39 grados C axilar) hace 3 días. Mantiene buen estado general , no vomita, tiene rechazo alimentario parcial. En estos tres días de fiebre, los padres han consultado en dos oportunidades. El médico que lo atendió solicitó Rx de tórax, examen de orina y hemograma , que según la madre, “salieron normales”.Se indicacó paracetamol 100 mg vía oral si la temperatura es mayor o igual a 38,5.</a:t>
            </a:r>
            <a:r>
              <a:rPr b="0" lang="es-E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segunda consulta ayer  por temperatura axilar de 39,8 grados, pero no tenía nuevos síntomas : sin vómitos, sin diarrea, sin tos. El pediatra que lo atendió ayer y le indicó Diclofenaco 10 gotas vía oral y lo observó durante 2 horas en el servicio de urgencia, constató descenso de la fiebre y no estimó necesario repetir exámenes. Hoy el paciente amanece con estas lesiones cutáne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91280" cy="5181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Cual es su diagnóstic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Estima Ud necesario realizar algún examen de laboratorio y/o radiológico ?Porqué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En su opinión, cuál sería la Etiología posible? Agente infeccios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madre le pregunta sobre medidas de aislamiento ya que tiene otro hijo de 2 años 7 meses y quiere evitar el contagio. ¿Cuál sería su indicació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Indicaciones a la madre (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e acuerdo a las recomendaciones del manejo de la fiebre, ¿Cuál habría sido su indicación si la madre le hubiera consultado a UD. la primera vez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madre le muestra el carné de vacunas y le pregunta si alguna de ellas hubiese prevenido este cuadro. ¿Qué vacunas espera que el menor tenga ya administradas, cual es su respuesta a la mad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SO CLINICO Nº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ctante varón de 1 año 6 meses que consulta por historia de 2 días de vómitos, luego fiebre y se agregan deposiciones líquidas frecuentes, fétidas. Ud. lo evalúa en el servicio de urgencia donde objetiva en el examen físico lo siguiente: tº 37.7 ºC, pulso 102 por minuto, FR 32 por minuto, llanto con lágrimas, mucosa oral húmeda, fontanela a nivel. Su peso actual es de 11.200 igual que el último peso en su control sano de hace una semana atrás. Acude a jardín infantil donde informan que hay 2 casos simila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so clínico nº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iego, lactante de 8 meses sin antecedentes mórbidos perinatales, parto eutócic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ctualmente pesa 10.000 grs. y mide 74 cm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e indicaría probióticos,  antibióticos, antieméticos, antidiarreicos y porqué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1268280"/>
            <a:ext cx="61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uál es su diagnóstico y posible etiologí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2852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e solicitaría algún examen en el servicio de urge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78936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Que indicaciones le daría a la mamá (régimen, líquidos a tomar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Que le llama la atención en el examen físico y que acción realizaría al respecto?, que le preguntaría a la mad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841760" y="16495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uando le diría que consulte nuevamen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2708280"/>
            <a:ext cx="456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visaría al jardín infanti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 mismo paciente consulta por persistencia de deposiciones alteradas a los 7 días de evolución, la mamá refiere que ha cumplido con las indicaciones dadas, pero sigue con deposiciones líquidas 3  a 4 veces al día, sin vómito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l examen físico sin deshidratación, afebril, con dermatitis irritativa en zona del pañal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ómo trataría la Dermatiti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1484280"/>
            <a:ext cx="6777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ual sería la etiología probable de la evolución del cuadro diarreic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6840" y="277668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ual sería la conducta a segu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352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¿Cuál Es su diagnóstico Nutricional, si utiliza las nuevas curva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OM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4835520" cy="489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08720" y="36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08720" y="357336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321080" cy="3049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050920" y="1413000"/>
            <a:ext cx="730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4957920" cy="3402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H="1">
            <a:off x="8388360" y="429264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SPUE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/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/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/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AGNOSTICO INTEGR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Qué hitos del Desarrollo psicomotor en las áreas de coordinación, motor grueso, motor fino, lenguaje y social, debiera ten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tor Grueso: sienta sin apo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otor Fino: pinza inmad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Coordinación: mov. de rastril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enguaje: disílabos sin signific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ocial: juegos, angustia separ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¿cuáles serían las indicaciones de alimentación que debe señalar a la madre?, incluya alimentación láctea y sólida, indicando medidas, porciones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 mamaderas + almuerzo inicio cena + post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amaderas de 200 o 250 cc. al 7,5% de LPF + azúcar a 2,5% + cereal al  3 - 5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49:15Z</dcterms:created>
  <dc:creator>thelmy</dc:creator>
  <dc:description/>
  <dc:language>en-US</dc:language>
  <cp:lastModifiedBy> </cp:lastModifiedBy>
  <dcterms:modified xsi:type="dcterms:W3CDTF">2008-09-05T15:57:27Z</dcterms:modified>
  <cp:revision>9</cp:revision>
  <dc:subject/>
  <dc:title>CASOS CLIN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