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4E8-744E-4110-8773-1ACF69E7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17F-1B1F-4921-8390-2D6350E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B56-C35E-4BC1-A70A-E5202671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AF8-97FE-4447-816A-B48EE808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8BD-78AE-46BF-8069-89F3613C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A19-5458-4669-A5A7-66FA21BB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F46-28A4-4A3C-8621-2FEDF9AE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26A-CA5B-4D3B-845A-DE3DACF1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184-9D58-4A8E-A0D9-3187EF93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8AA-FA94-4F78-9A27-1EB7EE68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5FE-2320-4BD3-B447-AB674EE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4BF-53A7-4124-A308-803C5AC5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8215-979E-4277-B4A0-E1FED89132E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helmy</cp:lastModifiedBy>
  <dcterms:modified xsi:type="dcterms:W3CDTF">2007-11-13T18:40:24Z</dcterms:modified>
  <cp:revision>57</cp:revision>
  <dc:subject/>
  <dc:title>Presentación de PowerPoint</dc:title>
</cp:coreProperties>
</file>