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7.jpeg" ContentType="image/jpeg"/>
  <Override PartName="/ppt/media/image3.wmf" ContentType="image/x-wmf"/>
  <Override PartName="/ppt/media/image4.wmf" ContentType="image/x-wmf"/>
  <Override PartName="/ppt/media/image26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D4A9-FD1D-4CE7-A339-875EB07B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4FD4-84CA-49A8-A82F-34104B90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165-DBA5-468A-BB13-0DCAE111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7DA-8666-4C49-88CB-028D6516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B66-96D6-44D8-ADC9-01E666B9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09A9-66E7-4348-BBCF-D0B7B188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D7D-F53B-4CCC-BDB1-C9BE0EB5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D73B-D50F-40AE-BF6D-24102FA4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C141-1450-4862-B2EB-1132DCA7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0AC-F9F5-4B40-A4C5-40D4ECFD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706-25BB-4B75-A026-E76E4CBE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22D-EDDD-4FE2-8D79-F9BEEABD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7850-8AD3-4504-B2C5-747052A79B6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hyperlink" Target="http://www.minsal.cl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333360"/>
            <a:ext cx="83883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na nueva referencia internaci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e crecimiento infant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828800"/>
            <a:ext cx="1218960" cy="11620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3533760"/>
            <a:ext cx="1877760" cy="68724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819520" y="1676520"/>
            <a:ext cx="4876560" cy="4266720"/>
            <a:chOff x="2819520" y="1676520"/>
            <a:chExt cx="4876560" cy="4266720"/>
          </a:xfrm>
        </p:grpSpPr>
        <p:graphicFrame>
          <p:nvGraphicFramePr>
            <p:cNvPr id="45" name=""/>
            <p:cNvGraphicFramePr/>
            <p:nvPr/>
          </p:nvGraphicFramePr>
          <p:xfrm>
            <a:off x="2819520" y="2435760"/>
            <a:ext cx="4876560" cy="350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2435760"/>
                      <a:ext cx="4876560" cy="350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7" name=""/>
            <p:cNvGrpSpPr/>
            <p:nvPr/>
          </p:nvGrpSpPr>
          <p:grpSpPr>
            <a:xfrm>
              <a:off x="3385440" y="1676520"/>
              <a:ext cx="3812400" cy="3922560"/>
              <a:chOff x="3385440" y="1676520"/>
              <a:chExt cx="3812400" cy="3922560"/>
            </a:xfrm>
          </p:grpSpPr>
          <p:graphicFrame>
            <p:nvGraphicFramePr>
              <p:cNvPr id="48" name=""/>
              <p:cNvGraphicFramePr/>
              <p:nvPr/>
            </p:nvGraphicFramePr>
            <p:xfrm>
              <a:off x="3385440" y="4566240"/>
              <a:ext cx="1002960" cy="10328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385440" y="4566240"/>
                        <a:ext cx="1002960" cy="103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0" name=""/>
              <p:cNvGraphicFramePr/>
              <p:nvPr/>
            </p:nvGraphicFramePr>
            <p:xfrm>
              <a:off x="4082040" y="3637800"/>
              <a:ext cx="631080" cy="817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082040" y="3637800"/>
                        <a:ext cx="631080" cy="81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2" name=""/>
              <p:cNvGraphicFramePr/>
              <p:nvPr/>
            </p:nvGraphicFramePr>
            <p:xfrm>
              <a:off x="5043600" y="3092760"/>
              <a:ext cx="499680" cy="1362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3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043600" y="3092760"/>
                        <a:ext cx="499680" cy="136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4" name=""/>
              <p:cNvGraphicFramePr/>
              <p:nvPr/>
            </p:nvGraphicFramePr>
            <p:xfrm>
              <a:off x="5894640" y="2874960"/>
              <a:ext cx="511560" cy="20703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894640" y="2874960"/>
                        <a:ext cx="511560" cy="207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6" name=""/>
              <p:cNvGraphicFramePr/>
              <p:nvPr/>
            </p:nvGraphicFramePr>
            <p:xfrm>
              <a:off x="6520320" y="1676520"/>
              <a:ext cx="677520" cy="15105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520320" y="1676520"/>
                        <a:ext cx="677520" cy="1510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228600" y="933480"/>
            <a:ext cx="8763120" cy="5513400"/>
            <a:chOff x="228600" y="933480"/>
            <a:chExt cx="8763120" cy="55134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228600" y="933480"/>
              <a:ext cx="8763120" cy="55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280" y="1147320"/>
              <a:ext cx="8465400" cy="6728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Estudio multicéntrico de la OMS sobre el patrón de crecimiento (EMPC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27280" y="0"/>
            <a:ext cx="4105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Times New Roman"/>
              </a:rPr>
              <a:t>¿Dónde ?</a:t>
            </a:r>
            <a:r>
              <a:rPr b="1" lang="es-ES_tradnl" sz="40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830240"/>
            <a:ext cx="8381880" cy="37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Ausencia de condiciones de salud, ambientales o económicas que limiten el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Madre dispuesta a seguir las recomendaciones de alimentación según 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Recién nacido a tér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Embarazo ún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Ausencia de morbilidad perinatal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Madre no fumadora (ni antes ni después del par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89000"/>
            <a:ext cx="91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4400" spc="-1" strike="noStrike">
                <a:solidFill>
                  <a:srgbClr val="000000"/>
                </a:solidFill>
                <a:latin typeface="Times New Roman"/>
              </a:rPr>
              <a:t>¿Quienes? Criterios de sel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4400" spc="-1" strike="noStrike">
                <a:solidFill>
                  <a:srgbClr val="000000"/>
                </a:solidFill>
                <a:latin typeface="Times New Roman"/>
              </a:rPr>
              <a:t>de las famil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33520" y="6095880"/>
            <a:ext cx="8912160" cy="504720"/>
            <a:chOff x="533520" y="6095880"/>
            <a:chExt cx="8912160" cy="504720"/>
          </a:xfrm>
        </p:grpSpPr>
        <p:sp>
          <p:nvSpPr>
            <p:cNvPr id="111" name=""/>
            <p:cNvSpPr/>
            <p:nvPr/>
          </p:nvSpPr>
          <p:spPr>
            <a:xfrm>
              <a:off x="533520" y="6095880"/>
              <a:ext cx="5079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62000" y="6167520"/>
              <a:ext cx="838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25760" y="2819520"/>
            <a:ext cx="596088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13320" y="2743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21400" y="2743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2576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8664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66840" y="29718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9040" y="2971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2971800"/>
            <a:ext cx="12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41680" y="2209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Longitudinal (0-24 m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73520" y="4724280"/>
            <a:ext cx="29131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403848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versal (18-71 m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7352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86640" y="4648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8664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20640"/>
            <a:ext cx="93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ff"/>
                </a:solidFill>
                <a:latin typeface="Times New Roman"/>
              </a:rPr>
              <a:t>Diseño del estudio</a:t>
            </a:r>
            <a:r>
              <a:rPr b="1" lang="en-GB" sz="4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" y="5638680"/>
            <a:ext cx="8378640" cy="892080"/>
            <a:chOff x="228600" y="5638680"/>
            <a:chExt cx="8378640" cy="892080"/>
          </a:xfrm>
        </p:grpSpPr>
        <p:sp>
          <p:nvSpPr>
            <p:cNvPr id="129" name=""/>
            <p:cNvSpPr/>
            <p:nvPr/>
          </p:nvSpPr>
          <p:spPr>
            <a:xfrm>
              <a:off x="228600" y="5638680"/>
              <a:ext cx="4773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5400" y="5710320"/>
              <a:ext cx="7881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studio multicéntrico de la OMS sobre el patrón de crecimien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1431720" cy="1728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475000" y="4618080"/>
            <a:ext cx="1592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9000"/>
            <a:ext cx="91440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alendario de med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tropométric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8000" y="1916280"/>
          <a:ext cx="8170560" cy="4136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" y="1916280"/>
                    <a:ext cx="8170560" cy="41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" name=""/>
          <p:cNvGrpSpPr/>
          <p:nvPr/>
        </p:nvGrpSpPr>
        <p:grpSpPr>
          <a:xfrm>
            <a:off x="457200" y="5867280"/>
            <a:ext cx="7921440" cy="504720"/>
            <a:chOff x="457200" y="5867280"/>
            <a:chExt cx="7921440" cy="504720"/>
          </a:xfrm>
        </p:grpSpPr>
        <p:sp>
          <p:nvSpPr>
            <p:cNvPr id="137" name=""/>
            <p:cNvSpPr/>
            <p:nvPr/>
          </p:nvSpPr>
          <p:spPr>
            <a:xfrm>
              <a:off x="457200" y="586728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6640" y="593892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1828800"/>
            <a:ext cx="8839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Muestra total de 8.440 niños combinan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cohortes de </a:t>
            </a:r>
            <a:r>
              <a:rPr b="1" lang="es-VE" sz="32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 300 recién nacidos por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1400 niños de 18 a 71 meses por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Tamaño mínimo de la muestra para elaborar el patrón de crecimiento: 400 de ambos sex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9360"/>
            <a:ext cx="1028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amaño de la mues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920" y="5943600"/>
            <a:ext cx="9568800" cy="504720"/>
            <a:chOff x="304920" y="5943600"/>
            <a:chExt cx="9568800" cy="504720"/>
          </a:xfrm>
        </p:grpSpPr>
        <p:sp>
          <p:nvSpPr>
            <p:cNvPr id="142" name=""/>
            <p:cNvSpPr/>
            <p:nvPr/>
          </p:nvSpPr>
          <p:spPr>
            <a:xfrm>
              <a:off x="304920" y="5943600"/>
              <a:ext cx="54540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72280" y="6015240"/>
              <a:ext cx="9001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4800" spc="-1" strike="noStrike">
                <a:solidFill>
                  <a:srgbClr val="000000"/>
                </a:solidFill>
                <a:latin typeface="Times New Roman"/>
              </a:rPr>
              <a:t>Evaluación del desarrollo mo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4960" y="2057400"/>
            <a:ext cx="369108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PA" sz="3200" spc="-1" strike="noStrike">
                <a:solidFill>
                  <a:srgbClr val="333399"/>
                </a:solidFill>
                <a:latin typeface="Times New Roman"/>
              </a:rPr>
              <a:t>Seis hitos motores gruesos desde los 4 hasta los </a:t>
            </a:r>
            <a:r>
              <a:rPr b="1" lang="es-PA" sz="32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1" lang="es-PA" sz="3200" spc="-1" strike="noStrike">
                <a:solidFill>
                  <a:srgbClr val="333399"/>
                </a:solidFill>
                <a:latin typeface="Times New Roman"/>
              </a:rPr>
              <a:t> 18 meses de eda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22280" y="1790640"/>
            <a:ext cx="3465720" cy="3799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87480" y="5715000"/>
            <a:ext cx="7343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01640" y="6134040"/>
            <a:ext cx="7921440" cy="504720"/>
            <a:chOff x="701640" y="6134040"/>
            <a:chExt cx="7921440" cy="504720"/>
          </a:xfrm>
        </p:grpSpPr>
        <p:sp>
          <p:nvSpPr>
            <p:cNvPr id="149" name=""/>
            <p:cNvSpPr/>
            <p:nvPr/>
          </p:nvSpPr>
          <p:spPr>
            <a:xfrm>
              <a:off x="701640" y="613404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71080" y="620568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514440" y="5257800"/>
          <a:ext cx="936360" cy="12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440" y="5257800"/>
                    <a:ext cx="93636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523880" y="5105520"/>
          <a:ext cx="1752840" cy="104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5105520"/>
                    <a:ext cx="17528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276720" y="4724280"/>
          <a:ext cx="1041120" cy="142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6720" y="4724280"/>
                    <a:ext cx="104112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267080" y="4495680"/>
          <a:ext cx="1501920" cy="1441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67080" y="4495680"/>
                    <a:ext cx="150192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715000" y="4114800"/>
          <a:ext cx="1158840" cy="1731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15000" y="4114800"/>
                    <a:ext cx="115884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7086600" y="3733920"/>
          <a:ext cx="1192320" cy="207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86600" y="3733920"/>
                    <a:ext cx="119232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0" y="152280"/>
            <a:ext cx="9144000" cy="13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aluación del desarrollo mo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8098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ntarse sin apo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29718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atear sobre manos y  rodi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evantarse si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23623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aminar si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362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star de pie s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1873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aminar so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06668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Pruebas pilot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Formularios previamente estandarizados y prob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Guías detalladas para los entrevist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</a:t>
            </a: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lección y capacitación cuidadosa del perso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Visitas regulares a los sitios del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Capacitación por expertos internacional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standarización: confiabilidad intraobservador e interobserv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quipo de medición de diseño especial, calibraciones frecu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Mediciones independientes por dos observadores estand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Repetición por teléfono del 10% de las entrevis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Food and Nutrition Bulletin 2004; 25: supplemen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01640" y="6276960"/>
            <a:ext cx="7921440" cy="504720"/>
            <a:chOff x="701640" y="6276960"/>
            <a:chExt cx="7921440" cy="504720"/>
          </a:xfrm>
        </p:grpSpPr>
        <p:sp>
          <p:nvSpPr>
            <p:cNvPr id="173" name=""/>
            <p:cNvSpPr/>
            <p:nvPr/>
          </p:nvSpPr>
          <p:spPr>
            <a:xfrm>
              <a:off x="701640" y="627696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71080" y="634860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752480"/>
            <a:ext cx="868680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Enfoque prescriptivo que reconoce la necesidad de n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Lactantes alimentados con lactancia natural como modelo norm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Muestra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Datos de referencia sobre la velocidad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Mejores datos de referencia para evaluar obe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Vínculo entre el crecimiento físico y el desarrollo motor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60280"/>
            <a:ext cx="91440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Nueva referencia de crec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infantil: aspectos innova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89120" y="6093000"/>
            <a:ext cx="8912160" cy="504720"/>
            <a:chOff x="789120" y="6093000"/>
            <a:chExt cx="8912160" cy="504720"/>
          </a:xfrm>
        </p:grpSpPr>
        <p:sp>
          <p:nvSpPr>
            <p:cNvPr id="178" name=""/>
            <p:cNvSpPr/>
            <p:nvPr/>
          </p:nvSpPr>
          <p:spPr>
            <a:xfrm>
              <a:off x="789120" y="6093000"/>
              <a:ext cx="5079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17600" y="6164640"/>
              <a:ext cx="838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45720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so-edad &lt; –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100.000 niños de encuestas de LM y JUNJ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98480" y="571680"/>
            <a:ext cx="91220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320" y="266760"/>
            <a:ext cx="91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Referencias para el crecimiento infantil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5800" y="5816520"/>
            <a:ext cx="8889480" cy="1038600"/>
            <a:chOff x="685800" y="5816520"/>
            <a:chExt cx="8889480" cy="1038600"/>
          </a:xfrm>
        </p:grpSpPr>
        <p:sp>
          <p:nvSpPr>
            <p:cNvPr id="61" name=""/>
            <p:cNvSpPr/>
            <p:nvPr/>
          </p:nvSpPr>
          <p:spPr>
            <a:xfrm>
              <a:off x="685800" y="5816520"/>
              <a:ext cx="506520" cy="6811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12840" y="5913000"/>
              <a:ext cx="83624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800" spc="-1" strike="noStrike">
                  <a:solidFill>
                    <a:srgbClr val="333399"/>
                  </a:solidFill>
                  <a:latin typeface="Times New Roman"/>
                </a:rPr>
                <a:t>Estudio multicéntrico de la OMS sobre el patrón de crecimiento</a:t>
              </a:r>
              <a:r>
                <a:rPr b="0" lang="en-GB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24000" y="457200"/>
            <a:ext cx="7893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29240" y="5307120"/>
            <a:ext cx="289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523880"/>
            <a:ext cx="8058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Desde 1993 se usa en Chile el National Center for Health Statistics de EEUU de 197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sta referencia fue recomendadas por la OMS para uso internacional (NCHS/O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l 2000 hubo una nueva propuesta del NC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xisten diferentes referencias nacionales o internacion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alla-edad &lt; –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666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so-Talla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&gt;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990720"/>
            <a:ext cx="8145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laboración de las referencias de crecimiento y desarro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valuación sobre el terreno de las referencias proviso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Desarrollo de un </a:t>
            </a:r>
            <a:r>
              <a:rPr b="0" i="1" lang="es-PE" sz="2400" spc="-1" strike="noStrike">
                <a:solidFill>
                  <a:srgbClr val="333399"/>
                </a:solidFill>
                <a:latin typeface="Times New Roman"/>
              </a:rPr>
              <a:t>software </a:t>
            </a: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para facilitar la utilización del nuevo patrón a nivel clínico y de salud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Módulos de capacitación para orientar su uso aprop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Revisión de intervenciones para prevenir/tratar las alteraciones del crecimiento infantil (por exceso y por def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laborar una estrategia de aplicación del nuevo patrón a nivel mundial y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5867280"/>
            <a:ext cx="31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OMS, Departamento de Nutr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¿Próximos pasos? (2005-20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838080"/>
            <a:ext cx="84502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NCHS o la nueva referencia internacion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ién dec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efectos produce en la prevalencia de desnutrición u obesida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En cuanto debe cambiar la educación sobre alimenta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Cómo y a quién capacit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material de apoyo educativo se requie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estrategia es más adecuada para la aplicación de la nueva referencia a nivel nac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Norma o referenci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Cómo evaluar a los niños con lactancia artifi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¿Desafíos a nivel de cada país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Temas de disc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P/T vs IMC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Grupo de 5 a 6 año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 st vs percenti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Gráficas o tabla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ormativa especialmente en el grupo con LME y con lactancia artificial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Capacitación equipos de salud, pediatras todos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ifusión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Otro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52800" y="762120"/>
            <a:ext cx="3038400" cy="4495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96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6629400" y="457200"/>
            <a:ext cx="2152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RACIA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310320" y="5638680"/>
            <a:ext cx="2393640" cy="825480"/>
          </a:xfrm>
          <a:prstGeom prst="rect">
            <a:avLst/>
          </a:pr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minsal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80"/>
                </a:solidFill>
                <a:latin typeface="Times New Roman"/>
              </a:rPr>
              <a:t>sección nut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590920" y="1981080"/>
          <a:ext cx="4086000" cy="394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981080"/>
                    <a:ext cx="4086000" cy="39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79320" y="6093000"/>
            <a:ext cx="9607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Organización Mundial de la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22600" y="6093000"/>
            <a:ext cx="609480" cy="5806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04920"/>
            <a:ext cx="91440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¿Por qué un nuevo patrón internacion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de crecimiento infantil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98480" y="571680"/>
            <a:ext cx="91220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320" y="266760"/>
            <a:ext cx="912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Características de la referenc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NCHS para niños de 0 a 36 mese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4160" y="6176880"/>
            <a:ext cx="8889480" cy="680760"/>
            <a:chOff x="254160" y="6176880"/>
            <a:chExt cx="8889480" cy="680760"/>
          </a:xfrm>
        </p:grpSpPr>
        <p:sp>
          <p:nvSpPr>
            <p:cNvPr id="74" name=""/>
            <p:cNvSpPr/>
            <p:nvPr/>
          </p:nvSpPr>
          <p:spPr>
            <a:xfrm>
              <a:off x="254160" y="6176880"/>
              <a:ext cx="506520" cy="68076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1200" y="6273360"/>
              <a:ext cx="8362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400" spc="-1" strike="noStrike">
                  <a:solidFill>
                    <a:srgbClr val="333399"/>
                  </a:solidFill>
                  <a:latin typeface="Times New Roman"/>
                </a:rPr>
                <a:t>Estudio multicéntrico de la OMS sobre el patrón de crecimiento</a:t>
              </a: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24000" y="457200"/>
            <a:ext cx="7893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29240" y="5307120"/>
            <a:ext cx="289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523880"/>
            <a:ext cx="8057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sada en datos longitudinales previos a 19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iños de ascendencia europea, residentes en Oh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imentados fundamentalmente con fórmu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ediciones cada 3 m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 incluye composición cor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l método analítico disponible era inadecuado para describir la variabilidad del crecimiento norm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7760" y="1773360"/>
            <a:ext cx="87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La referencia NCHS/OMS es inapropiada para evaluar el crecimiento de lactantes sanos, al menos hasta los 12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s necesario un nuevo patrón de crecimien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La nueva referencia debe reflejar como 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deberían crecer los niños en condiciones ideales en lugar de describir cómo crecen en un entorno o momento específ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3352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Conclusiones del Grupo de Trabajo OMS sobre crecimiento infant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5800" y="6019920"/>
            <a:ext cx="7921440" cy="504720"/>
            <a:chOff x="685800" y="6019920"/>
            <a:chExt cx="7921440" cy="504720"/>
          </a:xfrm>
        </p:grpSpPr>
        <p:sp>
          <p:nvSpPr>
            <p:cNvPr id="82" name=""/>
            <p:cNvSpPr/>
            <p:nvPr/>
          </p:nvSpPr>
          <p:spPr>
            <a:xfrm>
              <a:off x="685800" y="601992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55240" y="609156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58760" y="1625760"/>
          <a:ext cx="6721560" cy="419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8760" y="1625760"/>
                    <a:ext cx="672156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858960" y="5734080"/>
            <a:ext cx="8285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Fuente: de Onis &amp; Onyango. The CDC 2000 growth charts and the growth of breastfed inf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Acta Paediatrica 2003;92:413-4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Peso-edad en lactantes sanos amamantados en relación a NCHS  (puntaje Z).</a:t>
            </a: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530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cc00"/>
                </a:solidFill>
                <a:latin typeface="Arial"/>
              </a:rPr>
              <a:t>Me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76240" y="1162080"/>
            <a:ext cx="7391520" cy="4257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5638680"/>
            <a:ext cx="10210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Fuente: Evaluación del crecimiento del lactante, OMS,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De Onis &amp; Onyango. The CDC 2000 growth charts and the growth of breastfed inf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Acta Paediatrica 2003;92:413-4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ntaje z promedio en niños amamantados respecto a NCH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49360"/>
            <a:ext cx="914400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imes New Roman"/>
              </a:rPr>
              <a:t>Una curva de crecimient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imes New Roman"/>
              </a:rPr>
              <a:t>para el siglo XXI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708280"/>
            <a:ext cx="91440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333399"/>
                </a:solidFill>
                <a:latin typeface="Times New Roman"/>
              </a:rPr>
              <a:t>Estudio multicéntrico de l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333399"/>
                </a:solidFill>
                <a:latin typeface="Times New Roman"/>
              </a:rPr>
              <a:t>OMS sobre el patrón de crecimient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00640"/>
            <a:ext cx="91440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Departamento de Nutri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Organización Mundial de la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Ginebra, Su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680" y="1700280"/>
            <a:ext cx="1218960" cy="11620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295280"/>
            <a:ext cx="71614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Nutrición óptima</a:t>
            </a:r>
            <a:r>
              <a:rPr b="0" lang="es-UY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Lactantes amaman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limentación complementaria aprop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Entorno ópt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usencia de contaminación micro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usencia de consumo de tab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tención de salud óp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Inmun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tención pediátrica normal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04160" y="3201840"/>
            <a:ext cx="21398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recimiento ópt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000000"/>
                </a:solidFill>
                <a:latin typeface="Times New Roman"/>
              </a:rPr>
              <a:t>Enfoque prescrip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01640" y="5950080"/>
            <a:ext cx="7921440" cy="504720"/>
            <a:chOff x="701640" y="5950080"/>
            <a:chExt cx="7921440" cy="504720"/>
          </a:xfrm>
        </p:grpSpPr>
        <p:sp>
          <p:nvSpPr>
            <p:cNvPr id="101" name=""/>
            <p:cNvSpPr/>
            <p:nvPr/>
          </p:nvSpPr>
          <p:spPr>
            <a:xfrm>
              <a:off x="701640" y="595008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71080" y="602172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516720" y="1700280"/>
            <a:ext cx="1066680" cy="4038480"/>
          </a:xfrm>
          <a:custGeom>
            <a:avLst/>
            <a:gdLst>
              <a:gd name="textAreaLeft" fmla="*/ 0 w 1066680"/>
              <a:gd name="textAreaRight" fmla="*/ 385200 w 106668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4:47:28Z</dcterms:created>
  <dc:creator>G4</dc:creator>
  <dc:description/>
  <dc:language>en-US</dc:language>
  <cp:lastModifiedBy>thelmy</cp:lastModifiedBy>
  <dcterms:modified xsi:type="dcterms:W3CDTF">2007-11-13T18:40:24Z</dcterms:modified>
  <cp:revision>57</cp:revision>
  <dc:subject/>
  <dc:title>Presentación de PowerPoint</dc:title>
</cp:coreProperties>
</file>