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B77-F2AD-4744-9341-E7C1F597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20E-B0F0-4573-8C69-B393112D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67F-048E-4E81-AA08-8C631663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94B-B6F2-4883-9FA8-5927B96E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79E-E9C5-48D6-8E9C-AE524CC5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B4A-092C-45C9-B968-D389CF0B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07C-7A36-424F-89D2-80A7E2A0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8B9-48F4-4880-9409-92E2D152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A72-17EE-4EE7-9328-235A2AD6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379-B24B-40BA-8374-6CC60F82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B17-0193-4012-9CE4-644B82D2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4B5-E8EF-4A3B-86DB-187C76D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9E5C-403A-4B30-BBE8-8074FB53469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helmy</cp:lastModifiedBy>
  <dcterms:modified xsi:type="dcterms:W3CDTF">2007-11-13T18:40:24Z</dcterms:modified>
  <cp:revision>57</cp:revision>
  <dc:subject/>
  <dc:title>Presentación de PowerPoint</dc:title>
</cp:coreProperties>
</file>