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67E-46A2-4C22-829D-1B1D3A0F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AB8-669A-4ED6-AC1D-F42D2020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E97-9693-42E7-A39C-3B4E67E1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167-3018-403A-BBD7-083B9AE9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3A79-D805-4D0C-AE3B-8714BE5B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8CA8-F05B-4B51-97EE-07D36EC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9F5C-71B1-44BA-A1DB-97ACAF7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E72-0058-494D-90D7-82E9B1A6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C0E6-8DF2-4E9A-8FC1-5622931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808-D75D-4FA9-B902-35A9D9F5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22D-3B77-4F5D-B469-DA73C9B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DC5-F07B-4570-AEBC-7BB9318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19F-9A9E-4C67-AE5E-7436130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38BE-AD65-45D0-90B6-345E1B2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F24-0DDD-4880-A768-88C66CB5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8FE5-2BEE-4EA5-BE3D-3D9A1492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0042-2E57-4D4D-ADB3-F4995C9E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B10-8DB4-44C3-8433-080A9C64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A74-DB99-413D-AB68-9B1168D7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131-06C8-463E-878E-21E7CB97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781-7354-40DE-980F-29527A9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8DD-C7B4-4E76-BF75-9E70585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1CD-5DBF-4D19-A077-ADA5C6E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CA6-D628-44EC-92C1-3EF3DFBD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BB7-7FAD-40A8-8A14-AAB42820A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B059-F023-4832-8ABA-64A07A77B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geocities.com/Paris/Villa/9212/images/tulipan.JPG&amp;imgrefurl=http://www.geocities.com/Paris/Villa/9212/amor.htm&amp;h=371&amp;w=254&amp;sz=6&amp;tbnid=4fLejln23gwJ:&amp;tbnh=116&amp;tbnw=80&amp;start=16&amp;prev=/images%3Fq%3Dtulipan%26hl%3Des%26lr%3D%26ie%3DUTF-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3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. Viviana Toro Iba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Nacional: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7 -&gt;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K -&gt;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dos dígitos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 der 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18 17 16 15 14 13 12 11 | 21 22 23 24 25 26 27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28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der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48 47 46 45 44 43 42 41 | 31 32 33 34 35 36 37 38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55 54 53 52 51 | 61 62 63 64 6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85 84 83 82 81 | 71 72 73 74 7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Zigmondy – Palmer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8 7 6 5 4 3 2 1 | 1 2 3 4 5 6 7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8 7 6 5 4 3 2 1 | 1 2 3 4 5 6 7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as dentaria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sial-di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stibular-palatino/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clusal/inci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20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49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ación Inter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mara y con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am%20y%20con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681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figuración externa: 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ment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ón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úsp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bordes mar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r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r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nales rad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spacio interrra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en apical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u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21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029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217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4800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22"/>
          <p:cNvPicPr/>
          <p:nvPr/>
        </p:nvPicPr>
        <p:blipFill>
          <a:blip r:embed="rId1"/>
          <a:stretch/>
        </p:blipFill>
        <p:spPr>
          <a:xfrm>
            <a:off x="2556000" y="2781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cs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ilst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73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cst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4956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Órgan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Arc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Denta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iente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968560" cy="2343240"/>
          </a:xfrm>
          <a:prstGeom prst="rect">
            <a:avLst/>
          </a:prstGeom>
          <a:ln w="0">
            <a:noFill/>
          </a:ln>
        </p:spPr>
      </p:pic>
      <p:pic>
        <p:nvPicPr>
          <p:cNvPr id="105" name="arcada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67368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sistema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4692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mst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594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2mst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0962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icit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lit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cit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49568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mit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5791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2mit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43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227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57913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229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5715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Funciones del Sistema Dentario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ción del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ia médico 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23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586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235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237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241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4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244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5867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245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702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23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9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231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234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79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237a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Los dientes: generalidad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es part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rona, cuello y 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tro tej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malte, denti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mento y pul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8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353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239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24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8276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248a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15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48b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068640"/>
            <a:ext cx="1357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Los dientes: generalidad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Unidad funcio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ODONTÓN=ÓRGANO DENTAL+PERIOD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smalte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inserción: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na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ig. period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ulpa dentari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hueso alve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protec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c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189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492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Características generale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ísticas fisicoquí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rx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02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característica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ifi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e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nisogn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leu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salid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tempo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20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definitiva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PM + 6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la 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&lt;-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 &lt;-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37Z</dcterms:created>
  <dc:creator>LENISSET TORO</dc:creator>
  <dc:description/>
  <dc:language>en-US</dc:language>
  <cp:lastModifiedBy>Facultad de Medicina</cp:lastModifiedBy>
  <dcterms:modified xsi:type="dcterms:W3CDTF">2007-10-23T14:43:43Z</dcterms:modified>
  <cp:revision>14</cp:revision>
  <dc:subject/>
  <dc:title>SISTEMA DENTARIO</dc:title>
</cp:coreProperties>
</file>