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458A-E618-4D11-868E-F7C15057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C629-C0C7-40A4-9BAB-941E16BF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56AA-D116-42F2-A2A8-58F742CB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F245-D5B8-44B1-9A35-DC5FF487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41E5-DC1E-4F28-BD15-4DE4BA57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DEB0-2FE0-4D1C-B24B-2DDA64B1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05E2-382F-432D-A248-8B4A87CE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168F-0532-4607-97EE-5D520E0E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5E03-6D91-4814-9414-EE377E44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3503-A446-48E2-ACFD-1583632F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B297-F014-4738-8738-1B85258B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7AF1-C8C7-4ECB-BB8C-62A0A310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0FB0-DCE4-4509-A729-89B4E3E8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A785-F143-4492-A0C7-388F7A5C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1FBE-D36A-4E04-99CF-3416E518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BF9A-C680-447B-9D30-3D9062A3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9E32-518B-468D-BF0D-85DAB7BD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78E-5EE3-491E-9520-95E4923B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53A2-C40A-4E14-898A-4168291C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71B8-21D0-42D2-96E4-75D7DB5B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AC5-4620-4DA5-8B89-3E03D1EF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8E25-7849-417A-B260-E8E17EFC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D8E-6C25-4220-98F2-FF9B8210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2E0E-8294-4C9E-A955-383D477D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D17A-B030-4C34-90A4-B51E8E6462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873A-8C56-4941-B9BE-39A46BC719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geocities.com/Paris/Villa/9212/images/tulipan.JPG&amp;imgrefurl=http://www.geocities.com/Paris/Villa/9212/amor.htm&amp;h=371&amp;w=254&amp;sz=6&amp;tbnid=4fLejln23gwJ:&amp;tbnh=116&amp;tbnw=80&amp;start=16&amp;prev=/images%3Fq%3Dtulipan%26hl%3Des%26lr%3D%26ie%3DUTF-8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08908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ISTEMA DENTARI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123640" y="386028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. Viviana Toro Iba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entición humana: fórmula y nomenclatur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menclatur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Sistema Nacional: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Definitiv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erior (der a izq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1 -&gt; 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 Inferior  (der a izq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17 -&gt; 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Tempo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erior (der a izq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A -&gt; 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 Inferior  (der a izq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K -&gt;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entición humana: fórmula y nomenclatur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menclatur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Sistema de dos dígitos: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Permanente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M.S  der     </a:t>
            </a:r>
            <a:r>
              <a:rPr b="1" lang="es-ES" sz="26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18 17 16 15 14 13 12 11 | 21 22 23 24 25 26 27</a:t>
            </a:r>
            <a:r>
              <a:rPr b="1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28   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izq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M.I  der</a:t>
            </a:r>
            <a:r>
              <a:rPr b="1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48 47 46 45 44 43 42 41 | 31 32 33 34 35 36 37 38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izq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Temporal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M.S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der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1" lang="es-ES" sz="26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55 54 53 52 51 | 61 62 63 64 65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izq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M.I   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der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1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85 84 83 82 81 | 71 72 73 74 75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izq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entición humana: fórmula y nomenclatur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mencla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Sistema Zigmondy – Palmer: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Permane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   der 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8 7 6 5 4 3 2 1 | 1 2 3 4 5 6 7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8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iz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Inf    der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8 7 6 5 4 3 2 1 | 1 2 3 4 5 6 7 8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iz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Tempor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   de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e d c b a | a b c d e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iz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Inf    de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e d c b a | a b c d e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iz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Morfología Dentaria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aras dentarias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esial-dis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estibular-palatino/ling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clusal/incis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202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3498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Morfología Dentari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figuración Intern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ámara y conduc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cam%20y%20con" descr=""/>
          <p:cNvPicPr/>
          <p:nvPr/>
        </p:nvPicPr>
        <p:blipFill>
          <a:blip r:embed="rId1"/>
          <a:stretch/>
        </p:blipFill>
        <p:spPr>
          <a:xfrm>
            <a:off x="3809880" y="2819520"/>
            <a:ext cx="368136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Morfología Dentari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figuración externa: 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emento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quitectónic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úsp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Sur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Fo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epre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Rebordes margi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ris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res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anales rad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spacio interrradic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Foramen apical 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forami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ue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212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5029200" cy="5181480"/>
          </a:xfrm>
          <a:prstGeom prst="rect">
            <a:avLst/>
          </a:prstGeom>
          <a:ln w="0">
            <a:noFill/>
          </a:ln>
        </p:spPr>
      </p:pic>
      <p:pic>
        <p:nvPicPr>
          <p:cNvPr id="139" name="217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48006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22"/>
          <p:cNvPicPr/>
          <p:nvPr/>
        </p:nvPicPr>
        <p:blipFill>
          <a:blip r:embed="rId1"/>
          <a:stretch/>
        </p:blipFill>
        <p:spPr>
          <a:xfrm>
            <a:off x="2556000" y="278136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SIVO CENTRAL SUP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icst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3949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SIVO LATERAL SUP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ilst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3733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INO SUP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cst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449568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istema Dentari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Órgano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Arc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st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nt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Dentari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nt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256536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256536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iente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2968560" cy="2343240"/>
          </a:xfrm>
          <a:prstGeom prst="rect">
            <a:avLst/>
          </a:prstGeom>
          <a:ln w="0">
            <a:noFill/>
          </a:ln>
        </p:spPr>
      </p:pic>
      <p:pic>
        <p:nvPicPr>
          <p:cNvPr id="105" name="arcada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6673680" cy="1676520"/>
          </a:xfrm>
          <a:prstGeom prst="rect">
            <a:avLst/>
          </a:prstGeom>
          <a:ln w="0">
            <a:noFill/>
          </a:ln>
        </p:spPr>
      </p:pic>
      <p:pic>
        <p:nvPicPr>
          <p:cNvPr id="106" name="sistema" descr=""/>
          <p:cNvPicPr/>
          <p:nvPr/>
        </p:nvPicPr>
        <p:blipFill>
          <a:blip r:embed="rId3"/>
          <a:stretch/>
        </p:blipFill>
        <p:spPr>
          <a:xfrm>
            <a:off x="2133720" y="3276720"/>
            <a:ext cx="46926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1mst" descr=""/>
          <p:cNvPicPr/>
          <p:nvPr/>
        </p:nvPicPr>
        <p:blipFill>
          <a:blip r:embed="rId1"/>
          <a:stretch/>
        </p:blipFill>
        <p:spPr>
          <a:xfrm>
            <a:off x="2971800" y="2438280"/>
            <a:ext cx="59436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2mst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609624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SIVO CENTRAL INF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icit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267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SIVO LATERAL INF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ilit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1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INO INF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cit" descr=""/>
          <p:cNvPicPr/>
          <p:nvPr/>
        </p:nvPicPr>
        <p:blipFill>
          <a:blip r:embed="rId1"/>
          <a:stretch/>
        </p:blipFill>
        <p:spPr>
          <a:xfrm>
            <a:off x="4114800" y="1981080"/>
            <a:ext cx="449568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1mit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579132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2mit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59436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208908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CISIVO CENTRAL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227" descr=""/>
          <p:cNvPicPr/>
          <p:nvPr/>
        </p:nvPicPr>
        <p:blipFill>
          <a:blip r:embed="rId1"/>
          <a:stretch/>
        </p:blipFill>
        <p:spPr>
          <a:xfrm>
            <a:off x="2895480" y="3048120"/>
            <a:ext cx="57913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CISIVO LATERAL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229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571500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Funciones del Sistema Dentario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t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n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é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rvación del sist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cia médico le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NINO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232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5867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PRE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235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5790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PRE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237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586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241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5495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244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58672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RCER 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245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57024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CISIVO CENTRAL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230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57909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CISIVO LATERAL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231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5638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NINO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234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57913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PRE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237a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15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b7"/>
                </a:solidFill>
                <a:uFillTx/>
                <a:latin typeface="Arial Black"/>
                <a:ea typeface="Times New Roman"/>
              </a:rPr>
              <a:t>Los dientes: generalidade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res part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rona, cuello y 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uatro tejid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malte, dentin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emento y pulp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189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353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PRE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239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5715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246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582768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248a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57150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RCER 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248b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5790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3068640"/>
            <a:ext cx="13572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Los dientes: generalidad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Unidad funcion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ODONTÓN=ÓRGANO DENTAL+PERIODO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Esmalte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De inserción: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Dentina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lig. period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Pulpa dentaria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ce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Cemento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hueso alve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De protec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enc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189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24922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Características generale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mañ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cterísticas fisicoquím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rx" descr=""/>
          <p:cNvPicPr/>
          <p:nvPr/>
        </p:nvPicPr>
        <p:blipFill>
          <a:blip r:embed="rId1"/>
          <a:stretch/>
        </p:blipFill>
        <p:spPr>
          <a:xfrm>
            <a:off x="2895480" y="4343400"/>
            <a:ext cx="30276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Dentición humana: característica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Bifiodo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Heterodo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nisogna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leurodo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salidodo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Dentición humana: fórmula y nomenclatur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órm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entición temporal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20 piezas dentar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4 I + 2 C + 4 M -&gt; por arc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entición definitiva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32 piezas dentar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4 I + 2 C + 4 PM + 6 M -&gt; por arc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entición humana: fórmula y nomenclatur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menclatur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Sistema de la AD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Definitiv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erior (der a izq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1 -&gt; 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 Inferior   (izq a der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32 &lt;- 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Tempo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erior (der a izq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A -&gt; 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 Inferior   (izq a der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T &lt;-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21:49:37Z</dcterms:created>
  <dc:creator>LENISSET TORO</dc:creator>
  <dc:description/>
  <dc:language>en-US</dc:language>
  <cp:lastModifiedBy>Facultad de Medicina</cp:lastModifiedBy>
  <dcterms:modified xsi:type="dcterms:W3CDTF">2007-10-23T14:43:43Z</dcterms:modified>
  <cp:revision>14</cp:revision>
  <dc:subject/>
  <dc:title>SISTEMA DENTARIO</dc:title>
</cp:coreProperties>
</file>