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CA3-E3C6-444A-B2A3-25E89297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BD3-1012-4FB6-9224-492DAE3C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598-7CBE-4E8E-8CDB-151E0CC4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973-75F3-46E9-A8CF-BC3E2ED7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D21C-36A2-4F9C-9D55-646B21C0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B24C-DBD4-4DDC-8E3F-EFDC7967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521A-5CD4-4D16-9419-1C90F311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0E59-4E85-43F8-8E43-5051B606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0F93-DF33-4E11-A87E-8CB0496F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FA7F-A0DD-43B4-8515-04A82B88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BE91-7234-47DF-9D9C-C678A7FC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56D-D241-4CCC-8BD7-85FD013E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D93F-37DF-4691-8BDA-9F31F285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40FB-81BA-4C5F-BC4A-E24A2CCB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27F8-0954-4C5F-8F1B-3321AAB9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A0E5-4B61-4031-9E75-61FBB886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F482-513C-4C38-B527-B4E0B7BD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1A5-0593-4EDA-A769-A127CCB6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8E0-DFDC-4290-BFD0-2867EA0D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42D-213E-4C25-8151-D7237B18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05C-D016-47A8-AB29-0BE9D820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5A5-7349-4F00-9860-680C549A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945-6406-46CE-8FA7-30D0AA47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624-1BB6-4961-BCB8-54FA093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9AF9-84A2-4A7E-AFF9-66F8C8E19B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E82E-EC63-4E46-B5AE-BCDAAB0957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geocities.com/Paris/Villa/9212/images/tulipan.JPG&amp;imgrefurl=http://www.geocities.com/Paris/Villa/9212/amor.htm&amp;h=371&amp;w=254&amp;sz=6&amp;tbnid=4fLejln23gwJ:&amp;tbnh=116&amp;tbnw=80&amp;start=16&amp;prev=/images%3Fq%3Dtulipan%26hl%3Des%26lr%3D%26ie%3DUTF-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08908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ISTEMA DENTARI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23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. Viviana Toro Iba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Nacional: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Definitiv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1 -&gt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17 -&gt; 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-&gt;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K -&gt;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de dos dígitos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Permanente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S  der    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18 17 16 15 14 13 12 11 | 21 22 23 24 25 26 27</a:t>
            </a: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28   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I  der</a:t>
            </a: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48 47 46 45 44 43 42 41 | 31 32 33 34 35 36 37 38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S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er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55 54 53 52 51 | 61 62 63 64 65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M.I   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der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85 84 83 82 81 | 71 72 73 74 75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  <a:ea typeface="Times New Roman"/>
              </a:rPr>
              <a:t>iz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Zigmondy – Palmer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Perman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   der 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8 7 6 5 4 3 2 1 | 1 2 3 4 5 6 7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8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Inf    der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8 7 6 5 4 3 2 1 | 1 2 3 4 5 6 7 8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   de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e d c b a | a b c d e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Inf    de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 d c b a | a b c d e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iz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Morfología Dentari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aras dentaria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sial-dis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stibular-palatino/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clusal/inci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202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349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Morfología Dentari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iguración Intern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ámara y conduc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cam%20y%20con" descr=""/>
          <p:cNvPicPr/>
          <p:nvPr/>
        </p:nvPicPr>
        <p:blipFill>
          <a:blip r:embed="rId1"/>
          <a:stretch/>
        </p:blipFill>
        <p:spPr>
          <a:xfrm>
            <a:off x="3809880" y="2819520"/>
            <a:ext cx="36813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Morfología Dentari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figuración externa: 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emento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quitectónic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úsp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ur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ebordes mar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ri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re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anales rad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spacio interrradi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oramen apical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oram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ue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21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5029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217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48006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22"/>
          <p:cNvPicPr/>
          <p:nvPr/>
        </p:nvPicPr>
        <p:blipFill>
          <a:blip r:embed="rId1"/>
          <a:stretch/>
        </p:blipFill>
        <p:spPr>
          <a:xfrm>
            <a:off x="2556000" y="278136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CENTRAL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icst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949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LATERAL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ilst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373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INO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cst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4956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istema Dentar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Órgan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Arc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nt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Dentar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nt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256536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256536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iente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2968560" cy="2343240"/>
          </a:xfrm>
          <a:prstGeom prst="rect">
            <a:avLst/>
          </a:prstGeom>
          <a:ln w="0">
            <a:noFill/>
          </a:ln>
        </p:spPr>
      </p:pic>
      <p:pic>
        <p:nvPicPr>
          <p:cNvPr id="105" name="arcada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6673680" cy="1676520"/>
          </a:xfrm>
          <a:prstGeom prst="rect">
            <a:avLst/>
          </a:prstGeom>
          <a:ln w="0">
            <a:noFill/>
          </a:ln>
        </p:spPr>
      </p:pic>
      <p:pic>
        <p:nvPicPr>
          <p:cNvPr id="106" name="sistema" descr=""/>
          <p:cNvPicPr/>
          <p:nvPr/>
        </p:nvPicPr>
        <p:blipFill>
          <a:blip r:embed="rId3"/>
          <a:stretch/>
        </p:blipFill>
        <p:spPr>
          <a:xfrm>
            <a:off x="2133720" y="3276720"/>
            <a:ext cx="46926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1mst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5943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2mst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609624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CENTRAL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icit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267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SIVO LATERAL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ilit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1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INO INF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s proxi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cit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449568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1mit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57913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temporal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2mit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59436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208908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CENTRAL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227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57913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LATERAL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229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57150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Funciones del Sistema Dentario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rvación del 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ia médico 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NINO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232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5867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PRE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235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57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PRE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237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586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241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5495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244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58672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RCER MOLAR 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pa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245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7024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CENTRAL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230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579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CISIVO LATERAL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231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638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NINO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234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791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PRE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237a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15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b7"/>
                </a:solidFill>
                <a:uFillTx/>
                <a:latin typeface="Arial Black"/>
                <a:ea typeface="Times New Roman"/>
              </a:rPr>
              <a:t>Los dientes: generalidad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es part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rona, cuello y raí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uatro tejid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malte, dentin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emento y pulp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189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353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PRE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239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5715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246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58276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GUNDO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248a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5715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ientes definitivo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RCER MOLAR 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ocl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 ling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xi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248b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579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068640"/>
            <a:ext cx="13572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Los dientes: generalidades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Unidad funcion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ODONTÓN=ÓRGANO DENTAL+PERIODO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Esmalte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De inserción: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Dentina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lig. period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Pulpa dentaria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e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emento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hueso alve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De protec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enc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189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492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Características generale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mañ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cterísticas fisicoquím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rx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3027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entición humana: característica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Bifi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Heter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nisogn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leur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salidodo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órm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entición temporal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20 piezas dentar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4 I + 2 C + 4 M -&gt; por arc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entición definitiva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32 piezas dentar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4 I + 2 C + 4 PM + 6 M -&gt; por arc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ntición humana: fórmula y nomenclatura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  <a:ea typeface="Times New Roman"/>
              </a:rPr>
              <a:t>Sistema de la A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Definitiv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1 -&gt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 (izq a der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32 &lt;- 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. Tempo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x. Superior (der a izq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-&gt;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M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. Inferior   (izq a der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T &lt;-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21:49:37Z</dcterms:created>
  <dc:creator>LENISSET TORO</dc:creator>
  <dc:description/>
  <dc:language>en-US</dc:language>
  <cp:lastModifiedBy>Facultad de Medicina</cp:lastModifiedBy>
  <dcterms:modified xsi:type="dcterms:W3CDTF">2007-10-23T14:43:43Z</dcterms:modified>
  <cp:revision>14</cp:revision>
  <dc:subject/>
  <dc:title>SISTEMA DENTARIO</dc:title>
</cp:coreProperties>
</file>