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72D-9ABC-41B2-87FD-D46367A2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E28-34E9-4C16-8BB7-FDF6C762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958-5F6C-478A-907B-63D07340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896-6365-48C8-8DC4-0EB06B89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3221-E542-4224-83AC-5E33EA91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98BF-EA66-4BD1-A723-238A418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033-8D40-4050-935E-6CE3D919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DE87-F4F3-4780-B264-66F5C6E1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6C9D-8A5A-445A-91EE-0844AEE0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8DB0-2368-40E8-812D-6E9CD10B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6DB4-A040-4017-A4FD-57F2F5F9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A10-8423-4495-915B-DDF312BB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6B72-9202-4402-9B2D-C41E795A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385F-89A3-420A-9DBB-632E242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B6AC-A786-4311-97FB-C46F8B3D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F0C7-D7DA-4C35-8AD9-C2B07D44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02EA-04F5-428B-ABDF-BABE6C19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62E-95A3-4CA6-9182-51AA7F00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EE2-5E79-4E4E-A2F7-7903776E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396-68B8-4F54-97D7-5103BF99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5F5-3609-4452-A157-7F32297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114-864D-41D7-AD47-5870368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3DB-523E-438D-AF73-A9F835FD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D40-4D3B-4F04-BE05-A117381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191B-9DB0-4848-A5A3-53D76C00F6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F868-BF4B-445D-B9AF-F1EF5A128F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geocities.com/Paris/Villa/9212/images/tulipan.JPG&amp;imgrefurl=http://www.geocities.com/Paris/Villa/9212/amor.htm&amp;h=371&amp;w=254&amp;sz=6&amp;tbnid=4fLejln23gwJ:&amp;tbnh=116&amp;tbnw=80&amp;start=16&amp;prev=/images%3Fq%3Dtulipan%26hl%3Des%26lr%3D%26ie%3DUTF-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ISTEMA DENTARI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23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. Viviana Toro Iba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Nacional: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Defin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1 -&gt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17 -&gt;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-&gt;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K -&gt;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de dos dígitos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Permanent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S  der    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18 17 16 15 14 13 12 11 | 21 22 23 24 25 26 27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28  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I  der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48 47 46 45 44 43 42 41 | 31 32 33 34 35 36 37 38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S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er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55 54 53 52 51 | 61 62 63 64 65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I  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er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85 84 83 82 81 | 71 72 73 74 75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Zigmondy – Palmer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Perman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   der 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8 7 6 5 4 3 2 1 | 1 2 3 4 5 6 7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8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Inf    der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8 7 6 5 4 3 2 1 | 1 2 3 4 5 6 7 8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   de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e d c b a | a b c d e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Inf    de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 d c b a | a b c d e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aras dentaria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sial-dis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stibular-palatino/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clusal/inci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202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349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guración Intern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ámara y condu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cam%20y%20con" descr=""/>
          <p:cNvPicPr/>
          <p:nvPr/>
        </p:nvPicPr>
        <p:blipFill>
          <a:blip r:embed="rId1"/>
          <a:stretch/>
        </p:blipFill>
        <p:spPr>
          <a:xfrm>
            <a:off x="3809880" y="2819520"/>
            <a:ext cx="3681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figuración externa: 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ment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ónic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úsp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ur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bordes mar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r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re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anales rad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spacio interrrad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ramen apical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ra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u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21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029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217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48006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22"/>
          <p:cNvPicPr/>
          <p:nvPr/>
        </p:nvPicPr>
        <p:blipFill>
          <a:blip r:embed="rId1"/>
          <a:stretch/>
        </p:blipFill>
        <p:spPr>
          <a:xfrm>
            <a:off x="2556000" y="278136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CENTRAL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icst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949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LATERAL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ilst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373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INO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cst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4956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istema Dentar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Órgan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Arc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nt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Denta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nt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2565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2565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iente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2968560" cy="2343240"/>
          </a:xfrm>
          <a:prstGeom prst="rect">
            <a:avLst/>
          </a:prstGeom>
          <a:ln w="0">
            <a:noFill/>
          </a:ln>
        </p:spPr>
      </p:pic>
      <p:pic>
        <p:nvPicPr>
          <p:cNvPr id="105" name="arcada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6673680" cy="1676520"/>
          </a:xfrm>
          <a:prstGeom prst="rect">
            <a:avLst/>
          </a:prstGeom>
          <a:ln w="0">
            <a:noFill/>
          </a:ln>
        </p:spPr>
      </p:pic>
      <p:pic>
        <p:nvPicPr>
          <p:cNvPr id="106" name="sistema" descr=""/>
          <p:cNvPicPr/>
          <p:nvPr/>
        </p:nvPicPr>
        <p:blipFill>
          <a:blip r:embed="rId3"/>
          <a:stretch/>
        </p:blipFill>
        <p:spPr>
          <a:xfrm>
            <a:off x="2133720" y="3276720"/>
            <a:ext cx="4692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1mst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5943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2mst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609624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CENTRAL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icit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267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LATERAL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ilit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1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INO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cit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49568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mit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57913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2mit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9436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CENTRAL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227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57913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LATERAL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229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57150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Funciones del Sistema Dentario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rvación del 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ia médico 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NINO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232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5867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PRE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235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7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PRE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237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586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241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495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244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58672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C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245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7024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CENTRAL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230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79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LATERAL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231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638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NINO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234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791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PRE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237a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15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b7"/>
                </a:solidFill>
                <a:uFillTx/>
                <a:latin typeface="Arial Black"/>
                <a:ea typeface="Times New Roman"/>
              </a:rPr>
              <a:t>Los dientes: generalidad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es part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rona, cuello y 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uatro tejid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malte, dentin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emento y pul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189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353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PRE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239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246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8276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248a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715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C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248b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7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068640"/>
            <a:ext cx="1357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Los dientes: generalidad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Unidad funcio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ODONTÓN=ÓRGANO DENTAL+PERIODO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smalte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De inserción: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na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ig. period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ulpa dentari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e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emento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hueso alve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De protec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nc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189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492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Características generale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cterísticas fisicoquím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rx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027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entición humana: característica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Bifi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er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nisogn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leur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salid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órm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ción temporal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20 piezas denta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4 I + 2 C + 4 M -&gt; por arc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ción definitiva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32 piezas denta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4 I + 2 C + 4 PM + 6 M -&gt; por arc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de la A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Defin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1 -&gt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 (izq a der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32 &lt;- 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-&gt;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 (izq a der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 &lt;-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21:49:37Z</dcterms:created>
  <dc:creator>LENISSET TORO</dc:creator>
  <dc:description/>
  <dc:language>en-US</dc:language>
  <cp:lastModifiedBy>Facultad de Medicina</cp:lastModifiedBy>
  <dcterms:modified xsi:type="dcterms:W3CDTF">2007-10-23T14:43:43Z</dcterms:modified>
  <cp:revision>14</cp:revision>
  <dc:subject/>
  <dc:title>SISTEMA DENTARIO</dc:title>
</cp:coreProperties>
</file>