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1E05-ADA5-4151-9647-F3DB67A66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5F00-0CD4-4004-8092-AC9619DD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F1D6-8977-4E75-B091-BF5426E1A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7E07-953B-4FA4-A01F-A40766990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DB29-3787-4F97-9D5A-B57536E3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E3AE-31DE-4210-8067-A379225D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275A-DDD6-4E07-9536-5B9CE2B1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52AA-59FF-4E5C-B0B6-B18D82FF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4C23-E0E2-47F7-9778-87A419DB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82BA-3286-417A-9A57-E5CA9C5E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0303-6010-43EA-9295-74D313CA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7A0D-F08F-4A78-A850-42A227A4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4422-CE9A-41C3-A1B3-FB9DEC33AA5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sión ampliada de habilitación comisiones de innovación curricular.</a:t>
            </a:r>
            <a:br>
              <a:rPr sz="3200"/>
            </a:b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erfile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(2º par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f. Karenina Tronco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f. Gustavo Haw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cultad de Medicina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gosto, 16 de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mensiones de un perf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71640" y="1700280"/>
            <a:ext cx="7200720" cy="515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iudadan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98560" y="2781360"/>
            <a:ext cx="5545080" cy="374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beres fund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3860640"/>
            <a:ext cx="3743280" cy="23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fesiona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structura de un perfil de egre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1557360"/>
            <a:ext cx="3600360" cy="352728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MINIO DE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ETENCIA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 ÁMBITO DE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51280" y="1700280"/>
            <a:ext cx="4608360" cy="302400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MINIO DE COMPETENCIA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MBITO DE RE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79640" y="4005360"/>
            <a:ext cx="6624720" cy="230328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MINIO DE COMPETENCIA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MBITO DE RE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26920" y="55166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42920" y="544500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58920" y="566100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57340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58920" y="558792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74920" y="551664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90560" y="57326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4920" y="580536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46200" y="53722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62200" y="530064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78200" y="551664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62200" y="55897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63640" y="58039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57326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594828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79640" y="602136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42920" y="51562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58920" y="508464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530064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53737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26920" y="587700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42920" y="580536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58920" y="602136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42920" y="60944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5229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4360" y="530208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47959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58920" y="472428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74920" y="494028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58920" y="5013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76360" y="60199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594828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8000" y="61642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2360" y="6237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1418200">
            <a:off x="468360" y="4869000"/>
            <a:ext cx="79200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5589720"/>
            <a:ext cx="79200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08720" y="2349360"/>
            <a:ext cx="287280" cy="35892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56520" y="229716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romiso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orm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30880" y="324468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27880" y="402444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min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15480" y="486900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et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59960" y="566100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bcompet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948360" y="3716280"/>
            <a:ext cx="358920" cy="21600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77080" y="2997360"/>
            <a:ext cx="358920" cy="2156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020000" y="4437000"/>
            <a:ext cx="358560" cy="21600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20000" y="5300640"/>
            <a:ext cx="358560" cy="21600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320" y="623736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mandas so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12480" y="358920"/>
            <a:ext cx="671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Dinámica de generación de un perfi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5013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4360" y="479736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5229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515772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49402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4360" y="486900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544500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53737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50864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5640" y="472428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" y="537372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00000" y="530208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551808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544680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60944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26920" y="602280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4360" y="530064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00000" y="5229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38880" y="2276640"/>
            <a:ext cx="149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ecesidade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orm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900000" y="2565000"/>
            <a:ext cx="244800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836720" y="2854440"/>
            <a:ext cx="1871640" cy="26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9598800">
            <a:off x="4127040" y="4503600"/>
            <a:ext cx="935280" cy="649440"/>
          </a:xfrm>
          <a:prstGeom prst="rightArrow">
            <a:avLst>
              <a:gd name="adj1" fmla="val 50000"/>
              <a:gd name="adj2" fmla="val 360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9598800">
            <a:off x="4102920" y="5084640"/>
            <a:ext cx="934920" cy="649440"/>
          </a:xfrm>
          <a:prstGeom prst="rightArrow">
            <a:avLst>
              <a:gd name="adj1" fmla="val 50000"/>
              <a:gd name="adj2" fmla="val 3598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9598800">
            <a:off x="4102920" y="5733720"/>
            <a:ext cx="934920" cy="649080"/>
          </a:xfrm>
          <a:prstGeom prst="rightArrow">
            <a:avLst>
              <a:gd name="adj1" fmla="val 50000"/>
              <a:gd name="adj2" fmla="val 3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9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0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77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770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4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6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4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4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Noción de un perf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Un(a) […</a:t>
            </a:r>
            <a:r>
              <a:rPr b="0" i="1" lang="es-CL" sz="2200" spc="-1" strike="noStrike">
                <a:solidFill>
                  <a:srgbClr val="000000"/>
                </a:solidFill>
                <a:latin typeface="Arial"/>
              </a:rPr>
              <a:t>profesional…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] es (*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quien se desempeña en el ámbito de la socied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n campos problemáticos que le son propios (atribuidamente propios) 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nfrentando los problem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ovilizando diversos saberes (fundantes) y recursos de redes y contexto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apaz de dar razón y fundamentación de sus decisione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haciéndose responsables de las mismas y sus consecuenc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(*) [</a:t>
            </a:r>
            <a:r>
              <a:rPr b="0" i="1" lang="es-CL" sz="2200" spc="-1" strike="noStrike">
                <a:solidFill>
                  <a:srgbClr val="000000"/>
                </a:solidFill>
                <a:latin typeface="Arial"/>
              </a:rPr>
              <a:t>egreso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] certificado en dominios de competencias clave que lo habilitan para el desempeño en contextos determin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Formato de declaración del Perfil de Egre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Declaración propositiva que da cuenta 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os dominios o ámbitos de realización en los diversos contextos de desempeño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os énfasis de la formación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l sello o identidad de la institución formad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emplo de una declaración de perfil como compromiso form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Ingeniero Forestal de la Universidad de Chile es un profesional capaz de formular, evaluar y gestionar planes, programas y proyectos, a la vez que identificar, modelar y gestionar procesos y procedimientos relativos a recursos existentes en los diversos ecosistemas forestales y ambientes relacionados, para la obtención de bienes y servicios con criterios de sustentabi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simismo, se espera que el ingeniero forestal de la Universidad de Chile participe o dirija el desarrollo nacional en los ámbitos atingentes a su profesión, dentro de las disposiciones regulatorias vigentes, respetando creencias, costumbres y tradiciones de las personas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y comunidade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 así como el medio ambiente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y la legislación pertinente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[Propuesta elaborada por la comisión de innovación curricular de la Escuela de Ingeniería Forestal de la U, y sancionada en Jornada de Validación del 7 de Agosto de 200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sando de la demanda de formación a la declaración de competencia del perf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AD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propuesta inicial de dominios o ámbitos de re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scribir o significar el contenido del dominio  expresado como una “macrocompetencia”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ue abarca o acoge a las competencias prop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limitando el marco contextual de su realización (desempeñ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clarar las competencias como actuares complejos (acción + constructo + contex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clarar el gerundio de las subcompetencias que darán origen al itinerario formativo del estud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jemplo (Ing. Comerci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DOMINIO: “GESTION ESTRATEGICA”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cesos y actividades de diseño, formulación, aplicación y evaluación de una estrategia de acción en respuesta a las demandas del entorno, buscando explorar ventajas competitivas que posicionen positivamente a la organización en el medio y que aseguren su continuid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COMPETENCIAS y SUBCOMPETENC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valuar las condiciones del entorno para direccionar la organ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ormular y comunicar estrategias y planes de acción con sus mecanismos de control al interior de la organ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dentificando opciones estratégicas para la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valuando las opciones estratégicas que permitan la competetitividad de la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435640" y="2852640"/>
            <a:ext cx="3240000" cy="792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. Validación del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35640" y="981000"/>
            <a:ext cx="3240000" cy="792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1. Levantamiento 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ecesidades y deman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916280"/>
            <a:ext cx="3240000" cy="792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2. Declaración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1916280"/>
            <a:ext cx="3384720" cy="3024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MPONENTES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BÁSICOS DE LA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ASE DIS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1125360"/>
            <a:ext cx="287280" cy="4464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116280 h 4464360"/>
              <a:gd name="textAreaBottom" fmla="*/ 4348080 h 446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435640" y="4724280"/>
            <a:ext cx="3205080" cy="865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5. Construcción de la</a:t>
            </a:r>
            <a:br>
              <a:rPr sz="1800"/>
            </a:b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estructura formal del</a:t>
            </a:r>
            <a:br>
              <a:rPr sz="1800"/>
            </a:b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curr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35640" y="3716280"/>
            <a:ext cx="3240000" cy="936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4. Organización y estruc-</a:t>
            </a:r>
            <a:br>
              <a:rPr sz="1800"/>
            </a:b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turación de la matriz de</a:t>
            </a:r>
            <a:br>
              <a:rPr sz="1800"/>
            </a:b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compet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5280" y="404640"/>
            <a:ext cx="3240000" cy="792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1. Levantamiento 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ecesidades y deman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971640" y="6524640"/>
          <a:ext cx="5715000" cy="1095480"/>
        </p:xfrm>
        <a:graphic>
          <a:graphicData uri="http://schemas.openxmlformats.org/drawingml/2006/table">
            <a:tbl>
              <a:tblPr/>
              <a:tblGrid>
                <a:gridCol w="571500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1692360" y="1341360"/>
            <a:ext cx="7200720" cy="1582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ito 1: Levantamiento de las demandas y necesidades de formació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 vía del análisis de los diversos marcos de referencia (político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órico, gremial, científico, tecnológico) y sistematización d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ción proveniente de diversas fuentes de información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evante a los propósitos del perfil de egre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51280" y="620640"/>
            <a:ext cx="503280" cy="432000"/>
          </a:xfrm>
          <a:prstGeom prst="rightArrow">
            <a:avLst>
              <a:gd name="adj1" fmla="val 50000"/>
              <a:gd name="adj2" fmla="val 2912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92360" y="3068640"/>
            <a:ext cx="7200720" cy="1582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ito 2: Declaración del Perfil de Egre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iderando los componentes de ámbitos de realización, compe-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ncias y subcompetencias asociados, atendiendo a los criterios de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igor apropiados a la problemática que se está enfrent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3716280"/>
            <a:ext cx="503280" cy="432000"/>
          </a:xfrm>
          <a:prstGeom prst="rightArrow">
            <a:avLst>
              <a:gd name="adj1" fmla="val 50000"/>
              <a:gd name="adj2" fmla="val 2912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476280"/>
            <a:ext cx="3240000" cy="792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2. Declaración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692360" y="4786200"/>
            <a:ext cx="7200720" cy="17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ito 3: Validación del Perfil de Egre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con participación de actor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os: administradores/políticos, académicos, estudi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ción de consistencia del perf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ción de las descripciones de los distintos ejes o dominio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ción de las competencias de los distintos de ejes o domin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isión de validez del 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5373720"/>
            <a:ext cx="503280" cy="431640"/>
          </a:xfrm>
          <a:prstGeom prst="rightArrow">
            <a:avLst>
              <a:gd name="adj1" fmla="val 50000"/>
              <a:gd name="adj2" fmla="val 2914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549360"/>
            <a:ext cx="3240000" cy="792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. Validación del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¿Qué es un perfi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onjunto de rasgos genéricos que permiten identificar a un objeto como 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l perfil es tal cuando en él se reconoce el obje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Diferentes audiencias tendrán diferentes niveles </a:t>
            </a:r>
            <a:br>
              <a:rPr sz="2200"/>
            </a:b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de reconoci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Incluso pueden verse objetos allí donde no los hay (Rorschach; Gestal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>
            <a:biLevel thresh="50000"/>
            <a:lum contrast="6000"/>
          </a:blip>
          <a:srcRect l="0" t="0" r="0" b="18442"/>
          <a:stretch/>
        </p:blipFill>
        <p:spPr>
          <a:xfrm>
            <a:off x="195120" y="73080"/>
            <a:ext cx="4376880" cy="4724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572000" y="496800"/>
            <a:ext cx="4572000" cy="4300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479240" y="494172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he Guev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519240" y="50133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i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44600" y="5634000"/>
            <a:ext cx="6455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Dos perfiles ¿igualmente reconocibl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stin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1268280"/>
            <a:ext cx="0" cy="439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71640" y="5661000"/>
            <a:ext cx="705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971640" y="1341000"/>
            <a:ext cx="6985080" cy="3816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314172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71640" y="4149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48360" y="1125360"/>
            <a:ext cx="1297080" cy="1081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fe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75280" y="2565360"/>
            <a:ext cx="3168720" cy="29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cada perfil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inguimos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declaración (interme-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o, egreso: especialización,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néri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nivel de logro o habi-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itación que se ha logrado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cad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03640" y="589752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314172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22560" y="2347920"/>
            <a:ext cx="1297080" cy="1081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 de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4149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95640" y="3429000"/>
            <a:ext cx="1296720" cy="1081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ter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1125360"/>
            <a:ext cx="1296720" cy="10814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erfil</a:t>
            </a:r>
            <a:br>
              <a:rPr sz="1800"/>
            </a:b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rofe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2349360"/>
            <a:ext cx="1297080" cy="10810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erfil de</a:t>
            </a:r>
            <a:br>
              <a:rPr sz="1800"/>
            </a:b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95640" y="3429000"/>
            <a:ext cx="1296720" cy="10810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erfil</a:t>
            </a:r>
            <a:br>
              <a:rPr sz="1800"/>
            </a:b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Inter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mensiones de un perf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71640" y="5445000"/>
            <a:ext cx="720072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iudadan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63640" y="4148280"/>
            <a:ext cx="554508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beres fund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00360" y="2708280"/>
            <a:ext cx="374328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fesiona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43640" y="2852640"/>
            <a:ext cx="172872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971640" y="2852640"/>
            <a:ext cx="172872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1T18:26:28Z</dcterms:created>
  <dc:creator>Gustavo Hawes</dc:creator>
  <dc:description/>
  <dc:language>en-US</dc:language>
  <cp:lastModifiedBy>Facultad de Medicina</cp:lastModifiedBy>
  <dcterms:modified xsi:type="dcterms:W3CDTF">2007-08-22T16:26:22Z</dcterms:modified>
  <cp:revision>13</cp:revision>
  <dc:subject/>
  <dc:title>Perfiles</dc:title>
</cp:coreProperties>
</file>