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3EC-961E-41CE-A103-D5111AD8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D2A-61F6-4874-A40A-BF33C12C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20E-E139-4E6E-A045-A90B886D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DE6-346A-4E62-AB3B-4098C502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A3A2-E5D2-472F-96A1-5C54AF4E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6162-5E85-4792-8446-A5E19EFC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26B9-C125-4085-BC7E-4C0586BF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FD73-337D-44A1-9975-4793F03E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932E-B4AC-4D55-942E-A7578AB7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D2B6-CCC1-4D33-BC5F-B2E75865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580D-8570-4790-A425-95B19D89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D56-1007-46AD-86E3-67C23349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322B-D396-438E-87E9-31055E56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11D7-76C2-4CEA-9CA1-4D8E3B99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5940-0C4F-423D-A706-C1A46437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1F11-0BC1-493E-8795-3370301B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05C9-E3DA-4A18-ACE2-B903195F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674-F3CE-4F32-9361-1AC32060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9A98-7427-49B8-983A-F81E2795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1A2-5265-4DC5-9BA1-CDFE29BA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F6C-A25F-4981-8331-8501ED96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42E-EE93-4705-9CEF-C1A172F5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EFE-6DBE-4B99-9012-1E667EE6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6A4-BD7D-45DB-8F75-7AF27C31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A61B-98B9-4689-A57D-AD3E07E98D5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784F-6A13-4825-92BD-B84F51DB185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660066"/>
                </a:solidFill>
                <a:latin typeface="Tahoma"/>
              </a:rPr>
              <a:t>Una Propuesta de construcción curricular basada en competencias para la formación profesional universitaria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4300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Prof. Karenina Troncoso N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Prof. Gustavo Hawes Barri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U de Chile, Mayo 8 de 2007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351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40360" y="2276640"/>
            <a:ext cx="647640" cy="792000"/>
          </a:xfrm>
          <a:prstGeom prst="downArrow">
            <a:avLst>
              <a:gd name="adj1" fmla="val 50000"/>
              <a:gd name="adj2" fmla="val 3057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6000" y="2060640"/>
            <a:ext cx="86040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612720"/>
            <a:ext cx="9144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rcRect l="0" t="41353" r="30929" b="0"/>
          <a:stretch/>
        </p:blipFill>
        <p:spPr>
          <a:xfrm>
            <a:off x="0" y="2205000"/>
            <a:ext cx="9144000" cy="2903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867280" y="177336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rcRect l="21650" t="0" r="0" b="0"/>
          <a:stretch/>
        </p:blipFill>
        <p:spPr>
          <a:xfrm>
            <a:off x="23760" y="765000"/>
            <a:ext cx="9120240" cy="5372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916360" y="3357720"/>
            <a:ext cx="576000" cy="792000"/>
          </a:xfrm>
          <a:prstGeom prst="downArrow">
            <a:avLst>
              <a:gd name="adj1" fmla="val 50000"/>
              <a:gd name="adj2" fmla="val 34375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rcRect l="0" t="0" r="18695" b="0"/>
          <a:stretch/>
        </p:blipFill>
        <p:spPr>
          <a:xfrm>
            <a:off x="-36360" y="1268280"/>
            <a:ext cx="9189720" cy="3811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03640" y="371628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rcRect l="0" t="0" r="18680" b="0"/>
          <a:stretch/>
        </p:blipFill>
        <p:spPr>
          <a:xfrm>
            <a:off x="-36360" y="1197000"/>
            <a:ext cx="9082080" cy="3983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492360" y="2492280"/>
            <a:ext cx="720720" cy="1079640"/>
          </a:xfrm>
          <a:prstGeom prst="downArrow">
            <a:avLst>
              <a:gd name="adj1" fmla="val 50000"/>
              <a:gd name="adj2" fmla="val 3745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rcRect l="0" t="0" r="16176" b="0"/>
          <a:stretch/>
        </p:blipFill>
        <p:spPr>
          <a:xfrm>
            <a:off x="0" y="907920"/>
            <a:ext cx="9204480" cy="452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88000" y="1844640"/>
            <a:ext cx="576000" cy="936720"/>
          </a:xfrm>
          <a:prstGeom prst="downArrow">
            <a:avLst>
              <a:gd name="adj1" fmla="val 50000"/>
              <a:gd name="adj2" fmla="val 40656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rcRect l="0" t="0" r="15528" b="0"/>
          <a:stretch/>
        </p:blipFill>
        <p:spPr>
          <a:xfrm>
            <a:off x="0" y="1050840"/>
            <a:ext cx="9093240" cy="3962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88000" y="836640"/>
            <a:ext cx="718920" cy="1008000"/>
          </a:xfrm>
          <a:prstGeom prst="downArrow">
            <a:avLst>
              <a:gd name="adj1" fmla="val 50000"/>
              <a:gd name="adj2" fmla="val 3505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3:21:49Z</dcterms:created>
  <dc:creator>Gustavo Hawes</dc:creator>
  <dc:description/>
  <dc:language>en-US</dc:language>
  <cp:lastModifiedBy>ANTONIO ALMENDRAS</cp:lastModifiedBy>
  <dcterms:modified xsi:type="dcterms:W3CDTF">2007-05-08T03:46:46Z</dcterms:modified>
  <cp:revision>5</cp:revision>
  <dc:subject/>
  <dc:title>Curriculum Basado en Competencias</dc:title>
</cp:coreProperties>
</file>