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B94-D454-49D4-89D5-66F18B29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340-B82B-45F0-8B2D-272F8B97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3D5-F166-403C-AD28-5F265139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AB3-1D52-4611-ADEB-5A45D469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2FCA-EFF0-41FB-9489-B19CE5CC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8D17-0722-4072-877B-58D271A1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ECB0-5A6A-4BF0-A3C4-4A1C9D53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A35B-52C2-446F-B2C6-E3BA6A96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A542-B2E7-4C77-BF0F-EE76467D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0BB1-5F88-4DF2-AFAE-23CADB14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3973-BBFA-486A-8A76-4BCEEBDF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65D-BF21-4EC1-B382-5FB777F9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DEA1-E3F5-43F9-8736-4C1EEE9E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B7C8-397E-463F-87D1-6A8E5F11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5377-F69C-44A6-90DF-4C7A2204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235E-7B03-4241-B90D-152A2800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88B7-296B-4CF0-97F0-5FB59424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C47-0EDD-450D-A028-361C3BEA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EFF-5ACA-4BB7-9BB3-49125832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7EB-28FD-46E5-93B9-2C2BE887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CB9-B69A-4154-9350-42C7E014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A84-70AA-427B-B603-4E8D063B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4CF-1170-4F13-8A27-CB93CD7B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8F5-3FA8-4369-8AEC-A75748D0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2C79-486A-4496-ACBD-32C147D8054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AB86-6597-414A-879F-509B6FAA4F9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660066"/>
                </a:solidFill>
                <a:latin typeface="Tahoma"/>
              </a:rPr>
              <a:t>Una Propuesta de construcción curricular basada en competencias para la formación profesional universitaria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4300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Prof. Karenina Troncoso N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Prof. Gustavo Hawes Barri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U de Chile, Mayo 8 de 2007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351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40360" y="2276640"/>
            <a:ext cx="647640" cy="792000"/>
          </a:xfrm>
          <a:prstGeom prst="downArrow">
            <a:avLst>
              <a:gd name="adj1" fmla="val 50000"/>
              <a:gd name="adj2" fmla="val 3057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6000" y="2060640"/>
            <a:ext cx="86040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612720"/>
            <a:ext cx="9144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rcRect l="0" t="41353" r="30929" b="0"/>
          <a:stretch/>
        </p:blipFill>
        <p:spPr>
          <a:xfrm>
            <a:off x="0" y="2205000"/>
            <a:ext cx="9144000" cy="2903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867280" y="177336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rcRect l="21650" t="0" r="0" b="0"/>
          <a:stretch/>
        </p:blipFill>
        <p:spPr>
          <a:xfrm>
            <a:off x="23760" y="765000"/>
            <a:ext cx="9120240" cy="5372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916360" y="3357720"/>
            <a:ext cx="576000" cy="792000"/>
          </a:xfrm>
          <a:prstGeom prst="downArrow">
            <a:avLst>
              <a:gd name="adj1" fmla="val 50000"/>
              <a:gd name="adj2" fmla="val 34375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rcRect l="0" t="0" r="18695" b="0"/>
          <a:stretch/>
        </p:blipFill>
        <p:spPr>
          <a:xfrm>
            <a:off x="-36360" y="1268280"/>
            <a:ext cx="9189720" cy="3811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03640" y="371628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rcRect l="0" t="0" r="18680" b="0"/>
          <a:stretch/>
        </p:blipFill>
        <p:spPr>
          <a:xfrm>
            <a:off x="-36360" y="1197000"/>
            <a:ext cx="9082080" cy="3983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492360" y="2492280"/>
            <a:ext cx="720720" cy="1079640"/>
          </a:xfrm>
          <a:prstGeom prst="downArrow">
            <a:avLst>
              <a:gd name="adj1" fmla="val 50000"/>
              <a:gd name="adj2" fmla="val 3745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rcRect l="0" t="0" r="16176" b="0"/>
          <a:stretch/>
        </p:blipFill>
        <p:spPr>
          <a:xfrm>
            <a:off x="0" y="907920"/>
            <a:ext cx="9204480" cy="452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88000" y="1844640"/>
            <a:ext cx="576000" cy="936720"/>
          </a:xfrm>
          <a:prstGeom prst="downArrow">
            <a:avLst>
              <a:gd name="adj1" fmla="val 50000"/>
              <a:gd name="adj2" fmla="val 40656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rcRect l="0" t="0" r="15528" b="0"/>
          <a:stretch/>
        </p:blipFill>
        <p:spPr>
          <a:xfrm>
            <a:off x="0" y="1050840"/>
            <a:ext cx="9093240" cy="3962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88000" y="836640"/>
            <a:ext cx="718920" cy="1008000"/>
          </a:xfrm>
          <a:prstGeom prst="downArrow">
            <a:avLst>
              <a:gd name="adj1" fmla="val 50000"/>
              <a:gd name="adj2" fmla="val 3505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3:21:49Z</dcterms:created>
  <dc:creator>Gustavo Hawes</dc:creator>
  <dc:description/>
  <dc:language>en-US</dc:language>
  <cp:lastModifiedBy>ANTONIO ALMENDRAS</cp:lastModifiedBy>
  <dcterms:modified xsi:type="dcterms:W3CDTF">2007-05-08T03:46:46Z</dcterms:modified>
  <cp:revision>5</cp:revision>
  <dc:subject/>
  <dc:title>Curriculum Basado en Competencias</dc:title>
</cp:coreProperties>
</file>