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0A4-8E85-4391-B75D-81840EB8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835-65BB-49E2-806D-0FED4B46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87D-0CCE-4E24-891D-5A6352D9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680-AC30-40C3-A859-CBC4E9DA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F39C-3483-4AD9-BB95-06CB2BC5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71A8-FAE2-4E96-B17E-B4EE2239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AF8E-56B0-4CC5-8DD6-B39722E8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6658-785C-4B7D-8511-1ED518A4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F908-F07D-44ED-B53A-5DF99945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09D1-3F8B-43AB-A84C-66ED7B98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9284-5195-467B-A4F2-03E007CD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172-57D5-4F28-A9BA-7999DA32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AB98-45A7-4199-8F56-935293C6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2C6-7557-4A19-938E-9769B330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D7EA-D2D4-41BE-8A9E-CDDDE826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295C-548F-447A-AD03-A64C1EDD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7728-1676-4627-87FC-5EBE197C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833-DD66-4AC2-8419-FE159D25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A54-45E6-44B2-A538-40A13805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3E5-F9B0-4FCB-A716-9A2A8CA1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811-F344-43A3-884F-D1302AF7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687-5843-4BB9-AE9E-16BCDCBA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3A1-4896-47D4-A0D2-11034D2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BE7-1B52-4B6F-8871-E0A66B81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80A-2669-4DCE-9BE2-D865C90F406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2883-31C3-4C2F-9AD6-B22FC4A1B1F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0066"/>
                </a:solidFill>
                <a:latin typeface="Tahoma"/>
              </a:rPr>
              <a:t>Una Propuesta de construcción curricular basada en competencias para la formación profesional universitaria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Karenina Troncoso N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Gustavo Hawes Barri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U de Chile, Mayo 8 de 2007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351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40360" y="227664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6000" y="2060640"/>
            <a:ext cx="86040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1272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0" t="41353" r="30929" b="0"/>
          <a:stretch/>
        </p:blipFill>
        <p:spPr>
          <a:xfrm>
            <a:off x="0" y="2205000"/>
            <a:ext cx="9144000" cy="2903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867280" y="17733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rcRect l="21650" t="0" r="0" b="0"/>
          <a:stretch/>
        </p:blipFill>
        <p:spPr>
          <a:xfrm>
            <a:off x="23760" y="765000"/>
            <a:ext cx="9120240" cy="537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16360" y="335772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0" r="18695" b="0"/>
          <a:stretch/>
        </p:blipFill>
        <p:spPr>
          <a:xfrm>
            <a:off x="-36360" y="1268280"/>
            <a:ext cx="9189720" cy="381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3640" y="3716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0" r="18680" b="0"/>
          <a:stretch/>
        </p:blipFill>
        <p:spPr>
          <a:xfrm>
            <a:off x="-36360" y="1197000"/>
            <a:ext cx="9082080" cy="398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2360" y="2492280"/>
            <a:ext cx="720720" cy="1079640"/>
          </a:xfrm>
          <a:prstGeom prst="downArrow">
            <a:avLst>
              <a:gd name="adj1" fmla="val 50000"/>
              <a:gd name="adj2" fmla="val 3745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907920"/>
            <a:ext cx="9204480" cy="452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1844640"/>
            <a:ext cx="576000" cy="936720"/>
          </a:xfrm>
          <a:prstGeom prst="downArrow">
            <a:avLst>
              <a:gd name="adj1" fmla="val 50000"/>
              <a:gd name="adj2" fmla="val 40656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0" t="0" r="15528" b="0"/>
          <a:stretch/>
        </p:blipFill>
        <p:spPr>
          <a:xfrm>
            <a:off x="0" y="1050840"/>
            <a:ext cx="909324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8000" y="83664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3:21:49Z</dcterms:created>
  <dc:creator>Gustavo Hawes</dc:creator>
  <dc:description/>
  <dc:language>en-US</dc:language>
  <cp:lastModifiedBy>ANTONIO ALMENDRAS</cp:lastModifiedBy>
  <dcterms:modified xsi:type="dcterms:W3CDTF">2007-05-08T03:46:46Z</dcterms:modified>
  <cp:revision>5</cp:revision>
  <dc:subject/>
  <dc:title>Curriculum Basado en Competencias</dc:title>
</cp:coreProperties>
</file>