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4EC-E137-4CA3-B965-673223BA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341-E292-4182-9995-F839C7B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285-CBD1-4A13-9700-415B2894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815-D743-4A75-AE25-BF6CA636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9324-4974-4FC4-85CC-0AE938E1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B33A-4413-41C2-9273-920F639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EB1A-8765-44EB-9D33-854192B8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326F-D6F8-42D6-AD77-476B4ABE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1719-9A3A-4AF4-B390-4EE12E3B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15D5-0C4F-482B-B8FC-2798B89A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A545-CA24-4743-8F1C-06D677E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FD4-B846-4C2B-BD7F-F5BDCCB7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20A1-5F07-4B8E-AE6E-ADC37A0F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E698-0400-46AE-B3FF-12B6B2C1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D7A5-CDF0-4ED8-927C-7D40B344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0E39-09AB-4D58-9DDC-DEF38E67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E83F-25DA-47A1-BB42-4AB2ED1A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182-C1F5-4E31-ACC4-BA6EAD02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49F-3E4D-4240-9117-1B2B377E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7DF-E19B-4D7C-8EBC-5A841F40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F97-A1EF-46E9-9576-F6C79C1E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DAC-0964-4E9A-AEB1-3789FCC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A04-A901-4F48-A8B9-D618281C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F45-31FA-474E-8D7F-76043DC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5484-DA66-4EBB-B93C-71FDFC71707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3CF-9C1D-4A7A-9FA5-A6AC1DDC85B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0066"/>
                </a:solidFill>
                <a:latin typeface="Tahoma"/>
              </a:rPr>
              <a:t>Una Propuesta de construcción curricular basada en competencias para la formación profesional universitaria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Karenina Troncoso N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Gustavo Hawes Barri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U de Chile, Mayo 8 de 2007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351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40360" y="227664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6000" y="2060640"/>
            <a:ext cx="86040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1272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0" t="41353" r="30929" b="0"/>
          <a:stretch/>
        </p:blipFill>
        <p:spPr>
          <a:xfrm>
            <a:off x="0" y="2205000"/>
            <a:ext cx="9144000" cy="2903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867280" y="17733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rcRect l="21650" t="0" r="0" b="0"/>
          <a:stretch/>
        </p:blipFill>
        <p:spPr>
          <a:xfrm>
            <a:off x="23760" y="765000"/>
            <a:ext cx="9120240" cy="537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16360" y="335772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0" r="18695" b="0"/>
          <a:stretch/>
        </p:blipFill>
        <p:spPr>
          <a:xfrm>
            <a:off x="-36360" y="1268280"/>
            <a:ext cx="9189720" cy="381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3640" y="3716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0" r="18680" b="0"/>
          <a:stretch/>
        </p:blipFill>
        <p:spPr>
          <a:xfrm>
            <a:off x="-36360" y="1197000"/>
            <a:ext cx="9082080" cy="398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2360" y="2492280"/>
            <a:ext cx="720720" cy="1079640"/>
          </a:xfrm>
          <a:prstGeom prst="downArrow">
            <a:avLst>
              <a:gd name="adj1" fmla="val 50000"/>
              <a:gd name="adj2" fmla="val 3745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907920"/>
            <a:ext cx="9204480" cy="452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1844640"/>
            <a:ext cx="576000" cy="936720"/>
          </a:xfrm>
          <a:prstGeom prst="downArrow">
            <a:avLst>
              <a:gd name="adj1" fmla="val 50000"/>
              <a:gd name="adj2" fmla="val 40656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0" t="0" r="15528" b="0"/>
          <a:stretch/>
        </p:blipFill>
        <p:spPr>
          <a:xfrm>
            <a:off x="0" y="1050840"/>
            <a:ext cx="909324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8000" y="83664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3:21:49Z</dcterms:created>
  <dc:creator>Gustavo Hawes</dc:creator>
  <dc:description/>
  <dc:language>en-US</dc:language>
  <cp:lastModifiedBy>ANTONIO ALMENDRAS</cp:lastModifiedBy>
  <dcterms:modified xsi:type="dcterms:W3CDTF">2007-05-08T03:46:46Z</dcterms:modified>
  <cp:revision>5</cp:revision>
  <dc:subject/>
  <dc:title>Curriculum Basado en Competencias</dc:title>
</cp:coreProperties>
</file>