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297-8FE8-4A55-B86F-F61E9E40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10D-42F9-4D70-B9AC-877A65A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C87-FE6C-49BC-A3E8-4224EB94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582-FE7D-4665-95B1-56631D06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BF8-6759-405A-9CFA-B25DD3AD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99C5-7686-419B-AF37-3F6660EB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D955-75B3-4427-8A93-8CAAE28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838A-7CF7-4AD8-A873-A29F301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7D6-5434-4DB7-979B-EDEB3BD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23D4-5CB3-4839-9203-6A129AD1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4F3A-FF5B-4A36-89AD-7874004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BDF-0EDB-4B83-95B3-56F28E72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7F8D-7F87-4344-BA8A-A0B5581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6BA-8E9D-49AF-A41B-F6FB13B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F87E-67B3-43AB-B9C9-C738574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3CF-DB45-4D66-983D-166CFF02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C89-E9DE-43E1-92A8-654A8259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383-0FE1-42F7-B5FA-19C121BA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28E-07AE-4112-BCB1-0F053F26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F44-BC8D-4C39-BD0B-E1159C3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A76-86B8-4B96-A3A1-A57BD3F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2F4-A006-49E5-A632-CA17557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EFD-7003-4127-9DCC-470ECBE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F89-213A-4597-BBF4-C695693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4EC-10F8-40F6-BFEE-F5F56AC0705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A4B-DD1D-4F53-BEE1-5A2C9E05A91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0066"/>
                </a:solidFill>
                <a:latin typeface="Tahoma"/>
              </a:rPr>
              <a:t>Una Propuesta de construcción curricular basada en competencias para la formación profesional universitaria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Karenina Troncoso N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Prof. Gustavo Hawes Barri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545472"/>
                </a:solidFill>
                <a:latin typeface="Tahoma"/>
              </a:rPr>
              <a:t>U de Chile, Mayo 8 de 2007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40360" y="2276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6000" y="2060640"/>
            <a:ext cx="86040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1272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41353" r="30929" b="0"/>
          <a:stretch/>
        </p:blipFill>
        <p:spPr>
          <a:xfrm>
            <a:off x="0" y="2205000"/>
            <a:ext cx="9144000" cy="290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867280" y="1773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rcRect l="21650" t="0" r="0" b="0"/>
          <a:stretch/>
        </p:blipFill>
        <p:spPr>
          <a:xfrm>
            <a:off x="23760" y="765000"/>
            <a:ext cx="912024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16360" y="335772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0" r="18695" b="0"/>
          <a:stretch/>
        </p:blipFill>
        <p:spPr>
          <a:xfrm>
            <a:off x="-36360" y="1268280"/>
            <a:ext cx="9189720" cy="381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03640" y="3716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0" r="18680" b="0"/>
          <a:stretch/>
        </p:blipFill>
        <p:spPr>
          <a:xfrm>
            <a:off x="-36360" y="1197000"/>
            <a:ext cx="9082080" cy="398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2360" y="2492280"/>
            <a:ext cx="720720" cy="1079640"/>
          </a:xfrm>
          <a:prstGeom prst="downArrow">
            <a:avLst>
              <a:gd name="adj1" fmla="val 50000"/>
              <a:gd name="adj2" fmla="val 3745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907920"/>
            <a:ext cx="9204480" cy="452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88000" y="1844640"/>
            <a:ext cx="576000" cy="936720"/>
          </a:xfrm>
          <a:prstGeom prst="downArrow">
            <a:avLst>
              <a:gd name="adj1" fmla="val 50000"/>
              <a:gd name="adj2" fmla="val 4065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rcRect l="0" t="0" r="15528" b="0"/>
          <a:stretch/>
        </p:blipFill>
        <p:spPr>
          <a:xfrm>
            <a:off x="0" y="1050840"/>
            <a:ext cx="909324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88000" y="836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3:21:49Z</dcterms:created>
  <dc:creator>Gustavo Hawes</dc:creator>
  <dc:description/>
  <dc:language>en-US</dc:language>
  <cp:lastModifiedBy>ANTONIO ALMENDRAS</cp:lastModifiedBy>
  <dcterms:modified xsi:type="dcterms:W3CDTF">2007-05-08T03:46:46Z</dcterms:modified>
  <cp:revision>5</cp:revision>
  <dc:subject/>
  <dc:title>Curriculum Basado en Competencias</dc:title>
</cp:coreProperties>
</file>