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A849-DA0F-46CA-AC6E-F0178B80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12B4-7D1E-402F-BF03-EF2D0421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AD12-8F93-4D75-9A84-784D9DDB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D53A-39F7-495E-9046-F3E9BA36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85AD-6B2A-41CD-8439-0316D3AF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F00C-03A7-41B8-AB8D-3B4EA4DD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8B4F-0EE0-45B5-BD9C-D97EA14F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8FDB-A6FF-4E94-A936-E2B81804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6E9B-7D51-41B3-B47D-5BA88701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9EAA-AB1D-4879-8292-2E20343B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40DD-A30F-48E3-978D-6B9BE9E5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5D79-7FDC-4C34-A4AC-CB7EFF17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9128-DA5E-443D-A84F-2590A38D3AB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sión ampliada de habilitación comisiones de innovación curricular.</a:t>
            </a:r>
            <a:br>
              <a:rPr sz="32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erfil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(2º par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f. Karenina Tronc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f. Gustavo Haw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ultad de Medicin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gosto, 16 de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mensiones de un perf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1700280"/>
            <a:ext cx="7200720" cy="515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udadan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8560" y="2781360"/>
            <a:ext cx="5545080" cy="374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beres fund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3860640"/>
            <a:ext cx="3743280" cy="23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fesion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tructura de un perfil de egr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1557360"/>
            <a:ext cx="3600360" cy="35272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 DE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ETENCIA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ÁMBITO DE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1700280"/>
            <a:ext cx="4608360" cy="302400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 DE COMPETENCIA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MBITO DE RE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79640" y="4005360"/>
            <a:ext cx="6624720" cy="23032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 DE COMPETENCIA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MBITO DE RE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26920" y="55166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54450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58920" y="56610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57340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558792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4920" y="551664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0560" y="57326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4920" y="580536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46200" y="5372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62200" y="530064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8200" y="551664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2200" y="5589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63640" y="58039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57326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594828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602136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5156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58920" y="508464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530064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5373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58770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580536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602136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60944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5229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530208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47959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47242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74920" y="494028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5013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60199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9482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8000" y="6164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6237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1418200">
            <a:off x="468360" y="4869000"/>
            <a:ext cx="79200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5589720"/>
            <a:ext cx="79200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2349360"/>
            <a:ext cx="287280" cy="35892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56520" y="229716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omiso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rm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30880" y="32446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27880" y="40244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15480" y="486900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9960" y="56610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48360" y="3716280"/>
            <a:ext cx="358920" cy="2160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77080" y="2997360"/>
            <a:ext cx="358920" cy="2156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20000" y="4437000"/>
            <a:ext cx="358560" cy="2160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20000" y="5300640"/>
            <a:ext cx="358560" cy="2160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320" y="623736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12480" y="358920"/>
            <a:ext cx="671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Dinámica de generación de un perf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5013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479736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5229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515772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4940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4360" y="486900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54450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5373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50864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47242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537372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00000" y="53020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55180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54468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60944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60228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530064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5229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38880" y="2276640"/>
            <a:ext cx="149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ecesidade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rm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900000" y="2565000"/>
            <a:ext cx="244800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836720" y="2854440"/>
            <a:ext cx="1871640" cy="26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9598800">
            <a:off x="4127040" y="4503600"/>
            <a:ext cx="935280" cy="649440"/>
          </a:xfrm>
          <a:prstGeom prst="rightArrow">
            <a:avLst>
              <a:gd name="adj1" fmla="val 50000"/>
              <a:gd name="adj2" fmla="val 360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9598800">
            <a:off x="4102920" y="5084640"/>
            <a:ext cx="934920" cy="649440"/>
          </a:xfrm>
          <a:prstGeom prst="rightArrow">
            <a:avLst>
              <a:gd name="adj1" fmla="val 50000"/>
              <a:gd name="adj2" fmla="val 359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9598800">
            <a:off x="4102920" y="5733720"/>
            <a:ext cx="934920" cy="649080"/>
          </a:xfrm>
          <a:prstGeom prst="rightArrow">
            <a:avLst>
              <a:gd name="adj1" fmla="val 50000"/>
              <a:gd name="adj2" fmla="val 3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2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4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6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2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Noción de un perf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Un(a) […</a:t>
            </a:r>
            <a:r>
              <a:rPr b="0" i="1" lang="es-CL" sz="2200" spc="-1" strike="noStrike">
                <a:solidFill>
                  <a:srgbClr val="000000"/>
                </a:solidFill>
                <a:latin typeface="Arial"/>
              </a:rPr>
              <a:t>profesional…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] es (*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quien se desempeña en el ámbito de la socie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n campos problemáticos que le son propios (atribuidamente propios) 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nfrentando los problem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ovilizando diversos saberes (fundantes) y recursos de redes y contexto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apaz de dar razón y fundamentación de sus decisione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haciéndose responsables de las mismas y sus consecu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(*) [</a:t>
            </a:r>
            <a:r>
              <a:rPr b="0" i="1" lang="es-CL" sz="2200" spc="-1" strike="noStrike">
                <a:solidFill>
                  <a:srgbClr val="000000"/>
                </a:solidFill>
                <a:latin typeface="Arial"/>
              </a:rPr>
              <a:t>egreso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] certificado en dominios de competencias clave que lo habilitan para el desempeño en contextos determin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ormato de declaración del Perfil de Egre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eclaración propositiva que da cuenta 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os dominios o ámbitos de realización en los diversos contextos de desempeño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os énfasis de la formació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 sello o identidad de la institución formad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 de una declaración de perfil como compromiso form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Ingeniero Forestal de la Universidad de Chile es un profesional capaz de formular, evaluar y gestionar planes, programas y proyectos, a la vez que identificar, modelar y gestionar procesos y procedimientos relativos a recursos existentes en los diversos ecosistemas forestales y ambientes relacionados, para la obtención de bienes y servicios con criterios de sustentab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imismo, se espera que el ingeniero forestal de la Universidad de Chile participe o dirija el desarrollo nacional en los ámbitos atingentes a su profesión, dentro de las disposiciones regulatorias vigentes, respetando creencias, costumbres y tradiciones de las personas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y comunidad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así como el medio ambiente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y la legislación pertinent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[Propuesta elaborada por la comisión de innovación curricular de la Escuela de Ingeniería Forestal de la U, y sancionada en Jornada de Validación del 7 de Agosto de 200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sando de la demanda de formación a la declaración de competencia del perf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AD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propuesta inicial de dominios o ámbitos de re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cribir o significar el contenido del dominio  expresado como una “macrocompetencia”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e abarca o acoge a las competencias prop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limitando el marco contextual de su realización (desempeñ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larar las competencias como actuares complejos (acción + constructo + contex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larar el gerundio de las subcompetencias que darán origen al itinerario formativo del estud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 (Ing. Comerci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DOMINIO: “GESTION ESTRATEGICA”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cesos y actividades de diseño, formulación, aplicación y evaluación de una estrategia de acción en respuesta a las demandas del entorno, buscando explorar ventajas competitivas que posicionen positivamente a la organización en el medio y que aseguren su continu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COMPETENCIAS y SUBCOMPET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valuar las condiciones del entorno para direccionar la organ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rmular y comunicar estrategias y planes de acción con sus mecanismos de control al interior de la organ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dentificando opciones estratégicas para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valuando las opciones estratégicas que permitan la competetitividad de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435640" y="2852640"/>
            <a:ext cx="324000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 Validación de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35640" y="981000"/>
            <a:ext cx="324000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1. Levantamiento 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ecesidades y deman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916280"/>
            <a:ext cx="3240000" cy="79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. Declaración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916280"/>
            <a:ext cx="3384720" cy="3024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MPONENTES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BÁSICOS DE LA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ASE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1125360"/>
            <a:ext cx="287280" cy="4464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116280 h 4464360"/>
              <a:gd name="textAreaBottom" fmla="*/ 4348080 h 446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35640" y="4724280"/>
            <a:ext cx="3205080" cy="865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5. Construcción de la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estructura formal del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35640" y="3716280"/>
            <a:ext cx="3240000" cy="936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4. Organización y estruc-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turación de la matriz de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404640"/>
            <a:ext cx="324000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1. Levantamiento 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ecesidades y deman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71640" y="6524640"/>
          <a:ext cx="5715000" cy="109548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1692360" y="1341360"/>
            <a:ext cx="7200720" cy="1582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ito 1: Levantamiento de las demandas y necesidades de formac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vía del análisis de los diversos marcos de referencia (político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órico, gremial, científico, tecnológico) y sistematización d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ión proveniente de diversas fuentes de información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vante a los propósitos del perfil de egr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62064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92360" y="3068640"/>
            <a:ext cx="7200720" cy="1582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ito 2: Declaración del Perfil de Egre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iderando los componentes de ámbitos de realización, compe-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ncias y subcompetencias asociados, atendiendo a los criterios de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igor apropiados a la problemática que se está enfrent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371628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476280"/>
            <a:ext cx="3240000" cy="79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. Declaración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92360" y="4786200"/>
            <a:ext cx="7200720" cy="17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ito 3: Validación del Perfil de Egre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on participación de actor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os: administradores/políticos, académicos, estudi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ción de consistencia del perf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s descripciones de los distintos ejes o dominio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s competencias de los distintos de ejes o domin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sión de validez del 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537372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549360"/>
            <a:ext cx="3240000" cy="79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 Validación de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Qué es un perfi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onjunto de rasgos genéricos que permiten identificar a un objeto como 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 perfil es tal cuando en él se reconoce el obje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iferentes audiencias tendrán diferentes niveles </a:t>
            </a:r>
            <a:br>
              <a:rPr sz="2200"/>
            </a:b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e reconoc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Incluso pueden verse objetos allí donde no los hay (Rorschach; Gestal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biLevel thresh="50000"/>
            <a:lum contrast="6000"/>
          </a:blip>
          <a:srcRect l="0" t="0" r="0" b="18442"/>
          <a:stretch/>
        </p:blipFill>
        <p:spPr>
          <a:xfrm>
            <a:off x="195120" y="73080"/>
            <a:ext cx="4376880" cy="4724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572000" y="496800"/>
            <a:ext cx="4572000" cy="4300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79240" y="494172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he Guev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19240" y="50133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44600" y="5634000"/>
            <a:ext cx="645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Dos perfiles ¿igualmente reconocibl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tin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1268280"/>
            <a:ext cx="0" cy="439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1640" y="5661000"/>
            <a:ext cx="705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971640" y="1341000"/>
            <a:ext cx="6985080" cy="3816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314172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71640" y="4149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360" y="1125360"/>
            <a:ext cx="1297080" cy="108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75280" y="2565360"/>
            <a:ext cx="3168720" cy="29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cada perfil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inguimos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declaración (interme-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o, egreso: especialización,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nér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nivel de logro o habi-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itación que se ha logrado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cad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03640" y="589752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314172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22560" y="2347920"/>
            <a:ext cx="1297080" cy="1081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4149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95640" y="3429000"/>
            <a:ext cx="1296720" cy="1081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ter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1125360"/>
            <a:ext cx="1296720" cy="10814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2349360"/>
            <a:ext cx="1297080" cy="10810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erfil de</a:t>
            </a:r>
            <a:br>
              <a:rPr sz="1800"/>
            </a:b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95640" y="3429000"/>
            <a:ext cx="1296720" cy="10810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nter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mensiones de un perf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5445000"/>
            <a:ext cx="720072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udadan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63640" y="4148280"/>
            <a:ext cx="554508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beres fund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00360" y="2708280"/>
            <a:ext cx="37432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fesion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43640" y="2852640"/>
            <a:ext cx="172872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71640" y="2852640"/>
            <a:ext cx="1728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1T18:26:28Z</dcterms:created>
  <dc:creator>Gustavo Hawes</dc:creator>
  <dc:description/>
  <dc:language>en-US</dc:language>
  <cp:lastModifiedBy>Facultad de Medicina</cp:lastModifiedBy>
  <dcterms:modified xsi:type="dcterms:W3CDTF">2007-08-22T16:26:22Z</dcterms:modified>
  <cp:revision>13</cp:revision>
  <dc:subject/>
  <dc:title>Perfiles</dc:title>
</cp:coreProperties>
</file>