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68F-9981-4C8E-BFAB-1BF122BC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415-1521-415B-81D1-6A33EECA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443-7D22-49A8-9C99-FDF1FE7D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844-FD37-4DDA-9FC6-001B9D23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53F7-835A-4294-B679-008A289B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AC5C-6C36-4F52-AB4C-0E878144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E688-F3FC-47C7-806C-24999623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690D-96A2-4BD5-973A-E09457D7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10E8-C272-475E-8EB9-37DC4DCF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B6BB-EBD1-40AB-9C75-B7D4499B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C65B-4D0C-4A53-8FCC-CF3AF23E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A94-6138-4C6C-B199-EB4C3968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A09C-012D-4023-94B7-AEE4945B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9C3A-99B7-4FCF-AD80-61F8206E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DBEB-33B4-4CD3-9335-42C25375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C6E6-200E-44A8-8E36-A06B3CC0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2BD4-B4BB-4118-BDC8-3CE32737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24D-FA47-42CA-B13E-957DAC29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499-4054-4F8D-A03A-121BDD7E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1C6-031D-4CF3-BE22-78AF75E0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DA8-EEA6-4FA1-8B8E-DA05E104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05A-6AF8-43E2-BA71-21037426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2C1-2302-4FBA-9906-9C328950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FC8-947D-4EAD-9F22-311F3F72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84ED-1F71-4D26-A846-808713C3929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9F53-A9B3-4829-9FF8-025AF4A4AAF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0066"/>
                </a:solidFill>
                <a:latin typeface="Tahoma"/>
              </a:rPr>
              <a:t>Una Propuesta de construcción curricular basada en competencias para la formación profesional universitaria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Karenina Troncoso N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Gustavo Hawes Barri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U de Chile, Mayo 8 de 2007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351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40360" y="2276640"/>
            <a:ext cx="647640" cy="792000"/>
          </a:xfrm>
          <a:prstGeom prst="downArrow">
            <a:avLst>
              <a:gd name="adj1" fmla="val 50000"/>
              <a:gd name="adj2" fmla="val 3057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6000" y="2060640"/>
            <a:ext cx="86040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61272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0" t="41353" r="30929" b="0"/>
          <a:stretch/>
        </p:blipFill>
        <p:spPr>
          <a:xfrm>
            <a:off x="0" y="2205000"/>
            <a:ext cx="9144000" cy="2903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867280" y="177336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rcRect l="21650" t="0" r="0" b="0"/>
          <a:stretch/>
        </p:blipFill>
        <p:spPr>
          <a:xfrm>
            <a:off x="23760" y="765000"/>
            <a:ext cx="9120240" cy="5372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916360" y="3357720"/>
            <a:ext cx="576000" cy="792000"/>
          </a:xfrm>
          <a:prstGeom prst="downArrow">
            <a:avLst>
              <a:gd name="adj1" fmla="val 50000"/>
              <a:gd name="adj2" fmla="val 34375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0" t="0" r="18695" b="0"/>
          <a:stretch/>
        </p:blipFill>
        <p:spPr>
          <a:xfrm>
            <a:off x="-36360" y="1268280"/>
            <a:ext cx="9189720" cy="3811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03640" y="37162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rcRect l="0" t="0" r="18680" b="0"/>
          <a:stretch/>
        </p:blipFill>
        <p:spPr>
          <a:xfrm>
            <a:off x="-36360" y="1197000"/>
            <a:ext cx="9082080" cy="398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92360" y="2492280"/>
            <a:ext cx="720720" cy="1079640"/>
          </a:xfrm>
          <a:prstGeom prst="downArrow">
            <a:avLst>
              <a:gd name="adj1" fmla="val 50000"/>
              <a:gd name="adj2" fmla="val 3745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rcRect l="0" t="0" r="16176" b="0"/>
          <a:stretch/>
        </p:blipFill>
        <p:spPr>
          <a:xfrm>
            <a:off x="0" y="907920"/>
            <a:ext cx="9204480" cy="452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88000" y="1844640"/>
            <a:ext cx="576000" cy="936720"/>
          </a:xfrm>
          <a:prstGeom prst="downArrow">
            <a:avLst>
              <a:gd name="adj1" fmla="val 50000"/>
              <a:gd name="adj2" fmla="val 40656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rcRect l="0" t="0" r="15528" b="0"/>
          <a:stretch/>
        </p:blipFill>
        <p:spPr>
          <a:xfrm>
            <a:off x="0" y="1050840"/>
            <a:ext cx="909324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88000" y="836640"/>
            <a:ext cx="718920" cy="1008000"/>
          </a:xfrm>
          <a:prstGeom prst="downArrow">
            <a:avLst>
              <a:gd name="adj1" fmla="val 50000"/>
              <a:gd name="adj2" fmla="val 3505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3:21:49Z</dcterms:created>
  <dc:creator>Gustavo Hawes</dc:creator>
  <dc:description/>
  <dc:language>en-US</dc:language>
  <cp:lastModifiedBy>ANTONIO ALMENDRAS</cp:lastModifiedBy>
  <dcterms:modified xsi:type="dcterms:W3CDTF">2007-05-08T03:46:46Z</dcterms:modified>
  <cp:revision>5</cp:revision>
  <dc:subject/>
  <dc:title>Curriculum Basado en Competencias</dc:title>
</cp:coreProperties>
</file>