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918-7085-4FCF-B16B-A8722FF3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82B-24CB-4331-99DE-88B6B665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5B5-8282-4D49-A955-46204F0A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E88-C5B9-4E42-8EB7-1FC76394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014-4EEA-49C2-8ECD-BEFE50B8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F370-4CB2-4016-B4DF-76AC34D9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9DC-C34B-4BD4-91B5-14220DCB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EC9-7A6F-4BCC-9C5D-AEB0A940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BDE-D62B-4856-9072-C48E4717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BFB-F681-4E39-8270-85E99F76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17A-F9D3-4B0E-9CE2-ABEBED47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4B26-993A-41F4-BB8E-0224DFE6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8826-9D73-47A1-920D-4631DE9DBE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sión ampliada de habilitación comisiones de innovación curricular.</a:t>
            </a:r>
            <a:br>
              <a:rPr sz="32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i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(2º pa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Karenina Tronc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Gustavo Haw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osto, 16 d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700280"/>
            <a:ext cx="7200720" cy="515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8560" y="2781360"/>
            <a:ext cx="5545080" cy="37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3860640"/>
            <a:ext cx="3743280" cy="23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uctura de un perfil de e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557360"/>
            <a:ext cx="3600360" cy="3527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ÁMBITO D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700280"/>
            <a:ext cx="4608360" cy="3024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4005360"/>
            <a:ext cx="6624720" cy="2303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516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5661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5734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5879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492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4920" y="5805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6200" y="5372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2200" y="5300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820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5589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5803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948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5156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08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5877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5805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20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795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4920" y="494028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6019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948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6164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623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418200">
            <a:off x="468360" y="486900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58972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2349360"/>
            <a:ext cx="287280" cy="358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6520" y="22971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omis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30880" y="3244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27880" y="4024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5480" y="4869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9960" y="5661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3716280"/>
            <a:ext cx="35892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997360"/>
            <a:ext cx="358920" cy="2156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43700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530064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320" y="62373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2480" y="358920"/>
            <a:ext cx="671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Dinámica de generación de un perf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797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15772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940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486900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086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537372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5302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518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4468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60228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8880" y="22766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cesidad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00000" y="2565000"/>
            <a:ext cx="244800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36720" y="2854440"/>
            <a:ext cx="187164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9598800">
            <a:off x="4127040" y="4503600"/>
            <a:ext cx="935280" cy="649440"/>
          </a:xfrm>
          <a:prstGeom prst="rightArrow">
            <a:avLst>
              <a:gd name="adj1" fmla="val 50000"/>
              <a:gd name="adj2" fmla="val 360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9598800">
            <a:off x="4102920" y="5084640"/>
            <a:ext cx="934920" cy="649440"/>
          </a:xfrm>
          <a:prstGeom prst="rightArrow">
            <a:avLst>
              <a:gd name="adj1" fmla="val 50000"/>
              <a:gd name="adj2" fmla="val 359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9598800">
            <a:off x="4102920" y="5733720"/>
            <a:ext cx="934920" cy="649080"/>
          </a:xfrm>
          <a:prstGeom prst="rightArrow">
            <a:avLst>
              <a:gd name="adj1" fmla="val 50000"/>
              <a:gd name="adj2" fmla="val 3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(a) […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profesional…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es (*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quien se desempeña en el ámbito de la socie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campos problemáticos que le son propios (atribuidamente propios)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frentando los proble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vilizando diversos saberes (fundantes) y recursos de redes y context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paz de dar razón y fundamentación de sus decis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haciéndose responsables de las mismas y sus 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(*) [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egres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certificado en dominios de competencias clave que lo habilitan para el desempeño en contextos deter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 de declaración del Perfil de Egr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claración propositiva que da cuent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dominios o ámbitos de realización en los diversos contextos de desemp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énfasis de la form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sello o identidad de la institución form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 de una declaración de perfil como compromiso 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Ingeniero Forestal de la Universidad de Chile es un profesional capaz de formular, evaluar y gestionar planes, programas y proyectos, a la vez que identificar, modelar y gestionar procesos y procedimientos relativos a recursos existentes en los diversos ecosistemas forestales y ambientes relacionados, para la obtención de bienes y servicios con criterios de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mismo, se espera que el ingeniero forestal de la Universidad de Chile participe o dirija el desarrollo nacional en los ámbitos atingentes a su profesión, dentro de las disposiciones regulatorias vigentes, respetando creencias, costumbres y tradiciones de las persona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comun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í como el medio ambient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la legislación pertinent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[Propuesta elaborada por la comisión de innovación curricular de la Escuela de Ingeniería Forestal de la U, y sancionada en Jornada de Validación del 7 de Agosto de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sando de la demanda de formación a la declaración de competencia del perf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propuesta inicial de dominios o ámbitos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cribir o significar el contenido del dominio  expresado como una “macrocompetencia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abarca o acoge a las competencias pr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limitando el marco contextual de su realización (desempeñ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las competencias como actuares complejos (acción + constructo + contex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el gerundio de las subcompetencias que darán origen al itinerario formativo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(Ing. Co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DOMINIO: “GESTION ESTRATEGICA”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s y actividades de diseño, formulación, aplicación y evaluación de una estrategia de acción en respuesta a las demandas del entorno, buscando explorar ventajas competitivas que posicionen positivamente a la organización en el medio y que aseguren su continu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OMPETENCIAS y SUB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las condiciones del entorno para direccionar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ular y comunicar estrategias y planes de acción con sus mecanismos de control al interior de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ndo opciones estratégicas para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uando las opciones estratégicas que permitan la competetitividad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35640" y="2852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5640" y="98100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91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916280"/>
            <a:ext cx="3384720" cy="30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MPONENTES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ÁSICOS DE LA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AS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125360"/>
            <a:ext cx="287280" cy="446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6280 h 4464360"/>
              <a:gd name="textAreaBottom" fmla="*/ 434808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5640" y="4724280"/>
            <a:ext cx="3205080" cy="865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5. Construcción de la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estructura formal del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3716280"/>
            <a:ext cx="324000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4. Organización y estruc-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turación de la matriz de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71640" y="6524640"/>
          <a:ext cx="5715000" cy="109548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692360" y="1341360"/>
            <a:ext cx="7200720" cy="158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1: Levantamiento de las demandas y necesidades de form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vía del análisis de los diversos marcos de referencia (polític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, gremial, científico, tecnológico) y sistematización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 proveniente de diversas fuentes de inform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te a los propósitos del perfil de e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620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3068640"/>
            <a:ext cx="7200720" cy="158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to 2: Declaración del Perfil de Egr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ndo los componentes de ámbitos de realización, compe-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ias y subcompetencias asociados, atendiendo a los criterios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gor apropiados a la problemática que se está enfrent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3716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7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92360" y="4786200"/>
            <a:ext cx="7200720" cy="17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3: Validación del Perfil de Egre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n participación de actor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os: administradores/políticos, académicos,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consistencia del perf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descripciones de los distintos ejes o domini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competencias de los distintos de ejes o 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ón de validez del 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perf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njunto de rasgos genéricos que permiten identificar a un objeto como 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perfil es tal cuando en él se reconoce el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tes audiencias tendrán diferentes niveles 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 recono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cluso pueden verse objetos allí donde no los hay (Rorschach; Gesta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biLevel thresh="50000"/>
            <a:lum contrast="6000"/>
          </a:blip>
          <a:srcRect l="0" t="0" r="0" b="18442"/>
          <a:stretch/>
        </p:blipFill>
        <p:spPr>
          <a:xfrm>
            <a:off x="195120" y="73080"/>
            <a:ext cx="43768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496800"/>
            <a:ext cx="4572000" cy="430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79240" y="4941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e Guev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9240" y="5013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44600" y="5634000"/>
            <a:ext cx="645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os perfiles ¿igualmente reconoci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126828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566100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71640" y="1341000"/>
            <a:ext cx="6985080" cy="381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125360"/>
            <a:ext cx="1297080" cy="10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75280" y="2565360"/>
            <a:ext cx="316872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ada perfi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guimo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declaración (interme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o, egreso: especialización,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ér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ivel de logro o habi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tación que se ha lograd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d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3640" y="58975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2560" y="2347920"/>
            <a:ext cx="12970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125360"/>
            <a:ext cx="1296720" cy="10814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2349360"/>
            <a:ext cx="129708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5445000"/>
            <a:ext cx="7200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4148280"/>
            <a:ext cx="5545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2708280"/>
            <a:ext cx="3743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2852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71640" y="2852640"/>
            <a:ext cx="1728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8:26:28Z</dcterms:created>
  <dc:creator>Gustavo Hawes</dc:creator>
  <dc:description/>
  <dc:language>en-US</dc:language>
  <cp:lastModifiedBy>Facultad de Medicina</cp:lastModifiedBy>
  <dcterms:modified xsi:type="dcterms:W3CDTF">2007-08-22T16:26:22Z</dcterms:modified>
  <cp:revision>13</cp:revision>
  <dc:subject/>
  <dc:title>Perfiles</dc:title>
</cp:coreProperties>
</file>