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CE1-18A3-4069-8A95-35071B5A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83D-D128-43D2-A4D5-60AE8925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10C-8BEA-4446-A755-DC3069F6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E07-14D7-4DEC-B7A2-38C86425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BF2F-36CC-43E3-A32D-D22C5646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E790-4616-4CF9-8C67-AA8E1647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DE9E-0E16-405B-9160-8A84C58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43D-7123-4D0B-B3FA-18FEBCAE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BC37-8446-4F2D-8C83-A8EE4149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4C7F-8674-4D77-A3C3-43F1CC9C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991E-BB3F-4815-A589-5DE98C3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245-DD1C-44DC-AC28-59AF261C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F6AA-981F-4437-806B-F3C936D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EF7-354B-4381-9AA6-A393758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FB6-D220-48B3-9267-2CB958F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7051-2994-41F9-AD14-49BC4C2A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415D-29BC-4923-91F6-B5826FBC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776-FEC6-43DD-8B27-1FE3553A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5E5-4D9D-4F8C-A092-E7CBD94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23A-ED4D-4514-960B-5F2BE7B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E60-88C2-48EC-B0CA-1E5AEA6C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4A2-6171-419C-BEE7-997E989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425-1EE2-4B19-9A0F-EB3B01A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0C2-2739-4FF4-9BE3-2CA11C6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B570-3B2E-49A7-8421-4217B47E03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505-1D6D-4A2A-8AA9-2F0B1784D8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GRAMAS DE REHABILITACION PARA PERSONAS CON DISCAPA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CURSO IN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PROF. CLAUDIA MUÑOZ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56536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SI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CES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AF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S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421000"/>
            <a:ext cx="36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¿PROGRAMAS DE REHABILITACION?.......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TEGRACIÒN ……….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CLUSIÒN ……………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ARTICIPACION ………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QUIPARACION ……….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. ESPECIALES …………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IFERENCIADOS……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33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SONAS CON DISCAPA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341360"/>
            <a:ext cx="2374920" cy="245448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FI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PSI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SENS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1341360"/>
            <a:ext cx="2376360" cy="314604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NIÑOS Y ADOLESC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FI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PSI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D. SENS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MULTIHANDI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734080"/>
            <a:ext cx="6048360" cy="45972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aramond"/>
              </a:rPr>
              <a:t>ADULTO MAYOR Y DISCAPA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26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508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O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27280" y="3573000"/>
            <a:ext cx="3240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79640" y="3933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486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170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170028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3640" y="1700280"/>
            <a:ext cx="9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557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P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DIVIDUO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AMBIEN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M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2708280"/>
            <a:ext cx="1727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S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SIQU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S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2708280"/>
            <a:ext cx="201636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UNCION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ARROLLO DE CAPAC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MPENSACIÒ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ENTREN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PRENDIZ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3357720"/>
            <a:ext cx="172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RE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POY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565360"/>
            <a:ext cx="2087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TEGR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B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UN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ICIP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292428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5084640"/>
            <a:ext cx="287280" cy="720720"/>
          </a:xfrm>
          <a:prstGeom prst="upArrow">
            <a:avLst>
              <a:gd name="adj1" fmla="val 50000"/>
              <a:gd name="adj2" fmla="val 6271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421000"/>
            <a:ext cx="864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77336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177336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851640" y="-747000"/>
            <a:ext cx="792360" cy="4248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184464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0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COS DE INTERVEN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 NECESITAN LOS NIÑOS Y ADOLESCENTES CON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 NECESITAN LOS ADULTOS CON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 NECESITAN LOS ADULTOS MAYORES CON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ENECESITAN TODAS LAS PERSONAS EN EL TEMA DE LA DISCAPAC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17:07:36Z</dcterms:created>
  <dc:creator>Facultad de Medicina</dc:creator>
  <dc:description/>
  <dc:language>en-US</dc:language>
  <cp:lastModifiedBy>Facultad de Medicina</cp:lastModifiedBy>
  <dcterms:modified xsi:type="dcterms:W3CDTF">2006-07-14T20:42:14Z</dcterms:modified>
  <cp:revision>3</cp:revision>
  <dc:subject/>
  <dc:title>Diapositiva 1</dc:title>
</cp:coreProperties>
</file>