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29B1-0E7F-4E7E-BC1F-D3805C1E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3B37-C195-412D-8DE2-4191F45C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43F1-8DEE-4653-8735-19A84E81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FF92A-41B8-4B91-9855-9E8C7F96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5D4D-4FBC-4994-A2AD-8334CA80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D44F-0E21-41B6-83F7-2643379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AEA6-02CA-40DB-840C-6FD59BC9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A34-BC8A-4144-9AA4-D7C3ACE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A99A-4647-4F0A-B295-4D7478CA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B0F3-67D0-4AC1-8844-5F6838E1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796-6EA8-42B9-A4E7-798D1FB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B8A2C-EFDB-4E85-858C-B7C8F46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AB21-6750-4525-A3F2-B994325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8E9E-9200-4943-9E18-D616FEF7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C5A6-EA66-4404-8973-65A2996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05E6-2FD6-4B06-949C-06F63E51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E782-26AE-42B2-A77A-96F91503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017F-9399-4B76-8473-6C7106DB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225B-14FA-4EA4-A20C-04A332B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D7A5-E8EF-4156-8360-DF1E0D17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B0D7-E7BE-4C40-BDCC-05AD75F8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D6C5-A3FC-4C49-A3EC-913A029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3C6A-4C26-4E61-96CF-A876DA9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EB8B-EAE2-4525-980F-9A0F5E1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F2A9-57F4-4765-86C0-A1E96EDF93B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269D-8F5C-4211-A87B-4ED20F2D60E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Acu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514"/>
                </a:solidFill>
                <a:latin typeface="Arial"/>
                <a:ea typeface="Arial"/>
              </a:rPr>
              <a:t>OXÍGENO DISUELTO Y CARBONO INORGÁNIC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755640" y="333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7928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tribución vertical de la concentración de oxígeno y temperatura anual en dos lagos dimícticos: uno oligotrófico y otro eutrófic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4 Marcador de contenido" descr="estratificacion y mezcla copiar.jpg"/>
          <p:cNvPicPr/>
          <p:nvPr/>
        </p:nvPicPr>
        <p:blipFill>
          <a:blip r:embed="rId1"/>
          <a:stretch/>
        </p:blipFill>
        <p:spPr>
          <a:xfrm>
            <a:off x="1042920" y="1413000"/>
            <a:ext cx="70135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5 Imagen" descr="grafico1 copiar.jpg"/>
          <p:cNvPicPr/>
          <p:nvPr/>
        </p:nvPicPr>
        <p:blipFill>
          <a:blip r:embed="rId1"/>
          <a:stretch/>
        </p:blipFill>
        <p:spPr>
          <a:xfrm>
            <a:off x="4489560" y="1197000"/>
            <a:ext cx="4654440" cy="4576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345680" y="333360"/>
            <a:ext cx="62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CIRCULACIÓN PRIMAV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236000" y="1268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64000" y="1268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24000" y="206064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ideal de 100% de saturación depende del control físico de difusión, mezcla y satu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. ESTRATIFICACIÓN DE VERANO EN UN LAGO OLIGOTRÓFICO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2205000"/>
            <a:ext cx="4249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disuelto en profundidad esta ampliamente regulada por mecanismos físic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solubilidad al aumentar la temperatu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4 Imagen" descr="grafico 2 copiar.jpg"/>
          <p:cNvPicPr/>
          <p:nvPr/>
        </p:nvPicPr>
        <p:blipFill>
          <a:blip r:embed="rId1"/>
          <a:stretch/>
        </p:blipFill>
        <p:spPr>
          <a:xfrm>
            <a:off x="4610160" y="1413000"/>
            <a:ext cx="453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197000"/>
            <a:ext cx="374508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epi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luctúa debido al balance fotosíntesis-respiración y la mezcla del viento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isminuye por la respiración y procesos de oxidación y puede llegar a ser un hipolimnion anaerobio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5640" y="404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. ESTRATIFICACIÓN  DE VERAN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6 Imagen" descr="grafico 4 copiar.jpg"/>
          <p:cNvPicPr/>
          <p:nvPr/>
        </p:nvPicPr>
        <p:blipFill>
          <a:blip r:embed="rId1"/>
          <a:stretch/>
        </p:blipFill>
        <p:spPr>
          <a:xfrm>
            <a:off x="4071960" y="1811160"/>
            <a:ext cx="5072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24000" y="1484280"/>
            <a:ext cx="360036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 epi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minuye suavemente a medida que el agua con poco oxígeno se mezcla en la superfici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xígeno hipolimnetic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inua disminuyend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95280" y="333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. QUIEBRE DE LA ESTRATIFICACIÓN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3 Imagen" descr="grafico 5 copiar.jpg"/>
          <p:cNvPicPr/>
          <p:nvPr/>
        </p:nvPicPr>
        <p:blipFill>
          <a:blip r:embed="rId1"/>
          <a:stretch/>
        </p:blipFill>
        <p:spPr>
          <a:xfrm>
            <a:off x="4716360" y="1413000"/>
            <a:ext cx="411480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 Imagen" descr="grafico6 copiar.jpg"/>
          <p:cNvPicPr/>
          <p:nvPr/>
        </p:nvPicPr>
        <p:blipFill>
          <a:blip r:embed="rId1"/>
          <a:stretch/>
        </p:blipFill>
        <p:spPr>
          <a:xfrm>
            <a:off x="528480" y="1214280"/>
            <a:ext cx="7874280" cy="473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3214440"/>
            <a:ext cx="67579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 Imagen" descr="grafico 7 copiar.jpg"/>
          <p:cNvPicPr/>
          <p:nvPr/>
        </p:nvPicPr>
        <p:blipFill>
          <a:blip r:embed="rId1"/>
          <a:stretch/>
        </p:blipFill>
        <p:spPr>
          <a:xfrm>
            <a:off x="571680" y="1268280"/>
            <a:ext cx="7786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5 Imagen" descr="grafico8 copiar.jpg"/>
          <p:cNvPicPr/>
          <p:nvPr/>
        </p:nvPicPr>
        <p:blipFill>
          <a:blip r:embed="rId1"/>
          <a:stretch/>
        </p:blipFill>
        <p:spPr>
          <a:xfrm>
            <a:off x="4819680" y="1197000"/>
            <a:ext cx="4324320" cy="5411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50920" y="1071720"/>
            <a:ext cx="4321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a &gt;4 ºC because of leftover summer hea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&lt;100% debido a la respiración en el hipolimn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xígeno tiende al100% de saturación por la acción del vient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o, si el hielo se forma tempranamente, todo el lago puede no llegar a la saturación dr oxígeno disuelto de 100%,  '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ter oxygen deb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 (deuda invernal de oxígeno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746480" y="134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9966"/>
                </a:solidFill>
                <a:latin typeface="Arial"/>
                <a:ea typeface="Arial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796000" y="1341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cc"/>
                </a:solidFill>
                <a:latin typeface="Arial"/>
                <a:ea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5 Rectángulo"/>
          <p:cNvSpPr/>
          <p:nvPr/>
        </p:nvSpPr>
        <p:spPr>
          <a:xfrm>
            <a:off x="1496880" y="260280"/>
            <a:ext cx="576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CIRCULACIÓN DE OTOÑ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324000" y="1125360"/>
            <a:ext cx="331128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 </a:t>
            </a:r>
            <a:br>
              <a:rPr sz="18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ratificación Invers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más intensa ocurre en y cerca de los sedimentos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      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inter kills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posible muerte invernal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F. INVIER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4 Imagen" descr="grafico 9 copiar.jpg"/>
          <p:cNvPicPr/>
          <p:nvPr/>
        </p:nvPicPr>
        <p:blipFill>
          <a:blip r:embed="rId1"/>
          <a:stretch/>
        </p:blipFill>
        <p:spPr>
          <a:xfrm>
            <a:off x="4006800" y="1197000"/>
            <a:ext cx="51372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Especialmente en los dimícticos eutróficos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4 Imagen" descr="grafico 10 copiar.jpg"/>
          <p:cNvPicPr/>
          <p:nvPr/>
        </p:nvPicPr>
        <p:blipFill>
          <a:blip r:embed="rId1"/>
          <a:stretch/>
        </p:blipFill>
        <p:spPr>
          <a:xfrm>
            <a:off x="142920" y="2571840"/>
            <a:ext cx="43815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6 Imagen" descr="grafico 11 copiar.jpg"/>
          <p:cNvPicPr/>
          <p:nvPr/>
        </p:nvPicPr>
        <p:blipFill>
          <a:blip r:embed="rId2"/>
          <a:stretch/>
        </p:blipFill>
        <p:spPr>
          <a:xfrm>
            <a:off x="4572000" y="2571840"/>
            <a:ext cx="4348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57160" y="500040"/>
            <a:ext cx="7491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 (O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es esencial para compren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distribu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El comportamiento y el crecimiento fisiológico de los organismos acuáticos.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CURVAS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1413000"/>
            <a:ext cx="41767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RMA CLINOGRA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éficit del oxígeno Hipolimnetic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respiración y la descomposición aumenta a medida que aumenta la productividad del lag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6 Imagen" descr="grafico 12 copiar.jpg"/>
          <p:cNvPicPr/>
          <p:nvPr/>
        </p:nvPicPr>
        <p:blipFill>
          <a:blip r:embed="rId1"/>
          <a:stretch/>
        </p:blipFill>
        <p:spPr>
          <a:xfrm>
            <a:off x="4545000" y="1916280"/>
            <a:ext cx="459900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50920" y="1484280"/>
            <a:ext cx="453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concentración de oxígeno Metalimnético e Hipolimnético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lagos poco productivos, oligotróficos, pobres en nutrientes y escasa producción orgáni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4 Imagen" descr="grafico 13 copiar.jpg"/>
          <p:cNvPicPr/>
          <p:nvPr/>
        </p:nvPicPr>
        <p:blipFill>
          <a:blip r:embed="rId1"/>
          <a:stretch/>
        </p:blipFill>
        <p:spPr>
          <a:xfrm>
            <a:off x="5003640" y="1557360"/>
            <a:ext cx="4140360" cy="4127400"/>
          </a:xfrm>
          <a:prstGeom prst="rect">
            <a:avLst/>
          </a:prstGeom>
          <a:ln w="0">
            <a:noFill/>
          </a:ln>
        </p:spPr>
      </p:pic>
      <p:sp>
        <p:nvSpPr>
          <p:cNvPr id="151" name="4 Rectángulo"/>
          <p:cNvSpPr/>
          <p:nvPr/>
        </p:nvSpPr>
        <p:spPr>
          <a:xfrm>
            <a:off x="755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. FORMA ORTOGRAD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berg y Rodhe, 1942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basins of same surface area, with differing volumes"/>
          <p:cNvPicPr/>
          <p:nvPr/>
        </p:nvPicPr>
        <p:blipFill>
          <a:blip r:embed="rId1"/>
          <a:stretch/>
        </p:blipFill>
        <p:spPr>
          <a:xfrm>
            <a:off x="4859280" y="4508640"/>
            <a:ext cx="2185920" cy="21859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pic>
        <p:nvPicPr>
          <p:cNvPr id="153" name="9 Imagen" descr="grafico 12 copiar.jpg"/>
          <p:cNvPicPr/>
          <p:nvPr/>
        </p:nvPicPr>
        <p:blipFill>
          <a:blip r:embed="rId2"/>
          <a:stretch/>
        </p:blipFill>
        <p:spPr>
          <a:xfrm>
            <a:off x="0" y="0"/>
            <a:ext cx="3714840" cy="331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1928880" y="20001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Clin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4 Imagen" descr="grafico 13 copiar.jpg"/>
          <p:cNvPicPr/>
          <p:nvPr/>
        </p:nvPicPr>
        <p:blipFill>
          <a:blip r:embed="rId3"/>
          <a:stretch/>
        </p:blipFill>
        <p:spPr>
          <a:xfrm>
            <a:off x="0" y="3357720"/>
            <a:ext cx="3714840" cy="3341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0" y="621504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514"/>
                </a:solidFill>
                <a:latin typeface="Arial"/>
                <a:ea typeface="Arial"/>
              </a:rPr>
              <a:t>Ortogra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7 Rectángulo"/>
          <p:cNvSpPr/>
          <p:nvPr/>
        </p:nvSpPr>
        <p:spPr>
          <a:xfrm>
            <a:off x="4067280" y="260280"/>
            <a:ext cx="4572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LAGOS OLIGOTRÓF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aja producción y respiración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a solubilidad del oxígeno debido a la baja temperatur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s lagos que tienen la misma productividad, uno puede ser  clinogrado y el otro ortogrado basado en la forma de la cuenc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765000"/>
            <a:ext cx="460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da por la fotosíntesis a nivel de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rmocl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penetración de la luz al metalimnion,  donde hay una baja mezcla, permaneciendo el oxígeno en el lugar de producción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guna entrada de nutrientes desde el hipolimnion aumenta el crecimiento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de el  hipolimnion aumenta el crecim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ep chlorophyll layer”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estrato profundo de clorofila depende de la transparencia del agua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de también estar causado por la entrada de oxígeno de agua de río más densa que la de superfici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3 Imagen" descr="grafico 14 copiar.jpg"/>
          <p:cNvPicPr/>
          <p:nvPr/>
        </p:nvPicPr>
        <p:blipFill>
          <a:blip r:embed="rId1"/>
          <a:stretch/>
        </p:blipFill>
        <p:spPr>
          <a:xfrm>
            <a:off x="4924440" y="1197000"/>
            <a:ext cx="4219560" cy="4896000"/>
          </a:xfrm>
          <a:prstGeom prst="rect">
            <a:avLst/>
          </a:prstGeom>
          <a:ln w="0">
            <a:noFill/>
          </a:ln>
        </p:spPr>
      </p:pic>
      <p:sp>
        <p:nvSpPr>
          <p:cNvPr id="160" name="3 Rectángulo"/>
          <p:cNvSpPr/>
          <p:nvPr/>
        </p:nvSpPr>
        <p:spPr>
          <a:xfrm>
            <a:off x="1232280" y="18900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RVA HETEROGRADA POSITIV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r lo general son lagos relativamente profun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e área superficial pequeña. Zr&lt;2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tegidos de la acción del viento (montañas o vegetación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11280" y="260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CURVAS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HETEROGRADAS POSITIV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0" y="404640"/>
            <a:ext cx="48592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producirse debido a la respiración efectuada por algas durante la noche, o la respiración de un denso estrato de zooplancton; pero también puede ser causado por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 gradiente de densidad – lluvia de detritus alóctono con permanente sediment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'marine snow')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á aquietado por el gradiente de densidad alrededor de la termoc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ayor respiración de la materia orgá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la cual puede ser retirada del luga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orfología; A menor pendiente a nivel del metalimnion el agua de esta zona presentará un % de contacto mucho mayor con los sediment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3 Imagen" descr="grafico 15 copiar.jpg"/>
          <p:cNvPicPr/>
          <p:nvPr/>
        </p:nvPicPr>
        <p:blipFill>
          <a:blip r:embed="rId1"/>
          <a:stretch/>
        </p:blipFill>
        <p:spPr>
          <a:xfrm>
            <a:off x="4978440" y="836640"/>
            <a:ext cx="4165560" cy="316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5005440" y="4149720"/>
            <a:ext cx="413856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5003640" y="5661000"/>
            <a:ext cx="1224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514"/>
                </a:solidFill>
                <a:latin typeface="Arial"/>
                <a:ea typeface="Arial"/>
              </a:rPr>
              <a:t>Plataforma estrecha y plana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5 Rectángulo"/>
          <p:cNvSpPr/>
          <p:nvPr/>
        </p:nvSpPr>
        <p:spPr>
          <a:xfrm>
            <a:off x="2270520" y="189000"/>
            <a:ext cx="47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ETEROGRAD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EGATIV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. CICLO DIARIO DEL CONTENIDO DE OXÍGENO EPILIMNET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4" descr="example of diurnal (diel) cycle of oxygen concentrations in water"/>
          <p:cNvPicPr/>
          <p:nvPr/>
        </p:nvPicPr>
        <p:blipFill>
          <a:blip r:embed="rId1"/>
          <a:stretch/>
        </p:blipFill>
        <p:spPr>
          <a:xfrm>
            <a:off x="1495440" y="1773360"/>
            <a:ext cx="5956200" cy="397800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  <p:sp>
        <p:nvSpPr>
          <p:cNvPr id="170" name="Text Box 7"/>
          <p:cNvSpPr/>
          <p:nvPr/>
        </p:nvSpPr>
        <p:spPr>
          <a:xfrm>
            <a:off x="1835280" y="436572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619280" y="4581360"/>
            <a:ext cx="1081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2266920" y="4797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82920" y="501336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698920" y="5229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914560" y="5445000"/>
            <a:ext cx="8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700360" y="458136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man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851280" y="4581360"/>
            <a:ext cx="1039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tar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079240" y="4581360"/>
            <a:ext cx="82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atardec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086160" y="4581360"/>
            <a:ext cx="1014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514"/>
                </a:solidFill>
                <a:latin typeface="Arial"/>
                <a:ea typeface="Arial"/>
              </a:rPr>
              <a:t>medianoch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. DÉFICIT DE OXÍGEN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uánto oxígeno es requerido por la descomposición del material que cae desde la zona productiva, la zona Trofogénica, a la zona Trofolítica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antidad de oxígeno consumido por los procesos de descomposición en el hipolimnion permite estimar la productividad de un lag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23640" y="1773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eríodo de Estratificación de verano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-  El mismo perfil térmico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Qué lago es má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  <a:ea typeface="Arial"/>
              </a:rPr>
              <a:t>productivo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oxygen curves of two lakes differing in productivity"/>
          <p:cNvPicPr/>
          <p:nvPr/>
        </p:nvPicPr>
        <p:blipFill>
          <a:blip r:embed="rId1"/>
          <a:stretch/>
        </p:blipFill>
        <p:spPr>
          <a:xfrm>
            <a:off x="5106960" y="2820960"/>
            <a:ext cx="4037040" cy="40370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84" name="4 Rectángulo"/>
          <p:cNvSpPr/>
          <p:nvPr/>
        </p:nvSpPr>
        <p:spPr>
          <a:xfrm>
            <a:off x="250920" y="260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INTEGRACIÓN DE LOS PERFILES DE TEMPERATURA Y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 Rectángulo"/>
          <p:cNvSpPr/>
          <p:nvPr/>
        </p:nvSpPr>
        <p:spPr>
          <a:xfrm>
            <a:off x="413280" y="16286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. Ejemplo lag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2.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920" y="76500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gos 1 y 2 tienen la misma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. Productividad 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. Profundidad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ii. Transparencia/ Penetración de la luz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¿Por qué hay dos comportamientos diferentes?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temperature and oxygen profiles of two lakes differing in thermocline depth"/>
          <p:cNvPicPr/>
          <p:nvPr/>
        </p:nvPicPr>
        <p:blipFill>
          <a:blip r:embed="rId1"/>
          <a:stretch/>
        </p:blipFill>
        <p:spPr>
          <a:xfrm>
            <a:off x="1979640" y="3500280"/>
            <a:ext cx="5594400" cy="335772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XÍGENO DISUEL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istribución del oxígeno en los lagos influye 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La solubilidad de la gran mayorí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os nutrientes inorgánic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9884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.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lago 4.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es veces, cada un día separadament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- Tiene lugar un cambio en oxígeno y no la temperatura.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e5e5ff"/>
                </a:solidFill>
                <a:latin typeface="Arial"/>
                <a:ea typeface="Arial"/>
              </a:rPr>
              <a:t>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¿Qué causa esto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0" name="Picture 3" descr="temperature and oxygen profiles of a lake on three consecutive days"/>
          <p:cNvPicPr/>
          <p:nvPr/>
        </p:nvPicPr>
        <p:blipFill>
          <a:blip r:embed="rId1"/>
          <a:stretch/>
        </p:blipFill>
        <p:spPr>
          <a:xfrm>
            <a:off x="684360" y="3525840"/>
            <a:ext cx="7775280" cy="333216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jemplo Río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oxygen and temperature profiles in a river"/>
          <p:cNvPicPr/>
          <p:nvPr/>
        </p:nvPicPr>
        <p:blipFill>
          <a:blip r:embed="rId1"/>
          <a:stretch/>
        </p:blipFill>
        <p:spPr>
          <a:xfrm>
            <a:off x="1619280" y="2276640"/>
            <a:ext cx="6124680" cy="3674880"/>
          </a:xfrm>
          <a:prstGeom prst="rect">
            <a:avLst/>
          </a:prstGeom>
          <a:ln w="9360">
            <a:solidFill>
              <a:srgbClr val="e4300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ECANISMOS DE CONTROL DE LA CONCENTRACIÓN DE OXÍGENO DISUELTO EN LAG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cedente de la atmósfer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Oxígeno disuelto producido por fotosínte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Distribución hidromecánica del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Metabolismo del consumo de oxíge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REGULACIÓN DE LA DISPONIBILIDAD DE NUTRIENTES POR EL CONTENIDO DE OXÍGENO DISUELT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os cambios en la distribución de nutrientes provocan un crecimiento rápido de muchos organis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i los cambios se prolongan, la productividad del lago puede variar radicalmente y mantener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OLUBILIDAD DE LOS GASES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341000"/>
            <a:ext cx="88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Depende de la temperatura. De la presión parcial atmosférica, por lo tanto de la altitud a la que se encuentra el sistema lacustr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La cantidad de gas que permanece disuelto depende de la presión atmosférica, las condiciones meteorológicas y la presión hidrostática de cada profundidad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= P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(superficie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+ 0,0967</a:t>
            </a:r>
            <a:r>
              <a:rPr b="0" lang="es-MX" sz="3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resión real (atm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CONCENTRACIÓN DE OXÍGENO SE VE AFECTADA POR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alinidad reduce la solubilidad del oxígeno en el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solubilidad no disminuye en forma exponencial al aumentar el contenido de s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ESTIMACIÓN DE LA CONCENTRACIÓN DE OXÍGENO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Método de Winkl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- Por una doble oxidación se captura todo el oxígeno disuelto disponible en la muestra de agu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La determinación se realiza potenciométricamente o colorimétrica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1736640"/>
            <a:ext cx="8209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  <a:ea typeface="Arial"/>
              </a:rPr>
              <a:t>Distribución del oxígeno disuelto en los lagos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5:05:33Z</dcterms:created>
  <dc:creator>RAQUEL</dc:creator>
  <dc:description/>
  <dc:language>en-US</dc:language>
  <cp:lastModifiedBy>usuario</cp:lastModifiedBy>
  <dcterms:modified xsi:type="dcterms:W3CDTF">2011-12-20T07:11:09Z</dcterms:modified>
  <cp:revision>93</cp:revision>
  <dc:subject/>
  <dc:title>Diapositiva 1</dc:title>
</cp:coreProperties>
</file>