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E5682-5B79-4EBD-B78E-C97A69AC2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CD589-88F5-40F9-8D61-C45A716A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8DE0D-7130-4500-AF5A-AD1D2DAB5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50EF3-9338-48FF-9160-D4FA50344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1830-2941-4CFC-82BE-CB0CCA9D3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663D-36EC-4C54-B1DD-AE5BC8E8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E272-9303-4992-9EE1-A8B6E0DE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35B6-FA53-4A09-AA78-30BCCC5E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9EC8-61E3-49FE-8331-B5ED2725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3BE0-131F-49E7-B589-224A1EFC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DB67-F455-4500-B188-467D3BBE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3517C-12D4-4C0E-A616-7236CF44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11C2-1FF6-40C1-83D8-4A73D7CA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AD52-B818-414F-943F-FC64C24E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1406-0762-4770-8493-9AB0C534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377C-0926-47E6-8CFD-1D21744C1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CE84-FFE3-485A-B0B0-D6CD4B2D1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59618-96BE-48E9-87FF-AD809805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7D8AE-5D1F-4A5C-929B-D74107AA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0E720-529D-47C4-8BB4-F5962BDE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6D424-B35F-4EB0-8425-6EEE52E2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FEFF4-DEB3-457F-9266-97454D09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5AA19-9822-42F3-927E-3A2B7AE4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C8AEA-9A2B-45FE-A214-4A8012AD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D971-ABCD-4699-BC03-46C1ED358E7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6DDC-97FC-4B4F-956D-001596E5BE2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CARBONO INORGÁNICO DISUELTO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6 CuadroTexto"/>
          <p:cNvSpPr/>
          <p:nvPr/>
        </p:nvSpPr>
        <p:spPr>
          <a:xfrm>
            <a:off x="179280" y="1197000"/>
            <a:ext cx="896472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Bicarbonato y carbonato se disocian para establecer el equlibrio buffer en el agu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CO</a:t>
            </a:r>
            <a:r>
              <a:rPr b="1" lang="en-US" sz="2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+ H</a:t>
            </a:r>
            <a:r>
              <a:rPr b="1" lang="en-US" sz="2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O       H</a:t>
            </a:r>
            <a:r>
              <a:rPr b="1" lang="en-US" sz="2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CO</a:t>
            </a:r>
            <a:r>
              <a:rPr b="1" lang="en-US" sz="2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H</a:t>
            </a:r>
            <a:r>
              <a:rPr b="1" lang="en-US" sz="26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 +  HCO</a:t>
            </a:r>
            <a:r>
              <a:rPr b="1" lang="en-US" sz="2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1" lang="en-US" sz="26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2H</a:t>
            </a:r>
            <a:r>
              <a:rPr b="1" lang="en-US" sz="26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*+  CO</a:t>
            </a:r>
            <a:r>
              <a:rPr b="1" lang="en-US" sz="2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HCO</a:t>
            </a:r>
            <a:r>
              <a:rPr b="1" lang="es-E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es-E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1" lang="es-E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O                     H</a:t>
            </a:r>
            <a:r>
              <a:rPr b="1" lang="es-E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1" lang="es-E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+ OH</a:t>
            </a:r>
            <a:r>
              <a:rPr b="1" lang="es-E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1" lang="es-E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es-E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=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1" lang="es-E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O                        HCO</a:t>
            </a:r>
            <a:r>
              <a:rPr b="1" lang="es-E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es-E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+ OH</a:t>
            </a:r>
            <a:r>
              <a:rPr b="1" lang="es-E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1" lang="es-E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1" lang="es-E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H</a:t>
            </a:r>
            <a:r>
              <a:rPr b="1" lang="es-E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O + CO</a:t>
            </a:r>
            <a:r>
              <a:rPr b="1" lang="es-E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02" name="8 Conector recto de flecha"/>
          <p:cNvCxnSpPr/>
          <p:nvPr/>
        </p:nvCxnSpPr>
        <p:spPr>
          <a:xfrm>
            <a:off x="3276720" y="4869000"/>
            <a:ext cx="786240" cy="2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3" name="9 Conector recto de flecha"/>
          <p:cNvCxnSpPr/>
          <p:nvPr/>
        </p:nvCxnSpPr>
        <p:spPr>
          <a:xfrm>
            <a:off x="3276720" y="4436640"/>
            <a:ext cx="786240" cy="25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4" name="10 Conector recto de flecha"/>
          <p:cNvCxnSpPr/>
          <p:nvPr/>
        </p:nvCxnSpPr>
        <p:spPr>
          <a:xfrm>
            <a:off x="3276720" y="4005360"/>
            <a:ext cx="786240" cy="2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headEnd len="med" type="arrow" w="med"/>
            <a:tailEnd len="med" type="arrow" w="med"/>
          </a:ln>
        </p:spPr>
      </p:cxnSp>
      <p:sp>
        <p:nvSpPr>
          <p:cNvPr id="105" name="11 Flecha derecha"/>
          <p:cNvSpPr/>
          <p:nvPr/>
        </p:nvSpPr>
        <p:spPr>
          <a:xfrm>
            <a:off x="1979640" y="2637000"/>
            <a:ext cx="431640" cy="28728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12 Flecha derecha"/>
          <p:cNvSpPr/>
          <p:nvPr/>
        </p:nvSpPr>
        <p:spPr>
          <a:xfrm>
            <a:off x="3708360" y="2637000"/>
            <a:ext cx="432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13 Flecha derecha"/>
          <p:cNvSpPr/>
          <p:nvPr/>
        </p:nvSpPr>
        <p:spPr>
          <a:xfrm>
            <a:off x="6372360" y="2637000"/>
            <a:ext cx="431640" cy="28728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3 Imagen" descr="distribuciones verticales co2 y ph copiar.jpg"/>
          <p:cNvPicPr/>
          <p:nvPr/>
        </p:nvPicPr>
        <p:blipFill>
          <a:blip r:embed="rId1"/>
          <a:stretch/>
        </p:blipFill>
        <p:spPr>
          <a:xfrm>
            <a:off x="1652760" y="0"/>
            <a:ext cx="5295600" cy="6791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395280" y="4046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ALCALINIDAD EN UN LAGO CALCÁRE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826920" y="5734080"/>
            <a:ext cx="749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50920" y="5805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La actividad biológica induce la descalcificación del epilimnion, existen variaciones estacionales y vertical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7 Imagen" descr="diagrama profundidad tiempo copiar.jpg"/>
          <p:cNvPicPr/>
          <p:nvPr/>
        </p:nvPicPr>
        <p:blipFill>
          <a:blip r:embed="rId1"/>
          <a:stretch/>
        </p:blipFill>
        <p:spPr>
          <a:xfrm>
            <a:off x="0" y="1104840"/>
            <a:ext cx="9144000" cy="46324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ALCALINIDAD EN UN LAGO MODERADAMENTE CALCÁREO HIPEREUTRÓFICO.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6" name="5 Imagen" descr="diagrama profundidad tiempo alcalinidad copiar.jpg"/>
          <p:cNvPicPr/>
          <p:nvPr/>
        </p:nvPicPr>
        <p:blipFill>
          <a:blip r:embed="rId1"/>
          <a:stretch/>
        </p:blipFill>
        <p:spPr>
          <a:xfrm>
            <a:off x="0" y="2000160"/>
            <a:ext cx="914400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pH EN UN LAGO DE AGUA DURA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8" name="5 Imagen" descr="diagrama profundidad ph copiar.jpg"/>
          <p:cNvPicPr/>
          <p:nvPr/>
        </p:nvPicPr>
        <p:blipFill>
          <a:blip r:embed="rId1"/>
          <a:stretch/>
        </p:blipFill>
        <p:spPr>
          <a:xfrm>
            <a:off x="30240" y="1655640"/>
            <a:ext cx="911376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pH  EN UN LAGO MODERADAMENTE CALCÁREO HIPEREUTRÓFICO.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12600" y="1628640"/>
            <a:ext cx="90806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  <a:ea typeface="Arial"/>
              </a:rPr>
              <a:t>Análisis de la acumulación d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ipolimnético: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í en el periodo de estratificación de 4 meses hay 1,85 mgl</a:t>
            </a:r>
            <a:r>
              <a:rPr b="1" lang="es-ES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1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de NH4 ; 13,1 mgl</a:t>
            </a:r>
            <a:r>
              <a:rPr b="1" lang="es-ES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1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1" lang="es-E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; 32,4 mgl</a:t>
            </a:r>
            <a:r>
              <a:rPr b="1" lang="es-ES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1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HCO</a:t>
            </a:r>
            <a:r>
              <a:rPr b="1" lang="es-E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; 0,5 mgl</a:t>
            </a:r>
            <a:r>
              <a:rPr b="1" lang="es-ES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1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O</a:t>
            </a:r>
            <a:r>
              <a:rPr b="1" lang="es-E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y temperatura  6,7 °C.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2" name="3 Imagen" descr="Explorar0026.jpg"/>
          <p:cNvPicPr/>
          <p:nvPr/>
        </p:nvPicPr>
        <p:blipFill>
          <a:blip r:embed="rId1"/>
          <a:stretch/>
        </p:blipFill>
        <p:spPr>
          <a:xfrm>
            <a:off x="1601640" y="1341360"/>
            <a:ext cx="66754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Comparación de la intensidad de asimilación relativa  (acumulación  de CO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 en el hipolimnion expresado por litro de agua del epilimnion y por mes) con otros índices de productividad. 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4" name="4 Imagen" descr="Explorar0028.jpg"/>
          <p:cNvPicPr/>
          <p:nvPr/>
        </p:nvPicPr>
        <p:blipFill>
          <a:blip r:embed="rId1"/>
          <a:stretch/>
        </p:blipFill>
        <p:spPr>
          <a:xfrm>
            <a:off x="325440" y="2276640"/>
            <a:ext cx="863928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HETEROTROFÍA POTENCIAL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6" name="5 Imagen" descr="variacion cociente copiar.jpg"/>
          <p:cNvPicPr/>
          <p:nvPr/>
        </p:nvPicPr>
        <p:blipFill>
          <a:blip r:embed="rId1"/>
          <a:stretch/>
        </p:blipFill>
        <p:spPr>
          <a:xfrm>
            <a:off x="755640" y="1844640"/>
            <a:ext cx="81234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DISTRIBUCIÓN DE LAS DISTINTAS FORMAS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Σ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= (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+ H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+ 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50920" y="5143680"/>
            <a:ext cx="87138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El pH resulta de los ion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 procedentes de la disolución d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  y los ion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ebido a la hidrólisis de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6 Imagen" descr="relacion ph bicarbonatos copiar.jpg"/>
          <p:cNvPicPr/>
          <p:nvPr/>
        </p:nvPicPr>
        <p:blipFill>
          <a:blip r:embed="rId1"/>
          <a:stretch/>
        </p:blipFill>
        <p:spPr>
          <a:xfrm>
            <a:off x="395280" y="2852640"/>
            <a:ext cx="85550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Aguas duras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particulado y coloidal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precipita durante la fotosíntesis por gasto de CO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2271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Lagos salinos de regiones endorreicas domina </a:t>
            </a: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carbonatos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 con 10 000 mgl</a:t>
            </a:r>
            <a:r>
              <a:rPr b="0" lang="es-MX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1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, y </a:t>
            </a: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bicarbonatos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  con más de 1 000 mgl</a:t>
            </a:r>
            <a:r>
              <a:rPr b="0" lang="es-MX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1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 y un pH &gt;9,5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2271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Dureza :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parámetro de calidad del agua (sales de calcio y de magnesio, asociadas a bicarbonatos y carbonatos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Dureza temporal y dureza permanente ( unidos a sulfatos, cloruros y otros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Relación entre el pH y las proporciones relativas de las distintas formas de carbono inorgánico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5 Imagen" descr="Explorar0021.jpg"/>
          <p:cNvPicPr/>
          <p:nvPr/>
        </p:nvPicPr>
        <p:blipFill>
          <a:blip r:embed="rId1"/>
          <a:stretch/>
        </p:blipFill>
        <p:spPr>
          <a:xfrm>
            <a:off x="826920" y="1989000"/>
            <a:ext cx="734724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Proporciones d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, H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y  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= 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en el agua a distintos valores de pH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6" name="5 Imagen" descr="Explorar0022.jpg"/>
          <p:cNvPicPr/>
          <p:nvPr/>
        </p:nvPicPr>
        <p:blipFill>
          <a:blip r:embed="rId1"/>
          <a:stretch/>
        </p:blipFill>
        <p:spPr>
          <a:xfrm>
            <a:off x="1785960" y="1857240"/>
            <a:ext cx="6157800" cy="41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Escalas de dureza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8" name="Object 3"/>
          <p:cNvGraphicFramePr/>
          <p:nvPr/>
        </p:nvGraphicFramePr>
        <p:xfrm>
          <a:off x="971640" y="1700280"/>
          <a:ext cx="6985080" cy="44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700280"/>
                    <a:ext cx="6985080" cy="4465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53753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ALCALINIDAD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apacidad neutralizante de una solución, indica la cantidad de cambio que ocurrirá en el pH con la adición de cantidades moderadas de ácido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7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7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apacidad del agua impartida por carbonatos, bicarbonatos, hidróxidos y, ocasionalmente, boratos, silicatos y fosfato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7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7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apacidad del agua para aceptar protones (H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), por lo tanto la capacidad de neutralizar los ácidos; se caracteriza por la presencia natural de iones carbonatos (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=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), bicarbonatos  (H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) e hidróxidos (OH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7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7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a alcalinidad da una guía para escoger el tratamiento adecuado para un agua cruda o un efluente. La alcalinidad en el agua potable rara vez excede los 300 mg/L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  <a:ea typeface="Arial"/>
              </a:rPr>
              <a:t>Las pérdidas de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  <a:ea typeface="Arial"/>
              </a:rPr>
              <a:t>por fotosíntesis o la adición por respiración de la biota tiende a cambiar el pH (actividad de iones H</a:t>
            </a:r>
            <a:r>
              <a:rPr b="0" lang="es-MX" sz="2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  <a:ea typeface="Arial"/>
              </a:rPr>
              <a:t>) del agua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  <a:ea typeface="Arial"/>
              </a:rPr>
              <a:t>Pero la acción “Buffer del agua” tiende a resistir los cambios en pH, en tanto se mantenga el equilibrio carbonado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Σ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= (C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 + HC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+  C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=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La acción de los iones H</a:t>
            </a:r>
            <a:r>
              <a:rPr b="0" lang="es-ES" sz="2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 es neutralizada por los iones OH</a:t>
            </a:r>
            <a:r>
              <a:rPr b="0" lang="es-ES" sz="2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 a través de la disociación de HCO</a:t>
            </a:r>
            <a:r>
              <a:rPr b="0" lang="es-ES" sz="2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s-ES" sz="2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 y CO</a:t>
            </a:r>
            <a:r>
              <a:rPr b="0" lang="es-ES" sz="2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s-ES" sz="2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=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  <a:ea typeface="Arial"/>
              </a:rPr>
              <a:t>Sí se agrega iones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OH</a:t>
            </a:r>
            <a:r>
              <a:rPr b="0" lang="es-ES" sz="2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  <a:ea typeface="Arial"/>
              </a:rPr>
              <a:t> reacciona con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HCO</a:t>
            </a:r>
            <a:r>
              <a:rPr b="0" lang="es-ES" sz="2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s-ES" sz="2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Si la solución de bicarbonato de calcio esta en equilibrio con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, HC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y  C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=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(H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Ca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+ 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 +  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Se pierde una porción d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demandado para obtener el equilibrio, por actividad fotosintética excesiva; el equilibrio se desplaza totalmente hacia las especies carbonatadas, formándose un precipitado (tiza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5796000" y="1916280"/>
            <a:ext cx="0" cy="5760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3419640" y="2276640"/>
            <a:ext cx="7189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Line 6"/>
          <p:cNvSpPr/>
          <p:nvPr/>
        </p:nvSpPr>
        <p:spPr>
          <a:xfrm flipH="1">
            <a:off x="3419280" y="2492280"/>
            <a:ext cx="7189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2T04:55:23Z</dcterms:created>
  <dc:creator>RAQUEL</dc:creator>
  <dc:description/>
  <dc:language>en-US</dc:language>
  <cp:lastModifiedBy>Irma Vila</cp:lastModifiedBy>
  <dcterms:modified xsi:type="dcterms:W3CDTF">2011-12-22T16:23:29Z</dcterms:modified>
  <cp:revision>76</cp:revision>
  <dc:subject/>
  <dc:title>Diapositiva 1</dc:title>
</cp:coreProperties>
</file>