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2ECF-690E-44B5-B04D-C8F3C9AB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B0FE-82C9-4EC1-A37D-9F0354F5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D5FE1-8D8C-4CF3-B7CB-F50F21F4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5B1B-6D8F-483F-9EFF-70CC84B2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00B4-C662-418C-98C0-F0411D01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91EC-1023-436F-9254-5D909C70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9981-9B87-4A38-9298-A1B8AC49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8A3B-ECC8-41B4-87EC-0D8ACCFA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E03F-E9DB-4672-A93A-B195C09E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457D-B9BB-429F-861D-10E60BD0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AE2C-DCB2-4D6F-8E1B-7EDFCE2B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A657-D843-45F7-9D31-79A8C77B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D004-357D-4CBF-94A0-0D32689A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E522-E2C4-4C6A-B88A-548C957A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ADA3-B998-4D5B-BC63-5F514883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0B9E-6DDD-4CF1-8921-B7F140E0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5D97-EAE7-484D-8135-621F6B80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1156-7D68-4D61-9D77-C76F5061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F58F-F444-4179-AA64-6573A96C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4D0F-809C-420A-8079-865C5C60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C890-CBEA-47BF-B3B2-C82F8C42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4C1E-3040-40FE-AE2D-D1B18E3C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D3DE-3A1B-47EA-941F-1688A386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764E-6902-44CE-9330-C3BE0070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0361-F5DD-4241-B94A-926D50D9FD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FEDB-30E8-4DBB-9822-9FBAC48B712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CARBONO INORGÁNICO DISUELTO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6 CuadroTexto"/>
          <p:cNvSpPr/>
          <p:nvPr/>
        </p:nvSpPr>
        <p:spPr>
          <a:xfrm>
            <a:off x="179280" y="1197000"/>
            <a:ext cx="89647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Bicarbonato y carbonato se disocian para establecer el equlibrio buffer en el agu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+ H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       H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H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+  H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2H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*+  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O                    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OH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O                        H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OH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O + 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02" name="8 Conector recto de flecha"/>
          <p:cNvCxnSpPr/>
          <p:nvPr/>
        </p:nvCxnSpPr>
        <p:spPr>
          <a:xfrm>
            <a:off x="3276720" y="4869000"/>
            <a:ext cx="78624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9 Conector recto de flecha"/>
          <p:cNvCxnSpPr/>
          <p:nvPr/>
        </p:nvCxnSpPr>
        <p:spPr>
          <a:xfrm>
            <a:off x="3276720" y="4436640"/>
            <a:ext cx="786240" cy="25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10 Conector recto de flecha"/>
          <p:cNvCxnSpPr/>
          <p:nvPr/>
        </p:nvCxnSpPr>
        <p:spPr>
          <a:xfrm>
            <a:off x="3276720" y="4005360"/>
            <a:ext cx="78624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sp>
        <p:nvSpPr>
          <p:cNvPr id="105" name="11 Flecha derecha"/>
          <p:cNvSpPr/>
          <p:nvPr/>
        </p:nvSpPr>
        <p:spPr>
          <a:xfrm>
            <a:off x="1979640" y="263700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12 Flecha derecha"/>
          <p:cNvSpPr/>
          <p:nvPr/>
        </p:nvSpPr>
        <p:spPr>
          <a:xfrm>
            <a:off x="3708360" y="2637000"/>
            <a:ext cx="432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13 Flecha derecha"/>
          <p:cNvSpPr/>
          <p:nvPr/>
        </p:nvSpPr>
        <p:spPr>
          <a:xfrm>
            <a:off x="6372360" y="263700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3 Imagen" descr="distribuciones verticales co2 y ph copiar.jpg"/>
          <p:cNvPicPr/>
          <p:nvPr/>
        </p:nvPicPr>
        <p:blipFill>
          <a:blip r:embed="rId1"/>
          <a:stretch/>
        </p:blipFill>
        <p:spPr>
          <a:xfrm>
            <a:off x="1652760" y="0"/>
            <a:ext cx="5295600" cy="6791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95280" y="40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ALCALINIDAD EN UN LAGO CALCÁRE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826920" y="5734080"/>
            <a:ext cx="74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50920" y="5805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actividad biológica induce la descalcificación del epilimnion, existen variaciones estacionales y vertica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7 Imagen" descr="diagrama profundidad tiempo copiar.jpg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4632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ALCALINIDAD EN UN LAGO MODERADAMENTE CALCÁREO HIPEREUTRÓFICO.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5 Imagen" descr="diagrama profundidad tiempo alcalinidad copiar.jpg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pH EN UN LAGO DE AGUA DURA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5 Imagen" descr="diagrama profundidad ph copiar.jpg"/>
          <p:cNvPicPr/>
          <p:nvPr/>
        </p:nvPicPr>
        <p:blipFill>
          <a:blip r:embed="rId1"/>
          <a:stretch/>
        </p:blipFill>
        <p:spPr>
          <a:xfrm>
            <a:off x="30240" y="1655640"/>
            <a:ext cx="91137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pH  EN UN LAGO MODERADAMENTE CALCÁREO HIPEREUTRÓFICO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2600" y="1628640"/>
            <a:ext cx="9080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Análisis de la acumulación 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polimnético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í en el periodo de estratificación de 4 meses hay 1,85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 NH4 ; 13,1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; 32,4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HC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; 0,5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y temperatura  6,7 °C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3 Imagen" descr="Explorar0026.jpg"/>
          <p:cNvPicPr/>
          <p:nvPr/>
        </p:nvPicPr>
        <p:blipFill>
          <a:blip r:embed="rId1"/>
          <a:stretch/>
        </p:blipFill>
        <p:spPr>
          <a:xfrm>
            <a:off x="1601640" y="1341360"/>
            <a:ext cx="66754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Comparación de la intensidad de asimilación relativa  (acumulación  de CO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 en el hipolimnion expresado por litro de agua del epilimnion y por mes) con otros índices de productividad.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4 Imagen" descr="Explorar0028.jpg"/>
          <p:cNvPicPr/>
          <p:nvPr/>
        </p:nvPicPr>
        <p:blipFill>
          <a:blip r:embed="rId1"/>
          <a:stretch/>
        </p:blipFill>
        <p:spPr>
          <a:xfrm>
            <a:off x="325440" y="2276640"/>
            <a:ext cx="86392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HETEROTROFÍA POTENCIAL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5 Imagen" descr="variacion cociente copiar.jpg"/>
          <p:cNvPicPr/>
          <p:nvPr/>
        </p:nvPicPr>
        <p:blipFill>
          <a:blip r:embed="rId1"/>
          <a:stretch/>
        </p:blipFill>
        <p:spPr>
          <a:xfrm>
            <a:off x="755640" y="1844640"/>
            <a:ext cx="81234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ISTRIBUCIÓN DE LAS DISTINTAS FORMA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=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+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+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50920" y="5143680"/>
            <a:ext cx="87138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El pH resulta de los ion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procedentes de la disolución 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 y los ion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bido a la hidrólisis de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6 Imagen" descr="relacion ph bicarbonatos copiar.jpg"/>
          <p:cNvPicPr/>
          <p:nvPr/>
        </p:nvPicPr>
        <p:blipFill>
          <a:blip r:embed="rId1"/>
          <a:stretch/>
        </p:blipFill>
        <p:spPr>
          <a:xfrm>
            <a:off x="395280" y="2852640"/>
            <a:ext cx="8555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Aguas dura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articulado y coloidal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ecipita durante la fotosíntesis por gasto de CO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27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Lagos salinos de regiones endorreicas domina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arbonat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con 10 000 mgl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bicarbonat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 con más de 1 000 mgl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y un pH &gt;9,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27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ureza :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arámetro de calidad del agua (sales de calcio y de magnesio, asociadas a bicarbonatos y carbonato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ureza temporal y dureza permanente ( unidos a sulfatos, cloruros y otro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Relación entre el pH y las proporciones relativas de las distintas formas de carbono inorgánico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5 Imagen" descr="Explorar0021.jpg"/>
          <p:cNvPicPr/>
          <p:nvPr/>
        </p:nvPicPr>
        <p:blipFill>
          <a:blip r:embed="rId1"/>
          <a:stretch/>
        </p:blipFill>
        <p:spPr>
          <a:xfrm>
            <a:off x="826920" y="1989000"/>
            <a:ext cx="73472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Proporciones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, H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y 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el agua a distintos valores de pH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5 Imagen" descr="Explorar0022.jpg"/>
          <p:cNvPicPr/>
          <p:nvPr/>
        </p:nvPicPr>
        <p:blipFill>
          <a:blip r:embed="rId1"/>
          <a:stretch/>
        </p:blipFill>
        <p:spPr>
          <a:xfrm>
            <a:off x="1785960" y="1857240"/>
            <a:ext cx="615780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scalas de dureza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971640" y="1700280"/>
          <a:ext cx="698508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00280"/>
                    <a:ext cx="6985080" cy="4465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ALCALINIDAD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neutralizante de una solución, indica la cantidad de cambio que ocurrirá en el pH con la adición de cantidades moderadas de áci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del agua impartida por carbonatos, bicarbonatos, hidróxidos y, ocasionalmente, boratos, silicatos y fosfato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del agua para aceptar protones (H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, por lo tanto la capacidad de neutralizar los ácidos; se caracteriza por la presencia natural de iones carbonatos (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, bicarbonatos  (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 e hidróxidos (OH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alcalinidad da una guía para escoger el tratamiento adecuado para un agua cruda o un efluente. La alcalinidad en el agua potable rara vez excede los 300 mg/L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Las pérdidas d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por fotosíntesis o la adición por respiración de la biota tiende a cambiar el pH (actividad de iones H</a:t>
            </a:r>
            <a:r>
              <a:rPr b="0" lang="es-MX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) del agu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Pero la acción “Buffer del agua” tiende a resistir los cambios en pH, en tanto se mantenga el equilibrio carbonado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Σ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= (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 + 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La acción de los iones H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es neutralizada por los iones OH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a través de la disociación de HCO</a:t>
            </a:r>
            <a:r>
              <a:rPr b="0" lang="es-E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y CO</a:t>
            </a:r>
            <a:r>
              <a:rPr b="0" lang="es-E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Sí se agrega iones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OH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 reacciona con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s-E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Si la solución de bicarbonato de calcio esta en equilibrio c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, H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y  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H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Ca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+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+ 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e pierde una porción 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emandado para obtener el equilibrio, por actividad fotosintética excesiva; el equilibrio se desplaza totalmente hacia las especies carbonatadas, formándose un precipitado (tiza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5796000" y="1916280"/>
            <a:ext cx="0" cy="576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3419640" y="2276640"/>
            <a:ext cx="718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6"/>
          <p:cNvSpPr/>
          <p:nvPr/>
        </p:nvSpPr>
        <p:spPr>
          <a:xfrm flipH="1">
            <a:off x="3419280" y="2492280"/>
            <a:ext cx="718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4:55:23Z</dcterms:created>
  <dc:creator>RAQUEL</dc:creator>
  <dc:description/>
  <dc:language>en-US</dc:language>
  <cp:lastModifiedBy>Irma Vila</cp:lastModifiedBy>
  <dcterms:modified xsi:type="dcterms:W3CDTF">2011-12-22T16:23:29Z</dcterms:modified>
  <cp:revision>76</cp:revision>
  <dc:subject/>
  <dc:title>Diapositiva 1</dc:title>
</cp:coreProperties>
</file>