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9CD8-682F-4A23-B5A9-C108908F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B760-6701-40DB-905B-E3A90D5C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1D7D3-91B2-488F-B669-67E84BE1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C2ED-BF7D-4E35-A5FB-E40F8812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97C6-2967-43D2-AD2C-A84F3411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D2BF-36CC-48B7-B85D-BF8DB232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F04E-7A3C-4681-820B-F4D925EF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D91B-2256-4AC0-890C-DB06F6DF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FD4B-7C67-4A83-B399-F6E1D0B9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45F1-A280-4B3D-9003-450F3FA8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57BF-10A0-4EC0-9915-915996FA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B7F8-3801-432F-B52E-A1AD2CFA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94ED-4B77-4384-95C2-E068A9C8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33E1-D450-40B4-8B7D-CA534152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99AE-CC7B-4947-9A3D-66EE9E85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7944-E2A5-46B1-AD0E-A3BE1E28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75C8-F361-43E5-A92A-D6A2B8BD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E3EB-8E4B-464A-A21B-B7115E5A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96AA-2027-4F2A-BA23-DC8CC271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FCDE4-7B72-4F0C-A78B-2482788D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A7E5-C311-4CB2-A6A9-B159C5C5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E73E-9EF7-4465-A4EC-D163B664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409D-811D-42B2-BF90-CF8FAEBB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B94C-C82F-4826-8D29-C59C5BAE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49FA-A75D-427D-A3B2-B190BCFC4E5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B0DC-174A-421F-8F54-3AA983B5327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CARBONO INORGÁNICO DISUELTO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6 CuadroTexto"/>
          <p:cNvSpPr/>
          <p:nvPr/>
        </p:nvSpPr>
        <p:spPr>
          <a:xfrm>
            <a:off x="179280" y="1197000"/>
            <a:ext cx="89647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Bicarbonato y carbonato se disocian para establecer el equlibrio buffer en el agu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+ H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       H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H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+  HCO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2H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*+  CO</a:t>
            </a:r>
            <a:r>
              <a:rPr b="1" lang="en-US" sz="2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O                     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+ OH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O                        H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+ OH</a:t>
            </a:r>
            <a:r>
              <a:rPr b="1" lang="es-E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O + C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02" name="8 Conector recto de flecha"/>
          <p:cNvCxnSpPr/>
          <p:nvPr/>
        </p:nvCxnSpPr>
        <p:spPr>
          <a:xfrm>
            <a:off x="3276720" y="4869000"/>
            <a:ext cx="78624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3" name="9 Conector recto de flecha"/>
          <p:cNvCxnSpPr/>
          <p:nvPr/>
        </p:nvCxnSpPr>
        <p:spPr>
          <a:xfrm>
            <a:off x="3276720" y="4436640"/>
            <a:ext cx="786240" cy="25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10 Conector recto de flecha"/>
          <p:cNvCxnSpPr/>
          <p:nvPr/>
        </p:nvCxnSpPr>
        <p:spPr>
          <a:xfrm>
            <a:off x="3276720" y="4005360"/>
            <a:ext cx="78624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sp>
        <p:nvSpPr>
          <p:cNvPr id="105" name="11 Flecha derecha"/>
          <p:cNvSpPr/>
          <p:nvPr/>
        </p:nvSpPr>
        <p:spPr>
          <a:xfrm>
            <a:off x="1979640" y="2637000"/>
            <a:ext cx="431640" cy="28728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12 Flecha derecha"/>
          <p:cNvSpPr/>
          <p:nvPr/>
        </p:nvSpPr>
        <p:spPr>
          <a:xfrm>
            <a:off x="3708360" y="2637000"/>
            <a:ext cx="432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13 Flecha derecha"/>
          <p:cNvSpPr/>
          <p:nvPr/>
        </p:nvSpPr>
        <p:spPr>
          <a:xfrm>
            <a:off x="6372360" y="2637000"/>
            <a:ext cx="431640" cy="28728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3 Imagen" descr="distribuciones verticales co2 y ph copiar.jpg"/>
          <p:cNvPicPr/>
          <p:nvPr/>
        </p:nvPicPr>
        <p:blipFill>
          <a:blip r:embed="rId1"/>
          <a:stretch/>
        </p:blipFill>
        <p:spPr>
          <a:xfrm>
            <a:off x="1652760" y="0"/>
            <a:ext cx="5295600" cy="6791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95280" y="40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ALCALINIDAD EN UN LAGO CALCÁRE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826920" y="5734080"/>
            <a:ext cx="749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50920" y="5805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actividad biológica induce la descalcificación del epilimnion, existen variaciones estacionales y vertica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7 Imagen" descr="diagrama profundidad tiempo copiar.jpg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4632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ALCALINIDAD EN UN LAGO MODERADAMENTE CALCÁREO HIPEREUTRÓFICO.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5 Imagen" descr="diagrama profundidad tiempo alcalinidad copiar.jpg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pH EN UN LAGO DE AGUA DURA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5 Imagen" descr="diagrama profundidad ph copiar.jpg"/>
          <p:cNvPicPr/>
          <p:nvPr/>
        </p:nvPicPr>
        <p:blipFill>
          <a:blip r:embed="rId1"/>
          <a:stretch/>
        </p:blipFill>
        <p:spPr>
          <a:xfrm>
            <a:off x="30240" y="1655640"/>
            <a:ext cx="911376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pH  EN UN LAGO MODERADAMENTE CALCÁREO HIPEREUTRÓFICO.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2600" y="1628640"/>
            <a:ext cx="9080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Arial"/>
              </a:rPr>
              <a:t>Análisis de la acumulación 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polimnético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í en el periodo de estratificación de 4 meses hay 1,85 mgl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de NH4 ; 13,1 mgl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; 32,4 mgl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HC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; 0,5 mgl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y temperatura  6,7 °C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3 Imagen" descr="Explorar0026.jpg"/>
          <p:cNvPicPr/>
          <p:nvPr/>
        </p:nvPicPr>
        <p:blipFill>
          <a:blip r:embed="rId1"/>
          <a:stretch/>
        </p:blipFill>
        <p:spPr>
          <a:xfrm>
            <a:off x="1601640" y="1341360"/>
            <a:ext cx="66754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Comparación de la intensidad de asimilación relativa  (acumulación  de CO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 en el hipolimnion expresado por litro de agua del epilimnion y por mes) con otros índices de productividad. 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4 Imagen" descr="Explorar0028.jpg"/>
          <p:cNvPicPr/>
          <p:nvPr/>
        </p:nvPicPr>
        <p:blipFill>
          <a:blip r:embed="rId1"/>
          <a:stretch/>
        </p:blipFill>
        <p:spPr>
          <a:xfrm>
            <a:off x="325440" y="2276640"/>
            <a:ext cx="863928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HETEROTROFÍA POTENCIAL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5 Imagen" descr="variacion cociente copiar.jpg"/>
          <p:cNvPicPr/>
          <p:nvPr/>
        </p:nvPicPr>
        <p:blipFill>
          <a:blip r:embed="rId1"/>
          <a:stretch/>
        </p:blipFill>
        <p:spPr>
          <a:xfrm>
            <a:off x="755640" y="1844640"/>
            <a:ext cx="81234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ISTRIBUCIÓN DE LAS DISTINTAS FORMAS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=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+ 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+ 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50920" y="5143680"/>
            <a:ext cx="87138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El pH resulta de los ion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procedentes de la disolución d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 y los ion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ebido a la hidrólisis de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6 Imagen" descr="relacion ph bicarbonatos copiar.jpg"/>
          <p:cNvPicPr/>
          <p:nvPr/>
        </p:nvPicPr>
        <p:blipFill>
          <a:blip r:embed="rId1"/>
          <a:stretch/>
        </p:blipFill>
        <p:spPr>
          <a:xfrm>
            <a:off x="395280" y="2852640"/>
            <a:ext cx="8555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Aguas dura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articulado y coloidal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recipita durante la fotosíntesis por gasto de CO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27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Lagos salinos de regiones endorreicas domina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carbonat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con 10 000 mgl</a:t>
            </a:r>
            <a:r>
              <a:rPr b="0" lang="es-MX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, y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bicarbonat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 con más de 1 000 mgl</a:t>
            </a:r>
            <a:r>
              <a:rPr b="0" lang="es-MX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1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 y un pH &gt;9,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27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ureza :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arámetro de calidad del agua (sales de calcio y de magnesio, asociadas a bicarbonatos y carbonato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ureza temporal y dureza permanente ( unidos a sulfatos, cloruros y otro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Relación entre el pH y las proporciones relativas de las distintas formas de carbono inorgánico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5 Imagen" descr="Explorar0021.jpg"/>
          <p:cNvPicPr/>
          <p:nvPr/>
        </p:nvPicPr>
        <p:blipFill>
          <a:blip r:embed="rId1"/>
          <a:stretch/>
        </p:blipFill>
        <p:spPr>
          <a:xfrm>
            <a:off x="826920" y="1989000"/>
            <a:ext cx="73472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Proporciones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, H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y 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n el agua a distintos valores de pH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5 Imagen" descr="Explorar0022.jpg"/>
          <p:cNvPicPr/>
          <p:nvPr/>
        </p:nvPicPr>
        <p:blipFill>
          <a:blip r:embed="rId1"/>
          <a:stretch/>
        </p:blipFill>
        <p:spPr>
          <a:xfrm>
            <a:off x="1785960" y="1857240"/>
            <a:ext cx="615780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scalas de dureza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971640" y="1700280"/>
          <a:ext cx="698508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00280"/>
                    <a:ext cx="6985080" cy="4465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ALCALINIDAD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pacidad neutralizante de una solución, indica la cantidad de cambio que ocurrirá en el pH con la adición de cantidades moderadas de ácid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pacidad del agua impartida por carbonatos, bicarbonatos, hidróxidos y, ocasionalmente, boratos, silicatos y fosfato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pacidad del agua para aceptar protones (H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, por lo tanto la capacidad de neutralizar los ácidos; se caracteriza por la presencia natural de iones carbonatos (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, bicarbonatos  (H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 e hidróxidos (OH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alcalinidad da una guía para escoger el tratamiento adecuado para un agua cruda o un efluente. La alcalinidad en el agua potable rara vez excede los 300 mg/L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Las pérdidas d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por fotosíntesis o la adición por respiración de la biota tiende a cambiar el pH (actividad de iones H</a:t>
            </a:r>
            <a:r>
              <a:rPr b="0" lang="es-MX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) del agu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Pero la acción “Buffer del agua” tiende a resistir los cambios en pH, en tanto se mantenga el equilibrio carbonado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Σ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= (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 + H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La acción de los iones H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es neutralizada por los iones OH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a través de la disociación de HCO</a:t>
            </a:r>
            <a:r>
              <a:rPr b="0" lang="es-E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y CO</a:t>
            </a:r>
            <a:r>
              <a:rPr b="0" lang="es-E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Sí se agrega iones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OH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 reacciona con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s-ES" sz="2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s-ES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Si la solución de bicarbonato de calcio esta en equilibrio con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, H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y  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H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Ca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+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 + 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e pierde una porción d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emandado para obtener el equilibrio, por actividad fotosintética excesiva; el equilibrio se desplaza totalmente hacia las especies carbonatadas, formándose un precipitado (tiza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5796000" y="1916280"/>
            <a:ext cx="0" cy="576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3419640" y="2276640"/>
            <a:ext cx="718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6"/>
          <p:cNvSpPr/>
          <p:nvPr/>
        </p:nvSpPr>
        <p:spPr>
          <a:xfrm flipH="1">
            <a:off x="3419280" y="2492280"/>
            <a:ext cx="718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4:55:23Z</dcterms:created>
  <dc:creator>RAQUEL</dc:creator>
  <dc:description/>
  <dc:language>en-US</dc:language>
  <cp:lastModifiedBy>Irma Vila</cp:lastModifiedBy>
  <dcterms:modified xsi:type="dcterms:W3CDTF">2011-12-22T16:23:29Z</dcterms:modified>
  <cp:revision>76</cp:revision>
  <dc:subject/>
  <dc:title>Diapositiva 1</dc:title>
</cp:coreProperties>
</file>