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26.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0F8EC65-2270-4977-B36D-C25DC7D0E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3BA9DD2-B161-4EB8-B91F-4A48EFA8A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622FE20-0DC4-4723-845A-D89947A6B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F86DC1B-866E-4A98-B42F-B615F85BE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A6AC7-E524-44DD-8B68-9515DDE38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33E56-6713-43A6-A8AD-FED95030B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E59DC-1941-42B7-B56A-55D94D65C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308A9-9508-4CCF-956E-B50A2ECEF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E7EF9-DEC4-4876-840F-9E81D4DC3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AEC2A-7504-43DE-9F1B-73E0F938D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60ADC-11FE-4D1A-B40E-68ADA36E7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BDC3A7-D5D4-4225-AA94-ABE4B2740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011DF-C70C-492C-9538-B98D872CB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F8F06-30B8-4EA3-8BA7-D631E8BD6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A7343-2C6B-49EF-920A-40965F903C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9C4E34-F4D2-4C44-BCC9-56527905D0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6EC06-4E3F-4B14-8883-E18CCD5EE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2F1693-E5E0-4524-BE94-E8F029AEA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BEF8ED-6F09-40E3-8A9E-AEE8D0040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3DBEE3-AF14-4B74-8C4E-478E6FC49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76B934-ADB9-4B6F-A0D1-4376688D3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C858CC-21BC-40DD-89C9-E141421E0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6CE0E3-6E02-4B61-9CC2-17BDE565A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1CEDE1D-3EC1-4973-87B1-F9C51ECC1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9D8C-7C2B-4BAB-B7BB-5801A4EC56E3}" type="slidenum">
              <a:rPr b="0" lang="es-ES" sz="1200" spc="-1" strike="noStrike">
                <a:solidFill>
                  <a:srgbClr val="000000"/>
                </a:solidFill>
                <a:latin typeface="Arial"/>
              </a:rPr>
              <a:t>&lt;number&gt;</a:t>
            </a:fld>
            <a:endParaRPr b="0" lang="en-US" sz="1200" spc="-1" strike="noStrike" u="sng">
              <a:solidFill>
                <a:srgbClr val="000000"/>
              </a:solidFill>
              <a:uFillTx/>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8A02-5124-4CCB-950C-2522302657F3}" type="slidenum">
              <a:rPr b="0" lang="es-ES" sz="1200" spc="-1" strike="noStrike">
                <a:solidFill>
                  <a:srgbClr val="ffffff"/>
                </a:solidFill>
                <a:latin typeface="Arial"/>
              </a:rPr>
              <a:t>&lt;number&gt;</a:t>
            </a:fld>
            <a:endParaRPr b="0" lang="en-US" sz="1200" spc="-1" strike="noStrike" u="sng">
              <a:solidFill>
                <a:srgbClr val="000000"/>
              </a:solidFill>
              <a:uFillTx/>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
          <p:cNvPicPr/>
          <p:nvPr/>
        </p:nvPicPr>
        <p:blipFill>
          <a:blip r:embed="rId1">
            <a:lum bright="70000" contrast="-70000"/>
          </a:blip>
          <a:stretch/>
        </p:blipFill>
        <p:spPr>
          <a:xfrm>
            <a:off x="-127080" y="0"/>
            <a:ext cx="9398160" cy="6858000"/>
          </a:xfrm>
          <a:prstGeom prst="rect">
            <a:avLst/>
          </a:prstGeom>
          <a:ln w="0">
            <a:noFill/>
          </a:ln>
        </p:spPr>
      </p:pic>
      <p:pic>
        <p:nvPicPr>
          <p:cNvPr id="101" name="Rectangle 4" descr=""/>
          <p:cNvPicPr/>
          <p:nvPr/>
        </p:nvPicPr>
        <p:blipFill>
          <a:blip r:embed="rId2"/>
          <a:stretch/>
        </p:blipFill>
        <p:spPr>
          <a:xfrm>
            <a:off x="-182520" y="2090880"/>
            <a:ext cx="9302760" cy="206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368280" y="907920"/>
            <a:ext cx="8531280" cy="4969080"/>
          </a:xfrm>
          <a:prstGeom prst="rect">
            <a:avLst/>
          </a:prstGeom>
          <a:ln w="0">
            <a:noFill/>
          </a:ln>
        </p:spPr>
      </p:pic>
      <p:sp>
        <p:nvSpPr>
          <p:cNvPr id="126" name="2 Rectángulo"/>
          <p:cNvSpPr/>
          <p:nvPr/>
        </p:nvSpPr>
        <p:spPr>
          <a:xfrm>
            <a:off x="8070480" y="6642000"/>
            <a:ext cx="1136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u="sng">
                <a:solidFill>
                  <a:srgbClr val="ffffff"/>
                </a:solidFill>
                <a:uFillTx/>
                <a:latin typeface="Garamond"/>
              </a:rPr>
              <a:t>Fuente: http://pearl.maine.edu</a:t>
            </a:r>
            <a:r>
              <a:rPr b="0" lang="es-ES" sz="800" spc="-1" strike="noStrike" u="sng">
                <a:solidFill>
                  <a:srgbClr val="ffffff"/>
                </a:solidFill>
                <a:uFillTx/>
                <a:latin typeface="Garamond"/>
              </a:rPr>
              <a:t>/</a:t>
            </a:r>
            <a:endParaRPr b="0" lang="en-US" sz="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Termoclina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tre epilimnio e hipolimnio, donde la temperatura desciende rápidamente, se encuentra la </a:t>
            </a:r>
            <a:r>
              <a:rPr b="1" lang="es-ES" sz="2800" spc="-1" strike="noStrike">
                <a:solidFill>
                  <a:srgbClr val="ff0000"/>
                </a:solidFill>
                <a:latin typeface="Garamond"/>
              </a:rPr>
              <a:t>termoclina</a:t>
            </a:r>
            <a:r>
              <a:rPr b="0" lang="es-ES" sz="2800" spc="-1" strike="noStrike">
                <a:solidFill>
                  <a:srgbClr val="ffffff"/>
                </a:solidFill>
                <a:latin typeface="Garamond"/>
              </a:rPr>
              <a:t> (Birge 1897).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lano o superficie en el cual la tasa de disminución de la temperatura con respecto a la profundidad es máxima.</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irge, la </a:t>
            </a:r>
            <a:r>
              <a:rPr b="1" lang="es-ES" sz="2800" spc="-1" strike="noStrike">
                <a:solidFill>
                  <a:srgbClr val="ffffff"/>
                </a:solidFill>
                <a:latin typeface="Garamond"/>
              </a:rPr>
              <a:t>termoclina</a:t>
            </a:r>
            <a:r>
              <a:rPr b="0" lang="es-ES" sz="2800" spc="-1" strike="noStrike">
                <a:solidFill>
                  <a:srgbClr val="ffffff"/>
                </a:solidFill>
                <a:latin typeface="Garamond"/>
              </a:rPr>
              <a:t> está limitada a una zona donde la temperatura cae </a:t>
            </a:r>
            <a:r>
              <a:rPr b="1" lang="es-ES" sz="2800" spc="-1" strike="noStrike">
                <a:solidFill>
                  <a:srgbClr val="ffffff"/>
                </a:solidFill>
                <a:latin typeface="Garamond"/>
              </a:rPr>
              <a:t>al menos 1 Grado Centígrado por metr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Stratlak.gif (6696 bytes)"/>
          <p:cNvPicPr/>
          <p:nvPr/>
        </p:nvPicPr>
        <p:blipFill>
          <a:blip r:embed="rId1"/>
          <a:stretch/>
        </p:blipFill>
        <p:spPr>
          <a:xfrm>
            <a:off x="0" y="333360"/>
            <a:ext cx="9144000" cy="6307200"/>
          </a:xfrm>
          <a:prstGeom prst="rect">
            <a:avLst/>
          </a:prstGeom>
          <a:ln w="0">
            <a:noFill/>
          </a:ln>
        </p:spPr>
      </p:pic>
      <p:sp>
        <p:nvSpPr>
          <p:cNvPr id="130" name="2 Conector recto"/>
          <p:cNvSpPr/>
          <p:nvPr/>
        </p:nvSpPr>
        <p:spPr>
          <a:xfrm>
            <a:off x="6372360" y="1557360"/>
            <a:ext cx="936360" cy="0"/>
          </a:xfrm>
          <a:prstGeom prst="line">
            <a:avLst/>
          </a:prstGeom>
          <a:ln w="54000">
            <a:solidFill>
              <a:srgbClr val="ffff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1" name="5 Conector recto"/>
          <p:cNvSpPr/>
          <p:nvPr/>
        </p:nvSpPr>
        <p:spPr>
          <a:xfrm>
            <a:off x="5148360" y="2060640"/>
            <a:ext cx="1008000" cy="0"/>
          </a:xfrm>
          <a:prstGeom prst="line">
            <a:avLst/>
          </a:prstGeom>
          <a:ln w="54000">
            <a:solidFill>
              <a:srgbClr val="2ff12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2" name="7 Conector recto"/>
          <p:cNvSpPr/>
          <p:nvPr/>
        </p:nvSpPr>
        <p:spPr>
          <a:xfrm>
            <a:off x="5148360" y="4076640"/>
            <a:ext cx="936360" cy="0"/>
          </a:xfrm>
          <a:prstGeom prst="line">
            <a:avLst/>
          </a:prstGeom>
          <a:ln w="54000">
            <a:solidFill>
              <a:srgbClr val="99cc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3" name="10 Anillo"/>
          <p:cNvSpPr/>
          <p:nvPr/>
        </p:nvSpPr>
        <p:spPr>
          <a:xfrm>
            <a:off x="1332000" y="3213000"/>
            <a:ext cx="287280" cy="287280"/>
          </a:xfrm>
          <a:custGeom>
            <a:avLst/>
            <a:gdLst>
              <a:gd name="textAreaLeft" fmla="*/ 42120 w 287280"/>
              <a:gd name="textAreaRight" fmla="*/ 245160 w 287280"/>
              <a:gd name="textAreaTop" fmla="*/ 42120 h 287280"/>
              <a:gd name="textAreaBottom" fmla="*/ 245160 h 287280"/>
            </a:gdLst>
            <a:ahLst/>
            <a:rect l="textAreaLeft" t="textAreaTop" r="textAreaRight" b="textAreaBottom"/>
            <a:pathLst>
              <a:path w="287337" h="287338">
                <a:moveTo>
                  <a:pt x="0" y="143669"/>
                </a:moveTo>
                <a:lnTo>
                  <a:pt x="0" y="143669"/>
                </a:lnTo>
                <a:arcTo wR="143669" hR="143669" stAng="10800000" swAng="5400000"/>
                <a:lnTo>
                  <a:pt x="143669" y="0"/>
                </a:lnTo>
                <a:arcTo wR="143669" hR="143669" stAng="-5400000" swAng="5400000"/>
                <a:lnTo>
                  <a:pt x="287338" y="143669"/>
                </a:lnTo>
                <a:arcTo wR="143669" hR="143669" stAng="0" swAng="5400000"/>
                <a:lnTo>
                  <a:pt x="143669" y="287338"/>
                </a:lnTo>
                <a:arcTo wR="143669" hR="143669" stAng="5400000" swAng="5400000"/>
                <a:close/>
                <a:moveTo>
                  <a:pt x="71834" y="143669"/>
                </a:moveTo>
                <a:lnTo>
                  <a:pt x="71834" y="143669"/>
                </a:lnTo>
                <a:arcTo wR="71834" hR="71835" stAng="10800000" swAng="-5400000"/>
                <a:lnTo>
                  <a:pt x="143668" y="215504"/>
                </a:lnTo>
                <a:arcTo wR="71834" hR="71835" stAng="5400000" swAng="-5400000"/>
                <a:lnTo>
                  <a:pt x="215502" y="143669"/>
                </a:lnTo>
                <a:arcTo wR="71834" hR="71835" stAng="0" swAng="-5400000"/>
                <a:lnTo>
                  <a:pt x="143668" y="71834"/>
                </a:lnTo>
                <a:arcTo wR="71834" hR="71835" stAng="-5400000" swAng="-5400000"/>
                <a:close/>
              </a:path>
            </a:pathLst>
          </a:custGeom>
          <a:solidFill>
            <a:srgbClr val="7030a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4" name="12 Conector recto"/>
          <p:cNvSpPr/>
          <p:nvPr/>
        </p:nvSpPr>
        <p:spPr>
          <a:xfrm>
            <a:off x="5076720" y="1557360"/>
            <a:ext cx="107964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5" name="14 Conector recto"/>
          <p:cNvSpPr/>
          <p:nvPr/>
        </p:nvSpPr>
        <p:spPr>
          <a:xfrm>
            <a:off x="5219640" y="2276640"/>
            <a:ext cx="100800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 estabilidad de un lago esta determinada por su tamaño y morfometría.</a:t>
            </a:r>
            <a:endParaRPr b="1" lang="en-US" sz="2800" spc="-1" strike="noStrike">
              <a:solidFill>
                <a:srgbClr val="e5e5ff"/>
              </a:solidFill>
              <a:latin typeface="Garamond"/>
            </a:endParaRPr>
          </a:p>
        </p:txBody>
      </p:sp>
      <p:sp>
        <p:nvSpPr>
          <p:cNvPr id="137" name="Line 4"/>
          <p:cNvSpPr/>
          <p:nvPr/>
        </p:nvSpPr>
        <p:spPr>
          <a:xfrm>
            <a:off x="1619280" y="1989000"/>
            <a:ext cx="27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8" name="Text Box 6"/>
          <p:cNvSpPr/>
          <p:nvPr/>
        </p:nvSpPr>
        <p:spPr>
          <a:xfrm>
            <a:off x="571680" y="5500800"/>
            <a:ext cx="8103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La cantidad de trabajo con que contribuye el viento a la distribución del calor aumenta en forma proporcional al disminuir el tamaño y volumen del lago.</a:t>
            </a:r>
            <a:endParaRPr b="0" lang="en-US" sz="2400" spc="-1" strike="noStrike" u="sng">
              <a:solidFill>
                <a:srgbClr val="ffffff"/>
              </a:solidFill>
              <a:uFillTx/>
              <a:latin typeface="Garamond"/>
            </a:endParaRPr>
          </a:p>
        </p:txBody>
      </p:sp>
      <p:pic>
        <p:nvPicPr>
          <p:cNvPr id="139" name="Picture 6" descr="D:\Mis imágenes\2010-08 (ago)\Explorar0003.jpg"/>
          <p:cNvPicPr/>
          <p:nvPr/>
        </p:nvPicPr>
        <p:blipFill>
          <a:blip r:embed="rId1"/>
          <a:stretch/>
        </p:blipFill>
        <p:spPr>
          <a:xfrm>
            <a:off x="0" y="1484280"/>
            <a:ext cx="914400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Estabilidad de un lago estratificado.</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ntidad de trabajo por unidad de área necesaria para mezclar un lago, hasta alcanzar la densidad vertical uniform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sta es mayor a medida que aumenta el volumen y la profundidad de un lag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79280" y="571320"/>
            <a:ext cx="3106800" cy="50893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Variaciones de la estabilidad estival.</a:t>
            </a:r>
            <a:endParaRPr b="0" lang="en-US" sz="28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aramond"/>
              </a:rPr>
              <a:t>A</a:t>
            </a:r>
            <a:r>
              <a:rPr b="0" lang="es-MX" sz="2400" spc="-1" strike="noStrike">
                <a:solidFill>
                  <a:srgbClr val="ffffff"/>
                </a:solidFill>
                <a:latin typeface="Garamond"/>
              </a:rPr>
              <a:t>: discontinuidades térmicas múltiples.</a:t>
            </a:r>
            <a:endParaRPr b="0" lang="en-US" sz="24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aramond"/>
              </a:rPr>
              <a:t>B</a:t>
            </a:r>
            <a:r>
              <a:rPr b="0" lang="es-MX" sz="2400" spc="-1" strike="noStrike">
                <a:solidFill>
                  <a:srgbClr val="ffffff"/>
                </a:solidFill>
                <a:latin typeface="Garamond"/>
              </a:rPr>
              <a:t>: discontinuidad térmica reducida.</a:t>
            </a:r>
            <a:endParaRPr b="0" lang="en-US" sz="2400" spc="-1" strike="noStrike">
              <a:solidFill>
                <a:srgbClr val="ffffff"/>
              </a:solidFill>
              <a:latin typeface="Garamond"/>
            </a:endParaRPr>
          </a:p>
        </p:txBody>
      </p:sp>
      <p:pic>
        <p:nvPicPr>
          <p:cNvPr id="143" name="Picture 4" descr="D:\Mis imágenes\2010-08 (ago)\Explorar0004.jpg"/>
          <p:cNvPicPr/>
          <p:nvPr/>
        </p:nvPicPr>
        <p:blipFill>
          <a:blip r:embed="rId1"/>
          <a:stretch/>
        </p:blipFill>
        <p:spPr>
          <a:xfrm>
            <a:off x="3203640" y="333360"/>
            <a:ext cx="5946840" cy="633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e5e5ff"/>
              </a:solidFill>
              <a:latin typeface="Garamond"/>
            </a:endParaRPr>
          </a:p>
        </p:txBody>
      </p:sp>
      <p:pic>
        <p:nvPicPr>
          <p:cNvPr id="145" name="3 Marcador de contenido" descr="jp.jpg"/>
          <p:cNvPicPr/>
          <p:nvPr/>
        </p:nvPicPr>
        <p:blipFill>
          <a:blip r:embed="rId1"/>
          <a:stretch/>
        </p:blipFill>
        <p:spPr>
          <a:xfrm>
            <a:off x="476280" y="1284120"/>
            <a:ext cx="7983360" cy="463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Clasificación de los lagos según su temperatura (Forel 1892, 1895 y 1904).</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Lagos templados: </a:t>
            </a:r>
            <a:r>
              <a:rPr b="0" lang="es-MX" sz="2600" spc="-1" strike="noStrike">
                <a:solidFill>
                  <a:srgbClr val="ffffff"/>
                </a:solidFill>
                <a:latin typeface="Garamond"/>
              </a:rPr>
              <a:t>alternancia regular anual de estratificación estival e invernal inversa entre dos periodos de circulación a la temperatura de densidad máxima.</a:t>
            </a:r>
            <a:endParaRPr b="0" lang="en-US" sz="2600" spc="-1" strike="noStrike">
              <a:solidFill>
                <a:srgbClr val="ffffff"/>
              </a:solidFill>
              <a:latin typeface="Garamond"/>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Lagos Tropicales: </a:t>
            </a:r>
            <a:r>
              <a:rPr b="0" lang="es-ES" sz="2600" spc="-1" strike="noStrike">
                <a:solidFill>
                  <a:srgbClr val="ffffff"/>
                </a:solidFill>
                <a:latin typeface="Garamond"/>
              </a:rPr>
              <a:t>el agua permanece a temperaturas </a:t>
            </a:r>
            <a:endParaRPr b="0" lang="en-US" sz="2600" spc="-1" strike="noStrike">
              <a:solidFill>
                <a:srgbClr val="ffffff"/>
              </a:solidFill>
              <a:latin typeface="Garamond"/>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a:solidFill>
                  <a:srgbClr val="ffffff"/>
                </a:solidFill>
                <a:latin typeface="Garamond"/>
              </a:rPr>
              <a:t>&gt; 4°C, de estratificación directa, excepto durante la circulación invernal.</a:t>
            </a:r>
            <a:endParaRPr b="0" lang="en-US" sz="2600" spc="-1" strike="noStrike">
              <a:solidFill>
                <a:srgbClr val="ffffff"/>
              </a:solidFill>
              <a:latin typeface="Garamond"/>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Lagos polares: </a:t>
            </a:r>
            <a:r>
              <a:rPr b="0" lang="es-MX" sz="2600" spc="-1" strike="noStrike">
                <a:solidFill>
                  <a:srgbClr val="ffffff"/>
                </a:solidFill>
                <a:latin typeface="Garamond"/>
              </a:rPr>
              <a:t>la temperatura del agua es &lt; 4°C, presenta estratificación inversa, excepto en el único periodo de circulación estival.</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642600"/>
            <a:ext cx="9001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Garamond"/>
              </a:rPr>
              <a:t>Clasificación de los lagos según su temperatura (Loffler 1956, Hutchinson 1957) modelos de circulación.</a:t>
            </a:r>
            <a:endParaRPr b="1" lang="en-US" sz="3400" spc="-1" strike="noStrike">
              <a:solidFill>
                <a:srgbClr val="e5e5ff"/>
              </a:solidFill>
              <a:latin typeface="Garamond"/>
            </a:endParaRPr>
          </a:p>
        </p:txBody>
      </p:sp>
      <p:sp>
        <p:nvSpPr>
          <p:cNvPr id="149" name="PlaceHolder 2"/>
          <p:cNvSpPr>
            <a:spLocks noGrp="1"/>
          </p:cNvSpPr>
          <p:nvPr>
            <p:ph/>
          </p:nvPr>
        </p:nvSpPr>
        <p:spPr>
          <a:xfrm>
            <a:off x="500040" y="2428920"/>
            <a:ext cx="8362800" cy="34560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A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Fríos Monomícticos</a:t>
            </a:r>
            <a:r>
              <a:rPr b="0" lang="es-ES"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gos cálidos Mono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Oligomícticos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gos Poli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Templados Dimícticos</a:t>
            </a:r>
            <a:r>
              <a:rPr b="0" lang="es-E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D:\Mis imágenes\2010-08 (ago)\Explorar0005.jpg"/>
          <p:cNvPicPr/>
          <p:nvPr/>
        </p:nvPicPr>
        <p:blipFill>
          <a:blip r:embed="rId1"/>
          <a:stretch/>
        </p:blipFill>
        <p:spPr>
          <a:xfrm>
            <a:off x="965160" y="0"/>
            <a:ext cx="7035840" cy="683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amícticos</a:t>
            </a:r>
            <a:endParaRPr b="1" lang="en-US" sz="4400" spc="-1" strike="noStrike">
              <a:solidFill>
                <a:srgbClr val="e5e5ff"/>
              </a:solidFill>
              <a:latin typeface="Garamond"/>
            </a:endParaRPr>
          </a:p>
        </p:txBody>
      </p:sp>
      <p:sp>
        <p:nvSpPr>
          <p:cNvPr id="152" name="PlaceHolder 2"/>
          <p:cNvSpPr>
            <a:spLocks noGrp="1"/>
          </p:cNvSpPr>
          <p:nvPr>
            <p:ph/>
          </p:nvPr>
        </p:nvSpPr>
        <p:spPr>
          <a:xfrm>
            <a:off x="178920" y="1341360"/>
            <a:ext cx="5040360" cy="5516640"/>
          </a:xfrm>
          <a:prstGeom prst="rect">
            <a:avLst/>
          </a:prstGeom>
          <a:noFill/>
          <a:ln w="0">
            <a:noFill/>
          </a:ln>
          <a:effectLst>
            <a:outerShdw dist="153753" dir="2700000" blurRad="0" rotWithShape="0">
              <a:srgbClr val="000514">
                <a:alpha val="50000"/>
              </a:srgbClr>
            </a:outerShdw>
          </a:effectLst>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ermanentemente cubiertos de hie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circulan nun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Insolación directa a través del hie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onducción del calor desde sedimento y entor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Zonas Antártica, Ártico  y  montaña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3" name="3 Imagen" descr="Sin título-1 copiar.jpg"/>
          <p:cNvPicPr/>
          <p:nvPr/>
        </p:nvPicPr>
        <p:blipFill>
          <a:blip r:embed="rId1"/>
          <a:stretch/>
        </p:blipFill>
        <p:spPr>
          <a:xfrm>
            <a:off x="5276880" y="1557360"/>
            <a:ext cx="3867120" cy="46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Fríos Monomícticos</a:t>
            </a:r>
            <a:endParaRPr b="1" lang="en-US" sz="4400" spc="-1" strike="noStrike">
              <a:solidFill>
                <a:srgbClr val="e5e5ff"/>
              </a:solidFill>
              <a:latin typeface="Garamond"/>
            </a:endParaRPr>
          </a:p>
        </p:txBody>
      </p:sp>
      <p:sp>
        <p:nvSpPr>
          <p:cNvPr id="155" name="PlaceHolder 2"/>
          <p:cNvSpPr>
            <a:spLocks noGrp="1"/>
          </p:cNvSpPr>
          <p:nvPr>
            <p:ph/>
          </p:nvPr>
        </p:nvSpPr>
        <p:spPr>
          <a:xfrm>
            <a:off x="395280" y="1052640"/>
            <a:ext cx="8229600" cy="4525920"/>
          </a:xfrm>
          <a:prstGeom prst="rect">
            <a:avLst/>
          </a:prstGeom>
          <a:noFill/>
          <a:ln w="0">
            <a:noFill/>
          </a:ln>
        </p:spPr>
        <p:txBody>
          <a:bodyPr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emperatura del agua superficial como profunda nunca supera los 4 ºC.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urante los veranos cuando el agua sobrepasa los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ºC, puede producirse una circulación vertical que genera la mezcla de las aguas. Este tipo de lagos se encuentran en las regiones polares o a gran altitud en los cordones montañoso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os lagos someros las aguas pueden superar los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a:t>
            </a:r>
            <a:r>
              <a:rPr b="0" lang="es-MX" sz="2800" spc="-1" strike="noStrike">
                <a:solidFill>
                  <a:srgbClr val="ffffff"/>
                </a:solidFill>
                <a:latin typeface="Garamond"/>
              </a:rPr>
              <a:t>15 °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Invierno            Verano         Invierno</a:t>
            </a:r>
            <a:endParaRPr b="1" lang="en-US" sz="2800" spc="-1" strike="noStrike">
              <a:solidFill>
                <a:srgbClr val="e5e5ff"/>
              </a:solidFill>
              <a:latin typeface="Garamond"/>
            </a:endParaRPr>
          </a:p>
        </p:txBody>
      </p:sp>
      <p:sp>
        <p:nvSpPr>
          <p:cNvPr id="157" name=""/>
          <p:cNvSpPr txBox="1"/>
          <p:nvPr/>
        </p:nvSpPr>
        <p:spPr>
          <a:xfrm>
            <a:off x="468000" y="5876640"/>
            <a:ext cx="8002440" cy="647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íneas sólidas = temperatura</a:t>
            </a:r>
            <a:endParaRPr b="0" lang="en-US" sz="2400" spc="-1" strike="noStrike">
              <a:solidFill>
                <a:srgbClr val="ffffff"/>
              </a:solidFill>
              <a:latin typeface="Garamond"/>
            </a:endParaRPr>
          </a:p>
        </p:txBody>
      </p:sp>
      <p:sp>
        <p:nvSpPr>
          <p:cNvPr id="158" name="4 Rectángulo"/>
          <p:cNvSpPr/>
          <p:nvPr/>
        </p:nvSpPr>
        <p:spPr>
          <a:xfrm>
            <a:off x="1692360" y="1628640"/>
            <a:ext cx="6192720" cy="4032360"/>
          </a:xfrm>
          <a:prstGeom prst="rect">
            <a:avLst/>
          </a:prstGeom>
          <a:solidFill>
            <a:srgbClr val="0099cc"/>
          </a:solidFill>
          <a:ln w="9360">
            <a:solidFill>
              <a:srgbClr val="000514"/>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59" name="6 Conector recto"/>
          <p:cNvSpPr/>
          <p:nvPr/>
        </p:nvSpPr>
        <p:spPr>
          <a:xfrm>
            <a:off x="4788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0" name="7 Conector recto"/>
          <p:cNvSpPr/>
          <p:nvPr/>
        </p:nvSpPr>
        <p:spPr>
          <a:xfrm>
            <a:off x="5219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1" name="9 Conector recto"/>
          <p:cNvSpPr/>
          <p:nvPr/>
        </p:nvSpPr>
        <p:spPr>
          <a:xfrm>
            <a:off x="435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2" name="11 Forma libre"/>
          <p:cNvSpPr/>
          <p:nvPr/>
        </p:nvSpPr>
        <p:spPr>
          <a:xfrm>
            <a:off x="1687680" y="1674720"/>
            <a:ext cx="520560" cy="493920"/>
          </a:xfrm>
          <a:custGeom>
            <a:avLst/>
            <a:gdLst>
              <a:gd name="textAreaLeft" fmla="*/ 0 w 520560"/>
              <a:gd name="textAreaRight" fmla="*/ 520920 w 520560"/>
              <a:gd name="textAreaTop" fmla="*/ 0 h 493920"/>
              <a:gd name="textAreaBottom" fmla="*/ 494280 h 493920"/>
            </a:gdLst>
            <a:ahLst/>
            <a:rect l="textAreaLeft" t="textAreaTop" r="textAreaRight" b="textAreaBottom"/>
            <a:pathLst>
              <a:path w="520505" h="494347">
                <a:moveTo>
                  <a:pt x="0" y="407963"/>
                </a:moveTo>
                <a:cubicBezTo>
                  <a:pt x="14068" y="417342"/>
                  <a:pt x="27081" y="428538"/>
                  <a:pt x="42203" y="436099"/>
                </a:cubicBezTo>
                <a:cubicBezTo>
                  <a:pt x="158696" y="494347"/>
                  <a:pt x="5652" y="397665"/>
                  <a:pt x="126609" y="478302"/>
                </a:cubicBezTo>
                <a:cubicBezTo>
                  <a:pt x="168812" y="473613"/>
                  <a:pt x="212935" y="477662"/>
                  <a:pt x="253219" y="464234"/>
                </a:cubicBezTo>
                <a:cubicBezTo>
                  <a:pt x="285298" y="453541"/>
                  <a:pt x="309490" y="426720"/>
                  <a:pt x="337625" y="407963"/>
                </a:cubicBezTo>
                <a:lnTo>
                  <a:pt x="379828" y="379828"/>
                </a:lnTo>
                <a:cubicBezTo>
                  <a:pt x="389206" y="365760"/>
                  <a:pt x="394761" y="348187"/>
                  <a:pt x="407963" y="337625"/>
                </a:cubicBezTo>
                <a:cubicBezTo>
                  <a:pt x="419542" y="328362"/>
                  <a:pt x="439681" y="334042"/>
                  <a:pt x="450166" y="323557"/>
                </a:cubicBezTo>
                <a:cubicBezTo>
                  <a:pt x="474076" y="299647"/>
                  <a:pt x="506437" y="239151"/>
                  <a:pt x="506437" y="239151"/>
                </a:cubicBezTo>
                <a:cubicBezTo>
                  <a:pt x="511126" y="220394"/>
                  <a:pt x="520505" y="202214"/>
                  <a:pt x="520505" y="182880"/>
                </a:cubicBezTo>
                <a:cubicBezTo>
                  <a:pt x="520505" y="121740"/>
                  <a:pt x="506437" y="0"/>
                  <a:pt x="506437"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3" name="13 Forma libre"/>
          <p:cNvSpPr/>
          <p:nvPr/>
        </p:nvSpPr>
        <p:spPr>
          <a:xfrm>
            <a:off x="1687680" y="1631880"/>
            <a:ext cx="939600" cy="933480"/>
          </a:xfrm>
          <a:custGeom>
            <a:avLst/>
            <a:gdLst>
              <a:gd name="textAreaLeft" fmla="*/ 0 w 939600"/>
              <a:gd name="textAreaRight" fmla="*/ 939960 w 939600"/>
              <a:gd name="textAreaTop" fmla="*/ 0 h 933480"/>
              <a:gd name="textAreaBottom" fmla="*/ 933840 h 933480"/>
            </a:gdLst>
            <a:ahLst/>
            <a:rect l="textAreaLeft" t="textAreaTop" r="textAreaRight" b="textAreaBottom"/>
            <a:pathLst>
              <a:path w="892235" h="914400">
                <a:moveTo>
                  <a:pt x="0" y="844062"/>
                </a:moveTo>
                <a:cubicBezTo>
                  <a:pt x="9378" y="858130"/>
                  <a:pt x="12528" y="879762"/>
                  <a:pt x="28135" y="886265"/>
                </a:cubicBezTo>
                <a:cubicBezTo>
                  <a:pt x="72277" y="904658"/>
                  <a:pt x="168812" y="914400"/>
                  <a:pt x="168812" y="914400"/>
                </a:cubicBezTo>
                <a:cubicBezTo>
                  <a:pt x="257908" y="909711"/>
                  <a:pt x="347246" y="908410"/>
                  <a:pt x="436099" y="900333"/>
                </a:cubicBezTo>
                <a:cubicBezTo>
                  <a:pt x="450867" y="898990"/>
                  <a:pt x="465339" y="893466"/>
                  <a:pt x="478302" y="886265"/>
                </a:cubicBezTo>
                <a:cubicBezTo>
                  <a:pt x="507861" y="869843"/>
                  <a:pt x="562708" y="829994"/>
                  <a:pt x="562708" y="829994"/>
                </a:cubicBezTo>
                <a:lnTo>
                  <a:pt x="618979" y="745588"/>
                </a:lnTo>
                <a:cubicBezTo>
                  <a:pt x="628357" y="731520"/>
                  <a:pt x="641768" y="719425"/>
                  <a:pt x="647114" y="703385"/>
                </a:cubicBezTo>
                <a:lnTo>
                  <a:pt x="675249" y="618979"/>
                </a:lnTo>
                <a:cubicBezTo>
                  <a:pt x="679938" y="604911"/>
                  <a:pt x="678832" y="587262"/>
                  <a:pt x="689317" y="576776"/>
                </a:cubicBezTo>
                <a:cubicBezTo>
                  <a:pt x="698695" y="567397"/>
                  <a:pt x="709494" y="559251"/>
                  <a:pt x="717452" y="548640"/>
                </a:cubicBezTo>
                <a:cubicBezTo>
                  <a:pt x="737741" y="521588"/>
                  <a:pt x="749813" y="488144"/>
                  <a:pt x="773723" y="464234"/>
                </a:cubicBezTo>
                <a:lnTo>
                  <a:pt x="829994" y="407963"/>
                </a:lnTo>
                <a:cubicBezTo>
                  <a:pt x="892235" y="221239"/>
                  <a:pt x="858129" y="353214"/>
                  <a:pt x="858129"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4" name="21 Forma libre"/>
          <p:cNvSpPr/>
          <p:nvPr/>
        </p:nvSpPr>
        <p:spPr>
          <a:xfrm>
            <a:off x="1701720" y="1660680"/>
            <a:ext cx="2054160" cy="2050920"/>
          </a:xfrm>
          <a:custGeom>
            <a:avLst/>
            <a:gdLst>
              <a:gd name="textAreaLeft" fmla="*/ 0 w 2054160"/>
              <a:gd name="textAreaRight" fmla="*/ 2054520 w 2054160"/>
              <a:gd name="textAreaTop" fmla="*/ 0 h 2050920"/>
              <a:gd name="textAreaBottom" fmla="*/ 2051280 h 2050920"/>
            </a:gdLst>
            <a:ahLst/>
            <a:rect l="textAreaLeft" t="textAreaTop" r="textAreaRight" b="textAreaBottom"/>
            <a:pathLst>
              <a:path w="2053883" h="2051770">
                <a:moveTo>
                  <a:pt x="0" y="1969477"/>
                </a:moveTo>
                <a:cubicBezTo>
                  <a:pt x="18757" y="1992923"/>
                  <a:pt x="27786" y="2030320"/>
                  <a:pt x="56271" y="2039815"/>
                </a:cubicBezTo>
                <a:cubicBezTo>
                  <a:pt x="92137" y="2051770"/>
                  <a:pt x="131035" y="2027228"/>
                  <a:pt x="168812" y="2025747"/>
                </a:cubicBezTo>
                <a:cubicBezTo>
                  <a:pt x="370349" y="2017844"/>
                  <a:pt x="572086" y="2016369"/>
                  <a:pt x="773723" y="2011680"/>
                </a:cubicBezTo>
                <a:cubicBezTo>
                  <a:pt x="870184" y="1979525"/>
                  <a:pt x="750472" y="2017492"/>
                  <a:pt x="886264" y="1983544"/>
                </a:cubicBezTo>
                <a:cubicBezTo>
                  <a:pt x="900650" y="1979948"/>
                  <a:pt x="913840" y="1971915"/>
                  <a:pt x="928467" y="1969477"/>
                </a:cubicBezTo>
                <a:cubicBezTo>
                  <a:pt x="970352" y="1962496"/>
                  <a:pt x="1012874" y="1960098"/>
                  <a:pt x="1055077" y="1955409"/>
                </a:cubicBezTo>
                <a:lnTo>
                  <a:pt x="1139483" y="1927274"/>
                </a:lnTo>
                <a:lnTo>
                  <a:pt x="1181686" y="1913206"/>
                </a:lnTo>
                <a:cubicBezTo>
                  <a:pt x="1191064" y="1903827"/>
                  <a:pt x="1198448" y="1891894"/>
                  <a:pt x="1209821" y="1885070"/>
                </a:cubicBezTo>
                <a:cubicBezTo>
                  <a:pt x="1313842" y="1822657"/>
                  <a:pt x="1187490" y="1928256"/>
                  <a:pt x="1294227" y="1842867"/>
                </a:cubicBezTo>
                <a:cubicBezTo>
                  <a:pt x="1304584" y="1834582"/>
                  <a:pt x="1312006" y="1823017"/>
                  <a:pt x="1322363" y="1814732"/>
                </a:cubicBezTo>
                <a:cubicBezTo>
                  <a:pt x="1367818" y="1778369"/>
                  <a:pt x="1382137" y="1788376"/>
                  <a:pt x="1420837" y="1730326"/>
                </a:cubicBezTo>
                <a:cubicBezTo>
                  <a:pt x="1456329" y="1677087"/>
                  <a:pt x="1437017" y="1700078"/>
                  <a:pt x="1477107" y="1659987"/>
                </a:cubicBezTo>
                <a:cubicBezTo>
                  <a:pt x="1481796" y="1645919"/>
                  <a:pt x="1483546" y="1630499"/>
                  <a:pt x="1491175" y="1617784"/>
                </a:cubicBezTo>
                <a:cubicBezTo>
                  <a:pt x="1497999" y="1606411"/>
                  <a:pt x="1511025" y="1600006"/>
                  <a:pt x="1519311" y="1589649"/>
                </a:cubicBezTo>
                <a:cubicBezTo>
                  <a:pt x="1529873" y="1576447"/>
                  <a:pt x="1539885" y="1562568"/>
                  <a:pt x="1547446" y="1547446"/>
                </a:cubicBezTo>
                <a:cubicBezTo>
                  <a:pt x="1583970" y="1474398"/>
                  <a:pt x="1534695" y="1532063"/>
                  <a:pt x="1589649" y="1477107"/>
                </a:cubicBezTo>
                <a:cubicBezTo>
                  <a:pt x="1594338" y="1458350"/>
                  <a:pt x="1598406" y="1439427"/>
                  <a:pt x="1603717" y="1420837"/>
                </a:cubicBezTo>
                <a:cubicBezTo>
                  <a:pt x="1607791" y="1406579"/>
                  <a:pt x="1615131" y="1393223"/>
                  <a:pt x="1617784" y="1378634"/>
                </a:cubicBezTo>
                <a:cubicBezTo>
                  <a:pt x="1627456" y="1325437"/>
                  <a:pt x="1626231" y="1232319"/>
                  <a:pt x="1659987" y="1181686"/>
                </a:cubicBezTo>
                <a:cubicBezTo>
                  <a:pt x="1669366" y="1167618"/>
                  <a:pt x="1680562" y="1154605"/>
                  <a:pt x="1688123" y="1139483"/>
                </a:cubicBezTo>
                <a:cubicBezTo>
                  <a:pt x="1724649" y="1066433"/>
                  <a:pt x="1675370" y="1124102"/>
                  <a:pt x="1730326" y="1069144"/>
                </a:cubicBezTo>
                <a:cubicBezTo>
                  <a:pt x="1748072" y="927178"/>
                  <a:pt x="1732439" y="992466"/>
                  <a:pt x="1772529" y="872197"/>
                </a:cubicBezTo>
                <a:cubicBezTo>
                  <a:pt x="1777218" y="858129"/>
                  <a:pt x="1776112" y="840480"/>
                  <a:pt x="1786597" y="829994"/>
                </a:cubicBezTo>
                <a:lnTo>
                  <a:pt x="1814732" y="801858"/>
                </a:lnTo>
                <a:cubicBezTo>
                  <a:pt x="1848182" y="701510"/>
                  <a:pt x="1800751" y="822829"/>
                  <a:pt x="1871003" y="717452"/>
                </a:cubicBezTo>
                <a:cubicBezTo>
                  <a:pt x="1879228" y="705114"/>
                  <a:pt x="1877870" y="688212"/>
                  <a:pt x="1885071" y="675249"/>
                </a:cubicBezTo>
                <a:cubicBezTo>
                  <a:pt x="1901493" y="645690"/>
                  <a:pt x="1930648" y="622922"/>
                  <a:pt x="1941341" y="590843"/>
                </a:cubicBezTo>
                <a:lnTo>
                  <a:pt x="1969477" y="506437"/>
                </a:lnTo>
                <a:lnTo>
                  <a:pt x="1983544" y="464234"/>
                </a:lnTo>
                <a:cubicBezTo>
                  <a:pt x="1988233" y="431409"/>
                  <a:pt x="1994313" y="398753"/>
                  <a:pt x="1997612" y="365760"/>
                </a:cubicBezTo>
                <a:cubicBezTo>
                  <a:pt x="2003696" y="304923"/>
                  <a:pt x="2003034" y="243406"/>
                  <a:pt x="2011680" y="182880"/>
                </a:cubicBezTo>
                <a:cubicBezTo>
                  <a:pt x="2017149" y="144600"/>
                  <a:pt x="2032231" y="108256"/>
                  <a:pt x="2039815" y="70338"/>
                </a:cubicBezTo>
                <a:lnTo>
                  <a:pt x="2053883"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5" name="22 Forma libre"/>
          <p:cNvSpPr/>
          <p:nvPr/>
        </p:nvSpPr>
        <p:spPr>
          <a:xfrm>
            <a:off x="1687680" y="1646280"/>
            <a:ext cx="1223640" cy="1617480"/>
          </a:xfrm>
          <a:custGeom>
            <a:avLst/>
            <a:gdLst>
              <a:gd name="textAreaLeft" fmla="*/ 0 w 1223640"/>
              <a:gd name="textAreaRight" fmla="*/ 1224000 w 1223640"/>
              <a:gd name="textAreaTop" fmla="*/ 0 h 1617480"/>
              <a:gd name="textAreaBottom" fmla="*/ 1617840 h 1617480"/>
            </a:gdLst>
            <a:ahLst/>
            <a:rect l="textAreaLeft" t="textAreaTop" r="textAreaRight" b="textAreaBottom"/>
            <a:pathLst>
              <a:path w="1223889" h="1617785">
                <a:moveTo>
                  <a:pt x="0" y="1617785"/>
                </a:moveTo>
                <a:cubicBezTo>
                  <a:pt x="121920" y="1613096"/>
                  <a:pt x="244398" y="1616272"/>
                  <a:pt x="365760" y="1603717"/>
                </a:cubicBezTo>
                <a:cubicBezTo>
                  <a:pt x="382577" y="1601977"/>
                  <a:pt x="392841" y="1583143"/>
                  <a:pt x="407963" y="1575582"/>
                </a:cubicBezTo>
                <a:cubicBezTo>
                  <a:pt x="428146" y="1565491"/>
                  <a:pt x="488406" y="1551954"/>
                  <a:pt x="506437" y="1547446"/>
                </a:cubicBezTo>
                <a:cubicBezTo>
                  <a:pt x="520505" y="1538068"/>
                  <a:pt x="535438" y="1529873"/>
                  <a:pt x="548640" y="1519311"/>
                </a:cubicBezTo>
                <a:cubicBezTo>
                  <a:pt x="558997" y="1511025"/>
                  <a:pt x="564912" y="1497106"/>
                  <a:pt x="576775" y="1491175"/>
                </a:cubicBezTo>
                <a:cubicBezTo>
                  <a:pt x="594068" y="1482528"/>
                  <a:pt x="614289" y="1481797"/>
                  <a:pt x="633046" y="1477108"/>
                </a:cubicBezTo>
                <a:cubicBezTo>
                  <a:pt x="642425" y="1467729"/>
                  <a:pt x="650825" y="1457258"/>
                  <a:pt x="661182" y="1448972"/>
                </a:cubicBezTo>
                <a:cubicBezTo>
                  <a:pt x="674384" y="1438410"/>
                  <a:pt x="691430" y="1432792"/>
                  <a:pt x="703385" y="1420837"/>
                </a:cubicBezTo>
                <a:cubicBezTo>
                  <a:pt x="715340" y="1408882"/>
                  <a:pt x="720517" y="1391471"/>
                  <a:pt x="731520" y="1378634"/>
                </a:cubicBezTo>
                <a:cubicBezTo>
                  <a:pt x="825066" y="1269496"/>
                  <a:pt x="749581" y="1363153"/>
                  <a:pt x="829994" y="1294228"/>
                </a:cubicBezTo>
                <a:cubicBezTo>
                  <a:pt x="850134" y="1276965"/>
                  <a:pt x="867508" y="1256714"/>
                  <a:pt x="886265" y="1237957"/>
                </a:cubicBezTo>
                <a:lnTo>
                  <a:pt x="956603" y="1167618"/>
                </a:lnTo>
                <a:lnTo>
                  <a:pt x="984739" y="1139483"/>
                </a:lnTo>
                <a:cubicBezTo>
                  <a:pt x="989428" y="1120726"/>
                  <a:pt x="990159" y="1100505"/>
                  <a:pt x="998806" y="1083212"/>
                </a:cubicBezTo>
                <a:cubicBezTo>
                  <a:pt x="1004737" y="1071349"/>
                  <a:pt x="1021010" y="1066940"/>
                  <a:pt x="1026942" y="1055077"/>
                </a:cubicBezTo>
                <a:cubicBezTo>
                  <a:pt x="1091604" y="925755"/>
                  <a:pt x="1019647" y="1006102"/>
                  <a:pt x="1083212" y="942535"/>
                </a:cubicBezTo>
                <a:cubicBezTo>
                  <a:pt x="1168237" y="687466"/>
                  <a:pt x="1065763" y="1006514"/>
                  <a:pt x="1125415" y="787791"/>
                </a:cubicBezTo>
                <a:cubicBezTo>
                  <a:pt x="1125418" y="787780"/>
                  <a:pt x="1160583" y="682289"/>
                  <a:pt x="1167619" y="661182"/>
                </a:cubicBezTo>
                <a:lnTo>
                  <a:pt x="1209822" y="534572"/>
                </a:lnTo>
                <a:cubicBezTo>
                  <a:pt x="1214511" y="520504"/>
                  <a:pt x="1223889" y="507198"/>
                  <a:pt x="1223889" y="492369"/>
                </a:cubicBezTo>
                <a:lnTo>
                  <a:pt x="1223889"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6" name="24 Forma libre"/>
          <p:cNvSpPr/>
          <p:nvPr/>
        </p:nvSpPr>
        <p:spPr>
          <a:xfrm rot="5221200">
            <a:off x="7380000" y="1653840"/>
            <a:ext cx="520560" cy="495360"/>
          </a:xfrm>
          <a:custGeom>
            <a:avLst/>
            <a:gdLst>
              <a:gd name="textAreaLeft" fmla="*/ 0 w 520560"/>
              <a:gd name="textAreaRight" fmla="*/ 520920 w 520560"/>
              <a:gd name="textAreaTop" fmla="*/ 0 h 495360"/>
              <a:gd name="textAreaBottom" fmla="*/ 495720 h 495360"/>
            </a:gdLst>
            <a:ahLst/>
            <a:rect l="textAreaLeft" t="textAreaTop" r="textAreaRight" b="textAreaBottom"/>
            <a:pathLst>
              <a:path w="520505" h="494347">
                <a:moveTo>
                  <a:pt x="0" y="407963"/>
                </a:moveTo>
                <a:cubicBezTo>
                  <a:pt x="14068" y="417342"/>
                  <a:pt x="27081" y="428538"/>
                  <a:pt x="42203" y="436099"/>
                </a:cubicBezTo>
                <a:cubicBezTo>
                  <a:pt x="158696" y="494347"/>
                  <a:pt x="5652" y="397665"/>
                  <a:pt x="126609" y="478302"/>
                </a:cubicBezTo>
                <a:cubicBezTo>
                  <a:pt x="168812" y="473613"/>
                  <a:pt x="212935" y="477662"/>
                  <a:pt x="253219" y="464234"/>
                </a:cubicBezTo>
                <a:cubicBezTo>
                  <a:pt x="285298" y="453541"/>
                  <a:pt x="309490" y="426720"/>
                  <a:pt x="337625" y="407963"/>
                </a:cubicBezTo>
                <a:lnTo>
                  <a:pt x="379828" y="379828"/>
                </a:lnTo>
                <a:cubicBezTo>
                  <a:pt x="389206" y="365760"/>
                  <a:pt x="394761" y="348187"/>
                  <a:pt x="407963" y="337625"/>
                </a:cubicBezTo>
                <a:cubicBezTo>
                  <a:pt x="419542" y="328362"/>
                  <a:pt x="439681" y="334042"/>
                  <a:pt x="450166" y="323557"/>
                </a:cubicBezTo>
                <a:cubicBezTo>
                  <a:pt x="474076" y="299647"/>
                  <a:pt x="506437" y="239151"/>
                  <a:pt x="506437" y="239151"/>
                </a:cubicBezTo>
                <a:cubicBezTo>
                  <a:pt x="511126" y="220394"/>
                  <a:pt x="520505" y="202214"/>
                  <a:pt x="520505" y="182880"/>
                </a:cubicBezTo>
                <a:cubicBezTo>
                  <a:pt x="520505" y="121740"/>
                  <a:pt x="506437" y="0"/>
                  <a:pt x="506437"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7" name="26 Forma libre"/>
          <p:cNvSpPr/>
          <p:nvPr/>
        </p:nvSpPr>
        <p:spPr>
          <a:xfrm rot="5673000">
            <a:off x="6979320" y="1666800"/>
            <a:ext cx="939960" cy="933480"/>
          </a:xfrm>
          <a:custGeom>
            <a:avLst/>
            <a:gdLst>
              <a:gd name="textAreaLeft" fmla="*/ 0 w 939960"/>
              <a:gd name="textAreaRight" fmla="*/ 940320 w 939960"/>
              <a:gd name="textAreaTop" fmla="*/ 0 h 933480"/>
              <a:gd name="textAreaBottom" fmla="*/ 933840 h 933480"/>
            </a:gdLst>
            <a:ahLst/>
            <a:rect l="textAreaLeft" t="textAreaTop" r="textAreaRight" b="textAreaBottom"/>
            <a:pathLst>
              <a:path w="892235" h="914400">
                <a:moveTo>
                  <a:pt x="0" y="844062"/>
                </a:moveTo>
                <a:cubicBezTo>
                  <a:pt x="9378" y="858130"/>
                  <a:pt x="12528" y="879762"/>
                  <a:pt x="28135" y="886265"/>
                </a:cubicBezTo>
                <a:cubicBezTo>
                  <a:pt x="72277" y="904658"/>
                  <a:pt x="168812" y="914400"/>
                  <a:pt x="168812" y="914400"/>
                </a:cubicBezTo>
                <a:cubicBezTo>
                  <a:pt x="257908" y="909711"/>
                  <a:pt x="347246" y="908410"/>
                  <a:pt x="436099" y="900333"/>
                </a:cubicBezTo>
                <a:cubicBezTo>
                  <a:pt x="450867" y="898990"/>
                  <a:pt x="465339" y="893466"/>
                  <a:pt x="478302" y="886265"/>
                </a:cubicBezTo>
                <a:cubicBezTo>
                  <a:pt x="507861" y="869843"/>
                  <a:pt x="562708" y="829994"/>
                  <a:pt x="562708" y="829994"/>
                </a:cubicBezTo>
                <a:lnTo>
                  <a:pt x="618979" y="745588"/>
                </a:lnTo>
                <a:cubicBezTo>
                  <a:pt x="628357" y="731520"/>
                  <a:pt x="641768" y="719425"/>
                  <a:pt x="647114" y="703385"/>
                </a:cubicBezTo>
                <a:lnTo>
                  <a:pt x="675249" y="618979"/>
                </a:lnTo>
                <a:cubicBezTo>
                  <a:pt x="679938" y="604911"/>
                  <a:pt x="678832" y="587262"/>
                  <a:pt x="689317" y="576776"/>
                </a:cubicBezTo>
                <a:cubicBezTo>
                  <a:pt x="698695" y="567397"/>
                  <a:pt x="709494" y="559251"/>
                  <a:pt x="717452" y="548640"/>
                </a:cubicBezTo>
                <a:cubicBezTo>
                  <a:pt x="737741" y="521588"/>
                  <a:pt x="749813" y="488144"/>
                  <a:pt x="773723" y="464234"/>
                </a:cubicBezTo>
                <a:lnTo>
                  <a:pt x="829994" y="407963"/>
                </a:lnTo>
                <a:cubicBezTo>
                  <a:pt x="892235" y="221239"/>
                  <a:pt x="858129" y="353214"/>
                  <a:pt x="858129"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8" name="28 Forma libre"/>
          <p:cNvSpPr/>
          <p:nvPr/>
        </p:nvSpPr>
        <p:spPr>
          <a:xfrm rot="5084400">
            <a:off x="5739840" y="1503360"/>
            <a:ext cx="2054160" cy="2050920"/>
          </a:xfrm>
          <a:custGeom>
            <a:avLst/>
            <a:gdLst>
              <a:gd name="textAreaLeft" fmla="*/ 0 w 2054160"/>
              <a:gd name="textAreaRight" fmla="*/ 2054520 w 2054160"/>
              <a:gd name="textAreaTop" fmla="*/ 0 h 2050920"/>
              <a:gd name="textAreaBottom" fmla="*/ 2051280 h 2050920"/>
            </a:gdLst>
            <a:ahLst/>
            <a:rect l="textAreaLeft" t="textAreaTop" r="textAreaRight" b="textAreaBottom"/>
            <a:pathLst>
              <a:path w="2053883" h="2051770">
                <a:moveTo>
                  <a:pt x="0" y="1969477"/>
                </a:moveTo>
                <a:cubicBezTo>
                  <a:pt x="18757" y="1992923"/>
                  <a:pt x="27786" y="2030320"/>
                  <a:pt x="56271" y="2039815"/>
                </a:cubicBezTo>
                <a:cubicBezTo>
                  <a:pt x="92137" y="2051770"/>
                  <a:pt x="131035" y="2027228"/>
                  <a:pt x="168812" y="2025747"/>
                </a:cubicBezTo>
                <a:cubicBezTo>
                  <a:pt x="370349" y="2017844"/>
                  <a:pt x="572086" y="2016369"/>
                  <a:pt x="773723" y="2011680"/>
                </a:cubicBezTo>
                <a:cubicBezTo>
                  <a:pt x="870184" y="1979525"/>
                  <a:pt x="750472" y="2017492"/>
                  <a:pt x="886264" y="1983544"/>
                </a:cubicBezTo>
                <a:cubicBezTo>
                  <a:pt x="900650" y="1979948"/>
                  <a:pt x="913840" y="1971915"/>
                  <a:pt x="928467" y="1969477"/>
                </a:cubicBezTo>
                <a:cubicBezTo>
                  <a:pt x="970352" y="1962496"/>
                  <a:pt x="1012874" y="1960098"/>
                  <a:pt x="1055077" y="1955409"/>
                </a:cubicBezTo>
                <a:lnTo>
                  <a:pt x="1139483" y="1927274"/>
                </a:lnTo>
                <a:lnTo>
                  <a:pt x="1181686" y="1913206"/>
                </a:lnTo>
                <a:cubicBezTo>
                  <a:pt x="1191064" y="1903827"/>
                  <a:pt x="1198448" y="1891894"/>
                  <a:pt x="1209821" y="1885070"/>
                </a:cubicBezTo>
                <a:cubicBezTo>
                  <a:pt x="1313842" y="1822657"/>
                  <a:pt x="1187490" y="1928256"/>
                  <a:pt x="1294227" y="1842867"/>
                </a:cubicBezTo>
                <a:cubicBezTo>
                  <a:pt x="1304584" y="1834582"/>
                  <a:pt x="1312006" y="1823017"/>
                  <a:pt x="1322363" y="1814732"/>
                </a:cubicBezTo>
                <a:cubicBezTo>
                  <a:pt x="1367818" y="1778369"/>
                  <a:pt x="1382137" y="1788376"/>
                  <a:pt x="1420837" y="1730326"/>
                </a:cubicBezTo>
                <a:cubicBezTo>
                  <a:pt x="1456329" y="1677087"/>
                  <a:pt x="1437017" y="1700078"/>
                  <a:pt x="1477107" y="1659987"/>
                </a:cubicBezTo>
                <a:cubicBezTo>
                  <a:pt x="1481796" y="1645919"/>
                  <a:pt x="1483546" y="1630499"/>
                  <a:pt x="1491175" y="1617784"/>
                </a:cubicBezTo>
                <a:cubicBezTo>
                  <a:pt x="1497999" y="1606411"/>
                  <a:pt x="1511025" y="1600006"/>
                  <a:pt x="1519311" y="1589649"/>
                </a:cubicBezTo>
                <a:cubicBezTo>
                  <a:pt x="1529873" y="1576447"/>
                  <a:pt x="1539885" y="1562568"/>
                  <a:pt x="1547446" y="1547446"/>
                </a:cubicBezTo>
                <a:cubicBezTo>
                  <a:pt x="1583970" y="1474398"/>
                  <a:pt x="1534695" y="1532063"/>
                  <a:pt x="1589649" y="1477107"/>
                </a:cubicBezTo>
                <a:cubicBezTo>
                  <a:pt x="1594338" y="1458350"/>
                  <a:pt x="1598406" y="1439427"/>
                  <a:pt x="1603717" y="1420837"/>
                </a:cubicBezTo>
                <a:cubicBezTo>
                  <a:pt x="1607791" y="1406579"/>
                  <a:pt x="1615131" y="1393223"/>
                  <a:pt x="1617784" y="1378634"/>
                </a:cubicBezTo>
                <a:cubicBezTo>
                  <a:pt x="1627456" y="1325437"/>
                  <a:pt x="1626231" y="1232319"/>
                  <a:pt x="1659987" y="1181686"/>
                </a:cubicBezTo>
                <a:cubicBezTo>
                  <a:pt x="1669366" y="1167618"/>
                  <a:pt x="1680562" y="1154605"/>
                  <a:pt x="1688123" y="1139483"/>
                </a:cubicBezTo>
                <a:cubicBezTo>
                  <a:pt x="1724649" y="1066433"/>
                  <a:pt x="1675370" y="1124102"/>
                  <a:pt x="1730326" y="1069144"/>
                </a:cubicBezTo>
                <a:cubicBezTo>
                  <a:pt x="1748072" y="927178"/>
                  <a:pt x="1732439" y="992466"/>
                  <a:pt x="1772529" y="872197"/>
                </a:cubicBezTo>
                <a:cubicBezTo>
                  <a:pt x="1777218" y="858129"/>
                  <a:pt x="1776112" y="840480"/>
                  <a:pt x="1786597" y="829994"/>
                </a:cubicBezTo>
                <a:lnTo>
                  <a:pt x="1814732" y="801858"/>
                </a:lnTo>
                <a:cubicBezTo>
                  <a:pt x="1848182" y="701510"/>
                  <a:pt x="1800751" y="822829"/>
                  <a:pt x="1871003" y="717452"/>
                </a:cubicBezTo>
                <a:cubicBezTo>
                  <a:pt x="1879228" y="705114"/>
                  <a:pt x="1877870" y="688212"/>
                  <a:pt x="1885071" y="675249"/>
                </a:cubicBezTo>
                <a:cubicBezTo>
                  <a:pt x="1901493" y="645690"/>
                  <a:pt x="1930648" y="622922"/>
                  <a:pt x="1941341" y="590843"/>
                </a:cubicBezTo>
                <a:lnTo>
                  <a:pt x="1969477" y="506437"/>
                </a:lnTo>
                <a:lnTo>
                  <a:pt x="1983544" y="464234"/>
                </a:lnTo>
                <a:cubicBezTo>
                  <a:pt x="1988233" y="431409"/>
                  <a:pt x="1994313" y="398753"/>
                  <a:pt x="1997612" y="365760"/>
                </a:cubicBezTo>
                <a:cubicBezTo>
                  <a:pt x="2003696" y="304923"/>
                  <a:pt x="2003034" y="243406"/>
                  <a:pt x="2011680" y="182880"/>
                </a:cubicBezTo>
                <a:cubicBezTo>
                  <a:pt x="2017149" y="144600"/>
                  <a:pt x="2032231" y="108256"/>
                  <a:pt x="2039815" y="70338"/>
                </a:cubicBezTo>
                <a:lnTo>
                  <a:pt x="2053883"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9" name="27 Forma libre"/>
          <p:cNvSpPr/>
          <p:nvPr/>
        </p:nvSpPr>
        <p:spPr>
          <a:xfrm rot="5400000">
            <a:off x="6424560" y="1431360"/>
            <a:ext cx="1224000" cy="1617840"/>
          </a:xfrm>
          <a:custGeom>
            <a:avLst/>
            <a:gdLst>
              <a:gd name="textAreaLeft" fmla="*/ 0 w 1224000"/>
              <a:gd name="textAreaRight" fmla="*/ 1224360 w 1224000"/>
              <a:gd name="textAreaTop" fmla="*/ 0 h 1617840"/>
              <a:gd name="textAreaBottom" fmla="*/ 1618200 h 1617840"/>
            </a:gdLst>
            <a:ahLst/>
            <a:rect l="textAreaLeft" t="textAreaTop" r="textAreaRight" b="textAreaBottom"/>
            <a:pathLst>
              <a:path w="1223889" h="1617785">
                <a:moveTo>
                  <a:pt x="0" y="1617785"/>
                </a:moveTo>
                <a:cubicBezTo>
                  <a:pt x="121920" y="1613096"/>
                  <a:pt x="244398" y="1616272"/>
                  <a:pt x="365760" y="1603717"/>
                </a:cubicBezTo>
                <a:cubicBezTo>
                  <a:pt x="382577" y="1601977"/>
                  <a:pt x="392841" y="1583143"/>
                  <a:pt x="407963" y="1575582"/>
                </a:cubicBezTo>
                <a:cubicBezTo>
                  <a:pt x="428146" y="1565491"/>
                  <a:pt x="488406" y="1551954"/>
                  <a:pt x="506437" y="1547446"/>
                </a:cubicBezTo>
                <a:cubicBezTo>
                  <a:pt x="520505" y="1538068"/>
                  <a:pt x="535438" y="1529873"/>
                  <a:pt x="548640" y="1519311"/>
                </a:cubicBezTo>
                <a:cubicBezTo>
                  <a:pt x="558997" y="1511025"/>
                  <a:pt x="564912" y="1497106"/>
                  <a:pt x="576775" y="1491175"/>
                </a:cubicBezTo>
                <a:cubicBezTo>
                  <a:pt x="594068" y="1482528"/>
                  <a:pt x="614289" y="1481797"/>
                  <a:pt x="633046" y="1477108"/>
                </a:cubicBezTo>
                <a:cubicBezTo>
                  <a:pt x="642425" y="1467729"/>
                  <a:pt x="650825" y="1457258"/>
                  <a:pt x="661182" y="1448972"/>
                </a:cubicBezTo>
                <a:cubicBezTo>
                  <a:pt x="674384" y="1438410"/>
                  <a:pt x="691430" y="1432792"/>
                  <a:pt x="703385" y="1420837"/>
                </a:cubicBezTo>
                <a:cubicBezTo>
                  <a:pt x="715340" y="1408882"/>
                  <a:pt x="720517" y="1391471"/>
                  <a:pt x="731520" y="1378634"/>
                </a:cubicBezTo>
                <a:cubicBezTo>
                  <a:pt x="825066" y="1269496"/>
                  <a:pt x="749581" y="1363153"/>
                  <a:pt x="829994" y="1294228"/>
                </a:cubicBezTo>
                <a:cubicBezTo>
                  <a:pt x="850134" y="1276965"/>
                  <a:pt x="867508" y="1256714"/>
                  <a:pt x="886265" y="1237957"/>
                </a:cubicBezTo>
                <a:lnTo>
                  <a:pt x="956603" y="1167618"/>
                </a:lnTo>
                <a:lnTo>
                  <a:pt x="984739" y="1139483"/>
                </a:lnTo>
                <a:cubicBezTo>
                  <a:pt x="989428" y="1120726"/>
                  <a:pt x="990159" y="1100505"/>
                  <a:pt x="998806" y="1083212"/>
                </a:cubicBezTo>
                <a:cubicBezTo>
                  <a:pt x="1004737" y="1071349"/>
                  <a:pt x="1021010" y="1066940"/>
                  <a:pt x="1026942" y="1055077"/>
                </a:cubicBezTo>
                <a:cubicBezTo>
                  <a:pt x="1091604" y="925755"/>
                  <a:pt x="1019647" y="1006102"/>
                  <a:pt x="1083212" y="942535"/>
                </a:cubicBezTo>
                <a:cubicBezTo>
                  <a:pt x="1168237" y="687466"/>
                  <a:pt x="1065763" y="1006514"/>
                  <a:pt x="1125415" y="787791"/>
                </a:cubicBezTo>
                <a:cubicBezTo>
                  <a:pt x="1125418" y="787780"/>
                  <a:pt x="1160583" y="682289"/>
                  <a:pt x="1167619" y="661182"/>
                </a:cubicBezTo>
                <a:lnTo>
                  <a:pt x="1209822" y="534572"/>
                </a:lnTo>
                <a:cubicBezTo>
                  <a:pt x="1214511" y="520504"/>
                  <a:pt x="1223889" y="507198"/>
                  <a:pt x="1223889" y="492369"/>
                </a:cubicBezTo>
                <a:lnTo>
                  <a:pt x="1223889"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0" name="30 CuadroTexto"/>
          <p:cNvSpPr/>
          <p:nvPr/>
        </p:nvSpPr>
        <p:spPr>
          <a:xfrm rot="16200000">
            <a:off x="292320" y="2918880"/>
            <a:ext cx="22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Profundidad</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Cálidos Monomíctico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irculan en invier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s temperaturas no descienden de los 4 °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Se estratifican en vera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os de zonas oceánic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stratificación monomíctica del tipo cálid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Rectángulo"/>
          <p:cNvSpPr/>
          <p:nvPr/>
        </p:nvSpPr>
        <p:spPr>
          <a:xfrm>
            <a:off x="1692360" y="1628640"/>
            <a:ext cx="6192720" cy="4032360"/>
          </a:xfrm>
          <a:prstGeom prst="rect">
            <a:avLst/>
          </a:prstGeom>
          <a:solidFill>
            <a:srgbClr val="0099cc"/>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74" name="5 Conector recto"/>
          <p:cNvSpPr/>
          <p:nvPr/>
        </p:nvSpPr>
        <p:spPr>
          <a:xfrm>
            <a:off x="1979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5" name="6 Conector recto"/>
          <p:cNvSpPr/>
          <p:nvPr/>
        </p:nvSpPr>
        <p:spPr>
          <a:xfrm>
            <a:off x="226836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6" name="7 Conector recto"/>
          <p:cNvSpPr/>
          <p:nvPr/>
        </p:nvSpPr>
        <p:spPr>
          <a:xfrm>
            <a:off x="255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7" name="8 Conector recto"/>
          <p:cNvSpPr/>
          <p:nvPr/>
        </p:nvSpPr>
        <p:spPr>
          <a:xfrm>
            <a:off x="6875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8" name="9 Conector recto"/>
          <p:cNvSpPr/>
          <p:nvPr/>
        </p:nvSpPr>
        <p:spPr>
          <a:xfrm>
            <a:off x="723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9" name="10 Conector recto"/>
          <p:cNvSpPr/>
          <p:nvPr/>
        </p:nvSpPr>
        <p:spPr>
          <a:xfrm>
            <a:off x="759636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0" name="12 Forma libre"/>
          <p:cNvSpPr/>
          <p:nvPr/>
        </p:nvSpPr>
        <p:spPr>
          <a:xfrm>
            <a:off x="4290840" y="1622520"/>
            <a:ext cx="487440" cy="377640"/>
          </a:xfrm>
          <a:custGeom>
            <a:avLst/>
            <a:gdLst>
              <a:gd name="textAreaLeft" fmla="*/ 0 w 487440"/>
              <a:gd name="textAreaRight" fmla="*/ 487800 w 487440"/>
              <a:gd name="textAreaTop" fmla="*/ 0 h 377640"/>
              <a:gd name="textAreaBottom" fmla="*/ 378000 h 377640"/>
            </a:gdLst>
            <a:ahLst/>
            <a:rect l="textAreaLeft" t="textAreaTop" r="textAreaRight" b="textAreaBottom"/>
            <a:pathLst>
              <a:path w="486696" h="378324">
                <a:moveTo>
                  <a:pt x="0" y="44245"/>
                </a:moveTo>
                <a:lnTo>
                  <a:pt x="29496" y="132735"/>
                </a:lnTo>
                <a:cubicBezTo>
                  <a:pt x="34412" y="147483"/>
                  <a:pt x="35621" y="164045"/>
                  <a:pt x="44245" y="176980"/>
                </a:cubicBezTo>
                <a:lnTo>
                  <a:pt x="73742" y="221225"/>
                </a:lnTo>
                <a:cubicBezTo>
                  <a:pt x="82155" y="246465"/>
                  <a:pt x="93480" y="293378"/>
                  <a:pt x="117987" y="309716"/>
                </a:cubicBezTo>
                <a:cubicBezTo>
                  <a:pt x="134852" y="320959"/>
                  <a:pt x="157316" y="319548"/>
                  <a:pt x="176980" y="324464"/>
                </a:cubicBezTo>
                <a:cubicBezTo>
                  <a:pt x="233432" y="362099"/>
                  <a:pt x="236462" y="378324"/>
                  <a:pt x="324464" y="339212"/>
                </a:cubicBezTo>
                <a:cubicBezTo>
                  <a:pt x="340662" y="332013"/>
                  <a:pt x="344129" y="309715"/>
                  <a:pt x="353961" y="294967"/>
                </a:cubicBezTo>
                <a:cubicBezTo>
                  <a:pt x="358877" y="280219"/>
                  <a:pt x="361757" y="264627"/>
                  <a:pt x="368709" y="250722"/>
                </a:cubicBezTo>
                <a:cubicBezTo>
                  <a:pt x="376636" y="234868"/>
                  <a:pt x="395699" y="224024"/>
                  <a:pt x="398206" y="206477"/>
                </a:cubicBezTo>
                <a:cubicBezTo>
                  <a:pt x="401073" y="186411"/>
                  <a:pt x="388374" y="167148"/>
                  <a:pt x="383458" y="147483"/>
                </a:cubicBezTo>
                <a:cubicBezTo>
                  <a:pt x="393290" y="132735"/>
                  <a:pt x="401607" y="116855"/>
                  <a:pt x="412954" y="103238"/>
                </a:cubicBezTo>
                <a:cubicBezTo>
                  <a:pt x="426307" y="87215"/>
                  <a:pt x="445077" y="75965"/>
                  <a:pt x="457200" y="58993"/>
                </a:cubicBezTo>
                <a:cubicBezTo>
                  <a:pt x="469979" y="41103"/>
                  <a:pt x="486696" y="0"/>
                  <a:pt x="486696"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1" name="13 Forma libre"/>
          <p:cNvSpPr/>
          <p:nvPr/>
        </p:nvSpPr>
        <p:spPr>
          <a:xfrm>
            <a:off x="2889360" y="1652760"/>
            <a:ext cx="3614760" cy="1828800"/>
          </a:xfrm>
          <a:custGeom>
            <a:avLst/>
            <a:gdLst>
              <a:gd name="textAreaLeft" fmla="*/ 0 w 3614760"/>
              <a:gd name="textAreaRight" fmla="*/ 3615120 w 3614760"/>
              <a:gd name="textAreaTop" fmla="*/ 0 h 1828800"/>
              <a:gd name="textAreaBottom" fmla="*/ 1829160 h 1828800"/>
            </a:gdLst>
            <a:ahLst/>
            <a:rect l="textAreaLeft" t="textAreaTop" r="textAreaRight" b="textAreaBottom"/>
            <a:pathLst>
              <a:path w="3614704" h="1828800">
                <a:moveTo>
                  <a:pt x="1349" y="0"/>
                </a:moveTo>
                <a:cubicBezTo>
                  <a:pt x="6265" y="39329"/>
                  <a:pt x="0" y="81768"/>
                  <a:pt x="16097" y="117987"/>
                </a:cubicBezTo>
                <a:cubicBezTo>
                  <a:pt x="22411" y="132193"/>
                  <a:pt x="49349" y="121743"/>
                  <a:pt x="60342" y="132736"/>
                </a:cubicBezTo>
                <a:cubicBezTo>
                  <a:pt x="85409" y="157803"/>
                  <a:pt x="98066" y="192865"/>
                  <a:pt x="119336" y="221226"/>
                </a:cubicBezTo>
                <a:lnTo>
                  <a:pt x="163581" y="280220"/>
                </a:lnTo>
                <a:cubicBezTo>
                  <a:pt x="168497" y="314633"/>
                  <a:pt x="171513" y="349371"/>
                  <a:pt x="178330" y="383458"/>
                </a:cubicBezTo>
                <a:cubicBezTo>
                  <a:pt x="181379" y="398702"/>
                  <a:pt x="183126" y="415761"/>
                  <a:pt x="193078" y="427704"/>
                </a:cubicBezTo>
                <a:cubicBezTo>
                  <a:pt x="208814" y="446587"/>
                  <a:pt x="233408" y="455952"/>
                  <a:pt x="252071" y="471949"/>
                </a:cubicBezTo>
                <a:cubicBezTo>
                  <a:pt x="267907" y="485523"/>
                  <a:pt x="281568" y="501446"/>
                  <a:pt x="296317" y="516194"/>
                </a:cubicBezTo>
                <a:cubicBezTo>
                  <a:pt x="301233" y="530942"/>
                  <a:pt x="304113" y="546534"/>
                  <a:pt x="311065" y="560439"/>
                </a:cubicBezTo>
                <a:cubicBezTo>
                  <a:pt x="318992" y="576293"/>
                  <a:pt x="333363" y="588486"/>
                  <a:pt x="340562" y="604684"/>
                </a:cubicBezTo>
                <a:cubicBezTo>
                  <a:pt x="410769" y="762649"/>
                  <a:pt x="332800" y="637285"/>
                  <a:pt x="399555" y="737420"/>
                </a:cubicBezTo>
                <a:cubicBezTo>
                  <a:pt x="426045" y="869866"/>
                  <a:pt x="389604" y="758564"/>
                  <a:pt x="473297" y="870155"/>
                </a:cubicBezTo>
                <a:cubicBezTo>
                  <a:pt x="486488" y="887744"/>
                  <a:pt x="491482" y="910296"/>
                  <a:pt x="502794" y="929149"/>
                </a:cubicBezTo>
                <a:cubicBezTo>
                  <a:pt x="521033" y="959548"/>
                  <a:pt x="542123" y="988142"/>
                  <a:pt x="561788" y="1017639"/>
                </a:cubicBezTo>
                <a:cubicBezTo>
                  <a:pt x="571620" y="1032387"/>
                  <a:pt x="585679" y="1045069"/>
                  <a:pt x="591284" y="1061884"/>
                </a:cubicBezTo>
                <a:cubicBezTo>
                  <a:pt x="596200" y="1076632"/>
                  <a:pt x="601762" y="1091181"/>
                  <a:pt x="606033" y="1106129"/>
                </a:cubicBezTo>
                <a:cubicBezTo>
                  <a:pt x="611602" y="1125619"/>
                  <a:pt x="611716" y="1146993"/>
                  <a:pt x="620781" y="1165123"/>
                </a:cubicBezTo>
                <a:cubicBezTo>
                  <a:pt x="636635" y="1196831"/>
                  <a:pt x="663921" y="1221905"/>
                  <a:pt x="679775" y="1253613"/>
                </a:cubicBezTo>
                <a:cubicBezTo>
                  <a:pt x="689607" y="1273278"/>
                  <a:pt x="695196" y="1295717"/>
                  <a:pt x="709271" y="1312607"/>
                </a:cubicBezTo>
                <a:cubicBezTo>
                  <a:pt x="720619" y="1326224"/>
                  <a:pt x="738768" y="1332272"/>
                  <a:pt x="753517" y="1342104"/>
                </a:cubicBezTo>
                <a:cubicBezTo>
                  <a:pt x="779265" y="1419349"/>
                  <a:pt x="750726" y="1361715"/>
                  <a:pt x="827259" y="1430594"/>
                </a:cubicBezTo>
                <a:cubicBezTo>
                  <a:pt x="858265" y="1458500"/>
                  <a:pt x="886252" y="1489587"/>
                  <a:pt x="915749" y="1519084"/>
                </a:cubicBezTo>
                <a:cubicBezTo>
                  <a:pt x="935413" y="1538749"/>
                  <a:pt x="959316" y="1554939"/>
                  <a:pt x="974742" y="1578078"/>
                </a:cubicBezTo>
                <a:cubicBezTo>
                  <a:pt x="984574" y="1592826"/>
                  <a:pt x="991705" y="1609789"/>
                  <a:pt x="1004239" y="1622323"/>
                </a:cubicBezTo>
                <a:cubicBezTo>
                  <a:pt x="1032830" y="1650914"/>
                  <a:pt x="1056743" y="1654573"/>
                  <a:pt x="1092730" y="1666568"/>
                </a:cubicBezTo>
                <a:cubicBezTo>
                  <a:pt x="1253777" y="1773934"/>
                  <a:pt x="1005498" y="1615578"/>
                  <a:pt x="1195968" y="1710813"/>
                </a:cubicBezTo>
                <a:cubicBezTo>
                  <a:pt x="1398816" y="1812237"/>
                  <a:pt x="1206351" y="1743772"/>
                  <a:pt x="1328704" y="1784555"/>
                </a:cubicBezTo>
                <a:cubicBezTo>
                  <a:pt x="1343452" y="1794387"/>
                  <a:pt x="1356657" y="1807070"/>
                  <a:pt x="1372949" y="1814052"/>
                </a:cubicBezTo>
                <a:cubicBezTo>
                  <a:pt x="1391580" y="1822037"/>
                  <a:pt x="1411672" y="1828800"/>
                  <a:pt x="1431942" y="1828800"/>
                </a:cubicBezTo>
                <a:cubicBezTo>
                  <a:pt x="1554944" y="1828800"/>
                  <a:pt x="1677749" y="1818968"/>
                  <a:pt x="1800652" y="1814052"/>
                </a:cubicBezTo>
                <a:cubicBezTo>
                  <a:pt x="1830149" y="1804220"/>
                  <a:pt x="1863272" y="1801802"/>
                  <a:pt x="1889142" y="1784555"/>
                </a:cubicBezTo>
                <a:cubicBezTo>
                  <a:pt x="1946323" y="1746435"/>
                  <a:pt x="1916572" y="1760663"/>
                  <a:pt x="1977633" y="1740310"/>
                </a:cubicBezTo>
                <a:cubicBezTo>
                  <a:pt x="2007130" y="1720645"/>
                  <a:pt x="2046458" y="1710813"/>
                  <a:pt x="2066123" y="1681316"/>
                </a:cubicBezTo>
                <a:cubicBezTo>
                  <a:pt x="2075955" y="1666568"/>
                  <a:pt x="2083086" y="1649605"/>
                  <a:pt x="2095620" y="1637071"/>
                </a:cubicBezTo>
                <a:cubicBezTo>
                  <a:pt x="2121128" y="1611564"/>
                  <a:pt x="2169943" y="1595428"/>
                  <a:pt x="2198859" y="1578078"/>
                </a:cubicBezTo>
                <a:cubicBezTo>
                  <a:pt x="2198867" y="1578073"/>
                  <a:pt x="2309468" y="1504338"/>
                  <a:pt x="2331594" y="1489587"/>
                </a:cubicBezTo>
                <a:cubicBezTo>
                  <a:pt x="2346342" y="1479755"/>
                  <a:pt x="2359985" y="1468018"/>
                  <a:pt x="2375839" y="1460091"/>
                </a:cubicBezTo>
                <a:cubicBezTo>
                  <a:pt x="2448738" y="1423642"/>
                  <a:pt x="2413975" y="1437546"/>
                  <a:pt x="2479078" y="1415846"/>
                </a:cubicBezTo>
                <a:cubicBezTo>
                  <a:pt x="2608342" y="1286579"/>
                  <a:pt x="2444369" y="1444771"/>
                  <a:pt x="2567568" y="1342104"/>
                </a:cubicBezTo>
                <a:cubicBezTo>
                  <a:pt x="2583591" y="1328751"/>
                  <a:pt x="2598460" y="1313881"/>
                  <a:pt x="2611813" y="1297858"/>
                </a:cubicBezTo>
                <a:cubicBezTo>
                  <a:pt x="2623160" y="1284241"/>
                  <a:pt x="2627693" y="1264960"/>
                  <a:pt x="2641310" y="1253613"/>
                </a:cubicBezTo>
                <a:cubicBezTo>
                  <a:pt x="2658200" y="1239538"/>
                  <a:pt x="2680639" y="1233948"/>
                  <a:pt x="2700304" y="1224116"/>
                </a:cubicBezTo>
                <a:cubicBezTo>
                  <a:pt x="2769817" y="1119844"/>
                  <a:pt x="2682579" y="1248931"/>
                  <a:pt x="2774046" y="1120878"/>
                </a:cubicBezTo>
                <a:cubicBezTo>
                  <a:pt x="2784349" y="1106454"/>
                  <a:pt x="2795615" y="1092487"/>
                  <a:pt x="2803542" y="1076633"/>
                </a:cubicBezTo>
                <a:cubicBezTo>
                  <a:pt x="2810495" y="1062728"/>
                  <a:pt x="2810741" y="1045977"/>
                  <a:pt x="2818291" y="1032387"/>
                </a:cubicBezTo>
                <a:cubicBezTo>
                  <a:pt x="2835507" y="1001398"/>
                  <a:pt x="2857620" y="973394"/>
                  <a:pt x="2877284" y="943897"/>
                </a:cubicBezTo>
                <a:lnTo>
                  <a:pt x="2906781" y="899652"/>
                </a:lnTo>
                <a:cubicBezTo>
                  <a:pt x="2916613" y="884904"/>
                  <a:pt x="2921530" y="865239"/>
                  <a:pt x="2936278" y="855407"/>
                </a:cubicBezTo>
                <a:cubicBezTo>
                  <a:pt x="2951026" y="845575"/>
                  <a:pt x="2967989" y="838444"/>
                  <a:pt x="2980523" y="825910"/>
                </a:cubicBezTo>
                <a:cubicBezTo>
                  <a:pt x="2997904" y="808529"/>
                  <a:pt x="3008771" y="785579"/>
                  <a:pt x="3024768" y="766916"/>
                </a:cubicBezTo>
                <a:cubicBezTo>
                  <a:pt x="3038342" y="751080"/>
                  <a:pt x="3055660" y="738694"/>
                  <a:pt x="3069013" y="722671"/>
                </a:cubicBezTo>
                <a:cubicBezTo>
                  <a:pt x="3080361" y="709054"/>
                  <a:pt x="3085976" y="690960"/>
                  <a:pt x="3098510" y="678426"/>
                </a:cubicBezTo>
                <a:cubicBezTo>
                  <a:pt x="3111044" y="665892"/>
                  <a:pt x="3128007" y="658761"/>
                  <a:pt x="3142755" y="648929"/>
                </a:cubicBezTo>
                <a:cubicBezTo>
                  <a:pt x="3188109" y="558223"/>
                  <a:pt x="3160053" y="608237"/>
                  <a:pt x="3231246" y="501446"/>
                </a:cubicBezTo>
                <a:lnTo>
                  <a:pt x="3260742" y="457200"/>
                </a:lnTo>
                <a:cubicBezTo>
                  <a:pt x="3270574" y="442452"/>
                  <a:pt x="3284634" y="429771"/>
                  <a:pt x="3290239" y="412955"/>
                </a:cubicBezTo>
                <a:cubicBezTo>
                  <a:pt x="3295155" y="398207"/>
                  <a:pt x="3297438" y="382300"/>
                  <a:pt x="3304988" y="368710"/>
                </a:cubicBezTo>
                <a:cubicBezTo>
                  <a:pt x="3322204" y="337721"/>
                  <a:pt x="3344317" y="309717"/>
                  <a:pt x="3363981" y="280220"/>
                </a:cubicBezTo>
                <a:cubicBezTo>
                  <a:pt x="3373813" y="265472"/>
                  <a:pt x="3385551" y="251829"/>
                  <a:pt x="3393478" y="235975"/>
                </a:cubicBezTo>
                <a:cubicBezTo>
                  <a:pt x="3403310" y="216310"/>
                  <a:pt x="3412067" y="196070"/>
                  <a:pt x="3422975" y="176981"/>
                </a:cubicBezTo>
                <a:cubicBezTo>
                  <a:pt x="3460791" y="110802"/>
                  <a:pt x="3460411" y="127442"/>
                  <a:pt x="3540962" y="73742"/>
                </a:cubicBezTo>
                <a:lnTo>
                  <a:pt x="3585207" y="44246"/>
                </a:lnTo>
                <a:lnTo>
                  <a:pt x="3614704"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2" name="14 Forma libre"/>
          <p:cNvSpPr/>
          <p:nvPr/>
        </p:nvSpPr>
        <p:spPr>
          <a:xfrm>
            <a:off x="3457440" y="1589040"/>
            <a:ext cx="2194200" cy="1408320"/>
          </a:xfrm>
          <a:custGeom>
            <a:avLst/>
            <a:gdLst>
              <a:gd name="textAreaLeft" fmla="*/ 0 w 2194200"/>
              <a:gd name="textAreaRight" fmla="*/ 2194560 w 2194200"/>
              <a:gd name="textAreaTop" fmla="*/ 0 h 1408320"/>
              <a:gd name="textAreaBottom" fmla="*/ 1408320 h 1408320"/>
            </a:gdLst>
            <a:ahLst/>
            <a:rect l="textAreaLeft" t="textAreaTop" r="textAreaRight" b="textAreaBottom"/>
            <a:pathLst>
              <a:path w="2190794" h="1375139">
                <a:moveTo>
                  <a:pt x="37038" y="62532"/>
                </a:moveTo>
                <a:cubicBezTo>
                  <a:pt x="27206" y="92029"/>
                  <a:pt x="0" y="120859"/>
                  <a:pt x="7541" y="151023"/>
                </a:cubicBezTo>
                <a:cubicBezTo>
                  <a:pt x="33340" y="254222"/>
                  <a:pt x="1790" y="171017"/>
                  <a:pt x="66535" y="254261"/>
                </a:cubicBezTo>
                <a:cubicBezTo>
                  <a:pt x="88300" y="282244"/>
                  <a:pt x="100461" y="317685"/>
                  <a:pt x="125528" y="342752"/>
                </a:cubicBezTo>
                <a:cubicBezTo>
                  <a:pt x="155025" y="372249"/>
                  <a:pt x="190879" y="396533"/>
                  <a:pt x="214018" y="431242"/>
                </a:cubicBezTo>
                <a:lnTo>
                  <a:pt x="273012" y="519732"/>
                </a:lnTo>
                <a:cubicBezTo>
                  <a:pt x="282844" y="534481"/>
                  <a:pt x="287760" y="554146"/>
                  <a:pt x="302509" y="563978"/>
                </a:cubicBezTo>
                <a:lnTo>
                  <a:pt x="346754" y="593474"/>
                </a:lnTo>
                <a:cubicBezTo>
                  <a:pt x="375465" y="679609"/>
                  <a:pt x="339037" y="600506"/>
                  <a:pt x="405747" y="667216"/>
                </a:cubicBezTo>
                <a:cubicBezTo>
                  <a:pt x="418281" y="679750"/>
                  <a:pt x="423897" y="697844"/>
                  <a:pt x="435244" y="711461"/>
                </a:cubicBezTo>
                <a:cubicBezTo>
                  <a:pt x="448597" y="727484"/>
                  <a:pt x="464741" y="740958"/>
                  <a:pt x="479489" y="755707"/>
                </a:cubicBezTo>
                <a:cubicBezTo>
                  <a:pt x="484405" y="770455"/>
                  <a:pt x="483245" y="788959"/>
                  <a:pt x="494238" y="799952"/>
                </a:cubicBezTo>
                <a:cubicBezTo>
                  <a:pt x="519305" y="825019"/>
                  <a:pt x="554367" y="837675"/>
                  <a:pt x="582728" y="858945"/>
                </a:cubicBezTo>
                <a:lnTo>
                  <a:pt x="641722" y="903190"/>
                </a:lnTo>
                <a:cubicBezTo>
                  <a:pt x="651554" y="917939"/>
                  <a:pt x="658684" y="934902"/>
                  <a:pt x="671218" y="947436"/>
                </a:cubicBezTo>
                <a:cubicBezTo>
                  <a:pt x="683752" y="959970"/>
                  <a:pt x="705632" y="962184"/>
                  <a:pt x="715464" y="976932"/>
                </a:cubicBezTo>
                <a:cubicBezTo>
                  <a:pt x="726708" y="993797"/>
                  <a:pt x="718968" y="1019060"/>
                  <a:pt x="730212" y="1035926"/>
                </a:cubicBezTo>
                <a:cubicBezTo>
                  <a:pt x="740044" y="1050674"/>
                  <a:pt x="760840" y="1054075"/>
                  <a:pt x="774457" y="1065423"/>
                </a:cubicBezTo>
                <a:cubicBezTo>
                  <a:pt x="790480" y="1078776"/>
                  <a:pt x="805349" y="1093645"/>
                  <a:pt x="818702" y="1109668"/>
                </a:cubicBezTo>
                <a:cubicBezTo>
                  <a:pt x="830050" y="1123285"/>
                  <a:pt x="836851" y="1140296"/>
                  <a:pt x="848199" y="1153913"/>
                </a:cubicBezTo>
                <a:cubicBezTo>
                  <a:pt x="883686" y="1196497"/>
                  <a:pt x="893184" y="1198652"/>
                  <a:pt x="936689" y="1227655"/>
                </a:cubicBezTo>
                <a:cubicBezTo>
                  <a:pt x="946521" y="1242403"/>
                  <a:pt x="953652" y="1259366"/>
                  <a:pt x="966186" y="1271900"/>
                </a:cubicBezTo>
                <a:cubicBezTo>
                  <a:pt x="994777" y="1300491"/>
                  <a:pt x="1018689" y="1304150"/>
                  <a:pt x="1054676" y="1316145"/>
                </a:cubicBezTo>
                <a:cubicBezTo>
                  <a:pt x="1064508" y="1330893"/>
                  <a:pt x="1069425" y="1350558"/>
                  <a:pt x="1084173" y="1360390"/>
                </a:cubicBezTo>
                <a:cubicBezTo>
                  <a:pt x="1101039" y="1371634"/>
                  <a:pt x="1122897" y="1375139"/>
                  <a:pt x="1143167" y="1375139"/>
                </a:cubicBezTo>
                <a:cubicBezTo>
                  <a:pt x="1212168" y="1375139"/>
                  <a:pt x="1280818" y="1365306"/>
                  <a:pt x="1349644" y="1360390"/>
                </a:cubicBezTo>
                <a:cubicBezTo>
                  <a:pt x="1364392" y="1355474"/>
                  <a:pt x="1381750" y="1355353"/>
                  <a:pt x="1393889" y="1345642"/>
                </a:cubicBezTo>
                <a:cubicBezTo>
                  <a:pt x="1407730" y="1334569"/>
                  <a:pt x="1410852" y="1313931"/>
                  <a:pt x="1423386" y="1301397"/>
                </a:cubicBezTo>
                <a:cubicBezTo>
                  <a:pt x="1435920" y="1288863"/>
                  <a:pt x="1452883" y="1281732"/>
                  <a:pt x="1467631" y="1271900"/>
                </a:cubicBezTo>
                <a:cubicBezTo>
                  <a:pt x="1536457" y="1168662"/>
                  <a:pt x="1497128" y="1203075"/>
                  <a:pt x="1570870" y="1153913"/>
                </a:cubicBezTo>
                <a:cubicBezTo>
                  <a:pt x="1590535" y="1124416"/>
                  <a:pt x="1618654" y="1099055"/>
                  <a:pt x="1629864" y="1065423"/>
                </a:cubicBezTo>
                <a:cubicBezTo>
                  <a:pt x="1639696" y="1035926"/>
                  <a:pt x="1642113" y="1002802"/>
                  <a:pt x="1659360" y="976932"/>
                </a:cubicBezTo>
                <a:lnTo>
                  <a:pt x="1718354" y="888442"/>
                </a:lnTo>
                <a:cubicBezTo>
                  <a:pt x="1723270" y="873694"/>
                  <a:pt x="1725552" y="857787"/>
                  <a:pt x="1733102" y="844197"/>
                </a:cubicBezTo>
                <a:cubicBezTo>
                  <a:pt x="1750318" y="813208"/>
                  <a:pt x="1772431" y="785204"/>
                  <a:pt x="1792096" y="755707"/>
                </a:cubicBezTo>
                <a:cubicBezTo>
                  <a:pt x="1801928" y="740958"/>
                  <a:pt x="1813666" y="727315"/>
                  <a:pt x="1821593" y="711461"/>
                </a:cubicBezTo>
                <a:cubicBezTo>
                  <a:pt x="1831425" y="691797"/>
                  <a:pt x="1840181" y="671557"/>
                  <a:pt x="1851089" y="652468"/>
                </a:cubicBezTo>
                <a:cubicBezTo>
                  <a:pt x="1859883" y="637078"/>
                  <a:pt x="1873387" y="624421"/>
                  <a:pt x="1880586" y="608223"/>
                </a:cubicBezTo>
                <a:cubicBezTo>
                  <a:pt x="1880591" y="608211"/>
                  <a:pt x="1917455" y="497616"/>
                  <a:pt x="1924831" y="475487"/>
                </a:cubicBezTo>
                <a:cubicBezTo>
                  <a:pt x="1929747" y="460739"/>
                  <a:pt x="1930957" y="444177"/>
                  <a:pt x="1939580" y="431242"/>
                </a:cubicBezTo>
                <a:cubicBezTo>
                  <a:pt x="2024117" y="304433"/>
                  <a:pt x="1922759" y="464881"/>
                  <a:pt x="1983825" y="342752"/>
                </a:cubicBezTo>
                <a:cubicBezTo>
                  <a:pt x="1991752" y="326898"/>
                  <a:pt x="2003490" y="313255"/>
                  <a:pt x="2013322" y="298507"/>
                </a:cubicBezTo>
                <a:cubicBezTo>
                  <a:pt x="2064820" y="144008"/>
                  <a:pt x="2016223" y="263930"/>
                  <a:pt x="2072315" y="165771"/>
                </a:cubicBezTo>
                <a:cubicBezTo>
                  <a:pt x="2083223" y="146682"/>
                  <a:pt x="2087737" y="123668"/>
                  <a:pt x="2101812" y="106778"/>
                </a:cubicBezTo>
                <a:cubicBezTo>
                  <a:pt x="2190794" y="0"/>
                  <a:pt x="2116058" y="137281"/>
                  <a:pt x="2160805" y="4778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3" name="PlaceHolder 1"/>
          <p:cNvSpPr>
            <a:spLocks noGrp="1"/>
          </p:cNvSpPr>
          <p:nvPr>
            <p:ph type="title"/>
          </p:nvPr>
        </p:nvSpPr>
        <p:spPr>
          <a:xfrm>
            <a:off x="1476000" y="549000"/>
            <a:ext cx="734364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Invierno             Verano                    Invierno</a:t>
            </a:r>
            <a:endParaRPr b="1" lang="en-US" sz="2800" spc="-1" strike="noStrike">
              <a:solidFill>
                <a:srgbClr val="e5e5ff"/>
              </a:solidFill>
              <a:latin typeface="Garamond"/>
            </a:endParaRPr>
          </a:p>
        </p:txBody>
      </p:sp>
      <p:sp>
        <p:nvSpPr>
          <p:cNvPr id="184" name="20 CuadroTexto"/>
          <p:cNvSpPr/>
          <p:nvPr/>
        </p:nvSpPr>
        <p:spPr>
          <a:xfrm rot="16200000">
            <a:off x="292320" y="2918880"/>
            <a:ext cx="22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Profundidad</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929120" y="571320"/>
            <a:ext cx="3929040" cy="480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Lagos Monomícticos:</a:t>
            </a:r>
            <a:br>
              <a:rPr sz="2800"/>
            </a:br>
            <a:br>
              <a:rPr sz="2800"/>
            </a:br>
            <a:r>
              <a:rPr b="1" lang="es-ES" sz="3000" spc="-1" strike="noStrike">
                <a:solidFill>
                  <a:srgbClr val="ffffff"/>
                </a:solidFill>
                <a:latin typeface="Garamond"/>
              </a:rPr>
              <a:t>Puyehue, Rupanco </a:t>
            </a:r>
            <a:r>
              <a:rPr b="0" lang="es-ES" sz="3000" spc="-1" strike="noStrike">
                <a:solidFill>
                  <a:srgbClr val="ffffff"/>
                </a:solidFill>
                <a:latin typeface="Garamond"/>
              </a:rPr>
              <a:t>y </a:t>
            </a:r>
            <a:r>
              <a:rPr b="1" lang="es-ES" sz="3000" spc="-1" strike="noStrike">
                <a:solidFill>
                  <a:srgbClr val="ffffff"/>
                </a:solidFill>
                <a:latin typeface="Garamond"/>
              </a:rPr>
              <a:t>Llanquihue</a:t>
            </a:r>
            <a:r>
              <a:rPr b="0" lang="es-ES" sz="3000" spc="-1" strike="noStrike">
                <a:solidFill>
                  <a:srgbClr val="ffffff"/>
                </a:solidFill>
                <a:latin typeface="Garamond"/>
              </a:rPr>
              <a:t> en la región de los lagos Araucanos y el lago </a:t>
            </a:r>
            <a:r>
              <a:rPr b="1" lang="es-ES" sz="3000" spc="-1" strike="noStrike">
                <a:solidFill>
                  <a:srgbClr val="ffffff"/>
                </a:solidFill>
                <a:latin typeface="Garamond"/>
              </a:rPr>
              <a:t>Yelcho</a:t>
            </a:r>
            <a:r>
              <a:rPr b="0" lang="es-ES" sz="3000" spc="-1" strike="noStrike">
                <a:solidFill>
                  <a:srgbClr val="ffffff"/>
                </a:solidFill>
                <a:latin typeface="Garamond"/>
              </a:rPr>
              <a:t> más al sur en la región Patagónica nortina. </a:t>
            </a:r>
            <a:endParaRPr b="1" lang="en-US" sz="3000" spc="-1" strike="noStrike">
              <a:solidFill>
                <a:srgbClr val="e5e5ff"/>
              </a:solidFill>
              <a:latin typeface="Garamond"/>
            </a:endParaRPr>
          </a:p>
        </p:txBody>
      </p:sp>
      <p:pic>
        <p:nvPicPr>
          <p:cNvPr id="186" name="Picture 3" descr="img09-01"/>
          <p:cNvPicPr/>
          <p:nvPr/>
        </p:nvPicPr>
        <p:blipFill>
          <a:blip r:embed="rId1"/>
          <a:stretch/>
        </p:blipFill>
        <p:spPr>
          <a:xfrm>
            <a:off x="250920" y="44280"/>
            <a:ext cx="4321080" cy="681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85920" y="500040"/>
            <a:ext cx="2962440" cy="592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Relación profundidad de</a:t>
            </a:r>
            <a:br>
              <a:rPr sz="2400"/>
            </a:br>
            <a:r>
              <a:rPr b="1" lang="es-ES" sz="2400" spc="-1" strike="noStrike">
                <a:solidFill>
                  <a:srgbClr val="ffffff"/>
                </a:solidFill>
                <a:latin typeface="Garamond"/>
              </a:rPr>
              <a:t>mezcla-área</a:t>
            </a:r>
            <a:r>
              <a:rPr b="1" lang="es-ES" sz="4000" spc="-1" strike="noStrike">
                <a:solidFill>
                  <a:srgbClr val="ffffff"/>
                </a:solidFill>
                <a:latin typeface="Garamond"/>
              </a:rPr>
              <a:t> </a:t>
            </a:r>
            <a:r>
              <a:rPr b="1" lang="es-ES" sz="2400" spc="-1" strike="noStrike">
                <a:solidFill>
                  <a:srgbClr val="ffffff"/>
                </a:solidFill>
                <a:latin typeface="Garamond"/>
              </a:rPr>
              <a:t>para lagos del sur de Chile. Cada lago es representado por un rombo abierto. Lagos Canadienses comparables (ELA, NOLSS, Fee &amp; Hecky 1992, Fee et al. 1992, 1994, 1996), cada lago representado por un cuadrado relleno</a:t>
            </a:r>
            <a:r>
              <a:rPr b="1" lang="es-ES" sz="2800" spc="-1" strike="noStrike">
                <a:solidFill>
                  <a:srgbClr val="ffffff"/>
                </a:solidFill>
                <a:latin typeface="Garamond"/>
              </a:rPr>
              <a:t>.</a:t>
            </a:r>
            <a:r>
              <a:rPr b="1" lang="es-ES" sz="4000" spc="-1" strike="noStrike">
                <a:solidFill>
                  <a:srgbClr val="ffffff"/>
                </a:solidFill>
                <a:latin typeface="Garamond"/>
              </a:rPr>
              <a:t> </a:t>
            </a:r>
            <a:endParaRPr b="1" lang="en-US" sz="4000" spc="-1" strike="noStrike">
              <a:solidFill>
                <a:srgbClr val="e5e5ff"/>
              </a:solidFill>
              <a:latin typeface="Garamond"/>
            </a:endParaRPr>
          </a:p>
        </p:txBody>
      </p:sp>
      <p:pic>
        <p:nvPicPr>
          <p:cNvPr id="188" name="Picture 3" descr="img09-10"/>
          <p:cNvPicPr/>
          <p:nvPr/>
        </p:nvPicPr>
        <p:blipFill>
          <a:blip r:embed="rId1"/>
          <a:stretch/>
        </p:blipFill>
        <p:spPr>
          <a:xfrm>
            <a:off x="0" y="450720"/>
            <a:ext cx="5651640" cy="629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ell MT"/>
              </a:rPr>
              <a:t>La temperatura del agua se mantiene </a:t>
            </a:r>
            <a:r>
              <a:rPr b="0" lang="es-ES" sz="3200" spc="-1" strike="noStrike">
                <a:solidFill>
                  <a:srgbClr val="ffffff"/>
                </a:solidFill>
                <a:latin typeface="Garamond"/>
              </a:rPr>
              <a:t>casi constante durante todo el año</a:t>
            </a:r>
            <a:r>
              <a:rPr b="0" lang="es-ES_tradnl" sz="3200" spc="-1" strike="noStrike">
                <a:solidFill>
                  <a:srgbClr val="ffffff"/>
                </a:solidFill>
                <a:latin typeface="Bell MT"/>
              </a:rPr>
              <a:t> </a:t>
            </a:r>
            <a:r>
              <a:rPr b="0" lang="es-ES_tradnl" sz="3200" spc="-1" strike="noStrike">
                <a:solidFill>
                  <a:srgbClr val="eae4f5"/>
                </a:solidFill>
                <a:latin typeface="Bell MT"/>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gradiente térmico es débil, produciendo por lo tanto cambios poco notorio.</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ell MT"/>
              </a:rPr>
              <a:t>La circulación vertical es escasa y a intervalos irregulares. </a:t>
            </a:r>
            <a:endParaRPr b="0" lang="en-US" sz="3200" spc="-1" strike="noStrike">
              <a:solidFill>
                <a:srgbClr val="ffffff"/>
              </a:solidFill>
              <a:latin typeface="Garamond"/>
            </a:endParaRPr>
          </a:p>
        </p:txBody>
      </p:sp>
      <p:sp>
        <p:nvSpPr>
          <p:cNvPr id="190"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oligomicticos</a:t>
            </a:r>
            <a:endParaRPr b="0" lang="en-US" sz="4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polimícticos</a:t>
            </a:r>
            <a:endParaRPr b="1" lang="en-US" sz="4400" spc="-1" strike="noStrike">
              <a:solidFill>
                <a:srgbClr val="e5e5ff"/>
              </a:solidFill>
              <a:latin typeface="Garamond"/>
            </a:endParaRPr>
          </a:p>
        </p:txBody>
      </p:sp>
      <p:sp>
        <p:nvSpPr>
          <p:cNvPr id="192" name=""/>
          <p:cNvSpPr txBox="1"/>
          <p:nvPr/>
        </p:nvSpPr>
        <p:spPr>
          <a:xfrm>
            <a:off x="0" y="1413000"/>
            <a:ext cx="9144000" cy="4525920"/>
          </a:xfrm>
          <a:prstGeom prst="rect">
            <a:avLst/>
          </a:prstGeom>
          <a:noFill/>
          <a:ln w="0">
            <a:noFill/>
          </a:ln>
        </p:spPr>
        <p:txBody>
          <a:bodyPr anchor="t">
            <a:normAutofit fontScale="84000"/>
          </a:bodyPr>
          <a:p>
            <a:pPr marL="288000" indent="-28800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ll MT"/>
              </a:rPr>
              <a:t>Circulación frecuente o continua</a:t>
            </a:r>
            <a:r>
              <a:rPr b="0" lang="es-ES" sz="3200" spc="-1" strike="noStrike">
                <a:solidFill>
                  <a:srgbClr val="ffffff"/>
                </a:solidFill>
                <a:latin typeface="Garamond"/>
              </a:rPr>
              <a:t>.</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periodos de mezcla se suceden a lo largo del año, y no se alcanza nunca una estratificación completa.</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lmente son lagos someros donde el viento produce la mezcla de las aguas cada vez que aparece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s: Embalse Peñuela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go Chungará</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Lagos Templados Dimícticos</a:t>
            </a:r>
            <a:endParaRPr b="1" lang="en-US" sz="4400" spc="-1" strike="noStrike">
              <a:solidFill>
                <a:srgbClr val="e5e5ff"/>
              </a:solidFill>
              <a:latin typeface="Garamond"/>
            </a:endParaRPr>
          </a:p>
        </p:txBody>
      </p:sp>
      <p:sp>
        <p:nvSpPr>
          <p:cNvPr id="194" name="PlaceHolder 2"/>
          <p:cNvSpPr>
            <a:spLocks noGrp="1"/>
          </p:cNvSpPr>
          <p:nvPr>
            <p:ph/>
          </p:nvPr>
        </p:nvSpPr>
        <p:spPr>
          <a:xfrm>
            <a:off x="428760" y="1428840"/>
            <a:ext cx="8229600" cy="4852800"/>
          </a:xfrm>
          <a:prstGeom prst="rect">
            <a:avLst/>
          </a:prstGeom>
          <a:noFill/>
          <a:ln w="0">
            <a:noFill/>
          </a:ln>
          <a:effectLst>
            <a:outerShdw dist="153753" dir="2700000" blurRad="0" rotWithShape="0">
              <a:srgbClr val="000514">
                <a:alpha val="50000"/>
              </a:srgbClr>
            </a:outerShdw>
          </a:effectLst>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las zonas templadas, aquellos lagos suficientemente profundos tienen </a:t>
            </a:r>
            <a:r>
              <a:rPr b="1" lang="es-ES" sz="2800" spc="-1" strike="noStrike" u="sng">
                <a:solidFill>
                  <a:srgbClr val="ffffff"/>
                </a:solidFill>
                <a:uFillTx/>
                <a:latin typeface="Garamond"/>
              </a:rPr>
              <a:t>ciclos estacionales</a:t>
            </a:r>
            <a:r>
              <a:rPr b="0" lang="es-ES" sz="2800" spc="-1" strike="noStrike">
                <a:solidFill>
                  <a:srgbClr val="ffffff"/>
                </a:solidFill>
                <a:latin typeface="Garamond"/>
              </a:rPr>
              <a:t> que alteran en la estratificación de sus aguas.  </a:t>
            </a:r>
            <a:endParaRPr b="0" lang="en-US" sz="2800" spc="-1" strike="noStrike">
              <a:solidFill>
                <a:srgbClr val="ffffff"/>
              </a:solidFill>
              <a:latin typeface="Garamond"/>
            </a:endParaRPr>
          </a:p>
        </p:txBody>
      </p:sp>
      <p:pic>
        <p:nvPicPr>
          <p:cNvPr id="195" name="Picture 2" descr=""/>
          <p:cNvPicPr/>
          <p:nvPr/>
        </p:nvPicPr>
        <p:blipFill>
          <a:blip r:embed="rId1"/>
          <a:stretch/>
        </p:blipFill>
        <p:spPr>
          <a:xfrm>
            <a:off x="0" y="3500280"/>
            <a:ext cx="9067680" cy="3022920"/>
          </a:xfrm>
          <a:prstGeom prst="rect">
            <a:avLst/>
          </a:prstGeom>
          <a:ln w="0">
            <a:noFill/>
          </a:ln>
        </p:spPr>
      </p:pic>
      <p:sp>
        <p:nvSpPr>
          <p:cNvPr id="196" name="4 Rectángulo"/>
          <p:cNvSpPr/>
          <p:nvPr/>
        </p:nvSpPr>
        <p:spPr>
          <a:xfrm>
            <a:off x="8280360" y="6703920"/>
            <a:ext cx="92124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Garamond"/>
              </a:rPr>
              <a:t>Fuente: http://en.wikipedia.org</a:t>
            </a:r>
            <a:endParaRPr b="0" lang="en-US" sz="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860256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280" y="259920"/>
            <a:ext cx="5113440" cy="6597720"/>
          </a:xfrm>
          <a:prstGeom prst="rect">
            <a:avLst/>
          </a:prstGeom>
          <a:noFill/>
          <a:ln w="0">
            <a:noFill/>
          </a:ln>
        </p:spPr>
        <p:txBody>
          <a:bodyPr anchor="t">
            <a:normAutofit fontScale="98000"/>
          </a:bodyPr>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los </a:t>
            </a:r>
            <a:r>
              <a:rPr b="1" lang="es-ES" sz="2400" spc="-1" strike="noStrike">
                <a:solidFill>
                  <a:srgbClr val="ffffff"/>
                </a:solidFill>
                <a:latin typeface="Garamond"/>
              </a:rPr>
              <a:t>verano</a:t>
            </a:r>
            <a:r>
              <a:rPr b="0" lang="es-ES" sz="2400" spc="-1" strike="noStrike">
                <a:solidFill>
                  <a:srgbClr val="ffffff"/>
                </a:solidFill>
                <a:latin typeface="Garamond"/>
              </a:rPr>
              <a:t>s, las aguas de las capas superiores se calientan más que las del fondo, consecuencia de la exposición superficial a la intensa y continua radiación solar resultante de la sucesión de días despejados. Este factor origina una circulación de las aguas superficiales, las cuales no se mezclan con las del fondo. </a:t>
            </a:r>
            <a:endParaRPr b="0" lang="en-US" sz="2400" spc="-1" strike="noStrike">
              <a:solidFill>
                <a:srgbClr val="ffffff"/>
              </a:solidFill>
              <a:latin typeface="Garamond"/>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otoño, la temperatura desciende en el epilimnio hasta igualar a la del hipolimnio provocando la </a:t>
            </a:r>
            <a:r>
              <a:rPr b="1" lang="es-ES" sz="2400" spc="-1" strike="noStrike">
                <a:solidFill>
                  <a:srgbClr val="ffffff"/>
                </a:solidFill>
                <a:latin typeface="Garamond"/>
              </a:rPr>
              <a:t>circulación total </a:t>
            </a:r>
            <a:r>
              <a:rPr b="0" lang="es-ES" sz="2400" spc="-1" strike="noStrike">
                <a:solidFill>
                  <a:srgbClr val="ffffff"/>
                </a:solidFill>
                <a:latin typeface="Garamond"/>
              </a:rPr>
              <a:t>de las aguas del lago. </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98" name="Picture 4" descr=""/>
          <p:cNvPicPr/>
          <p:nvPr/>
        </p:nvPicPr>
        <p:blipFill>
          <a:blip r:embed="rId1"/>
          <a:stretch/>
        </p:blipFill>
        <p:spPr>
          <a:xfrm>
            <a:off x="5580000" y="260280"/>
            <a:ext cx="3156120" cy="3168720"/>
          </a:xfrm>
          <a:prstGeom prst="rect">
            <a:avLst/>
          </a:prstGeom>
          <a:ln w="0">
            <a:noFill/>
          </a:ln>
        </p:spPr>
      </p:pic>
      <p:pic>
        <p:nvPicPr>
          <p:cNvPr id="199" name="Picture 5" descr=""/>
          <p:cNvPicPr/>
          <p:nvPr/>
        </p:nvPicPr>
        <p:blipFill>
          <a:blip r:embed="rId2"/>
          <a:stretch/>
        </p:blipFill>
        <p:spPr>
          <a:xfrm>
            <a:off x="5651640" y="3687840"/>
            <a:ext cx="3144600" cy="317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39640" y="333360"/>
            <a:ext cx="8229600" cy="4525920"/>
          </a:xfrm>
          <a:prstGeom prst="rect">
            <a:avLst/>
          </a:prstGeom>
          <a:noFill/>
          <a:ln w="0">
            <a:noFill/>
          </a:ln>
        </p:spPr>
        <p:txBody>
          <a:bodyPr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el </a:t>
            </a:r>
            <a:r>
              <a:rPr b="1" lang="es-ES" sz="2400" spc="-1" strike="noStrike">
                <a:solidFill>
                  <a:srgbClr val="ffffff"/>
                </a:solidFill>
                <a:latin typeface="Garamond"/>
              </a:rPr>
              <a:t>invierno</a:t>
            </a:r>
            <a:r>
              <a:rPr b="0" lang="es-ES" sz="2400" spc="-1" strike="noStrike">
                <a:solidFill>
                  <a:srgbClr val="ffffff"/>
                </a:solidFill>
                <a:latin typeface="Garamond"/>
              </a:rPr>
              <a:t> se estratifica a consecuencia del congelamiento superficial, mientras que las del fondo permanecen a 4 ºC. Esta temperatura corresponde al punto de máxima densidad del agua (3.98 ºC).  Basta que una delgada monocapa superficial del lago descienda por debajo de esta temperatura para que los eventos de estratificación y mezcla se produzcan, no es imprescindible la presencia de hielo para que ello ocurr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01" name="Picture 2" descr=""/>
          <p:cNvPicPr/>
          <p:nvPr/>
        </p:nvPicPr>
        <p:blipFill>
          <a:blip r:embed="rId1"/>
          <a:stretch/>
        </p:blipFill>
        <p:spPr>
          <a:xfrm>
            <a:off x="3203640" y="3228840"/>
            <a:ext cx="3600360" cy="36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68360" y="2602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la </a:t>
            </a:r>
            <a:r>
              <a:rPr b="1" lang="es-ES" sz="2400" spc="-1" strike="noStrike">
                <a:solidFill>
                  <a:srgbClr val="ffffff"/>
                </a:solidFill>
                <a:latin typeface="Garamond"/>
              </a:rPr>
              <a:t>primavera</a:t>
            </a:r>
            <a:r>
              <a:rPr b="0" lang="es-ES" sz="2400" spc="-1" strike="noStrike">
                <a:solidFill>
                  <a:srgbClr val="ffffff"/>
                </a:solidFill>
                <a:latin typeface="Garamond"/>
              </a:rPr>
              <a:t> la temperatura del epilimnio asciende, el hielo se funde o la temperatura superficial supera los 4º C y, al hacerse agua más pesada dado a que ha aumentado su densidad, desciende hacia el fondo provocando la subida de las aguas profundas. Así se establece una </a:t>
            </a:r>
            <a:r>
              <a:rPr b="1" lang="es-ES" sz="2400" spc="-1" strike="noStrike">
                <a:solidFill>
                  <a:srgbClr val="ffffff"/>
                </a:solidFill>
                <a:latin typeface="Garamond"/>
              </a:rPr>
              <a:t>circulación total </a:t>
            </a:r>
            <a:r>
              <a:rPr b="0" lang="es-ES" sz="2400" spc="-1" strike="noStrike">
                <a:solidFill>
                  <a:srgbClr val="ffffff"/>
                </a:solidFill>
                <a:latin typeface="Garamond"/>
              </a:rPr>
              <a:t>de las aguas con la consiguiente fertilización de las capas superiores por el arrastre de nutrientes en suspensión desde el fondo. </a:t>
            </a:r>
            <a:endParaRPr b="0" lang="en-US" sz="2400" spc="-1" strike="noStrike">
              <a:solidFill>
                <a:srgbClr val="ffffff"/>
              </a:solidFill>
              <a:latin typeface="Garamond"/>
            </a:endParaRPr>
          </a:p>
        </p:txBody>
      </p:sp>
      <p:pic>
        <p:nvPicPr>
          <p:cNvPr id="203" name="Picture 2" descr=""/>
          <p:cNvPicPr/>
          <p:nvPr/>
        </p:nvPicPr>
        <p:blipFill>
          <a:blip r:embed="rId1"/>
          <a:stretch/>
        </p:blipFill>
        <p:spPr>
          <a:xfrm>
            <a:off x="3132000" y="3284640"/>
            <a:ext cx="3587760" cy="35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1268280"/>
            <a:ext cx="518472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sentan una circulación en la totalidad de la columna.</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ran mayoría de los lagos.</a:t>
            </a:r>
            <a:endParaRPr b="0" lang="en-US" sz="3200" spc="-1" strike="noStrike">
              <a:solidFill>
                <a:srgbClr val="ffffff"/>
              </a:solidFill>
              <a:latin typeface="Garamond"/>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5" name="5 Imagen" descr="Sin título-2.jpg"/>
          <p:cNvPicPr/>
          <p:nvPr/>
        </p:nvPicPr>
        <p:blipFill>
          <a:blip r:embed="rId1"/>
          <a:stretch/>
        </p:blipFill>
        <p:spPr>
          <a:xfrm>
            <a:off x="5454720" y="1268280"/>
            <a:ext cx="3689280" cy="446436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HOLOMÍCTICOS </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539640" y="1125000"/>
            <a:ext cx="8229600" cy="230508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gos que circulan en forma incompleta o parcial; en ellos las capas profundas no se mezclan con la masa principal del agua</a:t>
            </a:r>
            <a:r>
              <a:rPr b="0" lang="es-MX" sz="2800" spc="-1" strike="noStrike">
                <a:solidFill>
                  <a:srgbClr val="ffffff"/>
                </a:solidFill>
                <a:latin typeface="Garamond"/>
              </a:rPr>
              <a:t> (Findenegg,1935; Hutchinson, 1937).</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MEROMICTICOS</a:t>
            </a:r>
            <a:endParaRPr b="1" lang="en-US" sz="4400" spc="-1" strike="noStrike">
              <a:solidFill>
                <a:srgbClr val="e5e5ff"/>
              </a:solidFill>
              <a:latin typeface="Garamond"/>
            </a:endParaRPr>
          </a:p>
        </p:txBody>
      </p:sp>
      <p:pic>
        <p:nvPicPr>
          <p:cNvPr id="209" name="Picture 4" descr=""/>
          <p:cNvPicPr/>
          <p:nvPr/>
        </p:nvPicPr>
        <p:blipFill>
          <a:blip r:embed="rId1"/>
          <a:stretch/>
        </p:blipFill>
        <p:spPr>
          <a:xfrm>
            <a:off x="1332000" y="3241800"/>
            <a:ext cx="7307280" cy="3616200"/>
          </a:xfrm>
          <a:prstGeom prst="rect">
            <a:avLst/>
          </a:prstGeom>
          <a:ln w="0">
            <a:noFill/>
          </a:ln>
        </p:spPr>
      </p:pic>
      <p:sp>
        <p:nvSpPr>
          <p:cNvPr id="210" name="7 CuadroTexto"/>
          <p:cNvSpPr/>
          <p:nvPr/>
        </p:nvSpPr>
        <p:spPr>
          <a:xfrm>
            <a:off x="1258920" y="5661000"/>
            <a:ext cx="31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Capa profunda sin mezcla</a:t>
            </a:r>
            <a:endParaRPr b="0" lang="en-US" sz="2000" spc="-1" strike="noStrike" u="sng">
              <a:solidFill>
                <a:srgbClr val="ffffff"/>
              </a:solidFill>
              <a:uFillTx/>
              <a:latin typeface="Garamond"/>
            </a:endParaRPr>
          </a:p>
        </p:txBody>
      </p:sp>
      <p:sp>
        <p:nvSpPr>
          <p:cNvPr id="211" name="8 CuadroTexto"/>
          <p:cNvSpPr/>
          <p:nvPr/>
        </p:nvSpPr>
        <p:spPr>
          <a:xfrm>
            <a:off x="1332000" y="4076640"/>
            <a:ext cx="388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Estrato superior</a:t>
            </a: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 </a:t>
            </a:r>
            <a:r>
              <a:rPr b="1" lang="es-ES_tradnl" sz="2000" spc="-1" strike="noStrike">
                <a:solidFill>
                  <a:srgbClr val="000514"/>
                </a:solidFill>
                <a:latin typeface="Garamond"/>
              </a:rPr>
              <a:t>en circulación</a:t>
            </a:r>
            <a:endParaRPr b="0" lang="en-US" sz="20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836280"/>
            <a:ext cx="8229600" cy="5289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IXOLIMNION: </a:t>
            </a:r>
            <a:r>
              <a:rPr b="0" lang="es-MX" sz="3200" spc="-1" strike="noStrike">
                <a:solidFill>
                  <a:srgbClr val="ffffff"/>
                </a:solidFill>
                <a:latin typeface="Garamond"/>
              </a:rPr>
              <a:t>estrato superior que circula periódicamen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ONIMOLIMNION: </a:t>
            </a:r>
            <a:r>
              <a:rPr b="0" lang="es-MX" sz="3200" spc="-1" strike="noStrike">
                <a:solidFill>
                  <a:srgbClr val="ffffff"/>
                </a:solidFill>
                <a:latin typeface="Garamond"/>
              </a:rPr>
              <a:t>estrato profundo permanece sin mezclar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Ambos estratos están separados por un gradiente de salinidad llamado </a:t>
            </a:r>
            <a:r>
              <a:rPr b="1" lang="es-MX" sz="3200" spc="-1" strike="noStrike">
                <a:solidFill>
                  <a:srgbClr val="ffffff"/>
                </a:solidFill>
                <a:latin typeface="Garamond"/>
              </a:rPr>
              <a:t>QUIMIOCLIN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MEROMICTICOS</a:t>
            </a:r>
            <a:endParaRPr b="1" lang="en-US" sz="4400" spc="-1" strike="noStrike">
              <a:solidFill>
                <a:srgbClr val="e5e5ff"/>
              </a:solidFill>
              <a:latin typeface="Garamond"/>
            </a:endParaRPr>
          </a:p>
        </p:txBody>
      </p:sp>
      <p:pic>
        <p:nvPicPr>
          <p:cNvPr id="214" name="Picture 3" descr="stratomer"/>
          <p:cNvPicPr/>
          <p:nvPr/>
        </p:nvPicPr>
        <p:blipFill>
          <a:blip r:embed="rId1"/>
          <a:stretch/>
        </p:blipFill>
        <p:spPr>
          <a:xfrm>
            <a:off x="246240" y="1341360"/>
            <a:ext cx="8897760" cy="5183280"/>
          </a:xfrm>
          <a:prstGeom prst="rect">
            <a:avLst/>
          </a:prstGeom>
          <a:ln w="0">
            <a:noFill/>
          </a:ln>
        </p:spPr>
      </p:pic>
      <p:sp>
        <p:nvSpPr>
          <p:cNvPr id="215" name="Text Box 4"/>
          <p:cNvSpPr/>
          <p:nvPr/>
        </p:nvSpPr>
        <p:spPr>
          <a:xfrm>
            <a:off x="179280" y="1341360"/>
            <a:ext cx="8964720" cy="785520"/>
          </a:xfrm>
          <a:prstGeom prst="rect">
            <a:avLst/>
          </a:prstGeom>
          <a:solidFill>
            <a:srgbClr val="00267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6" name="7 Rectángulo"/>
          <p:cNvSpPr/>
          <p:nvPr/>
        </p:nvSpPr>
        <p:spPr>
          <a:xfrm>
            <a:off x="755640" y="3933720"/>
            <a:ext cx="158436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7" name="8 Rectángulo"/>
          <p:cNvSpPr/>
          <p:nvPr/>
        </p:nvSpPr>
        <p:spPr>
          <a:xfrm>
            <a:off x="755640" y="4941720"/>
            <a:ext cx="158436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8" name="9 Rectángulo"/>
          <p:cNvSpPr/>
          <p:nvPr/>
        </p:nvSpPr>
        <p:spPr>
          <a:xfrm>
            <a:off x="4932360" y="5300640"/>
            <a:ext cx="1943280" cy="5047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7560"/>
            <a:ext cx="8362800" cy="631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xplicación:</a:t>
            </a:r>
            <a:br>
              <a:rPr sz="2800"/>
            </a:br>
            <a:r>
              <a:rPr b="1" lang="es-MX" sz="2800" spc="-1" strike="noStrike">
                <a:solidFill>
                  <a:srgbClr val="ffffff"/>
                </a:solidFill>
                <a:latin typeface="Garamond"/>
              </a:rPr>
              <a:t>1g /l de sal</a:t>
            </a:r>
            <a:r>
              <a:rPr b="1" lang="es-MX" sz="2800" spc="-1" strike="noStrike">
                <a:solidFill>
                  <a:srgbClr val="ffffff"/>
                </a:solidFill>
                <a:latin typeface="Garamond"/>
              </a:rPr>
              <a:t>	</a:t>
            </a:r>
            <a:r>
              <a:rPr b="1" lang="es-MX" sz="2800" spc="-1" strike="noStrike">
                <a:solidFill>
                  <a:srgbClr val="ffffff"/>
                </a:solidFill>
                <a:latin typeface="Garamond"/>
              </a:rPr>
              <a:t>              </a:t>
            </a:r>
            <a:r>
              <a:rPr b="0" lang="es-MX" sz="2800" spc="-1" strike="noStrike">
                <a:solidFill>
                  <a:srgbClr val="ffffff"/>
                </a:solidFill>
                <a:latin typeface="Garamond"/>
              </a:rPr>
              <a:t>aumenta la densidad 0,0008 </a:t>
            </a:r>
            <a:br>
              <a:rPr sz="2800"/>
            </a:br>
            <a:br>
              <a:rPr sz="2800"/>
            </a:br>
            <a:r>
              <a:rPr b="0" lang="es-MX" sz="2800" spc="-1" strike="noStrike">
                <a:solidFill>
                  <a:srgbClr val="ffffff"/>
                </a:solidFill>
                <a:latin typeface="Garamond"/>
              </a:rPr>
              <a:t>Cambio mayor en la densidad (peso específico) que la asociada a la temperatura.</a:t>
            </a:r>
            <a:br>
              <a:rPr sz="2800"/>
            </a:br>
            <a:br>
              <a:rPr sz="2800"/>
            </a:br>
            <a:r>
              <a:rPr b="0" lang="es-MX" sz="2800" spc="-1" strike="noStrike">
                <a:solidFill>
                  <a:srgbClr val="ffffff"/>
                </a:solidFill>
                <a:latin typeface="Garamond"/>
              </a:rPr>
              <a:t>La diferencia en densidad entre 4 y 5 °C es 0,000008, cuando sólo se requiere de 10 mg/l de sal para lograr el mismo efecto de resistencia a la mezcla.</a:t>
            </a:r>
            <a:r>
              <a:rPr b="0" lang="es-MX" sz="2800" spc="-1" strike="noStrike">
                <a:solidFill>
                  <a:srgbClr val="ffffff"/>
                </a:solidFill>
                <a:latin typeface="Garamond"/>
              </a:rPr>
              <a:t>	</a:t>
            </a:r>
            <a:br>
              <a:rPr sz="2800"/>
            </a:br>
            <a:br>
              <a:rPr sz="2800"/>
            </a:br>
            <a:r>
              <a:rPr b="0" lang="es-MX" sz="2800" spc="-1" strike="noStrike">
                <a:solidFill>
                  <a:srgbClr val="ffffff"/>
                </a:solidFill>
                <a:latin typeface="Garamond"/>
              </a:rPr>
              <a:t>El gradiente de salinidad en profundidad en estratificación es superior a 10 mg/l.</a:t>
            </a:r>
            <a:br>
              <a:rPr sz="2800"/>
            </a:br>
            <a:br>
              <a:rPr sz="2800"/>
            </a:br>
            <a:r>
              <a:rPr b="0" lang="es-MX" sz="2800" spc="-1" strike="noStrike">
                <a:solidFill>
                  <a:srgbClr val="ffffff"/>
                </a:solidFill>
                <a:latin typeface="Garamond"/>
              </a:rPr>
              <a:t>“Estabilidad de concentración”.</a:t>
            </a:r>
            <a:endParaRPr b="1" lang="en-US" sz="2800" spc="-1" strike="noStrike">
              <a:solidFill>
                <a:srgbClr val="e5e5ff"/>
              </a:solidFill>
              <a:latin typeface="Garamond"/>
            </a:endParaRPr>
          </a:p>
        </p:txBody>
      </p:sp>
      <p:sp>
        <p:nvSpPr>
          <p:cNvPr id="220" name="AutoShape 6"/>
          <p:cNvSpPr/>
          <p:nvPr/>
        </p:nvSpPr>
        <p:spPr>
          <a:xfrm>
            <a:off x="2411280" y="907920"/>
            <a:ext cx="936720" cy="358920"/>
          </a:xfrm>
          <a:custGeom>
            <a:avLst/>
            <a:gdLst>
              <a:gd name="textAreaLeft" fmla="*/ 117000 w 936720"/>
              <a:gd name="textAreaRight" fmla="*/ 819720 w 936720"/>
              <a:gd name="textAreaTop" fmla="*/ 89640 h 358920"/>
              <a:gd name="textAreaBottom" fmla="*/ 269280 h 35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5076720" y="1052640"/>
            <a:ext cx="4067280" cy="3895560"/>
          </a:xfrm>
          <a:prstGeom prst="rect">
            <a:avLst/>
          </a:prstGeom>
          <a:ln w="0">
            <a:noFill/>
          </a:ln>
        </p:spPr>
      </p:pic>
      <p:sp>
        <p:nvSpPr>
          <p:cNvPr id="222" name="16 Rectángulo"/>
          <p:cNvSpPr/>
          <p:nvPr/>
        </p:nvSpPr>
        <p:spPr>
          <a:xfrm>
            <a:off x="6084720" y="3068640"/>
            <a:ext cx="1008360" cy="431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23" name="2 Rectángulo"/>
          <p:cNvSpPr/>
          <p:nvPr/>
        </p:nvSpPr>
        <p:spPr>
          <a:xfrm>
            <a:off x="5148360" y="5229360"/>
            <a:ext cx="3490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Note que la temperatura de la densidad máxima  disminuye con el aumento de la salinidad</a:t>
            </a:r>
            <a:r>
              <a:rPr b="0" lang="es-ES" sz="2000" spc="-1" strike="noStrike" u="sng">
                <a:solidFill>
                  <a:srgbClr val="ffffff"/>
                </a:solidFill>
                <a:uFillTx/>
                <a:latin typeface="Garamond"/>
              </a:rPr>
              <a:t>.</a:t>
            </a:r>
            <a:endParaRPr b="0" lang="en-US" sz="2000" spc="-1" strike="noStrike" u="sng">
              <a:solidFill>
                <a:srgbClr val="ffffff"/>
              </a:solidFill>
              <a:uFillTx/>
              <a:latin typeface="Garamond"/>
            </a:endParaRPr>
          </a:p>
        </p:txBody>
      </p:sp>
      <p:pic>
        <p:nvPicPr>
          <p:cNvPr id="224" name="Picture 3" descr=""/>
          <p:cNvPicPr/>
          <p:nvPr/>
        </p:nvPicPr>
        <p:blipFill>
          <a:blip r:embed="rId2"/>
          <a:stretch/>
        </p:blipFill>
        <p:spPr>
          <a:xfrm>
            <a:off x="0" y="1052640"/>
            <a:ext cx="5000760" cy="3863880"/>
          </a:xfrm>
          <a:prstGeom prst="rect">
            <a:avLst/>
          </a:prstGeom>
          <a:ln w="0">
            <a:noFill/>
          </a:ln>
        </p:spPr>
      </p:pic>
      <p:sp>
        <p:nvSpPr>
          <p:cNvPr id="225" name="6 Rectángulo"/>
          <p:cNvSpPr/>
          <p:nvPr/>
        </p:nvSpPr>
        <p:spPr>
          <a:xfrm>
            <a:off x="7018200" y="6611760"/>
            <a:ext cx="212580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Garamond"/>
              </a:rPr>
              <a:t>Fuente: http://linkingweatherandclimate.com/ocean/waterdensity.php</a:t>
            </a:r>
            <a:endParaRPr b="0" lang="en-US" sz="5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Garamond"/>
              </a:rPr>
              <a:t>             </a:t>
            </a:r>
            <a:r>
              <a:rPr b="0" lang="es-ES" sz="500" spc="-1" strike="noStrike">
                <a:solidFill>
                  <a:srgbClr val="ffffff"/>
                </a:solidFill>
                <a:latin typeface="Garamond"/>
              </a:rPr>
              <a:t>http://sam.ucsd.edu/sio210/lect_2/lecture_2.htm</a:t>
            </a:r>
            <a:endParaRPr b="0" lang="en-US" sz="500" spc="-1" strike="noStrike" u="sng">
              <a:solidFill>
                <a:srgbClr val="ffffff"/>
              </a:solidFill>
              <a:uFillTx/>
              <a:latin typeface="Garamond"/>
            </a:endParaRPr>
          </a:p>
        </p:txBody>
      </p:sp>
      <p:sp>
        <p:nvSpPr>
          <p:cNvPr id="226" name="10 Rectángulo"/>
          <p:cNvSpPr/>
          <p:nvPr/>
        </p:nvSpPr>
        <p:spPr>
          <a:xfrm>
            <a:off x="395280" y="5157720"/>
            <a:ext cx="3419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su = practical salinity units </a:t>
            </a: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psu equivale aprox. a 0.1% de salinidad).</a:t>
            </a:r>
            <a:endParaRPr b="0" lang="en-US" sz="2000" spc="-1" strike="noStrike" u="sng">
              <a:solidFill>
                <a:srgbClr val="ffffff"/>
              </a:solidFill>
              <a:uFillTx/>
              <a:latin typeface="Garamond"/>
            </a:endParaRPr>
          </a:p>
        </p:txBody>
      </p:sp>
      <p:sp>
        <p:nvSpPr>
          <p:cNvPr id="227" name="12 CuadroTexto"/>
          <p:cNvSpPr/>
          <p:nvPr/>
        </p:nvSpPr>
        <p:spPr>
          <a:xfrm>
            <a:off x="358920" y="260280"/>
            <a:ext cx="8785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DENSIDAD DEL AGUA, SALINIDAD Y TEMPERATURA</a:t>
            </a:r>
            <a:endParaRPr b="0" lang="en-US" sz="2600" spc="-1" strike="noStrike" u="sng">
              <a:solidFill>
                <a:srgbClr val="ffffff"/>
              </a:solidFill>
              <a:uFillTx/>
              <a:latin typeface="Garamond"/>
            </a:endParaRPr>
          </a:p>
        </p:txBody>
      </p:sp>
      <p:sp>
        <p:nvSpPr>
          <p:cNvPr id="228" name="13 Rectángulo"/>
          <p:cNvSpPr/>
          <p:nvPr/>
        </p:nvSpPr>
        <p:spPr>
          <a:xfrm>
            <a:off x="6804000" y="2276640"/>
            <a:ext cx="1081080" cy="431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29" name="14 CuadroTexto"/>
          <p:cNvSpPr/>
          <p:nvPr/>
        </p:nvSpPr>
        <p:spPr>
          <a:xfrm>
            <a:off x="6804000" y="2276640"/>
            <a:ext cx="100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Garamond"/>
              </a:rPr>
              <a:t>Densidad máxima</a:t>
            </a:r>
            <a:endParaRPr b="0" lang="en-US" sz="1400" spc="-1" strike="noStrike" u="sng">
              <a:solidFill>
                <a:srgbClr val="ffffff"/>
              </a:solidFill>
              <a:uFillTx/>
              <a:latin typeface="Garamond"/>
            </a:endParaRPr>
          </a:p>
        </p:txBody>
      </p:sp>
      <p:sp>
        <p:nvSpPr>
          <p:cNvPr id="230" name="15 Rectángulo"/>
          <p:cNvSpPr/>
          <p:nvPr/>
        </p:nvSpPr>
        <p:spPr>
          <a:xfrm>
            <a:off x="5940360" y="2997360"/>
            <a:ext cx="1224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Garamond"/>
              </a:rPr>
              <a:t>Punto de congelación</a:t>
            </a:r>
            <a:endParaRPr b="0" lang="en-US" sz="1400" spc="-1" strike="noStrike" u="sng">
              <a:solidFill>
                <a:srgbClr val="ffffff"/>
              </a:solidFill>
              <a:uFillTx/>
              <a:latin typeface="Garamond"/>
            </a:endParaRPr>
          </a:p>
        </p:txBody>
      </p:sp>
      <p:sp>
        <p:nvSpPr>
          <p:cNvPr id="231" name="17 Flecha curvada hacia la izquierda"/>
          <p:cNvSpPr/>
          <p:nvPr/>
        </p:nvSpPr>
        <p:spPr>
          <a:xfrm rot="617400">
            <a:off x="7811640" y="2707920"/>
            <a:ext cx="432000" cy="865080"/>
          </a:xfrm>
          <a:custGeom>
            <a:avLst/>
            <a:gdLst>
              <a:gd name="textAreaLeft" fmla="*/ 57600 w 432000"/>
              <a:gd name="textAreaRight" fmla="*/ 374400 w 432000"/>
              <a:gd name="textAreaTop" fmla="*/ 175680 h 865080"/>
              <a:gd name="textAreaBottom" fmla="*/ 635400 h 865080"/>
            </a:gdLst>
            <a:ahLst/>
            <a:rect l="textAreaLeft" t="textAreaTop" r="textAreaRight" b="textAreaBottom"/>
            <a:pathLst>
              <a:path w="21600" h="21600">
                <a:moveTo>
                  <a:pt x="0" y="0"/>
                </a:moveTo>
                <a:arcTo wR="21600" hR="8779" stAng="-5400000" swAng="5400000"/>
                <a:lnTo>
                  <a:pt x="21600" y="11475"/>
                </a:lnTo>
                <a:arcTo wR="21600" hR="8779" stAng="0" swAng="3454300"/>
                <a:lnTo>
                  <a:pt x="5400" y="21321"/>
                </a:lnTo>
                <a:lnTo>
                  <a:pt x="0" y="18905"/>
                </a:lnTo>
                <a:lnTo>
                  <a:pt x="5400" y="15931"/>
                </a:lnTo>
                <a:lnTo>
                  <a:pt x="5400" y="17278"/>
                </a:lnTo>
                <a:arcTo wR="21600" hR="8779" stAng="3454300" swAng="-3237472"/>
                <a:lnTo>
                  <a:pt x="21344" y="10127"/>
                </a:lnTo>
                <a:arcTo wR="21600" hR="8779" stAng="-216828" swAng="-5183172"/>
                <a:close/>
              </a:path>
              <a:path fill="darkenLess" w="21600" h="21600">
                <a:moveTo>
                  <a:pt x="0" y="0"/>
                </a:moveTo>
                <a:arcTo wR="21600" hR="8779" stAng="-5400000" swAng="5400000"/>
                <a:lnTo>
                  <a:pt x="21600" y="11475"/>
                </a:lnTo>
                <a:arcTo wR="21600" hR="8779" stAng="0" swAng="-216828"/>
                <a:lnTo>
                  <a:pt x="21344" y="10127"/>
                </a:lnTo>
                <a:arcTo wR="21600" hR="8779" stAng="-216828" swAng="-5183172"/>
                <a:close/>
              </a:path>
            </a:pathLst>
          </a:cu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32" name="19 Flecha curvada hacia la derecha"/>
          <p:cNvSpPr/>
          <p:nvPr/>
        </p:nvSpPr>
        <p:spPr>
          <a:xfrm rot="17601600">
            <a:off x="6285240" y="3480840"/>
            <a:ext cx="431640" cy="720720"/>
          </a:xfrm>
          <a:custGeom>
            <a:avLst/>
            <a:gdLst>
              <a:gd name="textAreaLeft" fmla="*/ 57600 w 431640"/>
              <a:gd name="textAreaRight" fmla="*/ 374040 w 431640"/>
              <a:gd name="textAreaTop" fmla="*/ 139680 h 720720"/>
              <a:gd name="textAreaBottom" fmla="*/ 527040 h 720720"/>
            </a:gdLst>
            <a:ahLst/>
            <a:rect l="textAreaLeft" t="textAreaTop" r="textAreaRight" b="textAreaBottom"/>
            <a:pathLst>
              <a:path w="21600" h="21600">
                <a:moveTo>
                  <a:pt x="21600" y="0"/>
                </a:moveTo>
                <a:arcTo wR="21600" hR="8374" stAng="-5400000" swAng="-5400000"/>
                <a:lnTo>
                  <a:pt x="0" y="11610"/>
                </a:lnTo>
                <a:arcTo wR="21600" hR="8374" stAng="10800000" swAng="-3380085"/>
                <a:lnTo>
                  <a:pt x="16200" y="21334"/>
                </a:lnTo>
                <a:lnTo>
                  <a:pt x="21600" y="18365"/>
                </a:lnTo>
                <a:lnTo>
                  <a:pt x="16200" y="14864"/>
                </a:lnTo>
                <a:lnTo>
                  <a:pt x="16200" y="16481"/>
                </a:lnTo>
                <a:arcTo wR="21600" hR="8374" stAng="7419915" swAng="3118134"/>
                <a:lnTo>
                  <a:pt x="407" y="9992"/>
                </a:lnTo>
                <a:arcTo wR="21600" hR="8374" stAng="-10538049" swAng="5138049"/>
                <a:close/>
              </a:path>
              <a:path fill="darkenLess" w="21600" h="21600">
                <a:moveTo>
                  <a:pt x="21600" y="0"/>
                </a:moveTo>
                <a:arcTo wR="21600" hR="8374" stAng="-5400000" swAng="-5400000"/>
                <a:lnTo>
                  <a:pt x="0" y="8374"/>
                </a:lnTo>
                <a:arcTo wR="21600" hR="8374" stAng="10800000" swAng="-261951"/>
                <a:lnTo>
                  <a:pt x="407" y="9992"/>
                </a:lnTo>
                <a:arcTo wR="21600" hR="8374" stAng="-10538049" swAng="5138049"/>
                <a:close/>
              </a:path>
            </a:pathLst>
          </a:cu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4000" spc="-1" strike="noStrike">
                <a:solidFill>
                  <a:srgbClr val="ffffff"/>
                </a:solidFill>
                <a:latin typeface="Garamond"/>
              </a:rPr>
              <a:t>TIPOS DE MEROMIXSIS. </a:t>
            </a:r>
            <a:br>
              <a:rPr sz="3200"/>
            </a:br>
            <a:endParaRPr b="1" lang="en-US" sz="4000" spc="-1" strike="noStrike">
              <a:solidFill>
                <a:srgbClr val="e5e5ff"/>
              </a:solidFill>
              <a:latin typeface="Garamond"/>
            </a:endParaRPr>
          </a:p>
        </p:txBody>
      </p:sp>
      <p:sp>
        <p:nvSpPr>
          <p:cNvPr id="234" name="PlaceHolder 2"/>
          <p:cNvSpPr>
            <a:spLocks noGrp="1"/>
          </p:cNvSpPr>
          <p:nvPr>
            <p:ph/>
          </p:nvPr>
        </p:nvSpPr>
        <p:spPr>
          <a:xfrm>
            <a:off x="499680" y="1500120"/>
            <a:ext cx="8472600" cy="4525920"/>
          </a:xfrm>
          <a:prstGeom prst="rect">
            <a:avLst/>
          </a:prstGeom>
          <a:noFill/>
          <a:ln w="0">
            <a:noFill/>
          </a:ln>
          <a:effectLst>
            <a:outerShdw dist="153753" dir="2700000" blurRad="0" rotWithShape="0">
              <a:srgbClr val="000514">
                <a:alpha val="50000"/>
              </a:srgbClr>
            </a:outerShdw>
          </a:effectLst>
        </p:spPr>
        <p:txBody>
          <a:bodyPr anchor="t">
            <a:normAutofit fontScale="95000"/>
          </a:bodyPr>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Ectogénica</a:t>
            </a:r>
            <a:r>
              <a:rPr b="0" lang="es-MX" sz="3200" spc="-1" strike="noStrike">
                <a:solidFill>
                  <a:srgbClr val="ffffff"/>
                </a:solidFill>
                <a:latin typeface="Garamond"/>
              </a:rPr>
              <a:t>: </a:t>
            </a:r>
            <a:r>
              <a:rPr b="0" lang="es-MX" sz="3000" spc="-1" strike="noStrike">
                <a:solidFill>
                  <a:srgbClr val="ffffff"/>
                </a:solidFill>
                <a:latin typeface="Garamond"/>
              </a:rPr>
              <a:t>efecto externo por llegada de agua duce o salada. Estrato superior menos denso. Lagos costeros.</a:t>
            </a:r>
            <a:endParaRPr b="0" lang="en-US" sz="3000" spc="-1" strike="noStrike">
              <a:solidFill>
                <a:srgbClr val="ffffff"/>
              </a:solidFill>
              <a:latin typeface="Garamond"/>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Crenogénica</a:t>
            </a:r>
            <a:r>
              <a:rPr b="0" lang="es-MX" sz="3200" spc="-1" strike="noStrike">
                <a:solidFill>
                  <a:srgbClr val="ffffff"/>
                </a:solidFill>
                <a:latin typeface="Garamond"/>
              </a:rPr>
              <a:t>: </a:t>
            </a:r>
            <a:r>
              <a:rPr b="0" lang="es-MX" sz="3000" spc="-1" strike="noStrike">
                <a:solidFill>
                  <a:srgbClr val="ffffff"/>
                </a:solidFill>
                <a:latin typeface="Garamond"/>
              </a:rPr>
              <a:t>es provocada por afluencias de aguas de vertientes salobres al lago.</a:t>
            </a:r>
            <a:endParaRPr b="0" lang="en-US" sz="3000" spc="-1" strike="noStrike">
              <a:solidFill>
                <a:srgbClr val="ffffff"/>
              </a:solidFill>
              <a:latin typeface="Garamond"/>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Biogénica</a:t>
            </a:r>
            <a:r>
              <a:rPr b="0" lang="es-MX" sz="3200" spc="-1" strike="noStrike">
                <a:solidFill>
                  <a:srgbClr val="ffffff"/>
                </a:solidFill>
                <a:latin typeface="Garamond"/>
              </a:rPr>
              <a:t>: </a:t>
            </a:r>
            <a:r>
              <a:rPr b="0" lang="es-MX" sz="3000" spc="-1" strike="noStrike">
                <a:solidFill>
                  <a:srgbClr val="ffffff"/>
                </a:solidFill>
                <a:latin typeface="Garamond"/>
              </a:rPr>
              <a:t>acumulación de sales en el monimolimnion (descomposición).</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404640"/>
            <a:ext cx="8207280" cy="612000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onocimiento de la hidrodinámica lacustre favorece la comprensión de la distribución de organismos acuáticos. </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esencial conocer:</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odelo de la forma de su cubeta.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ccidentes internos que ésta pueda presentar.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orientación.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modo y caudales con que ingresan sus tributarios y egresan sus emis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Discontinuidades termales en lagos Meromícticos.</a:t>
            </a:r>
            <a:endParaRPr b="1" lang="en-US" sz="4000" spc="-1" strike="noStrike">
              <a:solidFill>
                <a:srgbClr val="e5e5ff"/>
              </a:solidFill>
              <a:latin typeface="Garamond"/>
            </a:endParaRPr>
          </a:p>
        </p:txBody>
      </p:sp>
      <p:sp>
        <p:nvSpPr>
          <p:cNvPr id="236" name="Rectangle 531"/>
          <p:cNvSpPr/>
          <p:nvPr/>
        </p:nvSpPr>
        <p:spPr>
          <a:xfrm>
            <a:off x="0" y="770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pic>
        <p:nvPicPr>
          <p:cNvPr id="237" name="Picture 3" descr="D:\Mis imágenes\2010-08 (ago)\Explorar0006.jpg"/>
          <p:cNvPicPr/>
          <p:nvPr/>
        </p:nvPicPr>
        <p:blipFill>
          <a:blip r:embed="rId1"/>
          <a:stretch/>
        </p:blipFill>
        <p:spPr>
          <a:xfrm>
            <a:off x="1547640" y="1563840"/>
            <a:ext cx="6094440" cy="529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0" y="0"/>
          <a:ext cx="9144000" cy="6858000"/>
        </p:xfrm>
        <a:graphic>
          <a:graphicData uri="http://schemas.openxmlformats.org/drawingml/2006/table">
            <a:tbl>
              <a:tblPr/>
              <a:tblGrid>
                <a:gridCol w="2265480"/>
                <a:gridCol w="3458880"/>
                <a:gridCol w="1079640"/>
                <a:gridCol w="2340000"/>
              </a:tblGrid>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MIXING REGIME</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LAKES </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MAX</a:t>
                      </a:r>
                      <a:br>
                        <a:rPr sz="1400"/>
                      </a:br>
                      <a:r>
                        <a:rPr b="1" lang="es-ES" sz="1400" spc="-1" strike="noStrike">
                          <a:solidFill>
                            <a:srgbClr val="000514"/>
                          </a:solidFill>
                          <a:latin typeface="Arial"/>
                          <a:ea typeface="Times New Roman"/>
                        </a:rPr>
                        <a:t>DEPTH</a:t>
                      </a:r>
                      <a:br>
                        <a:rPr sz="1400"/>
                      </a:br>
                      <a:r>
                        <a:rPr b="1" lang="es-ES" sz="1400" spc="-1" strike="noStrike">
                          <a:solidFill>
                            <a:srgbClr val="000514"/>
                          </a:solidFill>
                          <a:latin typeface="Arial"/>
                          <a:ea typeface="Times New Roman"/>
                        </a:rPr>
                        <a:t>(m)</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AREA</a:t>
                      </a:r>
                      <a:br>
                        <a:rPr sz="1400"/>
                      </a:br>
                      <a:r>
                        <a:rPr b="1" lang="es-ES" sz="1400" spc="-1" strike="noStrike">
                          <a:solidFill>
                            <a:srgbClr val="000514"/>
                          </a:solidFill>
                          <a:latin typeface="Arial"/>
                          <a:ea typeface="Times New Roman"/>
                        </a:rPr>
                        <a:t>(acres/hectares) </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54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DI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2mixes/yr)</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Minnetonka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3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004 acres (5,67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Grindstone Lake </a:t>
                      </a:r>
                      <a:r>
                        <a:rPr b="0" lang="es-ES" sz="1200" spc="-1" strike="noStrike">
                          <a:solidFill>
                            <a:srgbClr val="000514"/>
                          </a:solidFill>
                          <a:latin typeface="Arial"/>
                          <a:ea typeface="Times New Roman"/>
                        </a:rPr>
                        <a:t>(Sandstone,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6</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00 acres (2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Independence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850 acres (344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40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Pike Lake </a:t>
                      </a:r>
                      <a:r>
                        <a:rPr b="0" lang="es-ES" sz="1200" spc="-1" strike="noStrike">
                          <a:solidFill>
                            <a:srgbClr val="000514"/>
                          </a:solidFill>
                          <a:latin typeface="Arial"/>
                          <a:ea typeface="Times New Roman"/>
                        </a:rPr>
                        <a:t>(Duluth, MN)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00 acres (2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row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ea typeface="Times New Roman"/>
                        </a:rPr>
                        <a:t>MONO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1mix/yr – mixed</a:t>
                      </a:r>
                      <a:br>
                        <a:rPr sz="1200"/>
                      </a:br>
                      <a:r>
                        <a:rPr b="1" lang="en-US" sz="1200" spc="-1" strike="noStrike">
                          <a:solidFill>
                            <a:srgbClr val="000514"/>
                          </a:solidFill>
                          <a:latin typeface="Arial"/>
                          <a:ea typeface="Times New Roman"/>
                        </a:rPr>
                        <a:t>all winter</a:t>
                      </a:r>
                      <a:br>
                        <a:rPr sz="1200"/>
                      </a:br>
                      <a:r>
                        <a:rPr b="1" lang="en-US" sz="1200" spc="-1" strike="noStrike">
                          <a:solidFill>
                            <a:srgbClr val="000514"/>
                          </a:solidFill>
                          <a:latin typeface="Arial"/>
                          <a:ea typeface="Times New Roman"/>
                        </a:rPr>
                        <a:t>and spring)</a:t>
                      </a:r>
                      <a:r>
                        <a:rPr b="1" lang="en-U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Erie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7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6.4 x 106 acres (2.6 x 10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Huron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2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8 x 106 acres (6.0 x 10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Ice Lake</a:t>
                      </a:r>
                      <a:r>
                        <a:rPr b="0" lang="en-US" sz="1200" spc="-1" strike="noStrike">
                          <a:solidFill>
                            <a:srgbClr val="000514"/>
                          </a:solidFill>
                          <a:latin typeface="Arial"/>
                          <a:ea typeface="Times New Roman"/>
                        </a:rPr>
                        <a:t>* (Grand Rapid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6</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1 acres (16.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Michiga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81</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4 x 106 acres (5.8 x 106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32220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Ontario</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4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9 x 106 acres (2.0 x 106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Superior</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30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0.3 x 10</a:t>
                      </a:r>
                      <a:r>
                        <a:rPr b="0" lang="es-ES" sz="1200" spc="-1" strike="noStrike" baseline="30000">
                          <a:solidFill>
                            <a:srgbClr val="000514"/>
                          </a:solidFill>
                          <a:latin typeface="Arial"/>
                          <a:ea typeface="Times New Roman"/>
                        </a:rPr>
                        <a:t>6</a:t>
                      </a:r>
                      <a:r>
                        <a:rPr b="0" lang="es-ES" sz="1200" spc="-1" strike="noStrike">
                          <a:solidFill>
                            <a:srgbClr val="000514"/>
                          </a:solidFill>
                          <a:latin typeface="Arial"/>
                          <a:ea typeface="Times New Roman"/>
                        </a:rPr>
                        <a:t> acres (8.2 x10</a:t>
                      </a:r>
                      <a:r>
                        <a:rPr b="0" lang="es-ES" sz="1200" spc="-1" strike="noStrike" baseline="30000">
                          <a:solidFill>
                            <a:srgbClr val="000514"/>
                          </a:solidFill>
                          <a:latin typeface="Arial"/>
                          <a:ea typeface="Times New Roman"/>
                        </a:rPr>
                        <a:t>6</a:t>
                      </a:r>
                      <a:r>
                        <a:rPr b="0" lang="es-ES" sz="1200" spc="-1" strike="noStrike">
                          <a:solidFill>
                            <a:srgbClr val="000514"/>
                          </a:solidFill>
                          <a:latin typeface="Arial"/>
                          <a:ea typeface="Times New Roman"/>
                        </a:rPr>
                        <a:t>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440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Tahoe </a:t>
                      </a:r>
                      <a:r>
                        <a:rPr b="0" lang="es-ES" sz="1200" spc="-1" strike="noStrike">
                          <a:solidFill>
                            <a:srgbClr val="000514"/>
                          </a:solidFill>
                          <a:latin typeface="Arial"/>
                          <a:ea typeface="Times New Roman"/>
                        </a:rPr>
                        <a:t>(CA/NV)</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99</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23,253 acres (49,9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Lake Mead </a:t>
                      </a:r>
                      <a:r>
                        <a:rPr b="0" lang="en-US" sz="1200" spc="-1" strike="noStrike">
                          <a:solidFill>
                            <a:srgbClr val="000514"/>
                          </a:solidFill>
                          <a:latin typeface="Arial"/>
                          <a:ea typeface="Times New Roman"/>
                        </a:rPr>
                        <a:t>(NV – largest US reservoir)</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63,320 acres (66,09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POLY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many mixes/yr)</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Shallow lakes &amp; ponds</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lt; 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wide range</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Mille Lacs Lake</a:t>
                      </a:r>
                      <a:r>
                        <a:rPr b="0" lang="es-ES" sz="1200" spc="-1" strike="noStrike">
                          <a:solidFill>
                            <a:srgbClr val="000514"/>
                          </a:solidFill>
                          <a:latin typeface="Arial"/>
                          <a:ea typeface="Times New Roman"/>
                        </a:rPr>
                        <a:t>,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2,510 acres (53,648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St. Louis River and Duluth-Superior Harbor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1,993 acres (4,85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48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ea typeface="Times New Roman"/>
                        </a:rPr>
                        <a:t>MERO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never totally</a:t>
                      </a:r>
                      <a:br>
                        <a:rPr sz="1200"/>
                      </a:br>
                      <a:r>
                        <a:rPr b="1" lang="en-US" sz="1200" spc="-1" strike="noStrike">
                          <a:solidFill>
                            <a:srgbClr val="000514"/>
                          </a:solidFill>
                          <a:latin typeface="Arial"/>
                          <a:ea typeface="Times New Roman"/>
                        </a:rPr>
                        <a:t>mixed because of</a:t>
                      </a:r>
                      <a:br>
                        <a:rPr sz="1200"/>
                      </a:br>
                      <a:r>
                        <a:rPr b="1" lang="en-US" sz="1200" spc="-1" strike="noStrike">
                          <a:solidFill>
                            <a:srgbClr val="000514"/>
                          </a:solidFill>
                          <a:latin typeface="Arial"/>
                          <a:ea typeface="Times New Roman"/>
                        </a:rPr>
                        <a:t>stagnant bottom</a:t>
                      </a:r>
                      <a:br>
                        <a:rPr sz="1200"/>
                      </a:br>
                      <a:r>
                        <a:rPr b="1" lang="en-US" sz="1200" spc="-1" strike="noStrike">
                          <a:solidFill>
                            <a:srgbClr val="000514"/>
                          </a:solidFill>
                          <a:latin typeface="Arial"/>
                          <a:ea typeface="Times New Roman"/>
                        </a:rPr>
                        <a:t>layer)</a:t>
                      </a:r>
                      <a:r>
                        <a:rPr b="1" lang="en-U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Miners Pit Lake </a:t>
                      </a:r>
                      <a:r>
                        <a:rPr b="0" lang="en-US" sz="1200" spc="-1" strike="noStrike">
                          <a:solidFill>
                            <a:srgbClr val="000514"/>
                          </a:solidFill>
                          <a:latin typeface="Arial"/>
                          <a:ea typeface="Times New Roman"/>
                        </a:rPr>
                        <a:t>(Ely,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8 acres (5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Pennington Pit Lake, </a:t>
                      </a:r>
                      <a:r>
                        <a:rPr b="0" lang="en-US" sz="1200" spc="-1" strike="noStrike">
                          <a:solidFill>
                            <a:srgbClr val="000514"/>
                          </a:solidFill>
                          <a:latin typeface="Arial"/>
                          <a:ea typeface="Times New Roman"/>
                        </a:rPr>
                        <a:t>(Crosby,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79</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7 acres (23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Brownie Lake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5</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 acres (7.3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Deming Lake </a:t>
                      </a:r>
                      <a:r>
                        <a:rPr b="0" lang="en-US" sz="1200" spc="-1" strike="noStrike">
                          <a:solidFill>
                            <a:srgbClr val="000514"/>
                          </a:solidFill>
                          <a:latin typeface="Arial"/>
                          <a:ea typeface="Times New Roman"/>
                        </a:rPr>
                        <a:t>(Itasca State Park,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2.3 acres (5.0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Big Soda Lake </a:t>
                      </a:r>
                      <a:r>
                        <a:rPr b="0" lang="en-US" sz="1200" spc="-1" strike="noStrike">
                          <a:solidFill>
                            <a:srgbClr val="000514"/>
                          </a:solidFill>
                          <a:latin typeface="Arial"/>
                          <a:ea typeface="Times New Roman"/>
                        </a:rPr>
                        <a:t>(Fallon, NV)</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6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00 acres (160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ea typeface="Times New Roman"/>
                        </a:rPr>
                        <a:t>* variable from year to year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Circulación vertical y la mezcla</a:t>
            </a:r>
            <a:r>
              <a:rPr b="1" lang="es-ES" sz="4000" spc="-1" strike="noStrike">
                <a:solidFill>
                  <a:srgbClr val="ffffff"/>
                </a:solidFill>
                <a:latin typeface="Garamond"/>
              </a:rPr>
              <a:t>.</a:t>
            </a:r>
            <a:endParaRPr b="1" lang="en-US" sz="4000" spc="-1" strike="noStrike">
              <a:solidFill>
                <a:srgbClr val="e5e5ff"/>
              </a:solidFill>
              <a:latin typeface="Garamond"/>
            </a:endParaRPr>
          </a:p>
        </p:txBody>
      </p:sp>
      <p:sp>
        <p:nvSpPr>
          <p:cNvPr id="106" name="PlaceHolder 2"/>
          <p:cNvSpPr>
            <a:spLocks noGrp="1"/>
          </p:cNvSpPr>
          <p:nvPr>
            <p:ph/>
          </p:nvPr>
        </p:nvSpPr>
        <p:spPr>
          <a:xfrm>
            <a:off x="468360" y="1412640"/>
            <a:ext cx="8229600" cy="511164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diciones meteorológicas atmosféricas estacionales.       Ingreso directo de aguas de precipitación.</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urrido por derretimiento de nieves, heladas o de calurosos días soleados.</a:t>
            </a:r>
            <a:endParaRPr b="0" lang="en-US" sz="2800" spc="-1" strike="noStrike">
              <a:solidFill>
                <a:srgbClr val="ffffff"/>
              </a:solidFill>
              <a:latin typeface="Garamond"/>
            </a:endParaRPr>
          </a:p>
          <a:p>
            <a:pPr lvl="2" marL="1028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emperaturas de las aguas de los lagos varían.  </a:t>
            </a:r>
            <a:endParaRPr b="0" lang="en-US" sz="2800" spc="-1" strike="noStrike">
              <a:solidFill>
                <a:srgbClr val="ffffff"/>
              </a:solidFill>
              <a:latin typeface="Garamond"/>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iferencias de densidad.</a:t>
            </a:r>
            <a:r>
              <a:rPr b="0" lang="es-ES" sz="2000" spc="-1" strike="noStrike">
                <a:solidFill>
                  <a:srgbClr val="ffffff"/>
                </a:solidFill>
                <a:latin typeface="Garamond"/>
              </a:rPr>
              <a:t> </a:t>
            </a:r>
            <a:endParaRPr b="0" lang="en-US" sz="20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La circulación general depende de la temperatura, y, por consiguiente, va ligada al clima de la región. </a:t>
            </a:r>
            <a:endParaRPr b="0" lang="en-US" sz="2800" spc="-1" strike="noStrike">
              <a:solidFill>
                <a:srgbClr val="ffffff"/>
              </a:solidFill>
              <a:latin typeface="Garamond"/>
            </a:endParaRPr>
          </a:p>
        </p:txBody>
      </p:sp>
      <p:sp>
        <p:nvSpPr>
          <p:cNvPr id="107" name="AutoShape 4"/>
          <p:cNvSpPr/>
          <p:nvPr/>
        </p:nvSpPr>
        <p:spPr>
          <a:xfrm>
            <a:off x="928800" y="3643200"/>
            <a:ext cx="720720" cy="287280"/>
          </a:xfrm>
          <a:prstGeom prst="right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08" name="AutoShape 5"/>
          <p:cNvSpPr/>
          <p:nvPr/>
        </p:nvSpPr>
        <p:spPr>
          <a:xfrm>
            <a:off x="928800" y="4143240"/>
            <a:ext cx="720720" cy="287640"/>
          </a:xfrm>
          <a:prstGeom prst="rightArrow">
            <a:avLst>
              <a:gd name="adj1" fmla="val 50000"/>
              <a:gd name="adj2" fmla="val 62641"/>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Estratificación Termal</a:t>
            </a:r>
            <a:endParaRPr b="1" lang="en-US" sz="4000" spc="-1" strike="noStrike">
              <a:solidFill>
                <a:srgbClr val="e5e5ff"/>
              </a:solidFill>
              <a:latin typeface="Garamond"/>
            </a:endParaRPr>
          </a:p>
        </p:txBody>
      </p:sp>
      <p:sp>
        <p:nvSpPr>
          <p:cNvPr id="110" name="PlaceHolder 2"/>
          <p:cNvSpPr>
            <a:spLocks noGrp="1"/>
          </p:cNvSpPr>
          <p:nvPr>
            <p:ph/>
          </p:nvPr>
        </p:nvSpPr>
        <p:spPr>
          <a:xfrm>
            <a:off x="500040" y="2356920"/>
            <a:ext cx="8229600" cy="32576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comprensión y clasificación de los lagos en función de sus características de estratificación y mezcla, resultan decisivas desde el punto de vista biológic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6"/>
          <p:cNvSpPr/>
          <p:nvPr/>
        </p:nvSpPr>
        <p:spPr>
          <a:xfrm>
            <a:off x="539640" y="119700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12" name="Text Box 7"/>
          <p:cNvSpPr/>
          <p:nvPr/>
        </p:nvSpPr>
        <p:spPr>
          <a:xfrm>
            <a:off x="179280" y="836640"/>
            <a:ext cx="3857760" cy="6726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erfil de temperatura estival (Línea continua)</a:t>
            </a: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1" lang="es-MX" sz="3200" spc="-1" strike="noStrike">
                <a:solidFill>
                  <a:srgbClr val="ffffff"/>
                </a:solidFill>
                <a:latin typeface="Garamond"/>
              </a:rPr>
              <a:t>R.T.R</a:t>
            </a:r>
            <a:r>
              <a:rPr b="0" lang="es-MX" sz="3200" spc="-1" strike="noStrike">
                <a:solidFill>
                  <a:srgbClr val="ffffff"/>
                </a:solidFill>
                <a:latin typeface="Garamond"/>
              </a:rPr>
              <a:t>.=Resistencia Térmica Relativa (barras).</a:t>
            </a: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p:txBody>
      </p:sp>
      <p:pic>
        <p:nvPicPr>
          <p:cNvPr id="113" name="Picture 5" descr="D:\Mis imágenes\2010-08 (ago)\Explorar.jpg"/>
          <p:cNvPicPr/>
          <p:nvPr/>
        </p:nvPicPr>
        <p:blipFill>
          <a:blip r:embed="rId1"/>
          <a:stretch/>
        </p:blipFill>
        <p:spPr>
          <a:xfrm>
            <a:off x="3924360" y="246240"/>
            <a:ext cx="5219640" cy="644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Perfiles verticales de penetración de la radiación solar (S) y la temperatura (T) en dos lagos comunicados y adyacentes.</a:t>
            </a:r>
            <a:endParaRPr b="1" lang="en-US" sz="2800" spc="-1" strike="noStrike">
              <a:solidFill>
                <a:srgbClr val="e5e5ff"/>
              </a:solidFill>
              <a:latin typeface="Garamond"/>
            </a:endParaRPr>
          </a:p>
        </p:txBody>
      </p:sp>
      <p:pic>
        <p:nvPicPr>
          <p:cNvPr id="115" name="Picture 5" descr="D:\Mis imágenes\2010-08 (ago)\Explorar0001.jpg"/>
          <p:cNvPicPr/>
          <p:nvPr/>
        </p:nvPicPr>
        <p:blipFill>
          <a:blip r:embed="rId1"/>
          <a:stretch/>
        </p:blipFill>
        <p:spPr>
          <a:xfrm>
            <a:off x="684360" y="1571760"/>
            <a:ext cx="7894440" cy="52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7" descr="D:\Mis imágenes\2010-08 (ago)\Explorar0002.jpg"/>
          <p:cNvPicPr/>
          <p:nvPr/>
        </p:nvPicPr>
        <p:blipFill>
          <a:blip r:embed="rId1"/>
          <a:stretch/>
        </p:blipFill>
        <p:spPr>
          <a:xfrm>
            <a:off x="4140360" y="1071720"/>
            <a:ext cx="5003640" cy="5786280"/>
          </a:xfrm>
          <a:prstGeom prst="rect">
            <a:avLst/>
          </a:prstGeom>
          <a:ln w="0">
            <a:noFill/>
          </a:ln>
        </p:spPr>
      </p:pic>
      <p:sp>
        <p:nvSpPr>
          <p:cNvPr id="117" name="Text Box 5"/>
          <p:cNvSpPr/>
          <p:nvPr/>
        </p:nvSpPr>
        <p:spPr>
          <a:xfrm>
            <a:off x="285840" y="285840"/>
            <a:ext cx="88581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Estratificación térmica típica de un lago en los estratos señalados.</a:t>
            </a:r>
            <a:endParaRPr b="0" lang="en-US" sz="2600" spc="-1" strike="noStrike" u="sng">
              <a:solidFill>
                <a:srgbClr val="ffffff"/>
              </a:solidFill>
              <a:uFillTx/>
              <a:latin typeface="Garamond"/>
            </a:endParaRPr>
          </a:p>
        </p:txBody>
      </p:sp>
      <p:sp>
        <p:nvSpPr>
          <p:cNvPr id="118" name="Text Box 6"/>
          <p:cNvSpPr/>
          <p:nvPr/>
        </p:nvSpPr>
        <p:spPr>
          <a:xfrm>
            <a:off x="357120" y="1500120"/>
            <a:ext cx="35276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Garamond"/>
              </a:rPr>
              <a:t>Epilimnion: </a:t>
            </a:r>
            <a:r>
              <a:rPr b="0" lang="es-MX" sz="2200" spc="-1" strike="noStrike">
                <a:solidFill>
                  <a:srgbClr val="ffffff"/>
                </a:solidFill>
                <a:latin typeface="Garamond"/>
              </a:rPr>
              <a:t>estrato superior, aguas más o menos uniformemente cálidas y turbulentas.</a:t>
            </a:r>
            <a:endParaRPr b="0" lang="en-US" sz="2200" spc="-1" strike="noStrike" u="sng">
              <a:solidFill>
                <a:srgbClr val="ffffff"/>
              </a:solidFill>
              <a:uFillTx/>
              <a:latin typeface="Garamond"/>
            </a:endParaRPr>
          </a:p>
        </p:txBody>
      </p:sp>
      <p:sp>
        <p:nvSpPr>
          <p:cNvPr id="119" name="Text Box 7"/>
          <p:cNvSpPr/>
          <p:nvPr/>
        </p:nvSpPr>
        <p:spPr>
          <a:xfrm>
            <a:off x="285840" y="3143160"/>
            <a:ext cx="352728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2ff12f"/>
                </a:solidFill>
                <a:latin typeface="Garamond"/>
              </a:rPr>
              <a:t>Metalimnion</a:t>
            </a:r>
            <a:r>
              <a:rPr b="1" lang="es-MX" sz="2200" spc="-1" strike="noStrike">
                <a:solidFill>
                  <a:srgbClr val="ffffff"/>
                </a:solidFill>
                <a:latin typeface="Garamond"/>
              </a:rPr>
              <a:t>: </a:t>
            </a:r>
            <a:r>
              <a:rPr b="0" lang="es-MX" sz="2200" spc="-1" strike="noStrike">
                <a:solidFill>
                  <a:srgbClr val="ffffff"/>
                </a:solidFill>
                <a:latin typeface="Garamond"/>
              </a:rPr>
              <a:t>discontinuidad termal entre el epilimnion y el hipolimnion. Gradiente térmico pronunciado.</a:t>
            </a:r>
            <a:endParaRPr b="0" lang="en-US" sz="2200" spc="-1" strike="noStrike" u="sng">
              <a:solidFill>
                <a:srgbClr val="ffffff"/>
              </a:solidFill>
              <a:uFillTx/>
              <a:latin typeface="Garamond"/>
            </a:endParaRPr>
          </a:p>
        </p:txBody>
      </p:sp>
      <p:sp>
        <p:nvSpPr>
          <p:cNvPr id="120" name="Text Box 8"/>
          <p:cNvSpPr/>
          <p:nvPr/>
        </p:nvSpPr>
        <p:spPr>
          <a:xfrm>
            <a:off x="324000" y="4797360"/>
            <a:ext cx="36716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5a3ff"/>
                </a:solidFill>
                <a:latin typeface="Garamond"/>
              </a:rPr>
              <a:t>Hipolimnion: </a:t>
            </a:r>
            <a:r>
              <a:rPr b="0" lang="es-MX" sz="2200" spc="-1" strike="noStrike">
                <a:solidFill>
                  <a:srgbClr val="ffffff"/>
                </a:solidFill>
                <a:latin typeface="Garamond"/>
              </a:rPr>
              <a:t>estrato inferior, región profunda, aguas más o menos uniformemente frías y tranquilas.</a:t>
            </a:r>
            <a:endParaRPr b="0" lang="en-US" sz="2200" spc="-1" strike="noStrike" u="sng">
              <a:solidFill>
                <a:srgbClr val="ffffff"/>
              </a:solidFill>
              <a:uFillTx/>
              <a:latin typeface="Garamond"/>
            </a:endParaRPr>
          </a:p>
        </p:txBody>
      </p:sp>
      <p:sp>
        <p:nvSpPr>
          <p:cNvPr id="121" name="7 Conector recto"/>
          <p:cNvSpPr/>
          <p:nvPr/>
        </p:nvSpPr>
        <p:spPr>
          <a:xfrm>
            <a:off x="7236000" y="2205000"/>
            <a:ext cx="86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2" name="9 Conector recto"/>
          <p:cNvSpPr/>
          <p:nvPr/>
        </p:nvSpPr>
        <p:spPr>
          <a:xfrm>
            <a:off x="7812000" y="2060640"/>
            <a:ext cx="1150920" cy="0"/>
          </a:xfrm>
          <a:prstGeom prst="line">
            <a:avLst/>
          </a:prstGeom>
          <a:ln w="54000">
            <a:solidFill>
              <a:srgbClr val="ffff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3" name="11 Conector recto"/>
          <p:cNvSpPr/>
          <p:nvPr/>
        </p:nvSpPr>
        <p:spPr>
          <a:xfrm>
            <a:off x="7812000" y="3141720"/>
            <a:ext cx="1152720" cy="0"/>
          </a:xfrm>
          <a:prstGeom prst="line">
            <a:avLst/>
          </a:prstGeom>
          <a:ln w="54000">
            <a:solidFill>
              <a:srgbClr val="2ff12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4" name="12 Conector recto"/>
          <p:cNvSpPr/>
          <p:nvPr/>
        </p:nvSpPr>
        <p:spPr>
          <a:xfrm>
            <a:off x="7812000" y="4653000"/>
            <a:ext cx="1152720" cy="0"/>
          </a:xfrm>
          <a:prstGeom prst="line">
            <a:avLst/>
          </a:prstGeom>
          <a:ln w="54000">
            <a:solidFill>
              <a:srgbClr val="99cc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04:26:21Z</dcterms:created>
  <dc:creator>RAQUEL</dc:creator>
  <dc:description/>
  <dc:language>en-US</dc:language>
  <cp:lastModifiedBy>usuario</cp:lastModifiedBy>
  <dcterms:modified xsi:type="dcterms:W3CDTF">2012-08-18T00:22:25Z</dcterms:modified>
  <cp:revision>151</cp:revision>
  <dc:subject/>
  <dc:title>Diapositiva 1</dc:title>
</cp:coreProperties>
</file>