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DE331F-51E7-4109-A502-AEABB1030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DD68EB-F59F-4773-8ABE-09A06F5D4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BF1FA7-A868-46E8-886F-587880E3B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A39C8D-DE9F-486F-9E80-7253EAD0C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4EC8C-7FFD-413A-AE11-CF7AA03A6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4FCEB-2D08-4663-A839-1C4933D57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B949E-B800-48E1-9ED2-8DF3D1C14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8E98D-E738-4415-8CFB-C375EBACA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21336-B2A9-4C6A-BA4A-2E0815B14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1A40C-297F-4101-A100-7739B755B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9E8D3-CFBC-4E5A-8D8A-FF9ADD2D0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DA00CF-5E75-4D31-986A-261EFAF9E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0750E-8C58-4BE5-8FEE-1E15DBDB7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24E1B-E71F-4EF5-9251-B205E4423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F7D22-CE0E-4D9F-9D20-695C13D56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8C319-5ECC-45BD-A26F-0F6C6B8B1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480C2-AF07-48C8-827D-4521E63A0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1B75F8-8E52-488C-BCBB-A3879C666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0F51EC-2BB0-47A9-B88E-3542E5D43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E5D6FB-8F73-4A53-BB38-34B0C0560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429A7A-9580-4E55-86F1-5412A40B1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7F87A6-105B-4247-A991-BB81BCB8C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92932D-CE27-4384-815B-077591493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000B20-6BCF-42CE-9FE1-F8D36682F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62CC5-1CBF-4B81-8A21-33686B47CE0B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0D31D-049B-44AD-9139-3FA6900A07B2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4" descr="Aculeo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5"/>
          <p:cNvSpPr/>
          <p:nvPr/>
        </p:nvSpPr>
        <p:spPr>
          <a:xfrm>
            <a:off x="0" y="47628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000" spc="-1" strike="noStrike">
                <a:solidFill>
                  <a:srgbClr val="000514"/>
                </a:solidFill>
                <a:latin typeface="Arial"/>
                <a:ea typeface="Arial"/>
              </a:rPr>
              <a:t>OXÍGENO DISUELTO Y CARBONO INORGÁNICO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7"/>
          <p:cNvSpPr/>
          <p:nvPr/>
        </p:nvSpPr>
        <p:spPr>
          <a:xfrm>
            <a:off x="755640" y="333360"/>
            <a:ext cx="741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Text Box 8"/>
          <p:cNvSpPr/>
          <p:nvPr/>
        </p:nvSpPr>
        <p:spPr>
          <a:xfrm>
            <a:off x="179280" y="189000"/>
            <a:ext cx="896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"/>
                <a:ea typeface="Arial"/>
              </a:rPr>
              <a:t>Distribución vertical de la concentración de oxígeno y temperatura anual en dos lagos dimícticos: uno oligotrófico y otro eutrófico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6" name="4 Marcador de contenido" descr="estratificacion y mezcla copiar.jpg"/>
          <p:cNvPicPr/>
          <p:nvPr/>
        </p:nvPicPr>
        <p:blipFill>
          <a:blip r:embed="rId1"/>
          <a:stretch/>
        </p:blipFill>
        <p:spPr>
          <a:xfrm>
            <a:off x="1042920" y="1413000"/>
            <a:ext cx="701352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5 Imagen" descr="grafico1 copiar.jpg"/>
          <p:cNvPicPr/>
          <p:nvPr/>
        </p:nvPicPr>
        <p:blipFill>
          <a:blip r:embed="rId1"/>
          <a:stretch/>
        </p:blipFill>
        <p:spPr>
          <a:xfrm>
            <a:off x="4489560" y="1197000"/>
            <a:ext cx="4654440" cy="457668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3"/>
          <p:cNvSpPr/>
          <p:nvPr/>
        </p:nvSpPr>
        <p:spPr>
          <a:xfrm>
            <a:off x="1345680" y="333360"/>
            <a:ext cx="621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. CIRCULACIÓN PRIMAVERA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Text Box 4"/>
          <p:cNvSpPr/>
          <p:nvPr/>
        </p:nvSpPr>
        <p:spPr>
          <a:xfrm>
            <a:off x="7236000" y="1268280"/>
            <a:ext cx="12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339966"/>
                </a:solidFill>
                <a:latin typeface="Arial"/>
                <a:ea typeface="Arial"/>
              </a:rPr>
              <a:t>Oxígeno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Text Box 5"/>
          <p:cNvSpPr/>
          <p:nvPr/>
        </p:nvSpPr>
        <p:spPr>
          <a:xfrm>
            <a:off x="5364000" y="126828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600cc"/>
                </a:solidFill>
                <a:latin typeface="Arial"/>
                <a:ea typeface="Arial"/>
              </a:rPr>
              <a:t>Temperatura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Text Box 6"/>
          <p:cNvSpPr/>
          <p:nvPr/>
        </p:nvSpPr>
        <p:spPr>
          <a:xfrm>
            <a:off x="324000" y="2060640"/>
            <a:ext cx="3887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  <a:ea typeface="Arial"/>
              </a:rPr>
              <a:t>La concentración ideal de 100% de saturación depende del control físico de difusión, mezcla y saturación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  <a:ea typeface="Arial"/>
              </a:rPr>
              <a:t>B. ESTRATIFICACIÓN DE VERANO EN UN LAGO OLIGOTRÓFICO.</a:t>
            </a:r>
            <a:br>
              <a:rPr sz="3200"/>
            </a:b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250920" y="2205000"/>
            <a:ext cx="424980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  <a:ea typeface="Arial"/>
              </a:rPr>
              <a:t>La concentración de oxígeno disuelto en profundidad esta ampliamente regulada por mecanismos físicos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  <a:ea typeface="Arial"/>
              </a:rPr>
              <a:t>Disminuye la solubilidad al aumentar la temperatura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4" name="4 Imagen" descr="grafico 2 copiar.jpg"/>
          <p:cNvPicPr/>
          <p:nvPr/>
        </p:nvPicPr>
        <p:blipFill>
          <a:blip r:embed="rId1"/>
          <a:stretch/>
        </p:blipFill>
        <p:spPr>
          <a:xfrm>
            <a:off x="4610160" y="1413000"/>
            <a:ext cx="453384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3"/>
          <p:cNvSpPr/>
          <p:nvPr/>
        </p:nvSpPr>
        <p:spPr>
          <a:xfrm>
            <a:off x="179280" y="1197000"/>
            <a:ext cx="3745080" cy="529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ffff"/>
                </a:solidFill>
                <a:latin typeface="Arial"/>
              </a:rPr>
              <a:t>Oxígeno epilimnetico </a:t>
            </a: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fluctúa debido al balance fotosíntesis-respiración y la mezcla del viento.  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ffff"/>
                </a:solidFill>
                <a:latin typeface="Arial"/>
              </a:rPr>
              <a:t>Oxígeno hipolimnetico </a:t>
            </a: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disminuye por la respiración y procesos de oxidación y puede llegar a ser un hipolimnion anaerobio.</a:t>
            </a:r>
            <a:br>
              <a:rPr sz="2200"/>
            </a:br>
            <a:br>
              <a:rPr sz="2200"/>
            </a:b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Text Box 5"/>
          <p:cNvSpPr/>
          <p:nvPr/>
        </p:nvSpPr>
        <p:spPr>
          <a:xfrm>
            <a:off x="755640" y="404640"/>
            <a:ext cx="720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  <a:ea typeface="Arial"/>
              </a:rPr>
              <a:t>C. ESTRATIFICACIÓN  DE VERANO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7" name="6 Imagen" descr="grafico 4 copiar.jpg"/>
          <p:cNvPicPr/>
          <p:nvPr/>
        </p:nvPicPr>
        <p:blipFill>
          <a:blip r:embed="rId1"/>
          <a:stretch/>
        </p:blipFill>
        <p:spPr>
          <a:xfrm>
            <a:off x="4071960" y="1811160"/>
            <a:ext cx="507204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3"/>
          <p:cNvSpPr/>
          <p:nvPr/>
        </p:nvSpPr>
        <p:spPr>
          <a:xfrm>
            <a:off x="324000" y="1484280"/>
            <a:ext cx="3600360" cy="348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Oxígeno  epilimnetico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disminuye suavemente a medida que el agua con poco oxígeno se mezcla en la superficie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400"/>
            </a:b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Oxígeno hipolimnetico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continua disminuyendo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395280" y="333360"/>
            <a:ext cx="8137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  <a:ea typeface="Arial"/>
              </a:rPr>
              <a:t>D. QUIEBRE DE LA ESTRATIFICACIÓN: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0" name="3 Imagen" descr="grafico 5 copiar.jpg"/>
          <p:cNvPicPr/>
          <p:nvPr/>
        </p:nvPicPr>
        <p:blipFill>
          <a:blip r:embed="rId1"/>
          <a:stretch/>
        </p:blipFill>
        <p:spPr>
          <a:xfrm>
            <a:off x="4716360" y="1413000"/>
            <a:ext cx="4114800" cy="49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2 Imagen" descr="grafico6 copiar.jpg"/>
          <p:cNvPicPr/>
          <p:nvPr/>
        </p:nvPicPr>
        <p:blipFill>
          <a:blip r:embed="rId1"/>
          <a:stretch/>
        </p:blipFill>
        <p:spPr>
          <a:xfrm>
            <a:off x="528480" y="1214280"/>
            <a:ext cx="7874280" cy="47358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 txBox="1"/>
          <p:nvPr/>
        </p:nvSpPr>
        <p:spPr>
          <a:xfrm>
            <a:off x="457200" y="3214440"/>
            <a:ext cx="6757920" cy="291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2 Imagen" descr="grafico 7 copiar.jpg"/>
          <p:cNvPicPr/>
          <p:nvPr/>
        </p:nvPicPr>
        <p:blipFill>
          <a:blip r:embed="rId1"/>
          <a:stretch/>
        </p:blipFill>
        <p:spPr>
          <a:xfrm>
            <a:off x="571680" y="1268280"/>
            <a:ext cx="7786440" cy="468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5 Imagen" descr="grafico8 copiar.jpg"/>
          <p:cNvPicPr/>
          <p:nvPr/>
        </p:nvPicPr>
        <p:blipFill>
          <a:blip r:embed="rId1"/>
          <a:stretch/>
        </p:blipFill>
        <p:spPr>
          <a:xfrm>
            <a:off x="4819680" y="1197000"/>
            <a:ext cx="4324320" cy="541188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3"/>
          <p:cNvSpPr/>
          <p:nvPr/>
        </p:nvSpPr>
        <p:spPr>
          <a:xfrm>
            <a:off x="250920" y="1071720"/>
            <a:ext cx="4321080" cy="531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mperatura &gt;4 ºC because of leftover summer heat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Oxígeno &lt;100% debido a la respiración en el hipolimnion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Oxígeno tiende al100% de saturación por la acción del viento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o, si el hielo se forma tempranamente, todo el lago puede no llegar a la saturación dr oxígeno disuelto de 100%,  '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nter oxygen deb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' (deuda invernal de oxígeno)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6" name="Rectangle 5"/>
          <p:cNvSpPr/>
          <p:nvPr/>
        </p:nvSpPr>
        <p:spPr>
          <a:xfrm>
            <a:off x="7746480" y="1341360"/>
            <a:ext cx="109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339966"/>
                </a:solidFill>
                <a:latin typeface="Arial"/>
                <a:ea typeface="Arial"/>
              </a:rPr>
              <a:t>Oxígeno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5796000" y="134136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6600cc"/>
                </a:solidFill>
                <a:latin typeface="Arial"/>
                <a:ea typeface="Arial"/>
              </a:rPr>
              <a:t>Temperatura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8" name="5 Rectángulo"/>
          <p:cNvSpPr/>
          <p:nvPr/>
        </p:nvSpPr>
        <p:spPr>
          <a:xfrm>
            <a:off x="1496880" y="260280"/>
            <a:ext cx="576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. CIRCULACIÓN DE OTOÑO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3"/>
          <p:cNvSpPr/>
          <p:nvPr/>
        </p:nvSpPr>
        <p:spPr>
          <a:xfrm>
            <a:off x="324000" y="1125360"/>
            <a:ext cx="3311280" cy="31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    </a:t>
            </a:r>
            <a:br>
              <a:rPr sz="1800"/>
            </a:b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Estratificación Invers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La respiración más intensa ocurre en y cerca de los sedimentos,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       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winter kills”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(posible muerte invernal)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0" name="Text Box 5"/>
          <p:cNvSpPr/>
          <p:nvPr/>
        </p:nvSpPr>
        <p:spPr>
          <a:xfrm>
            <a:off x="468360" y="404640"/>
            <a:ext cx="76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  <a:ea typeface="Arial"/>
              </a:rPr>
              <a:t>F. INVIERNO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1" name="4 Imagen" descr="grafico 9 copiar.jpg"/>
          <p:cNvPicPr/>
          <p:nvPr/>
        </p:nvPicPr>
        <p:blipFill>
          <a:blip r:embed="rId1"/>
          <a:stretch/>
        </p:blipFill>
        <p:spPr>
          <a:xfrm>
            <a:off x="4006800" y="1197000"/>
            <a:ext cx="5137200" cy="33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  <a:ea typeface="Arial"/>
              </a:rPr>
              <a:t>Especialmente en los dimícticos eutróficos.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43" name="4 Imagen" descr="grafico 10 copiar.jpg"/>
          <p:cNvPicPr/>
          <p:nvPr/>
        </p:nvPicPr>
        <p:blipFill>
          <a:blip r:embed="rId1"/>
          <a:stretch/>
        </p:blipFill>
        <p:spPr>
          <a:xfrm>
            <a:off x="142920" y="2571840"/>
            <a:ext cx="4381560" cy="2643120"/>
          </a:xfrm>
          <a:prstGeom prst="rect">
            <a:avLst/>
          </a:prstGeom>
          <a:ln w="0">
            <a:noFill/>
          </a:ln>
        </p:spPr>
      </p:pic>
      <p:pic>
        <p:nvPicPr>
          <p:cNvPr id="144" name="6 Imagen" descr="grafico 11 copiar.jpg"/>
          <p:cNvPicPr/>
          <p:nvPr/>
        </p:nvPicPr>
        <p:blipFill>
          <a:blip r:embed="rId2"/>
          <a:stretch/>
        </p:blipFill>
        <p:spPr>
          <a:xfrm>
            <a:off x="4572000" y="2571840"/>
            <a:ext cx="4348080" cy="26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857160" y="500040"/>
            <a:ext cx="7491600" cy="566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"/>
                <a:ea typeface="Arial"/>
              </a:rPr>
              <a:t>OXÍGENO DISUELTO (O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  <a:ea typeface="Arial"/>
              </a:rPr>
              <a:t>La distribución del oxígeno en los lagos es esencial para comprender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  <a:ea typeface="Arial"/>
              </a:rPr>
              <a:t>-La distribución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  <a:ea typeface="Arial"/>
              </a:rPr>
              <a:t>-El comportamiento y el crecimiento fisiológico de los organismos acuáticos. </a:t>
            </a:r>
            <a:r>
              <a:rPr b="0" lang="es-MX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  <a:ea typeface="Arial"/>
              </a:rPr>
              <a:t>CURVAS DE OXÍGENO DISUELTO: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6" name="Text Box 4"/>
          <p:cNvSpPr/>
          <p:nvPr/>
        </p:nvSpPr>
        <p:spPr>
          <a:xfrm>
            <a:off x="179280" y="1413000"/>
            <a:ext cx="4176720" cy="36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FORMA CLINOGRADA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 algn="just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 algn="just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Déficit del oxígeno Hipolimnetico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La respiración y la descomposición aumenta a medida que aumenta la productividad del lago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7" name="6 Imagen" descr="grafico 12 copiar.jpg"/>
          <p:cNvPicPr/>
          <p:nvPr/>
        </p:nvPicPr>
        <p:blipFill>
          <a:blip r:embed="rId1"/>
          <a:stretch/>
        </p:blipFill>
        <p:spPr>
          <a:xfrm>
            <a:off x="4545000" y="1916280"/>
            <a:ext cx="4599000" cy="331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9" name="Text Box 8"/>
          <p:cNvSpPr/>
          <p:nvPr/>
        </p:nvSpPr>
        <p:spPr>
          <a:xfrm>
            <a:off x="250920" y="1484280"/>
            <a:ext cx="4537080" cy="31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Mayor concentración de oxígeno Metalimnético e Hipolimnético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En lagos poco productivos, oligotróficos, pobres en nutrientes y escasa producción orgánica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0" name="4 Imagen" descr="grafico 13 copiar.jpg"/>
          <p:cNvPicPr/>
          <p:nvPr/>
        </p:nvPicPr>
        <p:blipFill>
          <a:blip r:embed="rId1"/>
          <a:stretch/>
        </p:blipFill>
        <p:spPr>
          <a:xfrm>
            <a:off x="5003640" y="1557360"/>
            <a:ext cx="4140360" cy="4127400"/>
          </a:xfrm>
          <a:prstGeom prst="rect">
            <a:avLst/>
          </a:prstGeom>
          <a:ln w="0">
            <a:noFill/>
          </a:ln>
        </p:spPr>
      </p:pic>
      <p:sp>
        <p:nvSpPr>
          <p:cNvPr id="151" name="4 Rectángulo"/>
          <p:cNvSpPr/>
          <p:nvPr/>
        </p:nvSpPr>
        <p:spPr>
          <a:xfrm>
            <a:off x="755640" y="333360"/>
            <a:ext cx="72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B. FORMA ORTOGRADA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(Aberg y Rodhe, 1942)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4" descr="basins of same surface area, with differing volumes"/>
          <p:cNvPicPr/>
          <p:nvPr/>
        </p:nvPicPr>
        <p:blipFill>
          <a:blip r:embed="rId1"/>
          <a:stretch/>
        </p:blipFill>
        <p:spPr>
          <a:xfrm>
            <a:off x="4859280" y="4508640"/>
            <a:ext cx="2185920" cy="2185920"/>
          </a:xfrm>
          <a:prstGeom prst="rect">
            <a:avLst/>
          </a:prstGeom>
          <a:ln w="9360">
            <a:solidFill>
              <a:srgbClr val="0099cc"/>
            </a:solidFill>
            <a:miter/>
          </a:ln>
        </p:spPr>
      </p:pic>
      <p:pic>
        <p:nvPicPr>
          <p:cNvPr id="153" name="9 Imagen" descr="grafico 12 copiar.jpg"/>
          <p:cNvPicPr/>
          <p:nvPr/>
        </p:nvPicPr>
        <p:blipFill>
          <a:blip r:embed="rId2"/>
          <a:stretch/>
        </p:blipFill>
        <p:spPr>
          <a:xfrm>
            <a:off x="0" y="0"/>
            <a:ext cx="3714840" cy="331632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8"/>
          <p:cNvSpPr/>
          <p:nvPr/>
        </p:nvSpPr>
        <p:spPr>
          <a:xfrm>
            <a:off x="1928880" y="2000160"/>
            <a:ext cx="15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514"/>
                </a:solidFill>
                <a:latin typeface="Arial"/>
                <a:ea typeface="Arial"/>
              </a:rPr>
              <a:t>Clinograda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5" name="4 Imagen" descr="grafico 13 copiar.jpg"/>
          <p:cNvPicPr/>
          <p:nvPr/>
        </p:nvPicPr>
        <p:blipFill>
          <a:blip r:embed="rId3"/>
          <a:stretch/>
        </p:blipFill>
        <p:spPr>
          <a:xfrm>
            <a:off x="0" y="3357720"/>
            <a:ext cx="3714840" cy="334152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9"/>
          <p:cNvSpPr/>
          <p:nvPr/>
        </p:nvSpPr>
        <p:spPr>
          <a:xfrm>
            <a:off x="2286000" y="6215040"/>
            <a:ext cx="149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514"/>
                </a:solidFill>
                <a:latin typeface="Arial"/>
                <a:ea typeface="Arial"/>
              </a:rPr>
              <a:t>Ortograda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7 Rectángulo"/>
          <p:cNvSpPr/>
          <p:nvPr/>
        </p:nvSpPr>
        <p:spPr>
          <a:xfrm>
            <a:off x="4067280" y="260280"/>
            <a:ext cx="4572000" cy="40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ffff"/>
                </a:solidFill>
                <a:latin typeface="Arial"/>
              </a:rPr>
              <a:t>LAGOS OLIGOTRÓFICOS: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Baja producción y respiración.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Alta solubilidad del oxígeno debido a la baja temperatura. 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Dos lagos que tienen la misma productividad, uno puede ser  clinogrado y el otro ortogrado basado en la forma de la cuenca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3"/>
          <p:cNvSpPr/>
          <p:nvPr/>
        </p:nvSpPr>
        <p:spPr>
          <a:xfrm>
            <a:off x="250920" y="765000"/>
            <a:ext cx="460836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ausada por la fotosíntesis a nivel de la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termoclina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000"/>
            </a:b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La penetración de la luz al metalimnion,  donde hay una baja mezcla, permaneciendo el oxígeno en el lugar de producción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000"/>
            </a:b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Alguna entrada de nutrientes desde el hipolimnion aumenta el crecimiento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Desde el  hipolimnion aumenta el crecimient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deep chlorophyll layer”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el estrato profundo de clorofila depende de la transparencia del agua. 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uede también estar causado por la entrada de oxígeno de agua de río más densa que la de superficie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9" name="3 Imagen" descr="grafico 14 copiar.jpg"/>
          <p:cNvPicPr/>
          <p:nvPr/>
        </p:nvPicPr>
        <p:blipFill>
          <a:blip r:embed="rId1"/>
          <a:stretch/>
        </p:blipFill>
        <p:spPr>
          <a:xfrm>
            <a:off x="4924440" y="1197000"/>
            <a:ext cx="4219560" cy="4896000"/>
          </a:xfrm>
          <a:prstGeom prst="rect">
            <a:avLst/>
          </a:prstGeom>
          <a:ln w="0">
            <a:noFill/>
          </a:ln>
        </p:spPr>
      </p:pic>
      <p:sp>
        <p:nvSpPr>
          <p:cNvPr id="160" name="3 Rectángulo"/>
          <p:cNvSpPr/>
          <p:nvPr/>
        </p:nvSpPr>
        <p:spPr>
          <a:xfrm>
            <a:off x="1232280" y="189000"/>
            <a:ext cx="59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.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CURVA HETEROGRADA POSITIVA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468360" y="1413000"/>
            <a:ext cx="842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  <a:ea typeface="Arial"/>
              </a:rPr>
              <a:t>Por lo general son lagos relativamente profundo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  <a:ea typeface="Arial"/>
              </a:rPr>
              <a:t>De área superficial pequeña. Zr&lt;2%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  <a:ea typeface="Arial"/>
              </a:rPr>
              <a:t>Protegidos de la acción del viento (montañas o vegetación)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" name="Text Box 4"/>
          <p:cNvSpPr/>
          <p:nvPr/>
        </p:nvSpPr>
        <p:spPr>
          <a:xfrm>
            <a:off x="611280" y="260280"/>
            <a:ext cx="78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  <a:ea typeface="Arial"/>
              </a:rPr>
              <a:t>CURVAS </a:t>
            </a:r>
            <a:r>
              <a:rPr b="1" lang="es-MX" sz="3200" spc="-1" strike="noStrike">
                <a:solidFill>
                  <a:srgbClr val="ffffff"/>
                </a:solidFill>
                <a:latin typeface="Arial"/>
                <a:ea typeface="Arial"/>
              </a:rPr>
              <a:t>HETEROGRADAS POSITIVA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3"/>
          <p:cNvSpPr/>
          <p:nvPr/>
        </p:nvSpPr>
        <p:spPr>
          <a:xfrm>
            <a:off x="0" y="404640"/>
            <a:ext cx="4859280" cy="64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    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Puede producirse debido a la respiración efectuada por algas durante la noche, o la respiración de un denso estrato de zooplancton; pero también puede ser causado por: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Un gradiente de densidad – lluvia de detritus alóctono con permanente sedimentació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('marine snow'),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está aquietado por el gradiente de densidad alrededor de la termoclin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,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mayor respiración de la materia orgánic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(la cual puede ser retirada del lugar)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3.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Morfología; A menor pendiente a nivel del metalimnion el agua de esta zona presentará un % de contacto mucho mayor con los sedimentos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4" name="3 Imagen" descr="grafico 15 copiar.jpg"/>
          <p:cNvPicPr/>
          <p:nvPr/>
        </p:nvPicPr>
        <p:blipFill>
          <a:blip r:embed="rId1"/>
          <a:stretch/>
        </p:blipFill>
        <p:spPr>
          <a:xfrm>
            <a:off x="4978440" y="836640"/>
            <a:ext cx="4165560" cy="31687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" descr=""/>
          <p:cNvPicPr/>
          <p:nvPr/>
        </p:nvPicPr>
        <p:blipFill>
          <a:blip r:embed="rId2"/>
          <a:stretch/>
        </p:blipFill>
        <p:spPr>
          <a:xfrm>
            <a:off x="5005440" y="4149720"/>
            <a:ext cx="4138560" cy="251928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9"/>
          <p:cNvSpPr/>
          <p:nvPr/>
        </p:nvSpPr>
        <p:spPr>
          <a:xfrm>
            <a:off x="5003640" y="5661000"/>
            <a:ext cx="1224000" cy="82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514"/>
                </a:solidFill>
                <a:latin typeface="Arial"/>
                <a:ea typeface="Arial"/>
              </a:rPr>
              <a:t>Plataforma estrecha y plana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7" name="5 Rectángulo"/>
          <p:cNvSpPr/>
          <p:nvPr/>
        </p:nvSpPr>
        <p:spPr>
          <a:xfrm>
            <a:off x="2270520" y="189000"/>
            <a:ext cx="478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D.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HETEROGRADA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NEGATIV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250560" y="476280"/>
            <a:ext cx="889308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76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Arial"/>
              </a:rPr>
              <a:t>E. CICLO DIARIO DEL CONTENIDO DE OXÍGENO EPILIMNETICO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7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9" name="Picture 4" descr="example of diurnal (diel) cycle of oxygen concentrations in water"/>
          <p:cNvPicPr/>
          <p:nvPr/>
        </p:nvPicPr>
        <p:blipFill>
          <a:blip r:embed="rId1"/>
          <a:stretch/>
        </p:blipFill>
        <p:spPr>
          <a:xfrm>
            <a:off x="1495440" y="1773360"/>
            <a:ext cx="5956200" cy="3978000"/>
          </a:xfrm>
          <a:prstGeom prst="rect">
            <a:avLst/>
          </a:prstGeom>
          <a:ln w="9360">
            <a:solidFill>
              <a:srgbClr val="e4300c"/>
            </a:solidFill>
            <a:miter/>
          </a:ln>
        </p:spPr>
      </p:pic>
      <p:sp>
        <p:nvSpPr>
          <p:cNvPr id="170" name="Text Box 7"/>
          <p:cNvSpPr/>
          <p:nvPr/>
        </p:nvSpPr>
        <p:spPr>
          <a:xfrm>
            <a:off x="1835280" y="4365720"/>
            <a:ext cx="865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1" name="Text Box 8"/>
          <p:cNvSpPr/>
          <p:nvPr/>
        </p:nvSpPr>
        <p:spPr>
          <a:xfrm>
            <a:off x="1619280" y="4581360"/>
            <a:ext cx="10810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514"/>
                </a:solidFill>
                <a:latin typeface="Arial"/>
                <a:ea typeface="Arial"/>
              </a:rPr>
              <a:t>medianoche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2" name="Text Box 9"/>
          <p:cNvSpPr/>
          <p:nvPr/>
        </p:nvSpPr>
        <p:spPr>
          <a:xfrm>
            <a:off x="2266920" y="4797360"/>
            <a:ext cx="86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3" name="Text Box 10"/>
          <p:cNvSpPr/>
          <p:nvPr/>
        </p:nvSpPr>
        <p:spPr>
          <a:xfrm>
            <a:off x="2482920" y="5013360"/>
            <a:ext cx="86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4" name="Text Box 11"/>
          <p:cNvSpPr/>
          <p:nvPr/>
        </p:nvSpPr>
        <p:spPr>
          <a:xfrm>
            <a:off x="2698920" y="5229360"/>
            <a:ext cx="865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5" name="Text Box 12"/>
          <p:cNvSpPr/>
          <p:nvPr/>
        </p:nvSpPr>
        <p:spPr>
          <a:xfrm>
            <a:off x="2914560" y="5445000"/>
            <a:ext cx="86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6" name="Rectangle 13"/>
          <p:cNvSpPr/>
          <p:nvPr/>
        </p:nvSpPr>
        <p:spPr>
          <a:xfrm>
            <a:off x="2700360" y="4581360"/>
            <a:ext cx="9349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514"/>
                </a:solidFill>
                <a:latin typeface="Arial"/>
                <a:ea typeface="Arial"/>
              </a:rPr>
              <a:t>amanecer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7" name="Rectangle 14"/>
          <p:cNvSpPr/>
          <p:nvPr/>
        </p:nvSpPr>
        <p:spPr>
          <a:xfrm>
            <a:off x="3851280" y="4581360"/>
            <a:ext cx="10396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514"/>
                </a:solidFill>
                <a:latin typeface="Arial"/>
                <a:ea typeface="Arial"/>
              </a:rPr>
              <a:t>tarde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8" name="Rectangle 15"/>
          <p:cNvSpPr/>
          <p:nvPr/>
        </p:nvSpPr>
        <p:spPr>
          <a:xfrm>
            <a:off x="5079240" y="4581360"/>
            <a:ext cx="8269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514"/>
                </a:solidFill>
                <a:latin typeface="Arial"/>
                <a:ea typeface="Arial"/>
              </a:rPr>
              <a:t>atardecer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9" name="Rectangle 16"/>
          <p:cNvSpPr/>
          <p:nvPr/>
        </p:nvSpPr>
        <p:spPr>
          <a:xfrm>
            <a:off x="6086160" y="4581360"/>
            <a:ext cx="10144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514"/>
                </a:solidFill>
                <a:latin typeface="Arial"/>
                <a:ea typeface="Arial"/>
              </a:rPr>
              <a:t>medianoche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. DÉFICIT DE OXÍGENO.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¿Cuánto oxígeno es requerido por la descomposición del material que cae desde la zona productiva, la zona Trofogénica, a la zona Trofolítica?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La cantidad de oxígeno consumido por los procesos de descomposición en el hipolimnion permite estimar la productividad de un lago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323640" y="1773000"/>
            <a:ext cx="85690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Arial"/>
              </a:rPr>
              <a:t>Período de Estratificación de verano. </a:t>
            </a:r>
            <a:br>
              <a:rPr sz="2800"/>
            </a:b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Arial"/>
              </a:rPr>
              <a:t> -  El mismo perfil térmico.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¿</a:t>
            </a:r>
            <a:r>
              <a:rPr b="1" lang="es-ES" sz="3200" spc="-1" strike="noStrike">
                <a:solidFill>
                  <a:srgbClr val="ff0000"/>
                </a:solidFill>
                <a:latin typeface="Arial"/>
                <a:ea typeface="Arial"/>
              </a:rPr>
              <a:t>Qué lago es má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es-ES" sz="3200" spc="-1" strike="noStrike">
                <a:solidFill>
                  <a:srgbClr val="ff0000"/>
                </a:solidFill>
                <a:latin typeface="Arial"/>
                <a:ea typeface="Arial"/>
              </a:rPr>
              <a:t>productivo?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3" name="Picture 4" descr="oxygen curves of two lakes differing in productivity"/>
          <p:cNvPicPr/>
          <p:nvPr/>
        </p:nvPicPr>
        <p:blipFill>
          <a:blip r:embed="rId1"/>
          <a:stretch/>
        </p:blipFill>
        <p:spPr>
          <a:xfrm>
            <a:off x="5106960" y="2820960"/>
            <a:ext cx="4037040" cy="4037040"/>
          </a:xfrm>
          <a:prstGeom prst="rect">
            <a:avLst/>
          </a:prstGeom>
          <a:ln w="9360">
            <a:solidFill>
              <a:srgbClr val="990000"/>
            </a:solidFill>
            <a:miter/>
          </a:ln>
        </p:spPr>
      </p:pic>
      <p:sp>
        <p:nvSpPr>
          <p:cNvPr id="184" name="4 Rectángulo"/>
          <p:cNvSpPr/>
          <p:nvPr/>
        </p:nvSpPr>
        <p:spPr>
          <a:xfrm>
            <a:off x="250920" y="260280"/>
            <a:ext cx="8497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  <a:ea typeface="Arial"/>
              </a:rPr>
              <a:t>INTEGRACIÓN DE LOS PERFILES DE TEMPERATURA Y OXÍGENO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5" name="5 Rectángulo"/>
          <p:cNvSpPr/>
          <p:nvPr/>
        </p:nvSpPr>
        <p:spPr>
          <a:xfrm>
            <a:off x="413280" y="1628640"/>
            <a:ext cx="314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  <a:ea typeface="Arial"/>
              </a:rPr>
              <a:t>A. Ejemplo lago 1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. </a:t>
            </a:r>
            <a:r>
              <a:rPr b="1" lang="es-ES" sz="2800" spc="-1" strike="noStrike">
                <a:solidFill>
                  <a:srgbClr val="ffffff"/>
                </a:solidFill>
                <a:latin typeface="Arial"/>
                <a:ea typeface="Arial"/>
              </a:rPr>
              <a:t>Ejemplo lago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2.</a:t>
            </a:r>
            <a:br>
              <a:rPr sz="3200"/>
            </a:b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394920" y="765000"/>
            <a:ext cx="820908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Arial"/>
              </a:rPr>
              <a:t>Lagos 1 y 2 tienen la misma: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3" marL="1371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i. Productividad .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ii. Profundidad 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iii. Transparencia/ Penetración de la luz 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Arial"/>
              </a:rPr>
              <a:t>¿Por qué hay dos comportamientos diferentes?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8" name="Picture 4" descr="temperature and oxygen profiles of two lakes differing in thermocline depth"/>
          <p:cNvPicPr/>
          <p:nvPr/>
        </p:nvPicPr>
        <p:blipFill>
          <a:blip r:embed="rId1"/>
          <a:stretch/>
        </p:blipFill>
        <p:spPr>
          <a:xfrm>
            <a:off x="1979640" y="3500280"/>
            <a:ext cx="5594400" cy="3357720"/>
          </a:xfrm>
          <a:prstGeom prst="rect">
            <a:avLst/>
          </a:prstGeom>
          <a:ln w="9360">
            <a:solidFill>
              <a:srgbClr val="e4300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684360" y="907560"/>
            <a:ext cx="7775280" cy="473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"/>
                <a:ea typeface="Arial"/>
              </a:rPr>
              <a:t>OXÍGENO DISUELTO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  <a:ea typeface="Arial"/>
              </a:rPr>
              <a:t>La distribución del oxígeno en los lagos influye en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s-MX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  <a:ea typeface="Arial"/>
              </a:rPr>
              <a:t>-La solubilidad de la gran mayoría </a:t>
            </a:r>
            <a:r>
              <a:rPr b="0" lang="es-MX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s-MX" sz="3200" spc="-1" strike="noStrike">
                <a:solidFill>
                  <a:srgbClr val="ffffff"/>
                </a:solidFill>
                <a:latin typeface="Arial"/>
                <a:ea typeface="Arial"/>
              </a:rPr>
              <a:t>de los nutrientes inorgánic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7988400" cy="273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. </a:t>
            </a:r>
            <a:r>
              <a:rPr b="1" lang="es-ES" sz="2800" spc="-1" strike="noStrike">
                <a:solidFill>
                  <a:srgbClr val="ffffff"/>
                </a:solidFill>
                <a:latin typeface="Arial"/>
                <a:ea typeface="Arial"/>
              </a:rPr>
              <a:t>Ejemplo lago 4. </a:t>
            </a:r>
            <a:br>
              <a:rPr sz="3200"/>
            </a:br>
            <a:br>
              <a:rPr sz="3200"/>
            </a:br>
            <a:r>
              <a:rPr b="0" lang="es-E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Tres veces, cada un día separadamente. </a:t>
            </a:r>
            <a:br>
              <a:rPr sz="2400"/>
            </a:b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 - Tiene lugar un cambio en oxígeno y no la temperatura. </a:t>
            </a:r>
            <a:br>
              <a:rPr sz="2400"/>
            </a:br>
            <a:br>
              <a:rPr sz="2400"/>
            </a:br>
            <a:r>
              <a:rPr b="1" lang="es-ES" sz="2400" spc="-1" strike="noStrike">
                <a:solidFill>
                  <a:srgbClr val="e5e5ff"/>
                </a:solidFill>
                <a:latin typeface="Arial"/>
                <a:ea typeface="Arial"/>
              </a:rPr>
              <a:t>                      </a:t>
            </a:r>
            <a:r>
              <a:rPr b="1" lang="es-ES" sz="24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es-ES" sz="2800" spc="-1" strike="noStrike">
                <a:solidFill>
                  <a:srgbClr val="ff0000"/>
                </a:solidFill>
                <a:latin typeface="Arial"/>
                <a:ea typeface="Arial"/>
              </a:rPr>
              <a:t>¿Qué causa esto?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90" name="Picture 3" descr="temperature and oxygen profiles of a lake on three consecutive days"/>
          <p:cNvPicPr/>
          <p:nvPr/>
        </p:nvPicPr>
        <p:blipFill>
          <a:blip r:embed="rId1"/>
          <a:stretch/>
        </p:blipFill>
        <p:spPr>
          <a:xfrm>
            <a:off x="684360" y="3525840"/>
            <a:ext cx="7775280" cy="3332160"/>
          </a:xfrm>
          <a:prstGeom prst="rect">
            <a:avLst/>
          </a:prstGeom>
          <a:ln w="9360">
            <a:solidFill>
              <a:srgbClr val="e4300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. </a:t>
            </a:r>
            <a:r>
              <a:rPr b="1" lang="es-ES_tradnl" sz="2800" spc="-1" strike="noStrike">
                <a:solidFill>
                  <a:srgbClr val="ffffff"/>
                </a:solidFill>
                <a:latin typeface="Arial"/>
                <a:ea typeface="Arial"/>
              </a:rPr>
              <a:t>Ejemplo Río.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92" name="Picture 3" descr="oxygen and temperature profiles in a river"/>
          <p:cNvPicPr/>
          <p:nvPr/>
        </p:nvPicPr>
        <p:blipFill>
          <a:blip r:embed="rId1"/>
          <a:stretch/>
        </p:blipFill>
        <p:spPr>
          <a:xfrm>
            <a:off x="1619280" y="2276640"/>
            <a:ext cx="6124680" cy="3674880"/>
          </a:xfrm>
          <a:prstGeom prst="rect">
            <a:avLst/>
          </a:prstGeom>
          <a:ln w="9360">
            <a:solidFill>
              <a:srgbClr val="e4300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78920" y="188640"/>
            <a:ext cx="871380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"/>
                <a:ea typeface="Arial"/>
              </a:rPr>
              <a:t>MECANISMOS DE CONTROL DE LA CONCENTRACIÓN DE OXÍGENO DISUELTO EN LAGOS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  <a:ea typeface="Arial"/>
              </a:rPr>
              <a:t>- Oxígeno disuelto procedente de la atmósfera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  <a:ea typeface="Arial"/>
              </a:rPr>
              <a:t>- Oxígeno disuelto producido por fotosíntesi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  <a:ea typeface="Arial"/>
              </a:rPr>
              <a:t>- Distribución hidromecánica del oxígeno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  <a:ea typeface="Arial"/>
              </a:rPr>
              <a:t>- Metabolismo del consumo de oxígeno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94920" y="475920"/>
            <a:ext cx="84978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"/>
                <a:ea typeface="Arial"/>
              </a:rPr>
              <a:t>EFECTOS DE LA REGULACIÓN DE LA DISPONIBILIDAD DE NUTRIENTES POR EL CONTENIDO DE OXÍGENO DISUELTO: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539640" y="2133720"/>
            <a:ext cx="784872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  <a:ea typeface="Arial"/>
              </a:rPr>
              <a:t>Los cambios en la distribución de nutrientes provocan un crecimiento rápido de muchos organism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  <a:ea typeface="Arial"/>
              </a:rPr>
              <a:t>Si los cambios se prolongan, la productividad del lago puede variar radicalmente y manteners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"/>
                <a:ea typeface="Arial"/>
              </a:rPr>
              <a:t>SOLUBILIDAD DE LOS GASES 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24000" y="1341000"/>
            <a:ext cx="88200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ffffff"/>
                </a:solidFill>
                <a:latin typeface="Arial"/>
                <a:ea typeface="Arial"/>
              </a:rPr>
              <a:t>Depende de la temperatura. De la presión parcial atmosférica, por lo tanto de la altitud a la que se encuentra el sistema lacustre.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ffffff"/>
                </a:solidFill>
                <a:latin typeface="Arial"/>
                <a:ea typeface="Arial"/>
              </a:rPr>
              <a:t>La cantidad de gas que permanece disuelto depende de la presión atmosférica, las condiciones meteorológicas y la presión hidrostática de cada profundidad. 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0" lang="es-MX" sz="30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z</a:t>
            </a:r>
            <a:r>
              <a:rPr b="0" lang="es-MX" sz="3000" spc="-1" strike="noStrike">
                <a:solidFill>
                  <a:srgbClr val="ffffff"/>
                </a:solidFill>
                <a:latin typeface="Arial"/>
                <a:ea typeface="Arial"/>
              </a:rPr>
              <a:t> = P</a:t>
            </a:r>
            <a:r>
              <a:rPr b="0" lang="es-MX" sz="30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o(superficie)</a:t>
            </a:r>
            <a:r>
              <a:rPr b="0" lang="es-MX" sz="3000" spc="-1" strike="noStrike">
                <a:solidFill>
                  <a:srgbClr val="ffffff"/>
                </a:solidFill>
                <a:latin typeface="Arial"/>
                <a:ea typeface="Arial"/>
              </a:rPr>
              <a:t> + 0,0967</a:t>
            </a:r>
            <a:r>
              <a:rPr b="0" lang="es-MX" sz="30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z</a:t>
            </a:r>
            <a:r>
              <a:rPr b="0" lang="es-MX" sz="3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s-MX" sz="3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s-MX" sz="3000" spc="-1" strike="noStrike">
                <a:solidFill>
                  <a:srgbClr val="ffffff"/>
                </a:solidFill>
                <a:latin typeface="Arial"/>
                <a:ea typeface="Arial"/>
              </a:rPr>
              <a:t>Presión real (atm.)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"/>
                <a:ea typeface="Arial"/>
              </a:rPr>
              <a:t>LA CONCENTRACIÓN DE OXÍGENO SE VE AFECTADA POR: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  <a:ea typeface="Arial"/>
              </a:rPr>
              <a:t>La salinidad reduce la solubilidad del oxígeno en el agua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  <a:ea typeface="Arial"/>
              </a:rPr>
              <a:t>La solubilidad no disminuye en forma exponencial al aumentar el contenido de sal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"/>
                <a:ea typeface="Arial"/>
              </a:rPr>
              <a:t>MÉTODO DE ESTIMACIÓN DE LA CONCENTRACIÓN DE OXÍGENO: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"/>
                <a:ea typeface="Arial"/>
              </a:rPr>
              <a:t>Método de Winkler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  <a:ea typeface="Arial"/>
              </a:rPr>
              <a:t>- Por una doble oxidación se captura todo el oxígeno disuelto disponible en la muestra de agua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  <a:ea typeface="Arial"/>
              </a:rPr>
              <a:t>La determinación se realiza potenciométricamente o colorimétricament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94920" y="1736640"/>
            <a:ext cx="820908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5400" spc="-1" strike="noStrike">
                <a:solidFill>
                  <a:srgbClr val="ffffff"/>
                </a:solidFill>
                <a:latin typeface="Arial"/>
                <a:ea typeface="Arial"/>
              </a:rPr>
              <a:t>Distribución del oxígeno disuelto en los lagos.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8T05:05:33Z</dcterms:created>
  <dc:creator>RAQUEL</dc:creator>
  <dc:description/>
  <dc:language>en-US</dc:language>
  <cp:lastModifiedBy>usuario</cp:lastModifiedBy>
  <dcterms:modified xsi:type="dcterms:W3CDTF">2011-12-20T07:11:09Z</dcterms:modified>
  <cp:revision>93</cp:revision>
  <dc:subject/>
  <dc:title>Diapositiva 1</dc:title>
</cp:coreProperties>
</file>