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B8F7-C4E8-47B8-B494-EC2C1ACB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37A2-8461-484A-A100-F7A77B56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797E-780E-4470-BA2C-EB025814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B48AF-ADBD-401F-80D4-B9040979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7762-E3A3-444C-8AEB-753CF712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479D-ADD5-4749-86C1-6544B8E5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1F00-AB20-4D6C-8479-7E5FE684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5E4B-51CB-41F8-B51E-8F911876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FB2A-6959-46DC-9D40-E7BEE055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1679-4444-45DC-917D-94F8B771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D189-35E0-4C34-BD8B-8F32A198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4C83B-09A3-40A5-ADFA-F2A6F9EF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0A56-7868-4B36-8397-7E4345CF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0A98-9F28-4B5B-B9A5-E18967CC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1198-BA42-4AF8-898C-F738D42E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0955-43EF-4E26-8F01-035B97FD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DB64-6DC5-4753-B0A8-7A8058ED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2DCDD-DB03-425D-B4CA-760501EA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37595-E744-44D0-8A37-46F1E03D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DB6A5-E0C3-4EA3-B43C-4A884BDA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40D0-F810-48AF-B1B6-1A59E449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C601D-1134-4071-88DB-688C5562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8C742-F053-4ABB-8755-BBF161B4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40120-E29B-4067-AAF7-50D71EDF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34EE-551B-4A92-B2DB-681E6F8BA39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B5D7-17CD-4030-A9ED-21F978F6BB6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Acule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476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514"/>
                </a:solidFill>
                <a:latin typeface="Arial"/>
                <a:ea typeface="Arial"/>
              </a:rPr>
              <a:t>OXÍGENO DISUELTO Y CARBONO INORGÁNIC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7"/>
          <p:cNvSpPr/>
          <p:nvPr/>
        </p:nvSpPr>
        <p:spPr>
          <a:xfrm>
            <a:off x="755640" y="333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79280" y="18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Distribución vertical de la concentración de oxígeno y temperatura anual en dos lagos dimícticos: uno oligotrófico y otro eutrófic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4 Marcador de contenido" descr="estratificacion y mezcla copiar.jpg"/>
          <p:cNvPicPr/>
          <p:nvPr/>
        </p:nvPicPr>
        <p:blipFill>
          <a:blip r:embed="rId1"/>
          <a:stretch/>
        </p:blipFill>
        <p:spPr>
          <a:xfrm>
            <a:off x="1042920" y="1413000"/>
            <a:ext cx="70135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5 Imagen" descr="grafico1 copiar.jpg"/>
          <p:cNvPicPr/>
          <p:nvPr/>
        </p:nvPicPr>
        <p:blipFill>
          <a:blip r:embed="rId1"/>
          <a:stretch/>
        </p:blipFill>
        <p:spPr>
          <a:xfrm>
            <a:off x="4489560" y="1197000"/>
            <a:ext cx="4654440" cy="45766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1345680" y="333360"/>
            <a:ext cx="62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CIRCULACIÓN PRIMAVE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236000" y="1268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9966"/>
                </a:solidFill>
                <a:latin typeface="Arial"/>
                <a:ea typeface="Arial"/>
              </a:rPr>
              <a:t>Oxíge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64000" y="1268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cc"/>
                </a:solidFill>
                <a:latin typeface="Arial"/>
                <a:ea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24000" y="2060640"/>
            <a:ext cx="38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ideal de 100% de saturación depende del control físico de difusión, mezcla y satura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B. ESTRATIFICACIÓN DE VERANO EN UN LAGO OLIGOTRÓFICO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50920" y="2205000"/>
            <a:ext cx="4249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de oxígeno disuelto en profundidad esta ampliamente regulada por mecanismos físic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Disminuye la solubilidad al aumentar la temperatur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4 Imagen" descr="grafico 2 copiar.jpg"/>
          <p:cNvPicPr/>
          <p:nvPr/>
        </p:nvPicPr>
        <p:blipFill>
          <a:blip r:embed="rId1"/>
          <a:stretch/>
        </p:blipFill>
        <p:spPr>
          <a:xfrm>
            <a:off x="4610160" y="1413000"/>
            <a:ext cx="4533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79280" y="1197000"/>
            <a:ext cx="3745080" cy="52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Oxígeno epilimnetico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luctúa debido al balance fotosíntesis-respiración y la mezcla del viento.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Oxígeno hipolimnetico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isminuye por la respiración y procesos de oxidación y puede llegar a ser un hipolimnion anaerobio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5640" y="404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. ESTRATIFICACIÓN  DE VERAN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6 Imagen" descr="grafico 4 copiar.jpg"/>
          <p:cNvPicPr/>
          <p:nvPr/>
        </p:nvPicPr>
        <p:blipFill>
          <a:blip r:embed="rId1"/>
          <a:stretch/>
        </p:blipFill>
        <p:spPr>
          <a:xfrm>
            <a:off x="4071960" y="1811160"/>
            <a:ext cx="5072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24000" y="1484280"/>
            <a:ext cx="360036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xígeno  epilimnetic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minuye suavemente a medida que el agua con poco oxígeno se mezcla en la superfici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xígeno hipolimnetic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inua disminuyend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95280" y="333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. QUIEBRE DE LA ESTRATIFICACIÓN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3 Imagen" descr="grafico 5 copiar.jpg"/>
          <p:cNvPicPr/>
          <p:nvPr/>
        </p:nvPicPr>
        <p:blipFill>
          <a:blip r:embed="rId1"/>
          <a:stretch/>
        </p:blipFill>
        <p:spPr>
          <a:xfrm>
            <a:off x="4716360" y="1413000"/>
            <a:ext cx="411480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2 Imagen" descr="grafico6 copiar.jpg"/>
          <p:cNvPicPr/>
          <p:nvPr/>
        </p:nvPicPr>
        <p:blipFill>
          <a:blip r:embed="rId1"/>
          <a:stretch/>
        </p:blipFill>
        <p:spPr>
          <a:xfrm>
            <a:off x="528480" y="1214280"/>
            <a:ext cx="7874280" cy="473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3214440"/>
            <a:ext cx="675792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2 Imagen" descr="grafico 7 copiar.jpg"/>
          <p:cNvPicPr/>
          <p:nvPr/>
        </p:nvPicPr>
        <p:blipFill>
          <a:blip r:embed="rId1"/>
          <a:stretch/>
        </p:blipFill>
        <p:spPr>
          <a:xfrm>
            <a:off x="571680" y="1268280"/>
            <a:ext cx="7786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5 Imagen" descr="grafico8 copiar.jpg"/>
          <p:cNvPicPr/>
          <p:nvPr/>
        </p:nvPicPr>
        <p:blipFill>
          <a:blip r:embed="rId1"/>
          <a:stretch/>
        </p:blipFill>
        <p:spPr>
          <a:xfrm>
            <a:off x="4819680" y="1197000"/>
            <a:ext cx="4324320" cy="5411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50920" y="1071720"/>
            <a:ext cx="432108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a &gt;4 ºC because of leftover summer hea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xígeno &lt;100% debido a la respiración en el hipolimn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xígeno tiende al100% de saturación por la acción del vient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o, si el hielo se forma tempranamente, todo el lago puede no llegar a la saturación dr oxígeno disuelto de 100%,  '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ter oxygen deb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' (deuda invernal de oxígeno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746480" y="134136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9966"/>
                </a:solidFill>
                <a:latin typeface="Arial"/>
                <a:ea typeface="Arial"/>
              </a:rPr>
              <a:t>Oxíge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796000" y="1341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Arial"/>
                <a:ea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5 Rectángulo"/>
          <p:cNvSpPr/>
          <p:nvPr/>
        </p:nvSpPr>
        <p:spPr>
          <a:xfrm>
            <a:off x="1496880" y="260280"/>
            <a:ext cx="57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CIRCULACIÓN DE OTOÑ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324000" y="1125360"/>
            <a:ext cx="331128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 </a:t>
            </a:r>
            <a:br>
              <a:rPr sz="18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ratificación Invers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respiración más intensa ocurre en y cerca de los sedimentos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  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inter kills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posible muerte invernal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8360" y="40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F. INVIER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4 Imagen" descr="grafico 9 copiar.jpg"/>
          <p:cNvPicPr/>
          <p:nvPr/>
        </p:nvPicPr>
        <p:blipFill>
          <a:blip r:embed="rId1"/>
          <a:stretch/>
        </p:blipFill>
        <p:spPr>
          <a:xfrm>
            <a:off x="4006800" y="1197000"/>
            <a:ext cx="51372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specialmente en los dimícticos eutróficos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4 Imagen" descr="grafico 10 copiar.jpg"/>
          <p:cNvPicPr/>
          <p:nvPr/>
        </p:nvPicPr>
        <p:blipFill>
          <a:blip r:embed="rId1"/>
          <a:stretch/>
        </p:blipFill>
        <p:spPr>
          <a:xfrm>
            <a:off x="142920" y="2571840"/>
            <a:ext cx="4381560" cy="2643120"/>
          </a:xfrm>
          <a:prstGeom prst="rect">
            <a:avLst/>
          </a:prstGeom>
          <a:ln w="0">
            <a:noFill/>
          </a:ln>
        </p:spPr>
      </p:pic>
      <p:pic>
        <p:nvPicPr>
          <p:cNvPr id="144" name="6 Imagen" descr="grafico 11 copiar.jpg"/>
          <p:cNvPicPr/>
          <p:nvPr/>
        </p:nvPicPr>
        <p:blipFill>
          <a:blip r:embed="rId2"/>
          <a:stretch/>
        </p:blipFill>
        <p:spPr>
          <a:xfrm>
            <a:off x="4572000" y="2571840"/>
            <a:ext cx="4348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57160" y="500040"/>
            <a:ext cx="7491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XÍGENO DISUELTO (O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istribución del oxígeno en los lagos es esencial para compren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La distribu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El comportamiento y el crecimiento fisiológico de los organismos acuáticos.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URVAS DE OXÍGENO DISUELT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79280" y="1413000"/>
            <a:ext cx="41767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RMA CLINOGRAD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éficit del oxígeno Hipolimnetic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respiración y la descomposición aumenta a medida que aumenta la productividad del lag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6 Imagen" descr="grafico 12 copiar.jpg"/>
          <p:cNvPicPr/>
          <p:nvPr/>
        </p:nvPicPr>
        <p:blipFill>
          <a:blip r:embed="rId1"/>
          <a:stretch/>
        </p:blipFill>
        <p:spPr>
          <a:xfrm>
            <a:off x="4545000" y="1916280"/>
            <a:ext cx="459900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50920" y="1484280"/>
            <a:ext cx="453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ayor concentración de oxígeno Metalimnético e Hipolimnétic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lagos poco productivos, oligotróficos, pobres en nutrientes y escasa producción orgánic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4 Imagen" descr="grafico 13 copiar.jpg"/>
          <p:cNvPicPr/>
          <p:nvPr/>
        </p:nvPicPr>
        <p:blipFill>
          <a:blip r:embed="rId1"/>
          <a:stretch/>
        </p:blipFill>
        <p:spPr>
          <a:xfrm>
            <a:off x="5003640" y="1557360"/>
            <a:ext cx="4140360" cy="4127400"/>
          </a:xfrm>
          <a:prstGeom prst="rect">
            <a:avLst/>
          </a:prstGeom>
          <a:ln w="0">
            <a:noFill/>
          </a:ln>
        </p:spPr>
      </p:pic>
      <p:sp>
        <p:nvSpPr>
          <p:cNvPr id="151" name="4 Rectángulo"/>
          <p:cNvSpPr/>
          <p:nvPr/>
        </p:nvSpPr>
        <p:spPr>
          <a:xfrm>
            <a:off x="755640" y="33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B. FORMA ORTOGRAD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Aberg y Rodhe, 1942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basins of same surface area, with differing volumes"/>
          <p:cNvPicPr/>
          <p:nvPr/>
        </p:nvPicPr>
        <p:blipFill>
          <a:blip r:embed="rId1"/>
          <a:stretch/>
        </p:blipFill>
        <p:spPr>
          <a:xfrm>
            <a:off x="4859280" y="4508640"/>
            <a:ext cx="2185920" cy="21859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53" name="9 Imagen" descr="grafico 12 copiar.jpg"/>
          <p:cNvPicPr/>
          <p:nvPr/>
        </p:nvPicPr>
        <p:blipFill>
          <a:blip r:embed="rId2"/>
          <a:stretch/>
        </p:blipFill>
        <p:spPr>
          <a:xfrm>
            <a:off x="0" y="0"/>
            <a:ext cx="3714840" cy="3316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1928880" y="20001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514"/>
                </a:solidFill>
                <a:latin typeface="Arial"/>
                <a:ea typeface="Arial"/>
              </a:rPr>
              <a:t>Clinogra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4 Imagen" descr="grafico 13 copiar.jpg"/>
          <p:cNvPicPr/>
          <p:nvPr/>
        </p:nvPicPr>
        <p:blipFill>
          <a:blip r:embed="rId3"/>
          <a:stretch/>
        </p:blipFill>
        <p:spPr>
          <a:xfrm>
            <a:off x="0" y="3357720"/>
            <a:ext cx="3714840" cy="33415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286000" y="6215040"/>
            <a:ext cx="14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514"/>
                </a:solidFill>
                <a:latin typeface="Arial"/>
                <a:ea typeface="Arial"/>
              </a:rPr>
              <a:t>Ortogra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7 Rectángulo"/>
          <p:cNvSpPr/>
          <p:nvPr/>
        </p:nvSpPr>
        <p:spPr>
          <a:xfrm>
            <a:off x="4067280" y="260280"/>
            <a:ext cx="457200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LAGOS OLIGOTRÓFICO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aja producción y respiración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ta solubilidad del oxígeno debido a la baja temperatura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s lagos que tienen la misma productividad, uno puede ser  clinogrado y el otro ortogrado basado en la forma de la cuenca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50920" y="765000"/>
            <a:ext cx="4608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usada por la fotosíntesis a nivel de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rmoclin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penetración de la luz al metalimnion,  donde hay una baja mezcla, permaneciendo el oxígeno en el lugar de producció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guna entrada de nutrientes desde el hipolimnion aumenta el crecimient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sde el  hipolimnion aumenta el crecimien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ep chlorophyll layer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estrato profundo de clorofila depende de la transparencia del agua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de también estar causado por la entrada de oxígeno de agua de río más densa que la de superfici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3 Imagen" descr="grafico 14 copiar.jpg"/>
          <p:cNvPicPr/>
          <p:nvPr/>
        </p:nvPicPr>
        <p:blipFill>
          <a:blip r:embed="rId1"/>
          <a:stretch/>
        </p:blipFill>
        <p:spPr>
          <a:xfrm>
            <a:off x="4924440" y="1197000"/>
            <a:ext cx="4219560" cy="4896000"/>
          </a:xfrm>
          <a:prstGeom prst="rect">
            <a:avLst/>
          </a:prstGeom>
          <a:ln w="0">
            <a:noFill/>
          </a:ln>
        </p:spPr>
      </p:pic>
      <p:sp>
        <p:nvSpPr>
          <p:cNvPr id="160" name="3 Rectángulo"/>
          <p:cNvSpPr/>
          <p:nvPr/>
        </p:nvSpPr>
        <p:spPr>
          <a:xfrm>
            <a:off x="1232280" y="18900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URVA HETEROGRADA POSITIV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68360" y="1413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or lo general son lagos relativamente profun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e área superficial pequeña. Zr&lt;2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otegidos de la acción del viento (montañas o vegetació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11280" y="26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CURVAS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HETEROGRADAS POSITIV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0" y="404640"/>
            <a:ext cx="48592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producirse debido a la respiración efectuada por algas durante la noche, o la respiración de un denso estrato de zooplancton; pero también puede ser causado por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 gradiente de densidad – lluvia de detritus alóctono con permanente sediment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'marine snow')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á aquietado por el gradiente de densidad alrededor de la termocl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ayor respiración de la materia orgá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(la cual puede ser retirada del lugar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orfología; A menor pendiente a nivel del metalimnion el agua de esta zona presentará un % de contacto mucho mayor con los sedimento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3 Imagen" descr="grafico 15 copiar.jpg"/>
          <p:cNvPicPr/>
          <p:nvPr/>
        </p:nvPicPr>
        <p:blipFill>
          <a:blip r:embed="rId1"/>
          <a:stretch/>
        </p:blipFill>
        <p:spPr>
          <a:xfrm>
            <a:off x="4978440" y="836640"/>
            <a:ext cx="4165560" cy="3168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5005440" y="4149720"/>
            <a:ext cx="4138560" cy="2519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5003640" y="5661000"/>
            <a:ext cx="12240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514"/>
                </a:solidFill>
                <a:latin typeface="Arial"/>
                <a:ea typeface="Arial"/>
              </a:rPr>
              <a:t>Plataforma estrecha y plana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5 Rectángulo"/>
          <p:cNvSpPr/>
          <p:nvPr/>
        </p:nvSpPr>
        <p:spPr>
          <a:xfrm>
            <a:off x="2270520" y="189000"/>
            <a:ext cx="47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ETEROGRAD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EGATIV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. CICLO DIARIO DEL CONTENIDO DE OXÍGENO EPILIMNET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7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4" descr="example of diurnal (diel) cycle of oxygen concentrations in water"/>
          <p:cNvPicPr/>
          <p:nvPr/>
        </p:nvPicPr>
        <p:blipFill>
          <a:blip r:embed="rId1"/>
          <a:stretch/>
        </p:blipFill>
        <p:spPr>
          <a:xfrm>
            <a:off x="1495440" y="1773360"/>
            <a:ext cx="5956200" cy="397800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  <p:sp>
        <p:nvSpPr>
          <p:cNvPr id="170" name="Text Box 7"/>
          <p:cNvSpPr/>
          <p:nvPr/>
        </p:nvSpPr>
        <p:spPr>
          <a:xfrm>
            <a:off x="1835280" y="436572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619280" y="4581360"/>
            <a:ext cx="1081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medianoch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2266920" y="4797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482920" y="5013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2698920" y="522936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2914560" y="5445000"/>
            <a:ext cx="8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2700360" y="4581360"/>
            <a:ext cx="93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amanec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851280" y="4581360"/>
            <a:ext cx="1039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tar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5079240" y="4581360"/>
            <a:ext cx="82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atardec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6086160" y="4581360"/>
            <a:ext cx="1014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medianoch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. DÉFICIT DE OXÍGENO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¿Cuánto oxígeno es requerido por la descomposición del material que cae desde la zona productiva, la zona Trofogénica, a la zona Trofolítica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cantidad de oxígeno consumido por los procesos de descomposición en el hipolimnion permite estimar la productividad de un lago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23640" y="1773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eríodo de Estratificación de verano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-  El mismo perfil térmico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Qué lago es m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productivo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4" descr="oxygen curves of two lakes differing in productivity"/>
          <p:cNvPicPr/>
          <p:nvPr/>
        </p:nvPicPr>
        <p:blipFill>
          <a:blip r:embed="rId1"/>
          <a:stretch/>
        </p:blipFill>
        <p:spPr>
          <a:xfrm>
            <a:off x="5106960" y="2820960"/>
            <a:ext cx="4037040" cy="40370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84" name="4 Rectángulo"/>
          <p:cNvSpPr/>
          <p:nvPr/>
        </p:nvSpPr>
        <p:spPr>
          <a:xfrm>
            <a:off x="250920" y="26028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INTEGRACIÓN DE LOS PERFILES DE TEMPERATURA Y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5 Rectángulo"/>
          <p:cNvSpPr/>
          <p:nvPr/>
        </p:nvSpPr>
        <p:spPr>
          <a:xfrm>
            <a:off x="413280" y="162864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. Ejemplo lago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.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la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2.</a:t>
            </a:r>
            <a:br>
              <a:rPr sz="32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94920" y="76500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gos 1 y 2 tienen la misma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. Productividad 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i. Profundidad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ii. Transparencia/ Penetración de la luz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¿Por qué hay dos comportamientos diferentes?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4" descr="temperature and oxygen profiles of two lakes differing in thermocline depth"/>
          <p:cNvPicPr/>
          <p:nvPr/>
        </p:nvPicPr>
        <p:blipFill>
          <a:blip r:embed="rId1"/>
          <a:stretch/>
        </p:blipFill>
        <p:spPr>
          <a:xfrm>
            <a:off x="1979640" y="3500280"/>
            <a:ext cx="5594400" cy="335772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XÍGENO DISUEL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istribución del oxígeno en los lagos influye 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La solubilidad de la gran mayoría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os nutrientes inorgánic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9884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.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lago 4. 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res veces, cada un día separadamente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- Tiene lugar un cambio en oxígeno y no la temperatura. 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e5e5ff"/>
                </a:solidFill>
                <a:latin typeface="Arial"/>
                <a:ea typeface="Arial"/>
              </a:rPr>
              <a:t>    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¿Qué causa esto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0" name="Picture 3" descr="temperature and oxygen profiles of a lake on three consecutive days"/>
          <p:cNvPicPr/>
          <p:nvPr/>
        </p:nvPicPr>
        <p:blipFill>
          <a:blip r:embed="rId1"/>
          <a:stretch/>
        </p:blipFill>
        <p:spPr>
          <a:xfrm>
            <a:off x="684360" y="3525840"/>
            <a:ext cx="7775280" cy="333216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.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Río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2" name="Picture 3" descr="oxygen and temperature profiles in a river"/>
          <p:cNvPicPr/>
          <p:nvPr/>
        </p:nvPicPr>
        <p:blipFill>
          <a:blip r:embed="rId1"/>
          <a:stretch/>
        </p:blipFill>
        <p:spPr>
          <a:xfrm>
            <a:off x="1619280" y="2276640"/>
            <a:ext cx="6124680" cy="367488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ECANISMOS DE CONTROL DE LA CONCENTRACIÓN DE OXÍGENO DISUELTO EN LAG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Oxígeno disuelto procedente de la atmósfer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Oxígeno disuelto producido por fotosíntes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Distribución hidromecánica del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Metabolismo del consumo de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497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FECTOS DE LA REGULACIÓN DE LA DISPONIBILIDAD DE NUTRIENTES POR EL CONTENIDO DE OXÍGENO DISUELT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640" y="213372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os cambios en la distribución de nutrientes provocan un crecimiento rápido de muchos organism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i los cambios se prolongan, la productividad del lago puede variar radicalmente y mantener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OLUBILIDAD DE LOS GASES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341000"/>
            <a:ext cx="882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Depende de la temperatura. De la presión parcial atmosférica, por lo tanto de la altitud a la que se encuentra el sistema lacustr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La cantidad de gas que permanece disuelto depende de la presión atmosférica, las condiciones meteorológicas y la presión hidrostática de cada profundidad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= P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(superficie)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+ 0,0967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Presión real (atm.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DE OXÍGENO SE VE AFECTADA POR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salinidad reduce la solubilidad del oxígeno en el agu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solubilidad no disminuye en forma exponencial al aumentar el contenido de s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ÉTODO DE ESTIMACIÓN DE LA CONCENTRACIÓN DE OXÍGEN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étodo de Winkl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Por una doble oxidación se captura todo el oxígeno disuelto disponible en la muestra de agu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eterminación se realiza potenciométricamente o colorimétricamen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1736640"/>
            <a:ext cx="820908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Arial"/>
                <a:ea typeface="Arial"/>
              </a:rPr>
              <a:t>Distribución del oxígeno disuelto en los lagos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5:05:33Z</dcterms:created>
  <dc:creator>RAQUEL</dc:creator>
  <dc:description/>
  <dc:language>en-US</dc:language>
  <cp:lastModifiedBy>usuario</cp:lastModifiedBy>
  <dcterms:modified xsi:type="dcterms:W3CDTF">2011-12-20T07:11:09Z</dcterms:modified>
  <cp:revision>93</cp:revision>
  <dc:subject/>
  <dc:title>Diapositiva 1</dc:title>
</cp:coreProperties>
</file>