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87B7-25ED-4DA4-9712-DFEFF8DD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8A4A-995E-4C08-BF27-7AC9EF6D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42C6-6EB3-4032-8E8A-13017F65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155C-260E-4166-9A86-3AEA6A64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EDBF-FF17-402F-B46D-EA914545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7612-32B6-459B-A9F0-4F5D7806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7D5C-109C-42B6-9BB3-4007AC03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98D-7941-4742-A6A3-26F22A44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8022-B640-4DDF-8BDA-72475DC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CDFC-F591-4D9B-9040-5FB8C795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9989-D969-4918-AAC2-22196E3C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BA0C-087D-4F3D-88B4-80CCB4BB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7CD9-6062-4AE2-A349-8E96965D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069C-C605-4B30-9A81-BFA5CB71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C6FC-915A-476D-B4E7-8652A0F5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5AA9-BA48-41F3-B82F-8302679C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95E1-15D8-458D-BAE4-94DFE273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F2865-5473-49B7-93A9-F39638EC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0977-AB7B-439E-8694-BFB2D4E0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36E3-88BD-4369-B5F4-4AB25AB1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BD67-C57F-4170-9B7E-CFE387C2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94C9-C8A6-4D98-B86A-6BE44FC0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26DC-DCDD-41CF-AE85-3548862E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47BB-262F-4C90-9B11-11BFB7B3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4719-3C63-4429-82F7-BCDE81CA357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8B23-3C9D-42E3-8B5B-560ECC0CAB1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cu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514"/>
                </a:solidFill>
                <a:latin typeface="Arial"/>
                <a:ea typeface="Arial"/>
              </a:rPr>
              <a:t>OXÍGENO DISUELTO Y CARBONO INORGÁNIC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"/>
          <p:cNvSpPr/>
          <p:nvPr/>
        </p:nvSpPr>
        <p:spPr>
          <a:xfrm>
            <a:off x="75564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tribución vertical de la concentración de oxígeno y temperatura anual en dos lagos dimícticos: uno oligotrófico y otro eutrófic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4 Marcador de contenido" descr="estratificacion y mezcla copiar.jpg"/>
          <p:cNvPicPr/>
          <p:nvPr/>
        </p:nvPicPr>
        <p:blipFill>
          <a:blip r:embed="rId1"/>
          <a:stretch/>
        </p:blipFill>
        <p:spPr>
          <a:xfrm>
            <a:off x="1042920" y="1413000"/>
            <a:ext cx="7013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 Imagen" descr="grafico1 copiar.jpg"/>
          <p:cNvPicPr/>
          <p:nvPr/>
        </p:nvPicPr>
        <p:blipFill>
          <a:blip r:embed="rId1"/>
          <a:stretch/>
        </p:blipFill>
        <p:spPr>
          <a:xfrm>
            <a:off x="4489560" y="1197000"/>
            <a:ext cx="4654440" cy="457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345680" y="333360"/>
            <a:ext cx="62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CIRCULACIÓN PRIMAV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236000" y="126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6400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206064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ideal de 100% de saturación depende del control físico de difusión, mezcla y satu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. ESTRATIFICACIÓN DE VERANO EN UN LAGO OLIGOTRÓFICO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0920" y="2205000"/>
            <a:ext cx="4249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disuelto en profundidad esta ampliamente regulada por mecanismos físic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solubilidad al aumentar la temperatu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4 Imagen" descr="grafico 2 copiar.jpg"/>
          <p:cNvPicPr/>
          <p:nvPr/>
        </p:nvPicPr>
        <p:blipFill>
          <a:blip r:embed="rId1"/>
          <a:stretch/>
        </p:blipFill>
        <p:spPr>
          <a:xfrm>
            <a:off x="4610160" y="1413000"/>
            <a:ext cx="453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197000"/>
            <a:ext cx="37450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epi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luctúa debido al balance fotosíntesis-respiración y la mezcla del viento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minuye por la respiración y procesos de oxidación y puede llegar a ser un hipolimnion anaerobio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. ESTRATIFICACIÓN  DE VERAN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6 Imagen" descr="grafico 4 copiar.jpg"/>
          <p:cNvPicPr/>
          <p:nvPr/>
        </p:nvPicPr>
        <p:blipFill>
          <a:blip r:embed="rId1"/>
          <a:stretch/>
        </p:blipFill>
        <p:spPr>
          <a:xfrm>
            <a:off x="4071960" y="1811160"/>
            <a:ext cx="507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24000" y="1484280"/>
            <a:ext cx="36003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 epi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ye suavemente a medida que el agua con poco oxígeno se mezcla en la superfic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 disminuye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. QUIEBRE DE LA ESTRATIFICACIÓN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3 Imagen" descr="grafico 5 copiar.jpg"/>
          <p:cNvPicPr/>
          <p:nvPr/>
        </p:nvPicPr>
        <p:blipFill>
          <a:blip r:embed="rId1"/>
          <a:stretch/>
        </p:blipFill>
        <p:spPr>
          <a:xfrm>
            <a:off x="4716360" y="1413000"/>
            <a:ext cx="41148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 Imagen" descr="grafico6 copiar.jpg"/>
          <p:cNvPicPr/>
          <p:nvPr/>
        </p:nvPicPr>
        <p:blipFill>
          <a:blip r:embed="rId1"/>
          <a:stretch/>
        </p:blipFill>
        <p:spPr>
          <a:xfrm>
            <a:off x="528480" y="1214280"/>
            <a:ext cx="7874280" cy="473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214440"/>
            <a:ext cx="675792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 Imagen" descr="grafico 7 copiar.jpg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5 Imagen" descr="grafico8 copiar.jpg"/>
          <p:cNvPicPr/>
          <p:nvPr/>
        </p:nvPicPr>
        <p:blipFill>
          <a:blip r:embed="rId1"/>
          <a:stretch/>
        </p:blipFill>
        <p:spPr>
          <a:xfrm>
            <a:off x="4819680" y="1197000"/>
            <a:ext cx="4324320" cy="5411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071720"/>
            <a:ext cx="4321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a &gt;4 ºC because of leftover summer hea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&lt;100% debido a la respiración en el hipolimn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tiende al100% de saturación por la acción del vient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o, si el hielo se forma tempranamente, todo el lago puede no llegar a la saturación dr oxígeno disuelto de 100%,  '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oxygen deb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 (deuda invernal de oxígen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746480" y="134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96000" y="134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1496880" y="26028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CIRCULACIÓN DE OTOÑ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24000" y="1125360"/>
            <a:ext cx="3311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br>
              <a:rPr sz="18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ratificación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más intensa ocurre en y cerca de los sediment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inter kill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posible muerte invernal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. INVI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4 Imagen" descr="grafico 9 copiar.jpg"/>
          <p:cNvPicPr/>
          <p:nvPr/>
        </p:nvPicPr>
        <p:blipFill>
          <a:blip r:embed="rId1"/>
          <a:stretch/>
        </p:blipFill>
        <p:spPr>
          <a:xfrm>
            <a:off x="4006800" y="1197000"/>
            <a:ext cx="5137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pecialmente en los dimícticos eutrófico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4 Imagen" descr="grafico 10 copiar.jpg"/>
          <p:cNvPicPr/>
          <p:nvPr/>
        </p:nvPicPr>
        <p:blipFill>
          <a:blip r:embed="rId1"/>
          <a:stretch/>
        </p:blipFill>
        <p:spPr>
          <a:xfrm>
            <a:off x="142920" y="2571840"/>
            <a:ext cx="43815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6 Imagen" descr="grafico 11 copiar.jpg"/>
          <p:cNvPicPr/>
          <p:nvPr/>
        </p:nvPicPr>
        <p:blipFill>
          <a:blip r:embed="rId2"/>
          <a:stretch/>
        </p:blipFill>
        <p:spPr>
          <a:xfrm>
            <a:off x="4572000" y="2571840"/>
            <a:ext cx="4348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57160" y="500040"/>
            <a:ext cx="7491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 (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es esencial para compren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distribu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El comportamiento y el crecimiento fisiológico de los organismos acuáticos.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URVAS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1413000"/>
            <a:ext cx="4176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 CLINOGRA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éficit del oxígeno Hipolimnetic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y la descomposición aumenta a medida que aumenta la productividad del lag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6 Imagen" descr="grafico 12 copiar.jpg"/>
          <p:cNvPicPr/>
          <p:nvPr/>
        </p:nvPicPr>
        <p:blipFill>
          <a:blip r:embed="rId1"/>
          <a:stretch/>
        </p:blipFill>
        <p:spPr>
          <a:xfrm>
            <a:off x="4545000" y="1916280"/>
            <a:ext cx="459900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0920" y="1484280"/>
            <a:ext cx="453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concentración de oxígeno Metalimnético e Hipolimnétic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lagos poco productivos, oligotróficos, pobres en nutrientes y escasa producción orgáni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4 Imagen" descr="grafico 13 copiar.jpg"/>
          <p:cNvPicPr/>
          <p:nvPr/>
        </p:nvPicPr>
        <p:blipFill>
          <a:blip r:embed="rId1"/>
          <a:stretch/>
        </p:blipFill>
        <p:spPr>
          <a:xfrm>
            <a:off x="5003640" y="1557360"/>
            <a:ext cx="4140360" cy="41274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755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. FORMA ORTOGR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berg y Rodhe, 194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basins of same surface area, with differing volumes"/>
          <p:cNvPicPr/>
          <p:nvPr/>
        </p:nvPicPr>
        <p:blipFill>
          <a:blip r:embed="rId1"/>
          <a:stretch/>
        </p:blipFill>
        <p:spPr>
          <a:xfrm>
            <a:off x="4859280" y="4508640"/>
            <a:ext cx="2185920" cy="21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53" name="9 Imagen" descr="grafico 12 copiar.jpg"/>
          <p:cNvPicPr/>
          <p:nvPr/>
        </p:nvPicPr>
        <p:blipFill>
          <a:blip r:embed="rId2"/>
          <a:stretch/>
        </p:blipFill>
        <p:spPr>
          <a:xfrm>
            <a:off x="0" y="0"/>
            <a:ext cx="3714840" cy="3316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28880" y="20001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Clin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4 Imagen" descr="grafico 13 copiar.jpg"/>
          <p:cNvPicPr/>
          <p:nvPr/>
        </p:nvPicPr>
        <p:blipFill>
          <a:blip r:embed="rId3"/>
          <a:stretch/>
        </p:blipFill>
        <p:spPr>
          <a:xfrm>
            <a:off x="0" y="3357720"/>
            <a:ext cx="3714840" cy="3341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286000" y="62150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Ort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7 Rectángulo"/>
          <p:cNvSpPr/>
          <p:nvPr/>
        </p:nvSpPr>
        <p:spPr>
          <a:xfrm>
            <a:off x="4067280" y="260280"/>
            <a:ext cx="4572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GOS OLIGOTRÓF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ja producción y respiración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ta solubilidad del oxígeno debido a la baja temperatur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lagos que tienen la misma productividad, uno puede ser  clinogrado y el otro ortogrado basado en la forma de la cuenc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765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usada por la fotosíntesis a nivel de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rmocl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netración de la luz al metalimnion,  donde hay una baja mezcla, permaneciendo el oxígeno en el lugar de producció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a entrada de nutrientes desde el hipolimnion aumenta el crecimient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de el  hipolimnion aumenta el crecim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ep chlorophyll layer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estrato profundo de clorofila depende de la transparencia del agu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también estar causado por la entrada de oxígeno de agua de río más densa que la de superfici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3 Imagen" descr="grafico 14 copiar.jpg"/>
          <p:cNvPicPr/>
          <p:nvPr/>
        </p:nvPicPr>
        <p:blipFill>
          <a:blip r:embed="rId1"/>
          <a:stretch/>
        </p:blipFill>
        <p:spPr>
          <a:xfrm>
            <a:off x="4924440" y="1197000"/>
            <a:ext cx="42195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3 Rectángulo"/>
          <p:cNvSpPr/>
          <p:nvPr/>
        </p:nvSpPr>
        <p:spPr>
          <a:xfrm>
            <a:off x="1232280" y="18900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RVA HETEROGRADA POSITIV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r lo general son lagos relativamente profun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 área superficial pequeña. Zr&lt;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tegidos de la acción del viento (montañas o vegetació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URVAS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GRADAS POSITIV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404640"/>
            <a:ext cx="4859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producirse debido a la respiración efectuada por algas durante la noche, o la respiración de un denso estrato de zooplancton; pero también puede ser causado por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gradiente de densidad – lluvia de detritus alóctono con permanente sediment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'marine snow')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á aquietado por el gradiente de densidad alrededor de la termoc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respiración de la materia orgá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la cual puede ser retirada del luga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orfología; A menor pendiente a nivel del metalimnion el agua de esta zona presentará un % de contacto mucho mayor con los sediment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3 Imagen" descr="grafico 15 copiar.jpg"/>
          <p:cNvPicPr/>
          <p:nvPr/>
        </p:nvPicPr>
        <p:blipFill>
          <a:blip r:embed="rId1"/>
          <a:stretch/>
        </p:blipFill>
        <p:spPr>
          <a:xfrm>
            <a:off x="4978440" y="836640"/>
            <a:ext cx="41655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005440" y="4149720"/>
            <a:ext cx="413856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5003640" y="5661000"/>
            <a:ext cx="1224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514"/>
                </a:solidFill>
                <a:latin typeface="Arial"/>
                <a:ea typeface="Arial"/>
              </a:rPr>
              <a:t>Plataforma estrecha y plan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5 Rectángulo"/>
          <p:cNvSpPr/>
          <p:nvPr/>
        </p:nvSpPr>
        <p:spPr>
          <a:xfrm>
            <a:off x="2270520" y="18900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ETEROGR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GAT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. CICLO DIARIO DEL CONTENIDO DE OXÍGENO EPILIMNET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example of diurnal (diel) cycle of oxygen concentrations in water"/>
          <p:cNvPicPr/>
          <p:nvPr/>
        </p:nvPicPr>
        <p:blipFill>
          <a:blip r:embed="rId1"/>
          <a:stretch/>
        </p:blipFill>
        <p:spPr>
          <a:xfrm>
            <a:off x="1495440" y="1773360"/>
            <a:ext cx="5956200" cy="397800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  <p:sp>
        <p:nvSpPr>
          <p:cNvPr id="170" name="Text Box 7"/>
          <p:cNvSpPr/>
          <p:nvPr/>
        </p:nvSpPr>
        <p:spPr>
          <a:xfrm>
            <a:off x="1835280" y="436572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19280" y="4581360"/>
            <a:ext cx="10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266920" y="4797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82920" y="5013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698920" y="5229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914560" y="5445000"/>
            <a:ext cx="8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700360" y="458136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man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851280" y="4581360"/>
            <a:ext cx="103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tar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079240" y="4581360"/>
            <a:ext cx="82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tard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086160" y="4581360"/>
            <a:ext cx="1014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. DÉFICIT DE OXÍGEN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uánto oxígeno es requerido por la descomposición del material que cae desde la zona productiva, la zona Trofogénica, a la zona Trofolític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antidad de oxígeno consumido por los procesos de descomposición en el hipolimnion permite estimar la productividad de un lag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íodo de Estratificación de veran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-  El mismo perfil térmic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Qué lago es m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productiv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oxygen curves of two lakes differing in productivity"/>
          <p:cNvPicPr/>
          <p:nvPr/>
        </p:nvPicPr>
        <p:blipFill>
          <a:blip r:embed="rId1"/>
          <a:stretch/>
        </p:blipFill>
        <p:spPr>
          <a:xfrm>
            <a:off x="5106960" y="2820960"/>
            <a:ext cx="4037040" cy="4037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84" name="4 Rectángulo"/>
          <p:cNvSpPr/>
          <p:nvPr/>
        </p:nvSpPr>
        <p:spPr>
          <a:xfrm>
            <a:off x="25092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INTEGRACIÓN DE LOS PERFILES DE TEMPERATURA Y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 Rectángulo"/>
          <p:cNvSpPr/>
          <p:nvPr/>
        </p:nvSpPr>
        <p:spPr>
          <a:xfrm>
            <a:off x="413280" y="16286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. Ejemplo lag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2.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gos 1 y 2 tienen la misma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. Productividad 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. Profundidad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i. Transparencia/ Penetración de la luz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Por qué hay dos comportamientos diferentes?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temperature and oxygen profiles of two lakes differing in thermocline depth"/>
          <p:cNvPicPr/>
          <p:nvPr/>
        </p:nvPicPr>
        <p:blipFill>
          <a:blip r:embed="rId1"/>
          <a:stretch/>
        </p:blipFill>
        <p:spPr>
          <a:xfrm>
            <a:off x="1979640" y="3500280"/>
            <a:ext cx="5594400" cy="335772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influye 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solubilidad de la gran mayoría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os nutrientes inorgánic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8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 4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es veces, cada un día separadamente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- Tiene lugar un cambio en oxígeno y no la temperatura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5e5ff"/>
                </a:solidFill>
                <a:latin typeface="Arial"/>
                <a:ea typeface="Arial"/>
              </a:rPr>
              <a:t>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¿Qué causa esto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0" name="Picture 3" descr="temperature and oxygen profiles of a lake on three consecutive days"/>
          <p:cNvPicPr/>
          <p:nvPr/>
        </p:nvPicPr>
        <p:blipFill>
          <a:blip r:embed="rId1"/>
          <a:stretch/>
        </p:blipFill>
        <p:spPr>
          <a:xfrm>
            <a:off x="684360" y="3525840"/>
            <a:ext cx="7775280" cy="333216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Rí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3" descr="oxygen and temperature profiles in a river"/>
          <p:cNvPicPr/>
          <p:nvPr/>
        </p:nvPicPr>
        <p:blipFill>
          <a:blip r:embed="rId1"/>
          <a:stretch/>
        </p:blipFill>
        <p:spPr>
          <a:xfrm>
            <a:off x="1619280" y="2276640"/>
            <a:ext cx="6124680" cy="367488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ECANISMOS DE CONTROL DE LA CONCENTRACIÓN DE OXÍGENO DISUELTO EN LAG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cedente de la atmósfe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ducido por fotosínte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Distribución hidromecánica del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Metabolismo del consumo de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FECTOS DE LA REGULACIÓN DE LA DISPONIBILIDAD DE NUTRIENTES POR EL CONTENIDO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os cambios en la distribución de nutrientes provocan un crecimiento rápido de muchos organis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i los cambios se prolongan, la productividad del lago puede variar radicalmente y mantener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OLUBILIDAD DE LOS GAS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341000"/>
            <a:ext cx="88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Depende de la temperatura. De la presión parcial atmosférica, por lo tanto de la altitud a la que se encuentra el sistema lacust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La cantidad de gas que permanece disuelto depende de la presión atmosférica, las condiciones meteorológicas y la presión hidrostática de cada profundidad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= 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(superficie)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+ 0,0967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resión real (atm.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SE VE AFECTADA POR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alinidad reduce la solubilidad del oxígeno en el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olubilidad no disminuye en forma exponencial al aumentar el contenido de 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ESTIMACIÓN DE LA CONCENTRACIÓN DE OXÍGEN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Winkl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Por una doble oxidación se captura todo el oxígeno disuelto disponible en la muestra de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eterminación se realiza potenciométricamente o colorimétrica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736640"/>
            <a:ext cx="8209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l oxígeno disuelto en los lagos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05:33Z</dcterms:created>
  <dc:creator>RAQUEL</dc:creator>
  <dc:description/>
  <dc:language>en-US</dc:language>
  <cp:lastModifiedBy>usuario</cp:lastModifiedBy>
  <dcterms:modified xsi:type="dcterms:W3CDTF">2011-12-20T07:11:09Z</dcterms:modified>
  <cp:revision>93</cp:revision>
  <dc:subject/>
  <dc:title>Diapositiva 1</dc:title>
</cp:coreProperties>
</file>