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363-180D-4ABE-9D41-B51CA0F2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EF1-9C75-4832-832B-C72BD8A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76E-98F8-400A-89D9-FCB5BEDB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602-032A-47C8-A836-4B3F8548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675-D41A-4551-846F-207BE28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B7F-F1A3-46DC-887B-1882277C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33F-E69B-4BA4-AE20-22355F7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45D-B1FD-47C8-8F29-B0A32497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184-E284-4200-8FA5-5153694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96B-6E23-4340-AA1C-D69E6A6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582-F876-4877-B634-A231742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669-4CDB-4249-88BA-9B444EC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1640-1BC2-4EE7-9BDA-65212AB4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2376360"/>
            <a:ext cx="6642000" cy="429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553080"/>
            <a:ext cx="908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gure 13-14 </a:t>
            </a:r>
            <a:r>
              <a:rPr b="0" lang="en-US" sz="900" spc="-1" strike="noStrike">
                <a:solidFill>
                  <a:srgbClr val="000000"/>
                </a:solidFill>
                <a:latin typeface="Arial Italic"/>
              </a:rPr>
              <a:t> Molecular Biology of the Cel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47840" y="1452600"/>
            <a:ext cx="6005520" cy="275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4840" y="519120"/>
            <a:ext cx="83692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TPasas Rab son de gran importancia en el reconocimiento inicial de la membrana blanco, de manera similar a  v-snare y las t-snare determinan la especificidad de la dirección de la vesíc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2320" y="214200"/>
            <a:ext cx="833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old"/>
              </a:rPr>
              <a:t>SNAREs: guían el Transporte Vesicular. Acoplamiento y Fusión se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29640" y="441180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copl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520" y="3616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21:15:29Z</dcterms:created>
  <dc:creator>Christian P.</dc:creator>
  <dc:description/>
  <dc:language>en-US</dc:language>
  <cp:lastModifiedBy>Christian P.</cp:lastModifiedBy>
  <dcterms:modified xsi:type="dcterms:W3CDTF">2012-04-06T21:16:10Z</dcterms:modified>
  <cp:revision>1</cp:revision>
  <dc:subject/>
  <dc:title>Diapositiva 1</dc:title>
</cp:coreProperties>
</file>