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10E-03CA-4660-B693-50BA1DCE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004-CDED-4AC8-B5C4-DA4EB33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1DA-7C24-4364-BF2E-C8339C0E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E41-86E5-4279-AC70-B116A48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DF7-9629-437F-B0B0-33E41F3D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ABB-0F9F-4B95-9C3A-8341A27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E19-93A8-4CCA-880D-6CB7709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5FC-82EB-4A80-B462-47FDEE7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C85-629F-4B1F-9A1E-0A4F399F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751-43D0-406B-9D73-37BB85F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C78-0E5B-43C7-AB0E-7B593BBE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EA8-2B16-4D3C-B947-865DCC1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7E29-F82D-4397-9769-B8A7CF9F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376360"/>
            <a:ext cx="6642000" cy="429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553080"/>
            <a:ext cx="908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gure 13-14 </a:t>
            </a:r>
            <a:r>
              <a:rPr b="0" lang="en-US" sz="900" spc="-1" strike="noStrike">
                <a:solidFill>
                  <a:srgbClr val="000000"/>
                </a:solidFill>
                <a:latin typeface="Arial Italic"/>
              </a:rPr>
              <a:t> Molecular Biology of the Cel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47840" y="1452600"/>
            <a:ext cx="6005520" cy="275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4840" y="519120"/>
            <a:ext cx="8369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TPasas Rab son de gran importancia en el reconocimiento inicial de la membrana blanco, de manera similar a  v-snare y las t-snare determinan la especificidad de la dirección de la vesí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2320" y="214200"/>
            <a:ext cx="833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SNAREs: guían el Transporte Vesicular. Acoplamiento y Fusión se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29640" y="441180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copl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520" y="3616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21:15:29Z</dcterms:created>
  <dc:creator>Christian P.</dc:creator>
  <dc:description/>
  <dc:language>en-US</dc:language>
  <cp:lastModifiedBy>Christian P.</cp:lastModifiedBy>
  <dcterms:modified xsi:type="dcterms:W3CDTF">2012-04-06T21:16:10Z</dcterms:modified>
  <cp:revision>1</cp:revision>
  <dc:subject/>
  <dc:title>Diapositiva 1</dc:title>
</cp:coreProperties>
</file>