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F5D-F0A6-4758-B014-8F1B4CD7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645-A42D-4CB9-AD42-266D08C8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9DA-CD34-446F-A017-69C21C97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8D5-120C-47BF-B867-643E254E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2DE-A378-4443-8E6E-56515E41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B85-B96C-48CC-9221-5E984DE9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1D91-9D80-46AA-AF57-6F6A0B4B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201-ED23-4FD5-91C4-EDDB8A67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9DC-4ECD-480F-9C4E-978750F4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CFC-5D72-464A-A3E3-BC25B671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121-FB40-4916-96E0-E4D7CA25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2A1-BFDF-45E7-8C55-A2764D64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030F-934E-4B6D-BCC5-01D0FFADF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2376360"/>
            <a:ext cx="6642000" cy="4292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553080"/>
            <a:ext cx="908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gure 13-14 </a:t>
            </a:r>
            <a:r>
              <a:rPr b="0" lang="en-US" sz="900" spc="-1" strike="noStrike">
                <a:solidFill>
                  <a:srgbClr val="000000"/>
                </a:solidFill>
                <a:latin typeface="Arial Italic"/>
              </a:rPr>
              <a:t> Molecular Biology of the Cel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47840" y="1452600"/>
            <a:ext cx="6005520" cy="275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4840" y="519120"/>
            <a:ext cx="83692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TPasas Rab son de gran importancia en el reconocimiento inicial de la membrana blanco, de manera similar a  v-snare y las t-snare determinan la especificidad de la dirección de la vesíc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2320" y="214200"/>
            <a:ext cx="833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old"/>
              </a:rPr>
              <a:t>SNAREs: guían el Transporte Vesicular. Acoplamiento y Fusión sel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29640" y="4411800"/>
            <a:ext cx="93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copl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8520" y="3616200"/>
            <a:ext cx="103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re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21:15:29Z</dcterms:created>
  <dc:creator>Christian P.</dc:creator>
  <dc:description/>
  <dc:language>en-US</dc:language>
  <cp:lastModifiedBy>Christian P.</cp:lastModifiedBy>
  <dcterms:modified xsi:type="dcterms:W3CDTF">2012-04-06T21:16:10Z</dcterms:modified>
  <cp:revision>1</cp:revision>
  <dc:subject/>
  <dc:title>Diapositiva 1</dc:title>
</cp:coreProperties>
</file>