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1.png" ContentType="image/png"/>
  <Override PartName="/ppt/media/image10.png" ContentType="image/png"/>
  <Override PartName="/ppt/media/image6.jpeg" ContentType="image/jpeg"/>
  <Override PartName="/ppt/media/image9.png" ContentType="image/png"/>
  <Override PartName="/ppt/media/image7.png" ContentType="image/png"/>
  <Override PartName="/ppt/media/image5.jpeg" ContentType="image/jpeg"/>
  <Override PartName="/ppt/media/image8.jpeg" ContentType="image/jpeg"/>
  <Override PartName="/ppt/media/image4.png" ContentType="image/png"/>
  <Override PartName="/ppt/media/image3.png" ContentType="image/png"/>
  <Override PartName="/ppt/media/image23.png" ContentType="image/png"/>
  <Override PartName="/ppt/media/image22.png" ContentType="image/png"/>
  <Override PartName="/ppt/media/image20.png" ContentType="image/png"/>
  <Override PartName="/ppt/media/image21.png" ContentType="image/png"/>
  <Override PartName="/ppt/media/image19.png" ContentType="image/png"/>
  <Override PartName="/ppt/media/image18.jpeg" ContentType="image/jpeg"/>
  <Override PartName="/ppt/media/image1.png" ContentType="image/png"/>
  <Override PartName="/ppt/media/image24.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2.png" ContentType="image/png"/>
  <Override PartName="/ppt/media/image25.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646BC3-FB7B-40CD-AF68-27B2929CAF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791221-74BF-4533-B21A-37E009550D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FEBF09-094C-40BD-818E-6C92EBFD20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602810-8B88-4A31-A468-6D75DEDD62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988AC7-9091-433F-8C79-6E3E31DE5B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1FCECD-44FE-4869-8362-0DA3F94C0F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619A4E-AF4F-4757-B226-ACE035BCD9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C5F9B1-28E8-411F-A97D-7A248E140A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B61447-A41F-4FEB-832D-3ECB02A7F8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D9FDA9-0294-4B85-9F5D-230BCB4A7D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E05335-ACE5-41DC-94D1-C1B91AEF02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532C6E-FC01-4517-950D-5CE9CF8177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4FD6F5-8658-422C-B971-443D3C4C67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31C2AE-A651-4703-BEA0-103A9BF4B7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9D7E1B-BD41-4D31-A805-847A4C9D53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6FCCFE-78C6-4CCD-8ED9-4AA568735E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61C25F-4B84-45F7-98C8-48E47D5386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4DB9BCC-328A-4AD9-8599-23EE4C060CE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84830E-A518-4878-84A8-DE8E2F705D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22F029-90D1-45F8-9B73-3F86E0142B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257D4A-AF62-419A-96BC-11DB4C8B4B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8B2085-2637-428A-ABE0-012B41C9C4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14AE00-9C25-4811-9909-3DD4F24981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64CC7B-403C-4B8D-B5B4-5ECADB5833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B458E5-2D8E-4319-91BE-43407FAFD9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4FB7CA-5128-41EB-96C8-A77A902310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F28899-F2DB-488F-81DF-3C55B88446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AFCDAA-EA19-41AE-AE60-BB1E21AE8E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99D328C-54C5-4362-A790-0CAA605EA59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2882EA5-F050-4AA0-A73A-909727D1DB4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82F292D-2D79-4F35-9F18-DD4AB541D30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A70D02-B65A-4371-A4AC-73E973F80A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DFEA86-28CD-4194-BB65-0A3DE54010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CF05E4-A587-49A5-A600-43F9186344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03520C-EFAB-4560-A850-2F93041005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B4DFB4-CEE7-49BC-80C2-784A95C704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764F57-90F0-4681-B8F8-4A6BD323D9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FC8F27-12E1-4A19-A7B0-A09D0A5A4D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6C1E76-4D3A-4E06-9890-EEF52C8683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FE2D2A-7ADC-482F-A936-10F846EA5D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6CC912-55B7-4828-BF52-6A21C87697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AC099E5-BEEB-4B59-8CD4-247AB7E82BB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55AACBC-AF15-4C94-8B8E-2D9FDE2F96D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E9FEE79-765F-437A-AA0E-1C9E2348BF2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36E491-AAFF-4CD3-BD38-CB4FD277BE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B6C3DC-BD41-468A-A1ED-D94B13F604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1EB61A-CC0A-4546-8158-125F4015D6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E56E5D-0D06-4385-B060-2328E9897B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56E1F5-1173-4009-9D4D-EFBEE17CA6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958E94-CC46-4FC0-AF36-1537D66354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CA2819-B425-4C8E-9DEB-AEC622C79C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7622EB-BE81-43A5-AFE3-2CDB6F5681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EFA9C1-3229-437B-A196-C4AE619DDB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19B227-9077-4F5E-9434-DA984967C5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0C52C8E-C363-4A5C-BEA8-35ED0FA4307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67BB22-1EF1-4EAB-B8B4-B42DB3E7CA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CDEECF0-9F6E-4506-B53A-F141393F31C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18852AF-8670-468B-BFC1-B34326051AA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DDAD39-DFD2-4810-8507-C2B96196FB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77C19A-ED62-49BF-8ABB-B459D3A96FB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D25CAC-A89D-41EA-BA66-559687B76F7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18B01D-57D8-43E5-A3B1-B01FA9264F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F98B99-6271-467E-89D0-8A0FC73CC5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E2A905-2507-44FD-A146-DC6730C3D6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FE1EF0-CB88-4E51-984E-40A99AC604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5543FE-2028-4DB6-AA6A-13A537E0FA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4E534-789C-4608-A5B1-2847A846B0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09B43F-FE07-4F06-97FA-73CAFD35C7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B198F4C-7592-4AB7-99F8-5D4FA357441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BB2100E-CED0-4D8F-A105-769BBED88A3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935AC0B-AA6D-4A0F-B5C8-439F6181B88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F3D399-6B67-42DD-9596-48D01C67F7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6A75C2-7584-4427-A22E-D16033B965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07C436-79A6-4E42-A1CB-E521DADE40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0C2D92-476E-4593-A8B4-BADB4A1CB9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4FE9EA-D999-40AC-A9D6-69E9B04783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A05C05-68C2-4139-8F4B-ABB745608D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F271E-2FE2-4B5A-AFB4-580ABBE86A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D89DA7-B8AD-44B9-A2C9-3D66805D75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E21360-7889-4418-8D8F-0DB95A51B3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EDEA3E3-7F8D-4D82-B410-5F3B69993F9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3A5043A-645B-4FA6-9227-41DF5481DB3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83B1120-13E6-4BA7-AEB1-F195B137923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5252989-F83C-4B5F-A1F3-A9119BE3582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A81C422-54B5-469D-9EAB-A593799D302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B6EC73B-1CE1-4DE6-8E90-05E66C2FB4F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2CDD1D1-F6B1-4A23-BC22-0B8749B84D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4047402-DCD2-4DB8-A6D5-9FB79F647F8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6F876-49CD-4646-8773-95EF4D0AEF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34725F-E304-47EB-9B33-EDD3128133A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BF2F02-AC9C-426A-8602-FFD2802161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52EFB3-4406-4E7B-B8BD-059628AD3A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937268-BCE8-4402-826A-F2C8B996D0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469EF84-1E47-413E-B6F8-4FCEEA43514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0C19643-ECF9-44FF-9606-956BBB52624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A1D3D10-BD85-43DD-B406-928A27FB8548}"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13 Triángulo rectángulo"/>
          <p:cNvGrpSpPr/>
          <p:nvPr/>
        </p:nvGrpSpPr>
        <p:grpSpPr>
          <a:xfrm>
            <a:off x="-12600" y="5784840"/>
            <a:ext cx="3414600" cy="1092240"/>
            <a:chOff x="-12600" y="5784840"/>
            <a:chExt cx="3414600" cy="1092240"/>
          </a:xfrm>
        </p:grpSpPr>
        <p:pic>
          <p:nvPicPr>
            <p:cNvPr id="3" name="13 Triángulo rectángulo"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14 Conector recto"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30698-CCE1-4B1B-952D-40FD7568E888}"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0 Triángulo rectángulo"/>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15 Grupo"/>
          <p:cNvGrpSpPr/>
          <p:nvPr/>
        </p:nvGrpSpPr>
        <p:grpSpPr>
          <a:xfrm>
            <a:off x="-3240" y="4952880"/>
            <a:ext cx="9147240" cy="1911600"/>
            <a:chOff x="-3240" y="4952880"/>
            <a:chExt cx="9147240" cy="1911600"/>
          </a:xfrm>
        </p:grpSpPr>
        <p:sp>
          <p:nvSpPr>
            <p:cNvPr id="49" name="16 Forma libre"/>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18 Forma libre"/>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19 Forma libre"/>
            <p:cNvGrpSpPr/>
            <p:nvPr/>
          </p:nvGrpSpPr>
          <p:grpSpPr>
            <a:xfrm>
              <a:off x="2520" y="4992120"/>
              <a:ext cx="9141480" cy="1872360"/>
              <a:chOff x="2520" y="4992120"/>
              <a:chExt cx="9141480" cy="1872360"/>
            </a:xfrm>
          </p:grpSpPr>
          <p:pic>
            <p:nvPicPr>
              <p:cNvPr id="52" name="19 Forma libre"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20 Conector recto"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0B8AC-45AA-4987-BD1C-8C3A59D08654}" type="slidenum">
              <a:rPr b="0" lang="es-CL"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13 Triángulo rectángulo"/>
          <p:cNvGrpSpPr/>
          <p:nvPr/>
        </p:nvGrpSpPr>
        <p:grpSpPr>
          <a:xfrm>
            <a:off x="-12600" y="5784840"/>
            <a:ext cx="3414600" cy="1092240"/>
            <a:chOff x="-12600" y="5784840"/>
            <a:chExt cx="3414600" cy="1092240"/>
          </a:xfrm>
        </p:grpSpPr>
        <p:pic>
          <p:nvPicPr>
            <p:cNvPr id="99" name="13 Triángulo rectángulo"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14 Conector recto" descr=""/>
          <p:cNvPicPr/>
          <p:nvPr/>
        </p:nvPicPr>
        <p:blipFill>
          <a:blip r:embed="rId4"/>
          <a:stretch/>
        </p:blipFill>
        <p:spPr>
          <a:xfrm>
            <a:off x="-19080" y="5772240"/>
            <a:ext cx="3421080" cy="1109520"/>
          </a:xfrm>
          <a:prstGeom prst="rect">
            <a:avLst/>
          </a:prstGeom>
          <a:ln w="0">
            <a:noFill/>
          </a:ln>
        </p:spPr>
      </p:pic>
      <p:sp>
        <p:nvSpPr>
          <p:cNvPr id="102" name="10 Cheurón"/>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15 Cheurón"/>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2176A-FAE4-42D5-A102-D667CC334DEC}"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13 Triángulo rectángulo"/>
          <p:cNvGrpSpPr/>
          <p:nvPr/>
        </p:nvGrpSpPr>
        <p:grpSpPr>
          <a:xfrm>
            <a:off x="-12600" y="5784840"/>
            <a:ext cx="3414600" cy="1092240"/>
            <a:chOff x="-12600" y="5784840"/>
            <a:chExt cx="3414600" cy="1092240"/>
          </a:xfrm>
        </p:grpSpPr>
        <p:pic>
          <p:nvPicPr>
            <p:cNvPr id="148" name="13 Triángulo rectángulo"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14 Conector recto"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59185-C232-4434-8FD2-F1C2AA9DBC06}"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F5C6B-2C18-464C-A553-F91A9CADA1CD}"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13 Triángulo rectángulo"/>
          <p:cNvGrpSpPr/>
          <p:nvPr/>
        </p:nvGrpSpPr>
        <p:grpSpPr>
          <a:xfrm>
            <a:off x="-12600" y="5784840"/>
            <a:ext cx="3414600" cy="1092240"/>
            <a:chOff x="-12600" y="5784840"/>
            <a:chExt cx="3414600" cy="1092240"/>
          </a:xfrm>
        </p:grpSpPr>
        <p:pic>
          <p:nvPicPr>
            <p:cNvPr id="236" name="13 Triángulo rectángulo"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14 Conector recto"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101CE-A9AB-4F1A-A588-520ED6C410B3}"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2A2E4-FD9B-472F-9572-BABCE21F9614}"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10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15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16 Triángulo rectángulo"/>
          <p:cNvGrpSpPr/>
          <p:nvPr/>
        </p:nvGrpSpPr>
        <p:grpSpPr>
          <a:xfrm>
            <a:off x="-12600" y="5784840"/>
            <a:ext cx="3414600" cy="1092240"/>
            <a:chOff x="-12600" y="5784840"/>
            <a:chExt cx="3414600" cy="1092240"/>
          </a:xfrm>
        </p:grpSpPr>
        <p:pic>
          <p:nvPicPr>
            <p:cNvPr id="324" name="16 Triángulo rectángulo"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18 Conector recto" descr=""/>
          <p:cNvPicPr/>
          <p:nvPr/>
        </p:nvPicPr>
        <p:blipFill>
          <a:blip r:embed="rId4"/>
          <a:stretch/>
        </p:blipFill>
        <p:spPr>
          <a:xfrm>
            <a:off x="-19080" y="5772240"/>
            <a:ext cx="3421080" cy="1109520"/>
          </a:xfrm>
          <a:prstGeom prst="rect">
            <a:avLst/>
          </a:prstGeom>
          <a:ln w="0">
            <a:noFill/>
          </a:ln>
        </p:spPr>
      </p:pic>
      <p:sp>
        <p:nvSpPr>
          <p:cNvPr id="327" name="19 Cheurón"/>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20 Cheurón"/>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AF2CF-A1BC-4B83-84C9-1508B2FD3DA1}" type="slidenum">
              <a:rPr b="0" lang="es-CL"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www.google.cl/imgres?imgurl=http://sp3.fotolog.com/photo/19/6/16/jamaika_ska/1240192686826_f.jpg&amp;imgrefurl=http://www.fotolog.com/jamaika_ska/36174363&amp;usg=__vw9WQUYCJjh9tLt6ZIawKdcQ5QM=&amp;h=500&amp;w=356&amp;sz=69&amp;hl=es&amp;start=9&amp;sig2=HijMUtY7vuXCKZPCr6-nFQ&amp;itbs=1&amp;tbnid=j_m7bUeezQa_DM:&amp;tbnh=130&amp;tbnw=93&amp;prev=/images%3Fq%3Dpsicoanalisis%26hl%3Des%26sa%3DG%26gbv%3D2%26tbs%3Disch:1&amp;ei=IsLPS8CQAYP7lwePy6ygCw" TargetMode="External"/><Relationship Id="rId3" Type="http://schemas.openxmlformats.org/officeDocument/2006/relationships/image" Target="../media/image8.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google.cl/imgres?imgurl=http://weblogs.clarin.com/cronicas/archives/finpsicoanalisis.jpg&amp;imgrefurl=http://weblogs.clarin.com/cronicas/archives/2008/11/el_fin_del_psicoanalisis.html&amp;usg=___rLPkrIHZDAOgvNZqX8SGqXHb74=&amp;h=300&amp;w=300&amp;sz=36&amp;hl=es&amp;start=1&amp;sig2=80jXuB58rtPL8v4lD6M60A&amp;itbs=1&amp;tbnid=63zyrDE7G8oyIM:&amp;tbnh=116&amp;tbnw=116&amp;prev=/images%3Fq%3Dpsicoanalisis%26hl%3Des%26sa%3DG%26gbv%3D2%26tbs%3Disch:1&amp;ei=IsLPS8CQAYP7lwePy6ygCw"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1 Título" descr=""/>
          <p:cNvPicPr/>
          <p:nvPr/>
        </p:nvPicPr>
        <p:blipFill>
          <a:blip r:embed="rId1"/>
          <a:stretch/>
        </p:blipFill>
        <p:spPr>
          <a:xfrm>
            <a:off x="706320" y="633240"/>
            <a:ext cx="7785360" cy="1847880"/>
          </a:xfrm>
          <a:prstGeom prst="rect">
            <a:avLst/>
          </a:prstGeom>
          <a:ln w="0">
            <a:noFill/>
          </a:ln>
        </p:spPr>
      </p:pic>
      <p:pic>
        <p:nvPicPr>
          <p:cNvPr id="371" name="Picture 4" descr="http://t3.gstatic.com/images?q=tbn:j_m7bUeezQa_DM:http://sp3.fotolog.com/photo/19/6/16/jamaika_ska/1240192686826_f.jpg">
            <a:hlinkClick r:id="rId2"/>
          </p:cNvPr>
          <p:cNvPicPr/>
          <p:nvPr/>
        </p:nvPicPr>
        <p:blipFill>
          <a:blip r:embed="rId3"/>
          <a:stretch/>
        </p:blipFill>
        <p:spPr>
          <a:xfrm>
            <a:off x="3527280" y="2928960"/>
            <a:ext cx="2044800" cy="2857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De acuerdo con Freud, las personas experimentan a menudo pensamientos y sentimientos que son tan dolorosos que no pueden soportarlo.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tos pensamientos y sentimientos no pueden ser expulsados de la mente, pero sí pueden ser expulsados del consciente para formar parte del inconsciente</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388"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Observó que el proceso de la represión es en sí mismo un acto no consciente (es decir, no ocurriría a través de la intención de los pensamientos o sentimientos conscientes).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endParaRPr b="0" lang="en-US" sz="2700" spc="-1" strike="noStrike">
              <a:solidFill>
                <a:srgbClr val="000000"/>
              </a:solidFill>
              <a:latin typeface="Lucida Sans Unicode"/>
            </a:endParaRPr>
          </a:p>
        </p:txBody>
      </p:sp>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4100" spc="-1" strike="noStrike">
              <a:solidFill>
                <a:srgbClr val="464646"/>
              </a:solidFill>
              <a:latin typeface="Lucida Sans Unicode"/>
            </a:endParaRPr>
          </a:p>
        </p:txBody>
      </p:sp>
      <p:pic>
        <p:nvPicPr>
          <p:cNvPr id="391" name="Picture 2" descr="http://t1.gstatic.com/images?q=tbn:zms97oFfMKpDcM:http://psicoanalistas.files.wordpress.com/2009/01/dali.jpg"/>
          <p:cNvPicPr/>
          <p:nvPr/>
        </p:nvPicPr>
        <p:blipFill>
          <a:blip r:embed="rId1"/>
          <a:stretch/>
        </p:blipFill>
        <p:spPr>
          <a:xfrm>
            <a:off x="3071880" y="3714840"/>
            <a:ext cx="3182760" cy="2736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inconscient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 la parte oculta y desconocida de nuestra personalidad y es imposible acceder a él.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conscient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 la parte que conocemos. Nos liga con el mundo exterior. Es posible acceder al él.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pre-conscient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son aquellos recuerdos inconscientes</a:t>
            </a:r>
            <a:endParaRPr b="0" lang="en-US" sz="2700" spc="-1" strike="noStrike">
              <a:solidFill>
                <a:srgbClr val="000000"/>
              </a:solidFill>
              <a:latin typeface="Lucida Sans Unicode"/>
            </a:endParaRPr>
          </a:p>
        </p:txBody>
      </p:sp>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reud buscó una explicación a la forma de operar de la ment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La estructura esta dividida en tres parte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ello, el yo y el superyó. </a:t>
            </a:r>
            <a:endParaRPr b="0" lang="en-US" sz="2700" spc="-1" strike="noStrike">
              <a:solidFill>
                <a:srgbClr val="000000"/>
              </a:solidFill>
              <a:latin typeface="Lucida Sans Unicode"/>
            </a:endParaRPr>
          </a:p>
        </p:txBody>
      </p:sp>
      <p:pic>
        <p:nvPicPr>
          <p:cNvPr id="395" name="1 Título" descr=""/>
          <p:cNvPicPr/>
          <p:nvPr/>
        </p:nvPicPr>
        <p:blipFill>
          <a:blip r:embed="rId1"/>
          <a:stretch/>
        </p:blipFill>
        <p:spPr>
          <a:xfrm>
            <a:off x="225360" y="128520"/>
            <a:ext cx="8467920" cy="1339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ello: es el principio del placer.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yo: principio de realidad.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superyo: representa las pautas morales</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7" name="2 Título" descr=""/>
          <p:cNvPicPr/>
          <p:nvPr/>
        </p:nvPicPr>
        <p:blipFill>
          <a:blip r:embed="rId1"/>
          <a:stretch/>
        </p:blipFill>
        <p:spPr>
          <a:xfrm>
            <a:off x="225360" y="122400"/>
            <a:ext cx="8467920" cy="1341360"/>
          </a:xfrm>
          <a:prstGeom prst="rect">
            <a:avLst/>
          </a:prstGeom>
          <a:ln w="0">
            <a:noFill/>
          </a:ln>
        </p:spPr>
      </p:pic>
      <p:pic>
        <p:nvPicPr>
          <p:cNvPr id="398" name="Picture 2" descr="http://t1.gstatic.com/images?q=tbn:y-mpwWTQRx1A5M:http://psicoanalistas.files.wordpress.com/2009/01/448px_salvador_dali1_la-fabricacion-del-hombre-nuevo1.jpg"/>
          <p:cNvPicPr/>
          <p:nvPr/>
        </p:nvPicPr>
        <p:blipFill>
          <a:blip r:embed="rId2"/>
          <a:stretch/>
        </p:blipFill>
        <p:spPr>
          <a:xfrm>
            <a:off x="3182760" y="3363840"/>
            <a:ext cx="2460960" cy="2422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Hay 2 tipos de instintos: Eros seria un instinto de vida, que englobaría la sexualidad y la autoconservación. (dios del amor de la mitología griega).</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La finalidad de eros es crear vida.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Thánatos ( principio de muerte o destrucción) Explicaría las conductas agresivas de las personas, como el sadismo, el masoquismo, el instinto de dominio y el instinto de destrucción.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La finalidad de Thánatos es destruir la vida.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La vida de las personas estaría regulada por 2 principios opuestos: vida y muerte, amor y odio. Esto explicaría la conducta de los individuos, como asismismo la evolución de la cultura humana. </a:t>
            </a:r>
            <a:endParaRPr b="0" lang="en-US" sz="2300" spc="-1" strike="noStrike">
              <a:solidFill>
                <a:srgbClr val="000000"/>
              </a:solidFill>
              <a:latin typeface="Lucida Sans Unicode"/>
            </a:endParaRPr>
          </a:p>
        </p:txBody>
      </p:sp>
      <p:pic>
        <p:nvPicPr>
          <p:cNvPr id="400"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ase oral: Se sitúa entre los 0 y 2 año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La boca es la zona erógeno y procura al bebé no solo la satisfacción de alimentarse, sino sobre todo el placer de chupar.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 decir, poner en movimiento los labios, la lengua y el paladar en una alternancia rítmica. </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402"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457200" y="1481040"/>
            <a:ext cx="8229600" cy="501984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Fase anal: </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en esta época la fuente principal de placer y conflicto potencial son las actividades en las que interviene el ano. </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Con frecuencia representa el primer intento del niño por convertir una actividad involuntaria en voluntaria.</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 </a:t>
            </a:r>
            <a:r>
              <a:rPr b="0" lang="es-CL" sz="2200" spc="-1" strike="noStrike">
                <a:solidFill>
                  <a:srgbClr val="000000"/>
                </a:solidFill>
                <a:latin typeface="Lucida Sans Unicode"/>
              </a:rPr>
              <a:t>Los niños pueden experimentar dolor o placer ya sea al retener o al expulsar sus desechos fisiológicos. </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Debemos de separar aquí el placer orgánico de defecar, aliviando una necesidad corporal, del placer sexual consistente en retener las heces y los gases para después expulsarlos bruscamente. </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Se sitúa entre los 2 y los 3 años</a:t>
            </a:r>
            <a:br>
              <a:rPr sz="1500"/>
            </a:br>
            <a:br>
              <a:rPr sz="1500"/>
            </a:br>
            <a:r>
              <a:rPr b="0" lang="es-CL" sz="1500" spc="-1" strike="noStrike">
                <a:solidFill>
                  <a:srgbClr val="000000"/>
                </a:solidFill>
                <a:latin typeface="Lucida Sans Unicode"/>
              </a:rPr>
              <a:t> </a:t>
            </a:r>
            <a:endParaRPr b="0" lang="en-US" sz="1500" spc="-1" strike="noStrike">
              <a:solidFill>
                <a:srgbClr val="000000"/>
              </a:solidFill>
              <a:latin typeface="Lucida Sans Unicode"/>
            </a:endParaRPr>
          </a:p>
        </p:txBody>
      </p:sp>
      <p:pic>
        <p:nvPicPr>
          <p:cNvPr id="404"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Fase fálica: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se extiende de los tres a los cinco años,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el órgano sexual masculino desempeña un papel dominante.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En esta fase las caricias masturbatorias y los tocamientos ritmados de las partes genitales proveen al niño un placer auto erótico.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Al comienzo de la fase fálica los niños y las niñas creen que todas las personas poseen falo y la diferencia entre tener o no falo se percibe como una oposición por castración</a:t>
            </a:r>
            <a:br>
              <a:rPr sz="2500"/>
            </a:b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p:txBody>
      </p:sp>
      <p:pic>
        <p:nvPicPr>
          <p:cNvPr id="406"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457200" y="1480680"/>
            <a:ext cx="8229600" cy="494820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ase de latencia: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n este período se desarrollan fuerzas psíquicas que disminuye el impulso sexual y reducen su dirección.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Los impulsos sexuales inaceptables son canalizados a niveles de actividad más aceptados por la cultura.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reud le llamaba período de calma sexual. No lo consideraba una etapa, ya que no surgía nada dramáticamente nuevo. Se sitúa entre los 6 años y los 11 años</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408"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reud nació en Freiberg el 6 de mayo de 1856 y murió en Londres el 23 de septiembre de 1939.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ue un médico, neurólogo y librepensador austríaco, y el creador del psicoanálisis </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373"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Pubertad: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surge en la adolescencia cuando maduran los órganos genitales.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Hay un surgimiento de los deseos sexuales y agresivos.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El impulso sexual, el cual antes era auto erótico, se busca satisfacer a partir de una interacción genuina con los demás.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Freud creía que los individuos maduros buscan satisfacer sus impulsos sexuales sobre todo por la actividad genital reproductora con miembros del sexo opuesto</a:t>
            </a:r>
            <a:br>
              <a:rPr sz="2300"/>
            </a:br>
            <a:br>
              <a:rPr sz="2300"/>
            </a:br>
            <a:r>
              <a:rPr b="0" lang="es-CL" sz="2300" spc="-1" strike="noStrike">
                <a:solidFill>
                  <a:srgbClr val="000000"/>
                </a:solidFill>
                <a:latin typeface="Lucida Sans Unicode"/>
              </a:rPr>
              <a:t> </a:t>
            </a:r>
            <a:endParaRPr b="0" lang="en-US" sz="2300" spc="-1" strike="noStrike">
              <a:solidFill>
                <a:srgbClr val="000000"/>
              </a:solidFill>
              <a:latin typeface="Lucida Sans Unicode"/>
            </a:endParaRPr>
          </a:p>
        </p:txBody>
      </p:sp>
      <p:pic>
        <p:nvPicPr>
          <p:cNvPr id="410"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Freud define la represión como un mecanismo que consiste en rechazar y mantener alejados de la consciencia determinados elementos que son dolorosos o inaceptables para el yo.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Estos pensamientos o ideas tienen para Freud un contenido sexual.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La represión se origina en el conflicto psíquico que se produce por el enfrentamiento de exigencias internas contrarias entre un deseo que reclama su satisfacción y las prohibiciones morales</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El yo se defiende del dolor que causa la incompatibilidad reprimiendo el deseo</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300"/>
            </a:br>
            <a:r>
              <a:rPr b="0" lang="es-CL" sz="2300" spc="-1" strike="noStrike">
                <a:solidFill>
                  <a:srgbClr val="000000"/>
                </a:solidFill>
                <a:latin typeface="Lucida Sans Unicode"/>
              </a:rPr>
              <a:t> </a:t>
            </a:r>
            <a:endParaRPr b="0" lang="en-US" sz="2300" spc="-1" strike="noStrike">
              <a:solidFill>
                <a:srgbClr val="000000"/>
              </a:solidFill>
              <a:latin typeface="Lucida Sans Unicode"/>
            </a:endParaRPr>
          </a:p>
        </p:txBody>
      </p:sp>
      <p:pic>
        <p:nvPicPr>
          <p:cNvPr id="412" name="1 Título" descr=""/>
          <p:cNvPicPr/>
          <p:nvPr/>
        </p:nvPicPr>
        <p:blipFill>
          <a:blip r:embed="rId1"/>
          <a:stretch/>
        </p:blipFill>
        <p:spPr>
          <a:xfrm>
            <a:off x="225360" y="122400"/>
            <a:ext cx="8467920" cy="1341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Siempre en los sueños se presenta la condensación</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Varios elementos presentes en el sueño latente se conjugan, se unen en un mismo elemento; pueden ser fragmentos de imágenes, frases o trozos de ideas.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tos fragmentos de vivencias siempre estarán unidos de alguna forma por elementos comunes, que los relacionan y aparecen durante el análisis por medio de la asociación libre</a:t>
            </a:r>
            <a:endParaRPr b="0" lang="en-US" sz="2700" spc="-1" strike="noStrike">
              <a:solidFill>
                <a:srgbClr val="000000"/>
              </a:solidFill>
              <a:latin typeface="Lucida Sans Unicode"/>
            </a:endParaRPr>
          </a:p>
        </p:txBody>
      </p:sp>
      <p:pic>
        <p:nvPicPr>
          <p:cNvPr id="414" name="2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Racionalización</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consiste en inventarse argumentos racionales para justificar una conducta que exige el ello.</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Negación de la realidad</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consiste en negar un hecho real o en deformar la realidad</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es la conducta típica de la que dices enseguida yo no lo he hecho, cuando esta muy claro de que no es así o del que no quieres reconocer un fracaso o una frustración.</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Proyección</a:t>
            </a:r>
            <a:r>
              <a:rPr b="0" lang="es-CL" sz="2500" spc="-1" strike="noStrike">
                <a:solidFill>
                  <a:srgbClr val="000000"/>
                </a:solidFill>
                <a:latin typeface="Lucida Sans Unicode"/>
              </a:rPr>
              <a:t>: consiste en ver en los otros sentimientos o ideas que uno no quiere aceptar</a:t>
            </a:r>
            <a:br>
              <a:rPr sz="2500"/>
            </a:b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p:txBody>
      </p:sp>
      <p:pic>
        <p:nvPicPr>
          <p:cNvPr id="416"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457200" y="1214280"/>
            <a:ext cx="8229600" cy="52149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Regresión</a:t>
            </a: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Manifestación de inmadurez</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Reacción</a:t>
            </a: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consiste en manifestar una conducta externa contraria a un sentimiento o afecto que se ha reprimido. </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Se oculta el verdadero sentimiento que no puede ser aceptado en la consciencia, a este mecanismo también se le podría llamar </a:t>
            </a:r>
            <a:r>
              <a:rPr b="0" lang="es-CL" sz="2500" spc="-1" strike="noStrike">
                <a:solidFill>
                  <a:srgbClr val="ff0000"/>
                </a:solidFill>
                <a:latin typeface="Lucida Sans Unicode"/>
              </a:rPr>
              <a:t>formación reactiva</a:t>
            </a: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sublimación</a:t>
            </a:r>
            <a:r>
              <a:rPr b="0" lang="es-CL" sz="2500" spc="-1" strike="noStrike">
                <a:solidFill>
                  <a:srgbClr val="000000"/>
                </a:solidFill>
                <a:latin typeface="Lucida Sans Unicode"/>
              </a:rPr>
              <a:t>: consiste en desviar el objeto de las pulsaciones o también instintos hacia finalidades aceptadas y por lo tanto toleradas por el superyo</a:t>
            </a:r>
            <a:endParaRPr b="0" lang="en-US" sz="2500" spc="-1" strike="noStrike">
              <a:solidFill>
                <a:srgbClr val="000000"/>
              </a:solidFill>
              <a:latin typeface="Lucida Sans Unicode"/>
            </a:endParaRPr>
          </a:p>
        </p:txBody>
      </p:sp>
      <p:pic>
        <p:nvPicPr>
          <p:cNvPr id="418" name="2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Según Freud los sueños son manifestaciones del inconsciente entonces el análisis de los sueños es un camino para conocer el inconsciente de las personas.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Normalmente los sueños son deseos del inconsciente, del ello, que no pueden ser aceptados por el yo o el superyo</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 </a:t>
            </a:r>
            <a:r>
              <a:rPr b="0" lang="es-CL" sz="2500" spc="-1" strike="noStrike">
                <a:solidFill>
                  <a:srgbClr val="000000"/>
                </a:solidFill>
                <a:latin typeface="Lucida Sans Unicode"/>
              </a:rPr>
              <a:t>los sueños normalmente son mas complejos.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En ellos hay que distinguir entre el contenido manifiesto y el contenido latente.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p:txBody>
      </p:sp>
      <p:pic>
        <p:nvPicPr>
          <p:cNvPr id="420"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Contenido manifiesto: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 lo que recordamos del sueño, situaciones extrañas, sin lógica que pueden ser agradables o desagradabl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contenido latent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son los deseos de la persona que encuentran una forma de manifestación en el sueño.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Los sueños son manipulados, transformados o censurados por el yo y el superyo</a:t>
            </a:r>
            <a:endParaRPr b="0" lang="en-US" sz="2700" spc="-1" strike="noStrike">
              <a:solidFill>
                <a:srgbClr val="000000"/>
              </a:solidFill>
              <a:latin typeface="Lucida Sans Unicode"/>
            </a:endParaRPr>
          </a:p>
        </p:txBody>
      </p:sp>
      <p:pic>
        <p:nvPicPr>
          <p:cNvPr id="422"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Piense en si mismo/a y analice dos mecanismos de defensa que usted use en su vida</a:t>
            </a:r>
            <a:endParaRPr b="0" lang="en-US" sz="2700" spc="-1" strike="noStrike">
              <a:solidFill>
                <a:srgbClr val="000000"/>
              </a:solidFill>
              <a:latin typeface="Lucida Sans Unicode"/>
            </a:endParaRPr>
          </a:p>
        </p:txBody>
      </p:sp>
      <p:pic>
        <p:nvPicPr>
          <p:cNvPr id="424"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Comenzó su carrera interesado por la hipnosis y para tratar a los enfermos mentale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Mantuvo en la terapia algunos aspectos de esta técnica, sustituyó la hipnosis por la asociación libre y el análisis de los sueños, para desarrollar lo que se conoce como «la cura del habla».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Todo esto se convirtió en punto de partida del psicoanálisi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5"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reud se interesó en la histeria (trastorno de conversación) y en la neurosi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Las teorías de Freud y el tratamiento que daba a sus pacientes causaron un gran revuelto en Viena en el s.XIX.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xiste un amplio debate sobre si el psicoanálisis y los tratamientos asociados a él pertenecen al ámbito de la cienci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Psicoanálisis y sus argumentos irrefutables</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7"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n 1886, Freud se casó y abrió una clínica privada especializada en desórdenes nerviosos, donde empezó su práctica para tratar la histeria y la neurosis.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Observó que podía aliviar los síntomas de sus pacientes y les hacia acostarse en un sofá y les animaba para que expresara lo primero que les venia a la mente.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Y a partir de allí comenzó a desarrollar los fundamentos del psicoanálisis</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379"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Picture 2" descr="http://t2.gstatic.com/images?q=tbn:63zyrDE7G8oyIM:http://weblogs.clarin.com/cronicas/archives/finpsicoanalisis.jpg">
            <a:hlinkClick r:id="rId1"/>
          </p:cNvPr>
          <p:cNvPicPr/>
          <p:nvPr/>
        </p:nvPicPr>
        <p:blipFill>
          <a:blip r:embed="rId2"/>
          <a:stretch/>
        </p:blipFill>
        <p:spPr>
          <a:xfrm>
            <a:off x="2752560" y="1395360"/>
            <a:ext cx="4105440" cy="4105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Freud innovó en dos campos</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Desarrolló una teoría de la mente y de la conducta humana, y una técnica terapéutica para ayudar a personas con afecciones psíquicas. </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la contribución más significativa que Freud ha hecho al pensamiento moderno es la de intentar darle al concepto de lo inconsciente, un estatus científico (no compartido por varias ramas de la ciencia y la psicología). </a:t>
            </a:r>
            <a:br>
              <a:rPr sz="2500"/>
            </a:br>
            <a:br>
              <a:rPr sz="2500"/>
            </a:b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p:txBody>
      </p:sp>
      <p:pic>
        <p:nvPicPr>
          <p:cNvPr id="382"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Sus conceptos de inconsciente, deseos inconscientes y represión fueron revolucionario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proponen una mente dominada en cierta medida por voluntades primitivas que están escondidas a la consciencia y que se manifiestan en los lapsus y los sueños</a:t>
            </a:r>
            <a:endParaRPr b="0" lang="en-US" sz="2700" spc="-1" strike="noStrike">
              <a:solidFill>
                <a:srgbClr val="000000"/>
              </a:solidFill>
              <a:latin typeface="Lucida Sans Unicode"/>
            </a:endParaRPr>
          </a:p>
        </p:txBody>
      </p:sp>
      <p:pic>
        <p:nvPicPr>
          <p:cNvPr id="384" name="2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En su obra más conocida, La interpretación de los sueños, Freud explica el argumento para indicar el nuevo modelo del inconsciente y desarrolla un método para conseguir el acceso al mismo, tomando elementos de sus experiencias previas .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Como parte de su teoría, Freud explica también la existencia de un preconsciente, que describe como la capa entre el consciente y el inconsciente.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La represión, tiene una gran importancia en el conocimiento de lo inconsciente</a:t>
            </a:r>
            <a:br>
              <a:rPr sz="2500"/>
            </a:b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p:txBody>
      </p:sp>
      <p:pic>
        <p:nvPicPr>
          <p:cNvPr id="386"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2T02:52:34Z</dcterms:created>
  <dc:creator>Edita Núñez Sotelo</dc:creator>
  <dc:description/>
  <dc:language>en-US</dc:language>
  <cp:lastModifiedBy>Antonia</cp:lastModifiedBy>
  <dcterms:modified xsi:type="dcterms:W3CDTF">2012-04-11T02:54:09Z</dcterms:modified>
  <cp:revision>11</cp:revision>
  <dc:subject/>
  <dc:title>EL PSICOANÁLISIS</dc:title>
</cp:coreProperties>
</file>