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LIC.WAV" ContentType="audio/x-wav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  <p:sldId id="315" r:id="rId70"/>
    <p:sldId id="316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slide" Target="slides/slide60.xml"/><Relationship Id="rId71" Type="http://schemas.openxmlformats.org/officeDocument/2006/relationships/slide" Target="slides/slide61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B427-0110-4A8C-9583-6EC80D3BF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7D3C-0342-4AB5-808C-D0DD35D0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5EA98-4CBC-4543-A6B2-273FF2DC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FCB21A-EBCD-48A4-99D8-30672475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8F785-E16D-402C-9472-9A4A510B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CE4CD5-B50E-45A3-B03E-0D98FBC8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DD18B-BC8C-4595-9B91-04D0C1F5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651B12-DBEC-473C-B3E6-18E1EF457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480B7D-D541-4FD7-A2DE-CC0A32DB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72E5E7-EC7E-41DC-9794-3478A2CE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39C8C6-8F41-4832-98F1-E5CB3C8B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1AEF-98D3-4F00-B0C2-2E8A2B0E1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0562-8A6A-4E2A-8085-5C98EE7B8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88CE-575B-404E-9233-AD2928CE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DEED3-FA12-4281-9A9D-A5CB3655C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74DB-99AD-4073-8376-59EF4CB6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7B19-5EF2-4950-B777-4B6EF8E7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EA7E-C1DF-4CE7-ACDE-CC89AA11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54A6-5D14-47E7-90ED-BDB85217E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D80F-9391-4D10-8215-0E448288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7B8F-A21C-4F3B-A94A-BC852354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9234-327A-4F21-A5B0-446AD858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47D37-79BC-41EC-816A-C0B22AC6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C073-A0BC-42FC-BFBD-F50D5C35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335B-6CF7-4FDD-B971-C308609B9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67F7-0D55-4A38-B0C5-779DBA817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18467-4D34-4F87-A8D1-7B5899B8A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81F99-BB68-48FC-9D60-65BD90EA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814DC2-9904-459D-B135-1B01F3486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844A30-03A1-4DF7-9048-236BBC70D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25D36C-67BF-4CEA-85FF-1D4543ED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943D-4589-4E75-9945-5316A0D8D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C01A92-4928-4D3F-8E14-17DB7898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1DBFC-C053-41CA-8326-19937516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5F07A5-774F-4945-A9EA-DF1EA846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059FD1-0757-4F62-A339-44840B5D0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FE549-4D52-4BC9-B7FA-A0ECC51E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4E4228-1B43-4625-A161-6BDEB6B0C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2D9D7-DA2E-4BE5-9133-8690F4D4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2DDF9-C372-46B0-99DC-71AA0477B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AB426-38E9-4678-B945-E8BF52B0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394C6-4F56-4E09-813F-A143927E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0F22-B0F0-4B5F-8758-B0699483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EF1AE-91BE-4BBF-9F81-7BAC754A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BEB36E-A99C-4DC1-A391-68A572CC4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61183-F956-4490-8A46-10C8E075E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F25A2-2B6A-43B5-9A7C-0277FF736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8EEE2-A18F-4328-A125-6E9F134A5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18EC0-08D8-48A2-BB18-AA7E6F30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D000B-AED4-4C5E-AC6F-48030910A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7FB4A-577B-4FEF-AC07-C76D54A17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BF8B6-AB11-4E33-9597-D463E2F11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94F18-BC88-42B2-B1CF-59F50272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B578-12EB-46E1-AF80-7FB6F8B6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F20EE5-480F-4380-8468-6759D8F5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2045FF-9AB3-4530-9E26-1570480E2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15FDD7-E02B-43AB-844A-21251F4C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9E6ED6-E6B4-4A35-A1DE-B50B1770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700F6-1FD4-44CD-B211-CAFDB823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0E67DC-9E29-4364-A0DD-A263F3E7E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275991-FF91-4A53-A502-28C073850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56F328-A186-4979-ADD8-957F5A1D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806B2E-4C28-465F-B47A-A542D8528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1827F2-15ED-4382-859D-E7E852F23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9F9E-4AA2-4C32-92A5-FBF2F6C6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E4B602-F2CB-45B9-974A-206EDAA9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316E5B-15B6-40CB-84FE-02896886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BE590C-E98E-48AD-9851-72D3B1A5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6A6D11-8180-4477-B971-12117157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23336D-0451-4474-9726-5D979B41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2442FB-DC2E-48EB-B82E-C0216A969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058737-3140-49D1-82F8-176C0EE5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153835-2304-4ADA-ADF5-8212CCF61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9EA7E3-F398-451D-843D-C13F68B3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5394CC-67A1-4312-B8CF-DED5A151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104-B750-4429-A097-A8E6C5BF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197E36-2E4B-4A88-8E3D-CF9F1B09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7315D7-C753-415A-A9FE-D3F45025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78DE04-F915-404A-81DA-1E9ABE88B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CC747A-CE15-480C-AA4B-7E25A5C4B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0FD79A-017D-43E4-A233-4D2FAC68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62C6C0-FEBD-45DC-87DE-945ED27F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91F738-EE4D-4B1C-B474-F40D41AEA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A97FC6-3547-4CD3-9F53-6D7D9264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50F42B-4372-42A1-AC82-1D8AD785F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90DCA2-CD18-43D4-B9B3-70AB80F5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4E55-E57B-49E3-BD35-6622D7AA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32D1AD-B001-41B9-B555-61BB7ECC0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A6F4C6-D157-40AD-A360-A66A7A53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89C8E6-6D36-47E3-8C9C-67B0360E5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ABEF70-346E-4065-926A-6447998E5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1D8ED4-1DE6-41C5-8BF5-07774786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43D14-6B58-45DA-9B70-7A8D440E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0D43F-9EFF-4CB6-9FF5-D888BC68D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125704-7338-46F8-BA0E-0E3AD0D23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924197-B7D6-48BE-A334-04CA3C30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0BDA86-765A-4C24-87A9-B22AA446B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5359-C4A2-486B-8252-7C464386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4EFDF-6085-43A2-A18B-6666F23E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74B9BA-3072-44EA-9410-3C1FF2BA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3B4FFD-914A-4FAF-8154-4C2AD6D1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8158E-757C-4411-A49D-A5F00268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C835C-529E-4D01-9769-C80E154C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CFBD94-12A2-47EC-97A7-873095DE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21AE6-6A96-4EAD-A2B9-554E4D271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01CFB-16C7-4636-9A1A-92BEC0DEE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84B0CF-3428-4617-A852-899407CA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831B9-248B-46FA-8BE2-F646A015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0467-92C4-45E5-809B-8C9E9B82048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25 Conector recto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26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27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28 Elipse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29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30 Elipse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31 Elipse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7F0B-1D07-4903-8C25-D0B6603EEB25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D874-1FB1-4170-BCDD-55F71FF5778A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12 Rectángulo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4 Rectángulo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Rectángulo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17 Rectángulo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18 Conector recto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19 Conector recto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20 Conector recto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23 Conector recto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24 Conector recto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25 Rectángulo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26 Elipse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27 Elipse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28 Elipse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29 Elipse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30 Elipse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31 Conector recto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97D3C-32DB-46A1-A276-B2B1B0CECBC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5E9BA-01BC-4A8D-846E-E4C42F41C180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14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16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17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18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19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20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976B-59FC-4C81-8140-46A73D8FDAE5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12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14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16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17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18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19 Conector recto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20 Conector recto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37F29-B58B-4DF2-A866-6C34CCB40FA2}" type="slidenum">
              <a:rPr b="1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984B-7258-4524-AC1E-546805917C36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15 Conector recto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6 Conector recto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8 Conector recto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9 Rectángulo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10 Conector recto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11 Elipse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2319-02A0-4A98-B507-E48DF07EC5E0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audio" Target="../media/CLIC.WAV"/><Relationship Id="rId2" Type="http://schemas.openxmlformats.org/officeDocument/2006/relationships/audio" Target="../media/CLIC.WAV"/><Relationship Id="rId3" Type="http://schemas.openxmlformats.org/officeDocument/2006/relationships/audio" Target="../media/CLIC.WAV"/><Relationship Id="rId4" Type="http://schemas.openxmlformats.org/officeDocument/2006/relationships/audio" Target="../media/CLIC.WAV"/><Relationship Id="rId5" Type="http://schemas.openxmlformats.org/officeDocument/2006/relationships/audio" Target="../media/CLIC.WAV"/><Relationship Id="rId6" Type="http://schemas.openxmlformats.org/officeDocument/2006/relationships/audio" Target="../media/CLIC.WAV"/><Relationship Id="rId7" Type="http://schemas.openxmlformats.org/officeDocument/2006/relationships/audio" Target="../media/CLIC.WAV"/><Relationship Id="rId8" Type="http://schemas.openxmlformats.org/officeDocument/2006/relationships/audio" Target="../media/CLIC.WAV"/><Relationship Id="rId9" Type="http://schemas.openxmlformats.org/officeDocument/2006/relationships/audio" Target="../media/CLIC.WAV"/><Relationship Id="rId10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999800" y="135684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2071440" y="38577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MX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456840" y="2133720"/>
            <a:ext cx="78598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areja son los padres de un par de mellizos, de un año de edad. Ellos comentan que al nacer eran muy parecidos en su carácter, no obstante a medida que han ido creciendo están mostrando diferencias en su forma de ser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s diferenci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1916280"/>
            <a:ext cx="8291520" cy="45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n un colegio de enseñanza básica, los profesores han discutido entre ellos y no han logrado ponerse de acuerdo respecto de que hacer con un grupo de niños que no logra avanzar en su aprendizaje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gunos profesores quieren derivarlos a una escuela especial, mientras que otros piensan que estos niños tienen una inteligencia normal y deben seguir en la escuela, apoyados mas de cerca por todos los doc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b32c1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porqué estos niños no aprenden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DESARROLLO DE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456840" y="1989000"/>
            <a:ext cx="800244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psicología, tiene un largo pasado pero una historia brev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nueva psicología, una ciencia de l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historia de la psicología se divide en tres period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surgimiento de la ciencia de la ment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décadas conductista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 revolución cognoscitiva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55280" y="1125000"/>
            <a:ext cx="7792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WILHELM WUNDT Y EDWARD B.TITCHENER</a:t>
            </a:r>
            <a:br>
              <a:rPr sz="2700"/>
            </a:br>
            <a:r>
              <a:rPr b="0" lang="es-ES" sz="2700" spc="-1" strike="noStrike">
                <a:solidFill>
                  <a:srgbClr val="575f6d"/>
                </a:solidFill>
                <a:latin typeface="Century Schoolbook"/>
              </a:rPr>
              <a:t>VOLUNTARISMO Y ESTRUCTURALISMO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85480" y="2000160"/>
            <a:ext cx="8597880" cy="45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La psicología nace en 1879, con la fundación del primer laboratorio de psicología en la universidad de Leipzig en Alemania (Wundt)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A nivel académico, un laboratorio daba el estatus de ciencia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Wundt quiere explicar la experiencia inmediata y como poder estudiarla científicamente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También creía que algunos procesos mentales no podían estudiarse mediante experimentos científico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WILHELM WUND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456840" y="2924280"/>
            <a:ext cx="8002440" cy="35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Otorga un papel central al proceso de la atención selectiva, el proceso por el cual determinamos a que vamos a atender en un momento da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ara Wundt, la atención es controlada activamente por las intenciones y los motiv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dio lugar al uso del término del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voluntarism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para describir su visión de la psicologí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3" name="Picture 15" descr="wundt"/>
          <p:cNvPicPr/>
          <p:nvPr/>
        </p:nvPicPr>
        <p:blipFill>
          <a:blip r:embed="rId1"/>
          <a:stretch/>
        </p:blipFill>
        <p:spPr>
          <a:xfrm>
            <a:off x="5796000" y="808200"/>
            <a:ext cx="158436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es lo que separa la atención humana de la atención de otros organism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u vez, la atención controla otros procesos psicológicos co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percepcion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pensamient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os recuerd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Con el uso de la medición y la experimentación, Wundt sacó a la psicología del campo de la filosofía para ubicarla en el mundo de la 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usado, el uso controlado de la instrospección u autoobservación de los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ntenidos mentales conscient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Método de 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strospecció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Informe verbal de personas entrenadas que sometían 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observación cuidados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su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xperiencia subjetiva conc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 PARTIR DE LEIPZIG…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. Stanley Hall. Primer laboratorio estadounidense de psicología, 1883. U. de Johns Hopkin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. M. Cattell, U. de Pennsylvania, 1888. primer estadounidense que fue llamado “profesor de psicología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, U. de Cornell (Inglaterra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Muy influido por los recientes avances en química y físic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manera similar, los psicólogos deberían analizar las experiencias complejas en términos de su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quiere buscar los “átomos del pensamiento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cuando las personas ven un plátano de inmediato piensan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“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quí tenemos una fruta, algo para comer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 percepción se basa en asociaciones con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buscaba los elementos  más fundamentales o “átomos” del pensami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MAS DE INTERÉS PARA LA PSICOLOGÍ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nverse con su compañero/a … ¿Cuáles son los temas que investiga la psicologí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untos centrales de interés psic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ITCHENER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scompuso la conciencia en tres elementos bás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saciones físicas (lo que vem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Sentimientos (si los plátanos nos gustan o nos desagradan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Imágenes (recuerdo de otros plátanos)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firmaba que incluso los pensamientos y los sentimientos más complejos podían reducirse a esos elementos simp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ESTRUCTUR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itchener consideraba que el papel de la psicología era identificar esos elementos y demostrar como podían combinarse e integrar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e es el enfoque llamado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ructuralismo: escuela de psicología que enfatizaba las unidades básicas de la experiencia y las combinaciones en las que ocurre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CUELA ESTRUCTUR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uvo una corta vida y poco efecto a largo plaz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o obstante lo anterior, el estudio de la percepción y la sensación son parte importante de la psicología contemporáne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</a:t>
            </a:r>
            <a:br>
              <a:rPr sz="3000"/>
            </a:b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, primer crítico del estructuralism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los “átomos de la experiencia” (sensaciones puras sin asociaciones) de Titchener, no existían en la vida re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Nuestra mente siempre entreteje asociacion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visa las experienci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activa, se detiene, avanza en 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ba que las percepciones, emociones e imágenes no pueden separarse; la conciencia fluye en una corriente contínu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92" name="Picture 18" descr="james"/>
          <p:cNvPicPr/>
          <p:nvPr/>
        </p:nvPicPr>
        <p:blipFill>
          <a:blip r:embed="rId1"/>
          <a:stretch/>
        </p:blipFill>
        <p:spPr>
          <a:xfrm>
            <a:off x="7093080" y="108000"/>
            <a:ext cx="143964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e una gran influencia de la teoría de la evolución de Charles Darwi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 acuerdo con Darwin, tanto la anatomía como la conducta son resultado de la selección natu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afirma que la conciencia evolucionó porque cumple una función adaptativ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: si no pudiéramos reconocer un plátano, tendríamos que averiguar que es cada vez que viéramos un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WILLIAM JAMES: EL FUNCIONAL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468000" y="2492280"/>
            <a:ext cx="83516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s asociaciones mentales nos permiten beneficiarnos de la experiencia prev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ames sugirió que cuando repetimos algo, nuestro sistema nervioso cambia de modo que cada repetición es más sencilla que la anterior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FUNCIONALIST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85840" y="1600200"/>
            <a:ext cx="850104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vida mental y la conducta que se interesa en la forma en que un organismo emplea sus habilidades perceptuales para funcionar en su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 teoría generó preguntas acerc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l aprendizaje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Las complejidades de la vida menta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impacto de la experiencia en el cerebro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El lugar del género humano en el mundo natural, etc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, pionero de la psicología, el mas conocido y controvertid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octor en medicina, le interesaba especialmente el sistema nervioso centr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omienza a trabajar con hipnosis para tratar los trastornos nervios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01" name="Picture 14" descr="freud2"/>
          <p:cNvPicPr/>
          <p:nvPr/>
        </p:nvPicPr>
        <p:blipFill>
          <a:blip r:embed="rId1"/>
          <a:stretch/>
        </p:blipFill>
        <p:spPr>
          <a:xfrm>
            <a:off x="4859280" y="3975120"/>
            <a:ext cx="180036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Él afirmaba que muchos trastornos nerviosos eran de origen psicológico más que fisiológic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us observaciones clínicas lo llevaron a desarrollar una teoría amplia de la vida mental que era radicalmente opuesta con lo propuesto hasta ese moment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sostenía que los seres humanos no son tan racionales como se imagin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one en duda la existencia y real alcance de la voluntad o “libre albedrío” de Wund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Freud afirmaba que los seres humanos estamos motivados por instintos e impulsos inconscientes que no están disponibles para la parte racional y conciente de nuestra m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nconciente como un “caldero” dinámico d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primitivas pulsiones sexuales y agresivas,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deseos prohibidos,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temores y deseos indescripti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entury Schoolbook"/>
              </a:rPr>
              <a:t>recuerdos infantiles traumático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PERSONA-SITU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56840" y="2400120"/>
            <a:ext cx="814716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 conducta tiene sus causas ¿internas o externa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o que ocurre dentro de la persona como pensamientos, emociones, motivos, actitudes,  o valores, personalidad y genes…versus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en que medida la conducta es causada por factores externos a la persona? Como por ejemplo otras personas o e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FREUD Y LA PSICOLOG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primidos (o escondidos para la conciencia) los impulsos inconscientes presionan sobre la mente consciente y encuentran expresión de forma disfrazada o alterad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o incluye sueños,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Lapsus, síntomas de enfermedad menta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ctividades socialmente aceptables como el arte y la literatura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L PSICOANÁLISI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6840" y="2276280"/>
            <a:ext cx="7467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écnica para descubrir el inconsciente, en la cual el paciente se recuesta en un diván, cuenta sus sueños y dice cualquier cosa que le venga a la mente (asociación libre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457200" y="1600200"/>
            <a:ext cx="83296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eoría de la personalidad que afirma que la conducta es el resultado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de fuerzas psicológicas que interactúan dentro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 del individuo, a menudo fuera de la conscienci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l aparecer esta teoría, genera escándalo en la socie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pecialmente por su énfasis en la sexualidad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demás por su sugerencia de que muchas veces no tenemos conciencia de nuestros verdaderos motivos y que, por ende, </a:t>
            </a:r>
            <a:r>
              <a:rPr b="1" lang="es-CL" sz="2400" spc="-1" strike="noStrike">
                <a:solidFill>
                  <a:srgbClr val="000000"/>
                </a:solidFill>
                <a:latin typeface="Century Schoolbook"/>
              </a:rPr>
              <a:t>no tenemos pleno control </a:t>
            </a: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obre nuestros pensamientos y nuestros comportamient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TEORÍA PSICODINÁM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 sido ampliada y revisada en el transcurso del tiemp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Aún en la actualidad sigue generando deb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stableció la base para el estudio de la personalidad y los trastornos psicológic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328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182600" y="1052640"/>
            <a:ext cx="77724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Este surge como respuesta al malestar general que existía entre la comunidad académica y que abría un periodo de crisis paradigmátic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¿Qué es una crisis paradigmática?..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4191120" y="2057400"/>
            <a:ext cx="609480" cy="16002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3"/>
          <p:cNvSpPr/>
          <p:nvPr/>
        </p:nvSpPr>
        <p:spPr>
          <a:xfrm>
            <a:off x="914400" y="1752480"/>
            <a:ext cx="5029200" cy="58140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Comunidad científ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Oval 4"/>
          <p:cNvSpPr/>
          <p:nvPr/>
        </p:nvSpPr>
        <p:spPr>
          <a:xfrm>
            <a:off x="3657600" y="2971800"/>
            <a:ext cx="3733920" cy="1143000"/>
          </a:xfrm>
          <a:prstGeom prst="ellipse">
            <a:avLst/>
          </a:prstGeom>
          <a:gradFill rotWithShape="0">
            <a:gsLst>
              <a:gs pos="0">
                <a:srgbClr val="d2611c"/>
              </a:gs>
              <a:gs pos="100000">
                <a:srgbClr val="612d0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39d"/>
                </a:solidFill>
                <a:latin typeface="USABlack"/>
              </a:rPr>
              <a:t>Parad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Oval 5"/>
          <p:cNvSpPr/>
          <p:nvPr/>
        </p:nvSpPr>
        <p:spPr>
          <a:xfrm>
            <a:off x="380880" y="3809880"/>
            <a:ext cx="2819520" cy="83844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6"/>
          <p:cNvSpPr/>
          <p:nvPr/>
        </p:nvSpPr>
        <p:spPr>
          <a:xfrm>
            <a:off x="1905120" y="4343400"/>
            <a:ext cx="281916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7"/>
          <p:cNvSpPr/>
          <p:nvPr/>
        </p:nvSpPr>
        <p:spPr>
          <a:xfrm>
            <a:off x="2895480" y="5029200"/>
            <a:ext cx="2819520" cy="838080"/>
          </a:xfrm>
          <a:prstGeom prst="ellipse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99"/>
                </a:solidFill>
                <a:latin typeface="USABlack"/>
              </a:rPr>
              <a:t>En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8"/>
          <p:cNvSpPr/>
          <p:nvPr/>
        </p:nvSpPr>
        <p:spPr>
          <a:xfrm flipH="1" flipV="1">
            <a:off x="5790600" y="3733920"/>
            <a:ext cx="1447560" cy="1371600"/>
          </a:xfrm>
          <a:prstGeom prst="pie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148000" y="1844640"/>
            <a:ext cx="3817800" cy="4114800"/>
          </a:xfrm>
          <a:prstGeom prst="rect">
            <a:avLst/>
          </a:prstGeom>
          <a:solidFill>
            <a:srgbClr val="d2611c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”</a:t>
            </a:r>
            <a:r>
              <a:rPr b="0" lang="es-MX" sz="2400" spc="-1" strike="noStrike">
                <a:solidFill>
                  <a:srgbClr val="000000"/>
                </a:solidFill>
                <a:latin typeface="Century Schoolbook"/>
              </a:rPr>
              <a:t>Una realización científica universalmente reconocida que, durante cierto tiempo, proporciona modelos de problemas y soluciones a una comunidad científica" (Kuhn, 1971)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ARADIGMA &amp; ENIGMAS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Line 3"/>
          <p:cNvSpPr/>
          <p:nvPr/>
        </p:nvSpPr>
        <p:spPr>
          <a:xfrm flipV="1">
            <a:off x="0" y="3885840"/>
            <a:ext cx="6629400" cy="1447920"/>
          </a:xfrm>
          <a:prstGeom prst="line">
            <a:avLst/>
          </a:prstGeom>
          <a:noFill/>
          <a:ln w="120600">
            <a:solidFill>
              <a:srgbClr val="d261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2133720" y="2971800"/>
            <a:ext cx="2971800" cy="2133720"/>
          </a:xfrm>
          <a:prstGeom prst="irregularSeal1">
            <a:avLst/>
          </a:prstGeom>
          <a:gradFill rotWithShape="0">
            <a:gsLst>
              <a:gs pos="0">
                <a:srgbClr val="ccff66"/>
              </a:gs>
              <a:gs pos="100000">
                <a:srgbClr val="5e762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b435b"/>
                </a:solidFill>
                <a:latin typeface="USABlack"/>
              </a:rPr>
              <a:t>Cri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5"/>
          <p:cNvGrpSpPr/>
          <p:nvPr/>
        </p:nvGrpSpPr>
        <p:grpSpPr>
          <a:xfrm>
            <a:off x="990720" y="1523880"/>
            <a:ext cx="6324480" cy="942840"/>
            <a:chOff x="990720" y="1523880"/>
            <a:chExt cx="6324480" cy="942840"/>
          </a:xfrm>
        </p:grpSpPr>
        <p:sp>
          <p:nvSpPr>
            <p:cNvPr id="529" name="AutoShape 6"/>
            <p:cNvSpPr/>
            <p:nvPr/>
          </p:nvSpPr>
          <p:spPr>
            <a:xfrm>
              <a:off x="990720" y="1523880"/>
              <a:ext cx="6324480" cy="942840"/>
            </a:xfrm>
            <a:prstGeom prst="leftRightArrow">
              <a:avLst>
                <a:gd name="adj1" fmla="val 50000"/>
                <a:gd name="adj2" fmla="val 133537"/>
              </a:avLst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Text Box 7"/>
            <p:cNvSpPr/>
            <p:nvPr/>
          </p:nvSpPr>
          <p:spPr>
            <a:xfrm>
              <a:off x="2209680" y="1752480"/>
              <a:ext cx="3886200" cy="459720"/>
            </a:xfrm>
            <a:prstGeom prst="rect">
              <a:avLst/>
            </a:prstGeom>
            <a:gradFill rotWithShape="0">
              <a:gsLst>
                <a:gs pos="0">
                  <a:srgbClr val="612d0d"/>
                </a:gs>
                <a:gs pos="50000">
                  <a:srgbClr val="d2611c"/>
                </a:gs>
                <a:gs pos="100000">
                  <a:srgbClr val="612d0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39d"/>
                  </a:solidFill>
                  <a:latin typeface="USABlack"/>
                </a:rPr>
                <a:t>Paradigma       Enigm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1" name="Text Box 8"/>
          <p:cNvSpPr/>
          <p:nvPr/>
        </p:nvSpPr>
        <p:spPr>
          <a:xfrm>
            <a:off x="5544000" y="3124080"/>
            <a:ext cx="2757960" cy="459720"/>
          </a:xfrm>
          <a:prstGeom prst="rect">
            <a:avLst/>
          </a:prstGeom>
          <a:gradFill rotWithShape="0">
            <a:gsLst>
              <a:gs pos="0">
                <a:srgbClr val="612d0d"/>
              </a:gs>
              <a:gs pos="50000">
                <a:srgbClr val="d2611c"/>
              </a:gs>
              <a:gs pos="100000">
                <a:srgbClr val="612d0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39d"/>
                </a:solidFill>
                <a:latin typeface="USABlack"/>
              </a:rPr>
              <a:t>Nuevo paradig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ASES DE LOS PARADIGM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precientífic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o hay hegemoní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Inmadurez de la cienci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de Ciencia Normal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Adecuación, ¿anomalías?, crisis, nuevo paradigma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Período revolucionari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entury Schoolbook"/>
              </a:rPr>
              <a:t>Nuevo paradigma se vuelve hegemónico.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5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OBLEMÁTIC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pacio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blemas de la real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un modelo decide abordar como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ampo de investig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genera un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olución prototípic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el mism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Esta debe aportar su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as coordenadas teórico explicativ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FUNDAMENTOS EPISTEMOLÓG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upu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etacientíf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para abordar la problemátic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unidad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s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rome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con estos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puest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en la creación del paradigma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vinculan 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cepciones epistemológicas y filosófica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diverso orde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5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" dur="500"/>
                                        <p:tgtEl>
                                          <p:spTgt spid="5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NATURALEZA-CRIANZ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68360" y="2205000"/>
            <a:ext cx="7991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Importante debate naturaleza v/s crianz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Grado de influencia que tienen la herencia o genes frente al ambien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Ej, la concepción de inteligencia y el C.I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SUPUESTOS TEÓRICO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Hipótesis o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ustentos teóricos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mpart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especialista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on l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base conceptual y explicativ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fundamental de la matriz disciplinar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Cada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model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tiene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propio lenguaje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y su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sistema conceptual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/>
                                        <p:tgtEl>
                                          <p:spTgt spid="5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r>
              <a:rPr b="0" lang="es-ES_tradnl" sz="3000" spc="-1" strike="noStrike">
                <a:solidFill>
                  <a:srgbClr val="575f6d"/>
                </a:solidFill>
                <a:latin typeface="Century Schoolbook"/>
              </a:rPr>
              <a:t>PRESCRIPCIONES METODOLÓGICA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junt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métodos, procedimientos, técnicas y reglas qu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la comunidad de profesionales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Se utilizan para el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trabajo</a:t>
            </a:r>
            <a:r>
              <a:rPr b="0" lang="es-ES_tradnl" sz="24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_tradnl" sz="2400" spc="-1" strike="noStrike">
                <a:solidFill>
                  <a:srgbClr val="000000"/>
                </a:solidFill>
                <a:latin typeface="Century Schoolbook"/>
              </a:rPr>
              <a:t>construcción o refinamiento del modelo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cover dir="d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5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042920" y="260280"/>
            <a:ext cx="7793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NTONCES…</a:t>
            </a:r>
            <a:br>
              <a:rPr sz="3000"/>
            </a:b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EL CONDUCTISM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Psicología Conductista aparece en el siglo XX como un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disciplina empírica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par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tudiar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en términos d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adaptación a estímulos del medi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esencia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del Conductismo es que el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individuo aprende a adaptarse al ambiente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y que este aprendizaje está regido por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principios de asociación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pavlov"/>
          <p:cNvPicPr/>
          <p:nvPr/>
        </p:nvPicPr>
        <p:blipFill>
          <a:blip r:embed="rId1"/>
          <a:stretch/>
        </p:blipFill>
        <p:spPr>
          <a:xfrm>
            <a:off x="2843280" y="765000"/>
            <a:ext cx="3711600" cy="511200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3"/>
          <p:cNvSpPr/>
          <p:nvPr/>
        </p:nvSpPr>
        <p:spPr>
          <a:xfrm>
            <a:off x="2776680" y="5996160"/>
            <a:ext cx="467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68180"/>
                </a:solidFill>
                <a:latin typeface="Verdana"/>
              </a:rPr>
              <a:t>Iván Petrovitch Pavlov ( 1849-1936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515880"/>
            <a:ext cx="779292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575f6d"/>
                </a:solidFill>
                <a:latin typeface="Century Schoolbook"/>
              </a:rPr>
              <a:t>IVÁN PAVLOV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En 1904, Pavlov recibió el premio Nobel por sus trabajos sobre las bases nerviosas y ganglionares de la digest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Durante esta investigación, descubrió los </a:t>
            </a:r>
            <a:r>
              <a:rPr b="1" lang="es-ES" sz="2800" spc="-1" strike="noStrike">
                <a:solidFill>
                  <a:srgbClr val="000000"/>
                </a:solidFill>
                <a:latin typeface="Century Schoolbook"/>
              </a:rPr>
              <a:t>principios del condicionamiento basado en la asociación.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Schoolbook"/>
              </a:rPr>
              <a:t>Pavlov observó que los perros salivaban sin falta en anticipación de la comida, que era anunciada por la llegada de un asistente o la presentación de un plato.</a:t>
            </a:r>
            <a:r>
              <a:rPr b="0" lang="es-ES" sz="2000" spc="-1" strike="noStrike">
                <a:solidFill>
                  <a:srgbClr val="56818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/>
          </p:nvPr>
        </p:nvSpPr>
        <p:spPr>
          <a:xfrm>
            <a:off x="13716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549" name="Picture 3" descr="perro"/>
          <p:cNvPicPr/>
          <p:nvPr/>
        </p:nvPicPr>
        <p:blipFill>
          <a:blip r:embed="rId1"/>
          <a:stretch/>
        </p:blipFill>
        <p:spPr>
          <a:xfrm>
            <a:off x="1476360" y="2349360"/>
            <a:ext cx="6480360" cy="3422880"/>
          </a:xfrm>
          <a:prstGeom prst="rect">
            <a:avLst/>
          </a:prstGeom>
          <a:ln w="0">
            <a:noFill/>
          </a:ln>
        </p:spPr>
      </p:pic>
      <p:sp>
        <p:nvSpPr>
          <p:cNvPr id="550" name="Rectangle 4"/>
          <p:cNvSpPr/>
          <p:nvPr/>
        </p:nvSpPr>
        <p:spPr>
          <a:xfrm>
            <a:off x="457200" y="388800"/>
            <a:ext cx="7543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575f6d"/>
                </a:solidFill>
                <a:latin typeface="Century Schoolbook"/>
              </a:rPr>
              <a:t>La Caja de Pavlo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501120" y="1341360"/>
            <a:ext cx="86425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Señaló cuatro hechos experimentales en los procesos de adquisición y extinción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In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I): Suceso ambiental que por sus propiedades inherentes, provoca un reflejo orgánico. (Ej.:la carne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Condicionad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EC): Suceso ambiental que es neutral (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Estímulo Neutro)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con respecto a la respuesta antes de su apareamiento con le EI. (Ej.:la campan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In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I): Reflejo natural que el EI produce en forma automática e involuntaria.(Ej.:Salivación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11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spuesta Condicionad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(RC): Reflejo adquirido suscitado por el EC después de asociarse con el EI. (Ej.:Salivación Condicionada)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79292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575f6d"/>
                </a:solidFill>
                <a:latin typeface="Century Schoolbook"/>
              </a:rPr>
              <a:t>CONDICIONAMIENTO CLÁSIC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11160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000000"/>
                </a:solidFill>
                <a:latin typeface="Century Schoolbook"/>
              </a:rPr>
              <a:t>Principios Derivados del Paradigm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os procedimientos de Condicionamiento representan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uantificación y la objetivización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adquisición y el olvido de asociaciones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hab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eces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ningún constructo mental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, pues el sistema nervioso, y en especial el córtex, ofrecen los mecanismos para el aprendizaj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El paradigma del condicionamiento permití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investigar la actividad nerviosa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superior y todas las clases de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comportamiento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32c1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200" spc="-1" strike="noStrike">
                <a:solidFill>
                  <a:srgbClr val="000000"/>
                </a:solidFill>
                <a:latin typeface="Century Schoolbook"/>
              </a:rPr>
              <a:t>relación temporal o contigüidad</a:t>
            </a:r>
            <a:r>
              <a:rPr b="0" lang="es-ES" sz="2200" spc="-1" strike="noStrike">
                <a:solidFill>
                  <a:srgbClr val="000000"/>
                </a:solidFill>
                <a:latin typeface="Century Schoolbook"/>
              </a:rPr>
              <a:t> era el principio fundamental de la adquisición de asociacione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2" descr="watson"/>
          <p:cNvPicPr/>
          <p:nvPr/>
        </p:nvPicPr>
        <p:blipFill>
          <a:blip r:embed="rId1"/>
          <a:stretch/>
        </p:blipFill>
        <p:spPr>
          <a:xfrm>
            <a:off x="2987640" y="907920"/>
            <a:ext cx="3235320" cy="4753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3248280" y="587700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68180"/>
                </a:solidFill>
                <a:latin typeface="Constantia"/>
              </a:rPr>
              <a:t>John Watson ( 1878-1958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150560" y="775800"/>
            <a:ext cx="779292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68360" y="1773360"/>
            <a:ext cx="822960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John Watson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( 1878-1958 )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propuso la separación radical de las teorías psicológicas al afirmar que </a:t>
            </a:r>
            <a:r>
              <a:rPr b="1" lang="es-ES" sz="2400" spc="-1" strike="noStrike">
                <a:solidFill>
                  <a:srgbClr val="000000"/>
                </a:solidFill>
                <a:latin typeface="Century Schoolbook"/>
              </a:rPr>
              <a:t>la psicología debía estudiar la conducta abierta y observable como su único objeto</a:t>
            </a:r>
            <a:r>
              <a:rPr b="0" lang="es-ES" sz="24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ESTABILIDAD- CAMBI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457200" y="1989000"/>
            <a:ext cx="807552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si los seres humanos tenemos características estables o vivimos en constante cambi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nacemos con características regulares o nuestra personalidad se conforma a través de los distintos cambios en la vida?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826920" y="1628640"/>
            <a:ext cx="8128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Watson s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beló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contra el métod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introspec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y contra el estudio d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cienci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, considerándola un pseudoproblema, produciendo una reformulación completa de la psicologí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l campo de la Psicología era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mportamiento, medido en términos de Estímulo-Respues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Definió l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Psicología </a:t>
            </a:r>
            <a:r>
              <a:rPr b="0" lang="es-CL" sz="2700" spc="-1" strike="noStrike">
                <a:solidFill>
                  <a:srgbClr val="000000"/>
                </a:solidFill>
                <a:latin typeface="Century Schoolbook"/>
              </a:rPr>
              <a:t>como una </a:t>
            </a:r>
            <a:r>
              <a:rPr b="1" lang="es-CL" sz="2700" spc="-1" strike="noStrike">
                <a:solidFill>
                  <a:srgbClr val="000000"/>
                </a:solidFill>
                <a:latin typeface="Century Schoolbook"/>
              </a:rPr>
              <a:t>rama experimental de las ciencias naturales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75f6d"/>
                </a:solidFill>
                <a:latin typeface="Century Schoolbook"/>
              </a:rPr>
              <a:t>EL CONDUCTISMO DE JOHN WATS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899640" y="1700280"/>
            <a:ext cx="8055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s posible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analizar 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a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mediante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relación causal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ntre los elementos del estímulo y la respuesta que inciden en el organismo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Para Watson los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rincipios de asociación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eran la clave del crecimiento psicológico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En los años 30 el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conductismo</a:t>
            </a:r>
            <a:r>
              <a:rPr b="0" lang="es-ES" sz="2700" spc="-1" strike="noStrike">
                <a:solidFill>
                  <a:srgbClr val="000000"/>
                </a:solidFill>
                <a:latin typeface="Century Schoolbook"/>
              </a:rPr>
              <a:t> dominaba la </a:t>
            </a:r>
            <a:r>
              <a:rPr b="1" lang="es-ES" sz="2700" spc="-1" strike="noStrike">
                <a:solidFill>
                  <a:srgbClr val="000000"/>
                </a:solidFill>
                <a:latin typeface="Century Schoolbook"/>
              </a:rPr>
              <a:t>psicología estadounidense.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2" descr="Skinner11a"/>
          <p:cNvPicPr/>
          <p:nvPr/>
        </p:nvPicPr>
        <p:blipFill>
          <a:blip r:embed="rId1"/>
          <a:stretch/>
        </p:blipFill>
        <p:spPr>
          <a:xfrm>
            <a:off x="2556000" y="981000"/>
            <a:ext cx="3539880" cy="453240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3"/>
          <p:cNvSpPr/>
          <p:nvPr/>
        </p:nvSpPr>
        <p:spPr>
          <a:xfrm>
            <a:off x="2268360" y="5877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B. F. Ski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575f6d"/>
                </a:solidFill>
                <a:latin typeface="Constantia"/>
              </a:rPr>
              <a:t>(1904 – 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7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aracteríst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Teórico ambientalis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vestigador experimental y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Describe mas que explic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reador del paradigma Operante y el análisis conductual aplic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Intenta construir un sistema empírico que no precise de un marco teórico para organizar los da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000099"/>
              </a:buClr>
              <a:buSzPct val="60000"/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0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sicologí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Investigar leyes entre variables observables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sacar lo oculto en lugar de espec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Acontecimientos privados tienen limitada accesibilidad a la investigación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chaza causas internas de la conduc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e aparta de Watson, en cuanto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acept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el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ensamiento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y otras conductas privadas que se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reflejen verbalm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Century School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EL CONDUCTISMO RADICAL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457200" y="171936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3" name="Rectangle 4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conducta está determinada por el ambiente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Su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proceso de adquisición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, la </a:t>
            </a:r>
            <a:r>
              <a:rPr b="1" lang="es-MX" sz="2600" spc="-1" strike="noStrike">
                <a:solidFill>
                  <a:srgbClr val="000000"/>
                </a:solidFill>
                <a:latin typeface="Century Schoolbook"/>
              </a:rPr>
              <a:t>experiencia</a:t>
            </a: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  es importante para determinar personalidad y disturbios en la conduc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entury Schoolbook"/>
              </a:rPr>
              <a:t>Considera: Conductas respondientes, mediadas por S.N.A.(reflejas) y C. Operant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100" spc="-1" strike="noStrike">
                <a:solidFill>
                  <a:srgbClr val="575f6d"/>
                </a:solidFill>
                <a:latin typeface="Century Schoolbook"/>
              </a:rPr>
              <a:t>HUMOR CONDICIONADO</a:t>
            </a:r>
            <a:endParaRPr b="0" lang="en-US" sz="41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575" name="Picture 4" descr="Explorar2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824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3"/>
          <p:cNvSpPr/>
          <p:nvPr/>
        </p:nvSpPr>
        <p:spPr>
          <a:xfrm>
            <a:off x="395280" y="1557360"/>
            <a:ext cx="8569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649"/>
              </a:spcBef>
              <a:buClr>
                <a:srgbClr val="3b43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575f6d"/>
                </a:solidFill>
                <a:latin typeface="Century Schoolbook"/>
              </a:rPr>
              <a:t>TIPOS DE CONDICIONAMIENTO OPERANT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ES" sz="18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24000" y="189000"/>
          <a:ext cx="8496000" cy="6591240"/>
        </p:xfrm>
        <a:graphic>
          <a:graphicData uri="http://schemas.openxmlformats.org/drawingml/2006/table">
            <a:tbl>
              <a:tblPr/>
              <a:tblGrid>
                <a:gridCol w="1487160"/>
                <a:gridCol w="2124360"/>
                <a:gridCol w="2512800"/>
                <a:gridCol w="2371680"/>
              </a:tblGrid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INCI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DIM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FEC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EJEMP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POSI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acontecimient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o incrementa la conducta que precede a la ocurrenci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1°: comida, agua, se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. 2°: dinero, alabanz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FUERZO NEGAT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mpide la presentación de un estímulo aversiv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talece la conducta que permite evitar o escapar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scape: tomar una aspirina para no tener dolor de cabeza (inmediato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dic. Evitación:  usar crema protectora para evitar quemaduras de sol (a futur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ASTI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produce un estímulo aversivo  (indeseab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suprime la respuesta. Los organismos dejan de realizar conductas con consecuencias aversiv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ulta, por exceso de velocida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rse suspendido, por faltar a cl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NTRENAMIENTO POR OMI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a respuesta interrumpe o impide un estímulo agrad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ebilita la conducta que precede a la pérdida del estímu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Los padres dejan sin auto a su hijo durante el fin de sem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1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XTIN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a respuesta aprendida no se refuerza, gradualmente deja de realizar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isminuye o desaparece la respuesta reforzada previam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i un programa de TV te aburre, con el tiempo dejarás de verl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APLICACIÓ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Cualquier evento cuya presencia incrementa la probabilidad de que vuelva a ocurrir la conducta en curso se llama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de los siguientes no es un ejemplo de conducta operante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después de recibir comid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a rata que presiona una palanca para evitar una descarga por esta conducta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niño que estudia para obtener la aprobación del maestro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entury Schoolbook"/>
              </a:rPr>
              <a:t>Un parpadeo después de un destello de luz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DIVERSIDAD-UNIVERSALIDAD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2060280"/>
            <a:ext cx="80755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Debate respecto a la similitud o diferenciación entre las persona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as personas se parecen entre sí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Qué ocurre entre los diversos grup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los chilenos somos iguales o hay diferencias entre nosotros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575f6d"/>
                </a:solidFill>
                <a:latin typeface="Century Schoolbook"/>
              </a:rPr>
              <a:t>QUE NOMBRE RECIBE CADA UNA DE LAS SIGUIENTES ACCION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Recibir un diploma por realizar un curs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Tomar un paraguas para no mojarse o pagar la hipoteca para evitar un embargo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a persona realiza ventas por comisió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soldado es detenido por ausentarse del cuart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padre le dice a su hijo: “si estudias te daré un premio…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Un caballo galopa para escapar de la fusta de un jine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575f6d"/>
                </a:solidFill>
                <a:latin typeface="Century Schoolbook"/>
              </a:rPr>
              <a:t>ACTIVIDAD EN AUL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56840" y="2204640"/>
            <a:ext cx="84358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Formen tríos entre sus compañer@s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568180"/>
                </a:solidFill>
                <a:latin typeface="Verdana"/>
              </a:rPr>
              <a:t>Elaboren un ejemplo aplicado al control conductual en la sala de clases de niños de 2ª Básico de acuerdo a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Recompensa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Entrenamiento de Omisión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Castig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476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568180"/>
                </a:solidFill>
                <a:latin typeface="Verdana"/>
              </a:rPr>
              <a:t>Refuerzo Negativo</a:t>
            </a:r>
            <a:endParaRPr b="0" lang="en-US" sz="19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56818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MENTE-CUERPO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6840" y="2060280"/>
            <a:ext cx="814716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ómo están conectados la mente y el cuerpo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Se preocupa de estudiar la relación entre lo que sentimos (ej: pensamientos, sentimientos) y los procesos biológicos a la bas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7200" y="2133720"/>
            <a:ext cx="829152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Pedro siempre ha sido una persona más bien triste, siempre ha tenido amigos parecidos a él, ahora desde que dejó de pololear con Paola su ánimo ha decaído y le ha dicho a sus amigos que se va a suicidar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Dónde radicará la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575f6d"/>
                </a:solidFill>
                <a:latin typeface="Century Schoolbook"/>
              </a:rPr>
              <a:t>REFLEXIONA SOBRE LAS SIGUIENTES SITUACION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457200" y="1844280"/>
            <a:ext cx="8291520" cy="462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Juan es un niño de diez años,  hijo de padres divorciados, viene de un hogar con mucha violencia intrafamiliar. Cuando se enfada insulta y pega a sus compañero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entury Schoolbook"/>
              </a:rPr>
              <a:t>¿Cuál será la posible causa de su conducta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3T02:59:52Z</dcterms:created>
  <dc:creator>Edita Núñez Sotelo</dc:creator>
  <dc:description/>
  <dc:language>en-US</dc:language>
  <cp:lastModifiedBy>AOgaldeS</cp:lastModifiedBy>
  <dcterms:modified xsi:type="dcterms:W3CDTF">2012-04-09T15:52:02Z</dcterms:modified>
  <cp:revision>13</cp:revision>
  <dc:subject/>
  <dc:title>Psicología</dc:title>
</cp:coreProperties>
</file>