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C8F2-EFFA-4214-8C93-43F4CDFB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98FB-4421-41CF-9BBE-4ABA717F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88FA-9D19-45DE-A5BB-95B89D82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2E84-71C8-4521-8EB0-AF70B0F3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DD6D-1678-47CE-BCE8-438B666F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BA04-BD28-438D-B59C-A02DA64F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EB31-B08A-4404-8D7D-3E7D3D6F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EF57-330C-4BEC-94FD-77BB8439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C425-F492-4165-9A42-9EFECF15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5BCF-0105-4A99-BC82-7ECB3F0C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7D37-BFD6-4714-957C-ACB1424C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6957-38E2-4AA9-8B78-F3EADA1D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B0B0-E6CC-4636-8990-E9E0B441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1528-B156-400D-8DEB-E1D1848E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6251-C9F1-4FA8-BF0F-27DAC715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1F26-D485-4F47-86E9-10895AE8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EB4A-2831-416B-9090-65F399E4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B1C3B-4E9A-43B2-BDA7-952A1695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F0B10-698A-4262-A372-4CBAD0FB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62F68-EA4A-4459-BEE9-367B652D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539D1-4005-425B-BF67-B512BF35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9D4C9-3B60-4F31-B8D5-4443CD48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6FF-069C-4658-BF00-AA8C941E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E3D8C-9BC1-4987-8222-267EFA78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8E8B9-A5A4-4AE2-BBF1-48ECB215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32343-470B-417E-8B73-5305D3DF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A2B1F-14BC-4D10-A63C-3B94829C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DE668-6C8B-4466-A3FE-533E64BC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50397-FA83-4F76-92F4-36A79CC8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A495D-89FD-4B3F-B315-F92CB539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EE3CA-4D35-4DC1-8806-78705AE7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5153A-8C31-4E23-B86B-4036D056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8C41A-A33B-44F7-B7AF-00257419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23C2-61E7-4D37-8C3E-266C3DA3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6167B-758C-40F7-8A8D-A376CEA8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71750-CC3A-438F-B183-C80BE100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EC008-EAFD-4ECE-9963-5E25CEBF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ADC15-5A59-4D29-9F1B-C2301A78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69C30-B9C5-4CF4-A0A7-22D89B4F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15070-35A4-433A-A780-957C85E9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B27EE-AABF-4EE3-A294-E8DBCF66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6425B-A314-4A24-97B8-DFC2191C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6A50A-E116-4730-B7CF-8C5C40AC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9992-7FDB-452B-93F5-75E3E92E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2886-C0F2-476A-8FC4-697CE87D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D1B8-D856-4A63-B8CA-0665259E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9ACE-C3D8-4D63-8BE8-8D36523C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1E0-2DD8-45A4-8C53-890A0D3C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EDD3-BDD0-4C06-900F-86D7F78E8735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338F-16B7-4CFE-9B74-833C6964781B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FBD7-B4A3-44DD-AFFB-42A85600D2FD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8F6E-13A3-4F61-A5E0-DA060F2FF09C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1994040" y="1206360"/>
            <a:ext cx="6186240" cy="197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71720" y="35719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Edita Núñez Sotelo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Ps. U. de Chile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Mg. Desarrollo Cognitivo UDP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ualismo mente-cuerp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teoría de Descartes dividió el campo de estudio de la conducta humana y surgieron dos tradiciones distin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studio de la mente human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su funcionamiento. La introspección fue su método de análi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stigación sobre los reflej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Cómo estos son provocados por estímulos externos que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activan los órganos sensorial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Su estudio fue realizado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fisiólog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mediante la observación y la experiment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deas previa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ntido Comú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rcicio práctic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 su compañero/a, reflexione acerca de las ideas de sentido común relacionadas con el saber y la práctica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sicología del sentido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istencia previ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, en todos nosotros, de ideas, creencias y teorías acerca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por qué las personas hacen lo que hac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 univers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seres human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herramienta fundament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ntendimiento, predicción y contro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demá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asa en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upuesto de igualdad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 que es válido para mí debe serlo para tod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 obstante esto, s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be hu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sentido comú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tui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no es un criterio válido para construir ciencia psic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1484280"/>
            <a:ext cx="8454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entido comú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váli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ól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stablecimiento de hipótesi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no para su comprob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ducta human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como objeto de estudio, debe s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dependiente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nosotros mis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Finalmente…</a:t>
            </a:r>
            <a:br>
              <a:rPr sz="4500"/>
            </a:b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¿Qué estudia la Psicología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es una ciencia que estudia el comportamiento de los seres vivos y los procesos mentales por los que los sujetos conocen y se orientan en su entorno y aprenden de la exper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erimen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tilización método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servación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rigurosa y sistemátic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 los fenómenos psicológ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arte de los hechos y busca sus regularidades mediante 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verificación empír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cléc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coge datos aportados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otras disciplin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(biología, sociología, antropolog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ee un carácte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multidisciplinar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ya 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tá interesada en el comportamiento (psic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De un organismo (b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Que aprende a adaptarse al medio ambiente (ecología) cambian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Mediante la relación con otros seres (soc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n olvidar la cultura en la cual se desarroll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opera c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tintos niveles de análi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as las disciplinas pertenecientes a esta ciencia trabajan en alguno de dichos nive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social se ocupa mas del estudio de  los grup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clínico se centrará en el diagnóstico y tratamiento de individuos con problemas emocionales o de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versas concepciones acerca de la psicolog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penden de las distintas ideas sobre la naturaleza del ser humano (filosofía) y de las formas del conocimiento (epistemologí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resent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verse con su compañero/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porqué eligió estudiar bachillerat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é experiencia cercana ha tenido con la labor de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flexione brevemente respecto de cómo se vivió el último terremoto que afectó a nuestro paí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ómo ha sido la conducta de las persona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e emociones nos han invadid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ree usted que en estas circunstancias son necesario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935000"/>
          <a:ext cx="8229600" cy="404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iveles de análi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ltern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umana, otras e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tina, gitana, anglosajon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u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milia, pandilla, grupo, 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í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eja, díada madre-hijo, profesor-alumno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vid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os, niños, discapacitados, estudiantes universitario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ceso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lidad, atención memoria, motivación, inteligenci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ponente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ducta manifiesta, bases fisiológica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isciplina académic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bus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scrib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la tarea básica de la psicología es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coger datos y recabar información detalla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sobre los procesos cognitivos y los comportamien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: si un sujeto padece insomnio hay que investigar que estímulos influyen, en que situaciones se produce, o que problema le impide conciliar el sueñ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ic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la psicología no se conforma con describir los hechos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ta de averiguar las causas de determinad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ell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ula hipótesis o explicacion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asadas en una teor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empre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visionales y sujetas a revis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a medida que se tiene mayor conocimiento de la conducta que se investig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deci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es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pacidad para pronosticar un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relación causa-efecto dentro del ambiente nos asegura con bastante fiabilidad que unos hechos preceden a otr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Podemos saber si alguien mantendrá una conversación con nosotros por su forma de mirarn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render  a predecir acontecimientos es necesario para adaptarnos a nuestro entor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42960" y="157140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trol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signific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terar las condiciones que influyen en el comportamiento de manera predec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si una profesora sugiere cambios en clase para ayudar a adolescentes en su aprendizaje, ha ejercido un cont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obstante esto, algunas actividades humanas no son normales porque ocurren en situaciones inapropi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ritar se aprueba socialmente si uno se encuentra viendo un partido de fútbol, pero se prohíbe en una catedr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preguntas que se hacen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isi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por ejemplo a nivel de anatomía, fisiología, etc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enomen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relacionadas con la experiencia subjetiv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conductu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hace referencia 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s del comportamient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que pueden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er observada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modo objetivo. Aplicación del método científ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n este último nivel trabaja la psicología científ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álisis de la conducta con el objetivo de entender la organización interna del siste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tablecimiento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relaciones funcional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entre situaciones (estímulos) y conducta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una relación funcional 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pción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conducta o los cambios conductuales que suceden en una determinada situación ambien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 relación funciona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be pero no explic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escubrimiento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structura y procesos internos del sistem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usca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plicación de las razon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or las cuales el sistema se comporta como lo hace en una situación da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proximación  a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“caja negra”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visualización del cerebro en ac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932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caja negra en el estudio de los procesos psicológicos superiores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557360"/>
            <a:ext cx="8270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uerpo de conocimiento de cómo está estructurado nuestro sistema cognitivo y como realizan sus funcio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sación y Percep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tención y conci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moción, sentimientos y estados de áni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teli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prendizaj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siempre ha existido interés por comprender nuestra conducta y la de nuestros semeja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épocas pasadas la vida humana era más simpl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actualidad, nuestra sociedad es má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lej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mas postmoderna, requerimos más información para poder funcion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4360" y="1268280"/>
            <a:ext cx="8270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aplicación d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método científico vali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l objeto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troversi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respecto a l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enomenológ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investig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nt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l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7164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éto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ienza con un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de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presentimiento, intuición o suposición acerca de algo, lo que se constituye como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realiza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rediccion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(preguntas) sobre las conductas observ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8728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ayoritariamente, el objetivo de los estudios psicológicos es la comprobación d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 genera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que so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plicab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oblación en general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y no solo a los sujetos participantes en el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82600" y="105228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actor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considerar para pod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los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Tamañ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a muestr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uestra amplia y datos promedi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lecció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leatori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os sujetos de la mues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plicabilidad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estudio por otros investigadores en otras ciudades o paí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istingue entre ciencia básica y ciencia aplic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básic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dica a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c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medi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étodo científ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aplicada utiliz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ocimient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los diferentes ambiente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gener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r la naturaleza y funcionamient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os “procesos psicológicos básicos” como la percepción, la memoria o el pens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xperiment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os procesos psicológicos mediant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eños experimentales de laboratori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Es el área de la psicología más rigurosa y científica y utiliza tanto animales como seres humanos en sus investig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biolog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obiólogos estudi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ases biológicas del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no sólo el sistema nervioso y endocrino, sino también las influencias de la genética o la farmacología en l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porqué unas lesiones del cerebro producen pérdida de memoria y otras causan trastornos del lenguaje?...¿qué áreas cerebrales son importantes en las emociones human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volu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Ésta se preocupa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mbi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que se producen dur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arrollo del ciclo vi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uáles son las etapas del desarrollo de la inteligenci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hay una decadencia de la memoria en la vejez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soci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campo de estudio es muy amplio y abarca problemas diversos, como el análisis de la publicidad o las influencias de un grupo sobre el individu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influye la sociedad en el comportamiento de los individu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 la persona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 la personalidad investigan qu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racterísticas definen a una person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como interactúan las fuerzas genéticas y ambientales en la personalidad del individuo y porqué este se comporta de una forma y no de o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se nace con determinada personal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tim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alabra Psicología proviene de dos términos grieg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logos</a:t>
            </a: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significan alma (entendida como lo que “anima” o “da vida” al cuerpo),  y conocimiento o ciencia de la mis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s raíces se encuentran el la filosofía, la fisiología y la metodología científ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aprendizaj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l aprendizaje, mediante la investigación animal y humana, han demostrado algun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cesos que influyen en el aprendizaj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las diferencias entre las diversas especies respecto a su capacidad para aprender conductas concret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iferen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 disciplina investig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individual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presentan los individuos, por ejemplo niños retrasados o superdotad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arándolo con la media de su grup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refe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principal herramienta es la utilización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es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sicológicos pa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studiar distintas capacidades huma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ult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ulturales investig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qu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ultura afecta al pensamiento y al comportamiento huma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enguaje que hablamos, la educación que recibimos, las leyes que obedecemos y otros muchos comportamientos dependen de la cultura en la que hemos creí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entre hombres y muje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la forma en que se desarroll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factores biológicos, la crianza, la educación, los estereotipos influyen en la diferencia de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iber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terne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un marco de referencia para diseñar estudios experimentales, crear aulas virtuales en las que desarrollar nuevos enfoques docentes o crear nuevos procedimientos de investigació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alidad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en los contexto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tiende a la dimensión normal, individual o colectiva y también a la conducta pat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duc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educativos analizan la realidad educativ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alizan e interpretan pruebas psicológicas para ayudar a los estudiantes en sus decis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rientan a padres y profesores para lograr mejor rendimiento de los años escola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pueden los niños mejorar su aprendizaje y su creativ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línic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línicos diagnostican y tratan problemas emocionales y de conducta, desde los más débiles, como falta de autoestima o timidez, hasta los más problemáticos como la separación de parejas, el estrés o la depres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yudan al ser humano a enfrentarse a su propio sufri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industrial y de las organiz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selección y entrenamiento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bajado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ejorar las relaciones human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el ámbito labo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Tall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su devenir histórico la psicología ha tenido varios objetos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l al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m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limitar su campo de investigación y crear métodos y técnicas propias permitieron su independ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Grecia antigua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lat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fendía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cepción dualist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a naturaleza hum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hombre estaba compuesto de alma y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rigen divin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una realidad distinta el cuerpo material, y a consecuencia de una culpa cometida llegó desde el otro mundo a encarnarse en un cuerpo mor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ás tarde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ristótel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ncibió la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mo un elemento o principi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iológic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así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piedad esencial del ser viv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y no era independiente del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ra de este el alma carecía de sentido y exist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s dos ideas de “alma” integradas en un horizonte filosófico son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icios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siglo XVII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produce un cambio de perspectiva con el comienzo de la filosofía moderna atribuida al filósofo y matemátic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né Descar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tes de sus ideas, cualquier función vital de los organismos se explicaba por la existencia del al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adie pensaba qu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 humanos pudieran deberse a la influencia de estímulos ambient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car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formuló un visión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os e involunt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gunos actos como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flej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on reacciones automáticas 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oluntarias a estímulos extern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tras acciones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as, gobernadas por la ment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(entidad no física) y debidas a que la persona elige comportarse as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1:55:38Z</dcterms:created>
  <dc:creator>Edita Núñez Sotelo</dc:creator>
  <dc:description/>
  <dc:language>en-US</dc:language>
  <cp:lastModifiedBy>Edita Núñez Sotelo</cp:lastModifiedBy>
  <dcterms:modified xsi:type="dcterms:W3CDTF">2012-03-12T03:23:43Z</dcterms:modified>
  <cp:revision>13</cp:revision>
  <dc:subject/>
  <dc:title>PSICOLOGÍA</dc:title>
</cp:coreProperties>
</file>