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C608-DCD9-4EDC-B225-290F71A4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1EB-77EF-410C-A48A-459AFDD6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6CBE-6157-49C2-A668-FEF4D3E7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3FBA-7689-4D9E-8F8F-74B00EDF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6C12-7806-4129-B2FC-678F8D96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767C-6CE3-4D17-892D-CCBE099A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0DB4-42EF-460D-956E-3523DB59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F280-CCCC-4741-AEF8-FC2B271D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5B97-CE82-49CC-ACE0-AF55BC07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B407-BF75-4A84-8375-D75F214A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55DE-CA74-4A20-B1DA-CA93D5AB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3579-D08F-48F5-9FA1-292F5C7A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E7BB-BFCE-4C0F-90B0-0643146B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5C20-5823-4E49-93E3-2881B2C6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924F-958C-4C34-8F02-11BF19D3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6B8B-1766-4876-9AA3-6844B9B5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AC71-712D-4756-A627-4BC3F338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237C6-5980-4645-AC61-F6CD919A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D3A4B-6BDE-461E-9560-332896C1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FDCE9-0AAA-41D5-953B-AFFD8C6F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A869C-E6C5-446A-A815-D7034F36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ABE3B-5731-4E16-ADA8-CB239D1E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02B2-1D55-4AE9-863C-8F8FD328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110EA-84EE-47EA-9D91-077EC3A7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42BDB-ED51-4111-8179-F694AE58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3291A-9123-41E2-BD8E-AE6EBA75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EC856-40F8-4AF0-8D02-FBD79493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9DDEC-B1C6-444A-A61D-A4CC6156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D7B9F-E919-48D2-8673-88A09796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3A3E0-D752-477F-9F22-E3506095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DD34C-8246-474A-A9EC-BD02DC28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0DCCC-490C-4F07-84EC-0C964393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1F157-A82E-4382-87B1-3963A803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211-8CF5-4F3E-9642-71B1D268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59E63-AA3D-4D19-8334-365B7032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DEACC-88AD-4587-A3B6-A7CC5300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8B2D1-D16B-48C8-9F0C-45347486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299A6-55CC-48FA-AD10-A62B0DE2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3638B-013B-4136-9F41-DDCB7C5E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FB144-1E38-40B9-8CC7-D1EF60D8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2AEBA-7FEE-4E15-A257-4DFF5480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B5518-4B15-4B5C-95AB-AA00DE30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837B2-FE90-4DFF-A63F-ABE878DB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F297-5A10-432C-A9AA-63741568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DE88-ECEB-4BB4-92AA-BC61C7C4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890-A59E-467C-8A73-07E5D905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010-B82F-4E0A-9F0F-3F65B0B3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29EB-F6D5-4AF7-BFF9-9EE89720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AC7D-F8B5-4299-898F-AEAFCB981BDE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E88C-876E-4DAC-B4BD-12A5703D4730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2D2F-9BF5-4B82-A571-325D4E49D35A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F0F0-4B8A-434B-974C-B973F9A16095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1994040" y="1206360"/>
            <a:ext cx="6186240" cy="197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71720" y="35719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Edita Núñez Sotelo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Ps. U. de Chile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Mg. Desarrollo Cognitivo UDP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ualismo mente-cuerp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de Descartes dividió el campo de estudio de la conducta humana y surgieron dos tradiciones distin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studio de la mente human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su funcionamiento. La introspección fue su método de análi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stigación sobre los reflej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Cómo estos son provocados por estímulos externos que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activan los órganos sensorial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Su estudio fue realizado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fisiólog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mediante la observación y la exper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deas previa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ido Comú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cio práctic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 su compañero/a, reflexione acerca de las ideas de sentido común relacionadas con el saber y la práctica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sicología del sentido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istencia previ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, en todos nosotros, de ideas, creencias y teorías acerca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por qué las personas hacen lo que hac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 univers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seres human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herramienta fundament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ntendimiento, predicción y contro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demá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asa en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upuesto de igualdad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 que es válido para mí debe serlo para tod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obstante esto, s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be hu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sentido comú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tui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no es un criterio válido para construir ciencia psic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484280"/>
            <a:ext cx="8454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entido comú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váli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ól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stablecimiento de hipótesi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no para su comprob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ducta human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como objeto de estudio, debe s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dependiente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nosotros mis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Finalmente…</a:t>
            </a:r>
            <a:br>
              <a:rPr sz="4500"/>
            </a:b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¿Qué estudia la Psicología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es una ciencia que estudia el comportamiento de los seres vivos y los procesos mentales por los que los sujetos conocen y se orientan en su entorno y aprenden de la exper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erim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tilización método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servación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rigurosa y sistemátic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los fenómenos psic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te de los hechos y busca sus regularidades mediante 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verificación empí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cléc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oge datos aportados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otras disciplin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(biología, sociología, antrop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ee un carácte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multidisciplinar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ya 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tá interesada en el comportamiento (psic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De un organismo (b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Que aprende a adaptarse al medio ambiente (ecología) cambia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Mediante la relación con otros seres (soc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n olvidar la cultura en la cual se desarrol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opera c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tintos niveles de análi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as las disciplinas pertenecientes a esta ciencia trabajan en alguno de dichos niv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social se ocupa mas del estudio de  los gru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clínico se centrará en el diagnóstico y tratamiento de individuos con problemas emocionales o de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versas concepciones acerca de la psicolog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s distintas ideas sobre la naturaleza del ser humano (filosofía) y de las formas del conocimiento (epistemologí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esen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verse con su compañer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qué eligió estudiar bachillera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é experiencia cercana ha tenido con la labor de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flexione brevemente respecto de cómo se vivió el último terremoto que afectó a nuestro paí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ómo ha sido la conducta de las persona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e emociones nos han invadi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ree usted que en estas circunstancias son necesario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935000"/>
          <a:ext cx="8229600" cy="40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iveles de anál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ltern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umana, otras e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ina, gitana, anglosajon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u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milia, pandilla, grupo,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í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eja, díada madre-hijo, profesor-alumno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os, niños, discapacitados, estudiantes universitario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ceso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lidad, atención memoria, motivación, inteligenci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ponente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ducta manifiesta, bases fisiológic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isciplina académic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bus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scrib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la tarea básica de la psicología e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coger datos y recabar información detalla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sobre los procesos cognitivos y los comportamien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: si un sujeto padece insomnio hay que investigar que estímulos influyen, en que situaciones se produce, o que problema le impide conciliar el sueñ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ic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la psicología no se conforma con describir los hechos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ta de averiguar las causas de determinad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ell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ula hipótesis o explicacion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asadas en una teor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empre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visionales y sujetas a revis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a medida que se tiene mayor conocimiento de la conducta que se investi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deci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es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pacidad para pronosticar un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lación causa-efecto dentro del ambiente nos asegura con bastante fiabilidad que unos hechos preceden a otr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Podemos saber si alguien mantendrá una conversación con nosotros por su forma de mirarn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 a predecir acontecimientos es necesario para adaptarnos a nuestro entor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960" y="15714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trol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signific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terar las condiciones que influyen en el comportamiento de manera predec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si una profesora sugiere cambios en clase para ayudar a adolescentes en su aprendizaje, ha ejercido un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obstante esto, algunas actividades humanas no son normales porque ocurren en situaciones inapropi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ritar se aprueba socialmente si uno se encuentra viendo un partido de fútbol, pero se prohíbe en una catedr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preguntas que se hacen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isi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por ejemplo a nivel de anatomía, fisiología, et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enomen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relacionadas con la experiencia subjetiv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conductu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hace referencia 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s del comportamient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que pueden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er observada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modo objetivo. Aplicación del método científ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este último nivel trabaja la psicología científ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álisis de la conducta con el objetivo de entender la organización interna del sist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ablecimiento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relaciones funcional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entre situaciones (estímulos) y conducta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una relación funcional 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pción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conducta o los cambios conductuales que suceden en una determinada situación ambien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relación funciona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be pero no expl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scubrimiento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structura y procesos internos del siste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usca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plicación de las razon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or las cuales el sistema se comporta como lo hace en una situación d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proximación  a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“caja negra”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visualización del cerebro en ac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932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caja negra en el estudio de los procesos psicológicos superiores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557360"/>
            <a:ext cx="8270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uerpo de conocimiento de cómo está estructurado nuestro sistema cognitivo y como realizan sus funcio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sación y Percep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tención y conci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moción, sentimientos y estados de áni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eli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siempre ha existido interés por comprender nuestra conducta y la de nuestros semeja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épocas pasadas la vida humana era más simp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actualidad, nuestra sociedad es má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lej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mas postmoderna, requerimos más información para poder funcion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268280"/>
            <a:ext cx="8270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aplicación d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étodo científico vali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l objeto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vers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respecto a l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enome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investig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nt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l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164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éto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ienza con un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de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presentimiento, intuición o suposición acerca de algo, lo que se constituye como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aliza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rediccion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preguntas) sobre las conductas observ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8728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ayoritariamente, el objetivo de los estudios psicológicos es la comprobación d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 genera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que so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plicab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oblación en general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y no solo a los sujetos participantes en el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actor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considerar para pod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los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Tamañ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a muestr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uestra amplia y datos promedi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lecció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leatori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os sujetos de la mues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plicabilidad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estudio por otros investigadores en otras ciudades o paí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istingue entre ciencia básica y ciencia aplic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básic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dica a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c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medi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étodo científ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aplicada utiliz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ocimient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los diferentes ambiente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gener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r la naturaleza y funcionamien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“procesos psicológicos básicos” como la percepción, la memoria o el pens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xperiment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os procesos psicológicos mediant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eños experimentales de labor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el área de la psicología más rigurosa y científica y utiliza tanto animales como seres humanos en sus investig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biolog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obiólogos estudi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ases biológicas del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no sólo el sistema nervioso y endocrino, sino también las influencias de la genética o la farmacología en l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porqué unas lesiones del cerebro producen pérdida de memoria y otras causan trastornos del lenguaje?...¿qué áreas cerebrales son importantes en las emociones human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volu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Ésta se preocupa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mbi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se producen dur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arrollo del ciclo vi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uáles son las etapas del desarrollo de la inteligenci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hay una decadencia de la memoria en la vejez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soci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campo de estudio es muy amplio y abarca problemas diversos, como el análisis de la publicidad o las influencias de un grupo sobre el individu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influye la sociedad en el comportamiento de los individu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 la person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 la personalidad investigan qu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racterísticas definen a una person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como interactúan las fuerzas genéticas y ambientales en la personalidad del individuo y porqué este se comporta de una forma y no de o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se nace con determinada personal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tim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alabra Psicología proviene de dos términos grieg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logos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significan alma (entendida como lo que “anima” o “da vida” al cuerpo),  y conocimiento o ciencia de la mis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s raíces se encuentran el la filosofía, la fisiología y la metodología científ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aprendizaj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l aprendizaje, mediante la investigación animal y humana, han demostrado algun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cesos que influyen en el aprendizaj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las diferencias entre las diversas especies respecto a su capacidad para aprender conductas concret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iferen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 disciplina investig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individual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presentan los individuos, por ejemplo niños retrasados o superdotad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arándolo con la media de su grup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re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principal herramienta es la utilización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es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sicológicos pa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studiar distintas capacidades huma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ul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ulturales investig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qu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ltura afecta al pensamiento y al comportamiento huma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enguaje que hablamos, la educación que recibimos, las leyes que obedecemos y otros muchos comportamientos dependen de la cultura en la que hemos creí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entre hombres y muje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la forma en que se desarroll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factores biológicos, la crianza, la educación, los estereotipos influyen en la diferencia de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iber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terne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un marco de referencia para diseñar estudios experimentales, crear aulas virtuales en las que desarrollar nuevos enfoques docentes o crear nuevos procedimientos de investigació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alidad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en los contexto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tiende a la dimensión normal, individual o colectiva y también a la conducta pat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duc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educativos analizan la realidad educativ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alizan e interpretan pruebas psicológicas para ayudar a los estudiantes en sus deci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rientan a padres y profesores para lograr mejor rendimiento de los años escola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pueden los niños mejorar su aprendizaje y su creativ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línic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línicos diagnostican y tratan problemas emocionales y de conducta, desde los más débiles, como falta de autoestima o timidez, hasta los más problemáticos como la separación de parejas, el estrés o la de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yudan al ser humano a enfrentarse a su propio sufr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industrial y de las organiz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selección y entrenamiento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bajado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r las relaciones human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el ámbito labo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Tall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su devenir histórico la psicología ha tenido varios objetos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l al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limitar su campo de investigación y crear métodos y técnicas propias permitieron su indep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Grecia antigua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lat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fendía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cepción dualist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a naturaleza hum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hombre estaba compuesto de alma y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rigen divin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a realidad distinta el cuerpo material, y a consecuencia de una culpa cometida llegó desde el otro mundo a encarnarse en un cuerpo mor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ás tarde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ristótel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ncibió la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mo un elemento o principi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iológic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así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piedad esencial del ser viv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 no era independiente del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ra de este el alma carecía de sentido y exist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s dos ideas de “alma” integradas en un horizonte filosófico son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icios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siglo XVII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produce un cambio de perspectiva con el comienzo de la filosofía moderna atribuida al filósofo y matemátic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né Descar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tes de sus ideas, cualquier función vital de los organismos se explicaba por la existencia del al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adie pensaba qu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 humanos pudieran deberse a la influencia de estímulos ambient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car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formuló un visión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os e involunt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actos como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flej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on reacciones automáticas 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oluntarias a estímulos extern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ras acciones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as, gobernadas por la ment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entidad no física) y debidas a que la persona elige comportarse as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1:55:38Z</dcterms:created>
  <dc:creator>Edita Núñez Sotelo</dc:creator>
  <dc:description/>
  <dc:language>en-US</dc:language>
  <cp:lastModifiedBy>Edita Núñez Sotelo</cp:lastModifiedBy>
  <dcterms:modified xsi:type="dcterms:W3CDTF">2012-03-12T03:23:43Z</dcterms:modified>
  <cp:revision>13</cp:revision>
  <dc:subject/>
  <dc:title>PSICOLOGÍA</dc:title>
</cp:coreProperties>
</file>