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52078C-929D-4FE3-8060-13F956F39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F1DDD-5100-484A-BB6D-2F528E6DC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EEFF7B-9ED8-4FE4-B93F-73DF26A25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DB172C-B5A1-4318-8579-3BAA6FD364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B5F7FC-4F58-4402-AE01-969DA3A809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9293CE-BED6-4430-A6F8-D95892BEDF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34203-CD39-4384-87EC-0AF950152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F75D1C-67EA-4F24-A717-46C5A1E55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737884-E7DF-4EEC-90D6-68CB40581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D8EF9A-5924-4D3C-8074-9985191862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C10AB-E123-4C6F-B588-B6A45E5BC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205E5-2604-490D-A6DD-63C8ADA67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1FA89-725A-4BA9-89D1-75F589F94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38217-BCA3-4E21-9FCE-250776C35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F4CDA2-C119-440A-A4E6-0E96DC8229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1F7F58-0475-4135-AB58-9CAFD49598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E7F775-3F0A-4C74-A9DE-985F8C78F4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7CF659-63F7-41C2-A211-B3634B4828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0F1CA4-BBDB-4EA2-87D8-2ED366FFB6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247399-8E2F-4764-A58A-2136CD815E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AD438D-6EAC-4561-BB79-1AC1405439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AEF32C-F937-4E91-B1F0-4A86003616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FDD52-4072-4D3D-9264-7920C2182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6088ED-B6BF-4538-87C6-3E7BC7EA58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6826FB-FB79-4C9A-9B87-CC7A957D8E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48471E-AA4B-4235-808D-0DC637966A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76E6EF-98F8-4030-843B-4A4641CAA2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3844E4-5C00-41B0-A321-45C7F912ED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52B9F8-1D96-4CFA-BE10-9BD76E80A1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146372-5B66-4AB3-B517-B3EF7D0B24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E13D59-CF9C-4DB6-98C4-501C8DB09F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2E38F9-9F9D-4A60-AA35-2405E4F28F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E3F369-CD6F-407B-B8BA-58BAE124FB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8206F-0F16-45A5-B07C-E0499CCD4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D61B23-3F69-4CF2-A292-841D9C4F53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E98CDB-5F13-4BC2-B15C-45CEC997B7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9AEC97-90F5-4858-AA51-DBC7D793FE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3885CD-6113-4E56-A169-76E1DBD7B6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825F1A-9DF0-40C8-89C8-704804BDEB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A37243-09E8-4EBD-9813-480D8630FB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DAD643-3DDC-4496-A931-0847274350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C4681B-691F-434C-BCAB-A001B01E0A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5445EC-42A6-445B-B53D-90A4709352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3B8B21-AAC6-46C6-9EAF-0467CDFE29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8FB0F-8A08-4674-BE77-1109FA0A3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45C87F-3C72-4B3C-A0A4-9B3291A1B5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4AE29E-08F8-4996-A816-EB524EC9FC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5C6B9E-43CA-4D83-B446-40C94143AC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F41B61-E9BB-49B7-914F-BC0281B403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0D1A59-8336-40C4-A5F3-7185AB2E77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A116F6-BB44-4407-81C5-DCC5C8E650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C6FF70-A46B-40E8-8ADA-425DBC85E0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3C5467-4546-4E68-B17E-0A0E2B9F16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CE4E6C-4F37-4680-92C3-82E5413986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D10B04-B331-4758-9DAE-3958E8723C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DA91A-382E-4CDE-B243-B5EDC6187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8E10A9-CE09-4212-9A64-A6BACFA9C1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6F19D-A023-440B-8158-924DF5B55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00A38-7B34-424A-BCF0-8C413D065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7589A-B746-4396-BF7B-CE37810E58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080CC-510C-4FE5-9DB3-D8F029E80CC0}"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1 Rectángulo"/>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2 Rectángulo"/>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14 Rectángulo"/>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13184-4582-487F-BAC9-43A122BBDE8B}"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10 Rectángulo redondeado"/>
          <p:cNvGrpSpPr/>
          <p:nvPr/>
        </p:nvGrpSpPr>
        <p:grpSpPr>
          <a:xfrm>
            <a:off x="60480" y="60480"/>
            <a:ext cx="9028080" cy="6711840"/>
            <a:chOff x="60480" y="60480"/>
            <a:chExt cx="9028080" cy="6711840"/>
          </a:xfrm>
        </p:grpSpPr>
        <p:pic>
          <p:nvPicPr>
            <p:cNvPr id="91" name="10 Rectángulo redondeado"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11 Rectángulo"/>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12 Rectángulo"/>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14 Rectángulo"/>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CDBE4-DEAD-4835-9C93-C7D316A527CA}"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277F2-AFEC-42ED-AD85-A4EF41E0790D}"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9 Rectángulo"/>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10 Rectángulo"/>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11 Rectángulo"/>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F964E-7E18-44CC-B52A-2681A7670F46}"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229" name="PlaceHolder 2"/>
          <p:cNvSpPr>
            <a:spLocks noGrp="1"/>
          </p:cNvSpPr>
          <p:nvPr>
            <p:ph type="title"/>
          </p:nvPr>
        </p:nvSpPr>
        <p:spPr>
          <a:xfrm>
            <a:off x="971640" y="1412640"/>
            <a:ext cx="6966000" cy="215892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Franklin Gothic Book"/>
              </a:rPr>
              <a:t>LA CIENCIA DE LA PERSONALIDAD</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or ejemplo, las diferencias individuales de la ansiedad deben ser relacionadas con la realización de un examen</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O las diferencias individuales del temperamento deben relacionarse con la elección de la profesión. </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9"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ntraste con el énfasis clínico en la observación, la aproximación correlacional subraya la medición.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mparación con el énfasis clínico en el estudio del individuo o de pocas personas,</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la aproximación correlacional subraya la utilización de datos obtenidos de un gran número de sujeto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vez del énfasis holístico de la aproximación clínic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destaca las relaciones entre unos pocos elementos del funcionamiento de la personalidad.</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5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l énfasis está puesto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la medición de las diferencias individuales</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y el esfuerzo para establecer relaciones estadísticas entre estas diferencias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siendo cruciales los términos </a:t>
            </a:r>
            <a:endParaRPr b="0" lang="en-US" sz="26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diferencias individuales,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medición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a:t>
            </a:r>
            <a:r>
              <a:rPr b="0" i="1" lang="es-ES_tradnl" sz="2400" spc="-1" strike="noStrike">
                <a:solidFill>
                  <a:srgbClr val="000000"/>
                </a:solidFill>
                <a:latin typeface="Perpetua"/>
              </a:rPr>
              <a:t>relaciones estadísticas.</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Ventajas y limitaciones de la aproximación correlacional</a:t>
            </a:r>
            <a:endParaRPr b="0" lang="en-US" sz="2800" spc="-1" strike="noStrike">
              <a:solidFill>
                <a:srgbClr val="696464"/>
              </a:solidFill>
              <a:latin typeface="Franklin Gothic Book"/>
            </a:endParaRPr>
          </a:p>
        </p:txBody>
      </p:sp>
      <p:sp>
        <p:nvSpPr>
          <p:cNvPr id="25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se basa en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omo en la aproximación clínica, el interés se centra en el funcionamiento de la persona en una amplia serie de situacion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y en todos los aspectos de la personalidad.</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 todas formas, mientras la aproximación clínica se sirve tanto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de los datos de autoinforme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omo de las observaciones reales del comportamiento, como mínimo en el medio clínico,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se limita, normalmente, a los datos de autoinforme.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5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simismo, mientras la aproximación clínica generalmente deja una considerable libertad para las preguntas del clínico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y para la forma de responder del paciente o sujeto,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restringe el autoinforme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a los ítems de los cuestionario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a las alternativas que se dan como respuestas.</a:t>
            </a:r>
            <a:r>
              <a:rPr b="0" lang="es-ES" sz="2400" spc="-1" strike="noStrike">
                <a:solidFill>
                  <a:srgbClr val="000000"/>
                </a:solidFill>
                <a:latin typeface="Perpetua"/>
              </a:rPr>
              <a:t>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LA APROXIMACIÓN EXPERIMENTAL A LA PERSONALIDAD</a:t>
            </a:r>
            <a:endParaRPr b="0" lang="en-US" sz="2800" spc="-1" strike="noStrike">
              <a:solidFill>
                <a:srgbClr val="696464"/>
              </a:solidFill>
              <a:latin typeface="Franklin Gothic Book"/>
            </a:endParaRPr>
          </a:p>
        </p:txBody>
      </p:sp>
      <p:sp>
        <p:nvSpPr>
          <p:cNvPr id="26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implica la manipulación sistemática de variables para establecer relaciones causale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sta manipulación no se da en las aproximaciones clínica y correlacional.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l experimentador tiene que manipular una variable, la variable independiente,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medir los efectos sobre la segunda variable, la variable dependiente.</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63" name=""/>
          <p:cNvSpPr txBox="1"/>
          <p:nvPr/>
        </p:nvSpPr>
        <p:spPr>
          <a:xfrm>
            <a:off x="914400" y="1447920"/>
            <a:ext cx="7772400" cy="4572000"/>
          </a:xfrm>
          <a:prstGeom prst="rect">
            <a:avLst/>
          </a:prstGeom>
          <a:noFill/>
          <a:ln w="0">
            <a:noFill/>
          </a:ln>
        </p:spPr>
        <p:txBody>
          <a:bodyPr anchor="t">
            <a:normAutofit fontScale="95000"/>
          </a:bodyPr>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or ejemplo, el grado de amenaza o ansiedad (variable independiente)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uede ser aumentado de forma experimental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se pueden medir sus efectos observados sobre el aprendizaje o el rendimiento (variable dependiente).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ntraste con el énfasis clínico en el individuo, la aproximación experimental típicamente comporta el estudio de muchos sujeto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6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contraste con la aproximación correlacional, con su énfasis en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experimental destaca las leyes generales del funcionamiento psicológico que aplica a todas las persona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Franklin Gothic Book"/>
              </a:rPr>
              <a:t>Estudio científico de la personalidad</a:t>
            </a:r>
            <a:endParaRPr b="0" lang="en-US" sz="3600" spc="-1" strike="noStrike">
              <a:solidFill>
                <a:srgbClr val="696464"/>
              </a:solidFill>
              <a:latin typeface="Franklin Gothic Book"/>
            </a:endParaRPr>
          </a:p>
        </p:txBody>
      </p:sp>
      <p:sp>
        <p:nvSpPr>
          <p:cNvPr id="2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omprende el estudio sistemático de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y del funcionamiento organizado de la persona como un todo</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Investigaciones experimentales</a:t>
            </a:r>
            <a:endParaRPr b="0" lang="en-US" sz="4000" spc="-1" strike="noStrike">
              <a:solidFill>
                <a:srgbClr val="696464"/>
              </a:solidFill>
              <a:latin typeface="Franklin Gothic Book"/>
            </a:endParaRPr>
          </a:p>
        </p:txBody>
      </p:sp>
      <p:sp>
        <p:nvSpPr>
          <p:cNvPr id="26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contraste tanto con la investigación clínica como con la correlacional,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hay un control experimental directo sobre las variables de interés para el investigador</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26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Franklin Gothic Book"/>
              </a:rPr>
              <a:t>Investigación clínica</a:t>
            </a:r>
            <a:br>
              <a:rPr sz="4000"/>
            </a:b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696464"/>
                </a:solidFill>
                <a:latin typeface="Franklin Gothic Book"/>
              </a:rPr>
              <a:t>Jean Charcot y sus estudiantes</a:t>
            </a:r>
            <a:br>
              <a:rPr sz="4000"/>
            </a:br>
            <a:endParaRPr b="0" lang="en-US" sz="40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r>
              <a:rPr b="0" lang="es-ES_tradnl" sz="2400" spc="-1" strike="noStrike">
                <a:solidFill>
                  <a:srgbClr val="000000"/>
                </a:solidFill>
                <a:latin typeface="Perpetua"/>
              </a:rPr>
              <a:t>Jean Charcot (1825-1893)</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harcot estaba interesado en comprender los problemas de los pacientes histéricos de su clínica,</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r>
              <a:rPr b="0" lang="es-ES_tradnl" sz="2400" spc="-1" strike="noStrike">
                <a:solidFill>
                  <a:srgbClr val="000000"/>
                </a:solidFill>
                <a:latin typeface="Perpetua"/>
              </a:rPr>
              <a:t>personas que, por ejemplo, tenían parálisis que no se correspondían </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con ningún problema anatómico,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problemas de visión a pesar de un saludable órgano visual,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desmayos periódicos de causa desconocida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inexplicables amnesias o lagunas de la memoria</a:t>
            </a:r>
            <a:r>
              <a:rPr b="0" lang="es-ES"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Jean Charcot</a:t>
            </a:r>
            <a:endParaRPr b="0" lang="en-US" sz="4000" spc="-1" strike="noStrike">
              <a:solidFill>
                <a:srgbClr val="696464"/>
              </a:solidFill>
              <a:latin typeface="Franklin Gothic Book"/>
            </a:endParaRPr>
          </a:p>
        </p:txBody>
      </p:sp>
      <p:sp>
        <p:nvSpPr>
          <p:cNvPr id="27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harcot empezó a estudiar estos pacientes, a clasificar sus síntomas y a tratarl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la mayoría de veces mediante el uso de la hipnosi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Pierre Janet</a:t>
            </a:r>
            <a:endParaRPr b="0" lang="en-US" sz="4000" spc="-1" strike="noStrike">
              <a:solidFill>
                <a:srgbClr val="696464"/>
              </a:solidFill>
              <a:latin typeface="Franklin Gothic Book"/>
            </a:endParaRPr>
          </a:p>
        </p:txBody>
      </p:sp>
      <p:sp>
        <p:nvSpPr>
          <p:cNvPr id="27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studiante de Charcot (1859-1947),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ntinuó el estudio de Charcot sobre los trastornos de la histeria y su trabajo con la hipnosi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P. Janet</a:t>
            </a:r>
            <a:endParaRPr b="0" lang="en-US" sz="4000" spc="-1" strike="noStrike">
              <a:solidFill>
                <a:srgbClr val="696464"/>
              </a:solidFill>
              <a:latin typeface="Franklin Gothic Book"/>
            </a:endParaRPr>
          </a:p>
        </p:txBody>
      </p:sp>
      <p:sp>
        <p:nvSpPr>
          <p:cNvPr id="27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Janet procuró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istematizar las observaciones clínicas de la histeria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relacionarlas con conceptos psicológico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Janet descubrió que los pacientes hipnotizados podían </a:t>
            </a:r>
            <a:r>
              <a:rPr b="1" lang="es-ES_tradnl" sz="2600" spc="-1" strike="noStrike">
                <a:solidFill>
                  <a:srgbClr val="000000"/>
                </a:solidFill>
                <a:latin typeface="Perpetua"/>
              </a:rPr>
              <a:t>recordar</a:t>
            </a:r>
            <a:r>
              <a:rPr b="0" lang="es-ES_tradnl" sz="2600" spc="-1" strike="noStrike">
                <a:solidFill>
                  <a:srgbClr val="000000"/>
                </a:solidFill>
                <a:latin typeface="Perpetua"/>
              </a:rPr>
              <a:t> experiencias totalmente olvidadas cuando estaban bajo condiciones de consciencia normal.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Franklin Gothic Book"/>
              </a:rPr>
              <a:t>Morton Prince (1854-1929)</a:t>
            </a:r>
            <a:endParaRPr b="0" lang="en-US" sz="4400" spc="-1" strike="noStrike">
              <a:solidFill>
                <a:srgbClr val="696464"/>
              </a:solidFill>
              <a:latin typeface="Franklin Gothic Book"/>
            </a:endParaRPr>
          </a:p>
        </p:txBody>
      </p:sp>
      <p:sp>
        <p:nvSpPr>
          <p:cNvPr id="279"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rince es especialmente importante en la materia de la personalidad por dos razone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primer lugar, su libro </a:t>
            </a:r>
            <a:r>
              <a:rPr b="0" i="1" lang="es-ES_tradnl" sz="2800" spc="-1" strike="noStrike">
                <a:solidFill>
                  <a:srgbClr val="000000"/>
                </a:solidFill>
                <a:latin typeface="Perpetua"/>
              </a:rPr>
              <a:t>The Dissociation of Personality </a:t>
            </a:r>
            <a:r>
              <a:rPr b="0" lang="es-ES_tradnl" sz="2800" spc="-1" strike="noStrike">
                <a:solidFill>
                  <a:srgbClr val="000000"/>
                </a:solidFill>
                <a:latin typeface="Perpetua"/>
              </a:rPr>
              <a:t>(1906) contenía descripciones de casos de </a:t>
            </a:r>
            <a:r>
              <a:rPr b="1" lang="es-ES_tradnl" sz="2800" spc="-1" strike="noStrike">
                <a:solidFill>
                  <a:srgbClr val="000000"/>
                </a:solidFill>
                <a:latin typeface="Perpetua"/>
              </a:rPr>
              <a:t>personalidad múltiple, </a:t>
            </a:r>
            <a:r>
              <a:rPr b="0" lang="es-ES_tradnl" sz="2800" spc="-1" strike="noStrike">
                <a:solidFill>
                  <a:srgbClr val="000000"/>
                </a:solidFill>
                <a:latin typeface="Perpetua"/>
              </a:rPr>
              <a:t>o personas en las que existen dos o más personalidades distintas y separada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 menudo algunas de estas personalidades no tienen conocimiento de la existencia de las otra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H. Murray </a:t>
            </a:r>
            <a:r>
              <a:rPr b="0" lang="es-ES_tradnl" sz="4400" spc="-1" strike="noStrike">
                <a:solidFill>
                  <a:srgbClr val="696464"/>
                </a:solidFill>
                <a:latin typeface="Franklin Gothic Book"/>
              </a:rPr>
              <a:t>(1883-1988)</a:t>
            </a:r>
            <a:endParaRPr b="0" lang="en-US" sz="4400" spc="-1" strike="noStrike">
              <a:solidFill>
                <a:srgbClr val="696464"/>
              </a:solidFill>
              <a:latin typeface="Franklin Gothic Book"/>
            </a:endParaRPr>
          </a:p>
        </p:txBody>
      </p:sp>
      <p:sp>
        <p:nvSpPr>
          <p:cNvPr id="28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enry Murray, autor del monumental </a:t>
            </a:r>
            <a:r>
              <a:rPr b="0" i="1" lang="es-ES_tradnl" sz="2600" spc="-1" strike="noStrike">
                <a:solidFill>
                  <a:srgbClr val="000000"/>
                </a:solidFill>
                <a:latin typeface="Perpetua"/>
              </a:rPr>
              <a:t>Explorations in Personality </a:t>
            </a:r>
            <a:r>
              <a:rPr b="0" lang="es-ES_tradnl" sz="2600" spc="-1" strike="noStrike">
                <a:solidFill>
                  <a:srgbClr val="000000"/>
                </a:solidFill>
                <a:latin typeface="Perpetua"/>
              </a:rPr>
              <a:t>(1938),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ntecesor de una generación de psicólogos de la personalidad interesados en el estudio intensivo del individuo.</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Todo esto mediante la combinación de métodos clínicos y de otros métodos de investigació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696464"/>
                </a:solidFill>
                <a:latin typeface="Franklin Gothic Book"/>
              </a:rPr>
              <a:t>Sigmund Freud</a:t>
            </a:r>
            <a:r>
              <a:rPr b="0" lang="es-ES_tradnl" sz="4400" spc="-1" strike="noStrike">
                <a:solidFill>
                  <a:srgbClr val="696464"/>
                </a:solidFill>
                <a:latin typeface="Franklin Gothic Book"/>
              </a:rPr>
              <a:t>( 1856-1939)</a:t>
            </a:r>
            <a:endParaRPr b="0" lang="en-US" sz="4400" spc="-1" strike="noStrike">
              <a:solidFill>
                <a:srgbClr val="696464"/>
              </a:solidFill>
              <a:latin typeface="Franklin Gothic Book"/>
            </a:endParaRPr>
          </a:p>
        </p:txBody>
      </p:sp>
      <p:sp>
        <p:nvSpPr>
          <p:cNvPr id="283" name=""/>
          <p:cNvSpPr txBox="1"/>
          <p:nvPr/>
        </p:nvSpPr>
        <p:spPr>
          <a:xfrm>
            <a:off x="914400" y="1447920"/>
            <a:ext cx="7772400" cy="4572000"/>
          </a:xfrm>
          <a:prstGeom prst="rect">
            <a:avLst/>
          </a:prstGeom>
          <a:noFill/>
          <a:ln w="0">
            <a:noFill/>
          </a:ln>
        </p:spPr>
        <p:txBody>
          <a:bodyPr anchor="t">
            <a:normAutofit fontScale="95000"/>
          </a:bodyPr>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tercer alumno notable de Charcot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uno de los gigantes intelectuales del siglo veinte.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u teoría de la personalidad y método de terapia, el psicoanálisis, ha influido millones de vidas y a toda nuestra sociedad.</a:t>
            </a:r>
            <a:endParaRPr b="0" lang="en-US" sz="2400" spc="-1" strike="noStrike">
              <a:solidFill>
                <a:srgbClr val="000000"/>
              </a:solidFill>
              <a:latin typeface="Perpetua"/>
            </a:endParaRPr>
          </a:p>
          <a:p>
            <a:pPr marL="259200" indent="-2592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s bases de su teoría</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u énfasis en los procesos inconscientes</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 importancia de los instintos sexuales y agresivos, </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 importancia de la experiencia temprana en la formación de la personalidad, </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l papel de la ansiedad y de los mecanismos de  defensa en la formación de las neurosis</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l ello, el yo y el super yo</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Método psicoanálitico</a:t>
            </a:r>
            <a:endParaRPr b="0" lang="en-US" sz="4000" spc="-1" strike="noStrike">
              <a:solidFill>
                <a:srgbClr val="696464"/>
              </a:solidFill>
              <a:latin typeface="Franklin Gothic Book"/>
            </a:endParaRPr>
          </a:p>
        </p:txBody>
      </p:sp>
      <p:sp>
        <p:nvSpPr>
          <p:cNvPr id="285"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n su esencia, el psicoanálisis como método clínico de investigación trata sobre, por ejemplo</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deseos y miedos que tiene la gente,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us recuerdos del pasado y el sentido que dan a estos recuerdos respecto a su funcionamiento actual,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recuerdos de sus interrelaciones en la infancia y cómo éstos afectan sus interrelaciones del presente,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us intentos para hacer frente a sentimientos dolorosos como la ansiedad y la vergüenza (Lewis, 1992a),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y su aversión a compartir pensamientos y sentimientos con otros, a veces con uno mismo.</a:t>
            </a:r>
            <a:r>
              <a:rPr b="0" lang="es-ES"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Franklin Gothic Book"/>
              </a:rPr>
              <a:t>Estudio científico de la personalidad</a:t>
            </a:r>
            <a:endParaRPr b="0" lang="en-US" sz="3600" spc="-1" strike="noStrike">
              <a:solidFill>
                <a:srgbClr val="696464"/>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Se pueden distinguir tres tradiciones en el campo de la personalidad como cienci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Aproximación clínic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Aproximación correlacion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Estudio experimenta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Críticos al psicoanálisis</a:t>
            </a:r>
            <a:endParaRPr b="0" lang="en-US" sz="4000" spc="-1" strike="noStrike">
              <a:solidFill>
                <a:srgbClr val="696464"/>
              </a:solidFill>
              <a:latin typeface="Franklin Gothic Book"/>
            </a:endParaRPr>
          </a:p>
        </p:txBody>
      </p:sp>
      <p:sp>
        <p:nvSpPr>
          <p:cNvPr id="287"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rimeros discípulos de Freud, como Adler y Jung,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e separan de él y fundan sus propias escuelas de análisis basadas en sus propias observaciones y teoría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Perpetua"/>
              </a:rPr>
              <a:t>Ellis y Beck. Mirada mas cognitiva</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jemplos de test de personalidad</a:t>
            </a:r>
            <a:endParaRPr b="0" lang="en-US" sz="4000" spc="-1" strike="noStrike">
              <a:solidFill>
                <a:srgbClr val="696464"/>
              </a:solidFill>
              <a:latin typeface="Franklin Gothic Book"/>
            </a:endParaRPr>
          </a:p>
        </p:txBody>
      </p:sp>
      <p:sp>
        <p:nvSpPr>
          <p:cNvPr id="28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Test proyectiv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T.A.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A.T – 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A.T. – H</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Rorschach</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http://3.bp.blogspot.com/_XOFUq5yqnJM/SrLn2CdqUaI/AAAAAAAAACA/_a5Mgs3ekFk/s320/test+de+rochard.bmp"/>
          <p:cNvPicPr/>
          <p:nvPr/>
        </p:nvPicPr>
        <p:blipFill>
          <a:blip r:embed="rId1"/>
          <a:stretch/>
        </p:blipFill>
        <p:spPr>
          <a:xfrm>
            <a:off x="900000" y="911160"/>
            <a:ext cx="7829640" cy="5432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http://1.bp.blogspot.com/_tOUMWnFgApU/SQiwdb0x86I/AAAAAAAABlg/p_iSSxFKw18/s400/Test+de+Rorschach+2.JPG"/>
          <p:cNvPicPr/>
          <p:nvPr/>
        </p:nvPicPr>
        <p:blipFill>
          <a:blip r:embed="rId1"/>
          <a:stretch/>
        </p:blipFill>
        <p:spPr>
          <a:xfrm>
            <a:off x="887400" y="1125360"/>
            <a:ext cx="7429680" cy="5329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6" descr="http://1.bp.blogspot.com/_tOUMWnFgApU/SQiwKUutfkI/AAAAAAAABlA/PUzoO3SdcFM/s400/Test+de+Rorschach+6.JPG"/>
          <p:cNvPicPr/>
          <p:nvPr/>
        </p:nvPicPr>
        <p:blipFill>
          <a:blip r:embed="rId1"/>
          <a:stretch/>
        </p:blipFill>
        <p:spPr>
          <a:xfrm>
            <a:off x="826920" y="349200"/>
            <a:ext cx="7685280" cy="6194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http://1.bp.blogspot.com/_iG-G4_489l8/TNmetwJqBZI/AAAAAAAAABI/1mmbckp-p1I/s400/lamian1.jpg"/>
          <p:cNvPicPr/>
          <p:nvPr/>
        </p:nvPicPr>
        <p:blipFill>
          <a:blip r:embed="rId1"/>
          <a:stretch/>
        </p:blipFill>
        <p:spPr>
          <a:xfrm>
            <a:off x="714240" y="571680"/>
            <a:ext cx="7672680" cy="561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http://3.bp.blogspot.com/_iG-G4_489l8/TNmfIttdc8I/AAAAAAAAABY/YUog-uhQxFQ/s400/lam3.jpg"/>
          <p:cNvPicPr/>
          <p:nvPr/>
        </p:nvPicPr>
        <p:blipFill>
          <a:blip r:embed="rId1"/>
          <a:stretch/>
        </p:blipFill>
        <p:spPr>
          <a:xfrm>
            <a:off x="1500120" y="0"/>
            <a:ext cx="5143680" cy="6370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http://4.bp.blogspot.com/_iG-G4_489l8/TNmgRne2mxI/AAAAAAAAABo/Wpc_WcniAbo/s400/lam5.jpg"/>
          <p:cNvPicPr/>
          <p:nvPr/>
        </p:nvPicPr>
        <p:blipFill>
          <a:blip r:embed="rId1"/>
          <a:stretch/>
        </p:blipFill>
        <p:spPr>
          <a:xfrm>
            <a:off x="452520" y="428760"/>
            <a:ext cx="8262720" cy="5929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http://4.bp.blogspot.com/_iG-G4_489l8/TNmgzbIHqAI/AAAAAAAAAB4/9MdCoeeDd8o/s400/lam7.jpg"/>
          <p:cNvPicPr/>
          <p:nvPr/>
        </p:nvPicPr>
        <p:blipFill>
          <a:blip r:embed="rId1"/>
          <a:stretch/>
        </p:blipFill>
        <p:spPr>
          <a:xfrm>
            <a:off x="785880" y="557280"/>
            <a:ext cx="7539120" cy="5729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http://1.bp.blogspot.com/_iG-G4_489l8/TNmhHUZgDoI/AAAAAAAAACQ/xzs2Vz-tsDE/s400/lam10.jpg"/>
          <p:cNvPicPr/>
          <p:nvPr/>
        </p:nvPicPr>
        <p:blipFill>
          <a:blip r:embed="rId1"/>
          <a:stretch/>
        </p:blipFill>
        <p:spPr>
          <a:xfrm>
            <a:off x="333360" y="266760"/>
            <a:ext cx="8310600" cy="625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696464"/>
                </a:solidFill>
                <a:latin typeface="Franklin Gothic Book"/>
              </a:rPr>
              <a:t>LA APROXIMACIÓN CLÍNICA A LA PERSONALIDAD</a:t>
            </a:r>
            <a:endParaRPr b="0" lang="en-US" sz="3200" spc="-1" strike="noStrike">
              <a:solidFill>
                <a:srgbClr val="696464"/>
              </a:solidFill>
              <a:latin typeface="Franklin Gothic Book"/>
            </a:endParaRPr>
          </a:p>
        </p:txBody>
      </p:sp>
      <p:sp>
        <p:nvSpPr>
          <p:cNvPr id="23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t>
            </a:r>
            <a:r>
              <a:rPr b="1" lang="es-ES_tradnl" sz="2600" spc="-1" strike="noStrike">
                <a:solidFill>
                  <a:srgbClr val="000000"/>
                </a:solidFill>
                <a:latin typeface="Perpetua"/>
              </a:rPr>
              <a:t>investigación clínica </a:t>
            </a:r>
            <a:r>
              <a:rPr b="0" lang="es-ES_tradnl" sz="2600" spc="-1" strike="noStrike">
                <a:solidFill>
                  <a:srgbClr val="000000"/>
                </a:solidFill>
                <a:latin typeface="Perpetua"/>
              </a:rPr>
              <a:t>implica el estudio sistemático y en profundidad de los individuo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abaja fundamentalmente con el estudio de caso como herramienta metodológica</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9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guerra fue importante para el desarrollo de la psicología de la personalidad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orque expandió mucho el papel de los psicólogos de la personalidad en la evaluación y tratamiento de las persona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1" name=""/>
          <p:cNvSpPr txBox="1"/>
          <p:nvPr/>
        </p:nvSpPr>
        <p:spPr>
          <a:xfrm>
            <a:off x="914400" y="1447920"/>
            <a:ext cx="7772400" cy="4572000"/>
          </a:xfrm>
          <a:prstGeom prst="rect">
            <a:avLst/>
          </a:prstGeom>
          <a:noFill/>
          <a:ln w="0">
            <a:noFill/>
          </a:ln>
        </p:spPr>
        <p:txBody>
          <a:bodyPr anchor="t">
            <a:normAutofit fontScale="89000"/>
          </a:bodyPr>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os psicólogos de la personalidad consolidaron sus habilidades ideando tests que podían usarse para medir importantes rasgos de la personalidad, </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mo psicólogos clínicos, establecieron su posición en el tratamiento de los trastornos psicológicos. </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Una de las consecuencias de esto fue el posterior desarrollo de las grandes teorías de la personalidad</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basadas fundamentalmente en la investigación clínica.</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303"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Franklin Gothic Book"/>
              </a:rPr>
              <a:t>Investigación correlacional</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Galton</a:t>
            </a:r>
            <a:endParaRPr b="0" lang="en-US" sz="4000" spc="-1" strike="noStrike">
              <a:solidFill>
                <a:srgbClr val="696464"/>
              </a:solidFill>
              <a:latin typeface="Franklin Gothic Book"/>
            </a:endParaRPr>
          </a:p>
        </p:txBody>
      </p:sp>
      <p:sp>
        <p:nvSpPr>
          <p:cNvPr id="30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Reconstruyendo parte de la historia del trabajo de Galton, es importante recordar su insistencia en tres cosas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diferencias individuale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medición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herencia,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sí como en la utilización de tests, clasificaciones, cuestionarios y un gran número de sujeto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Galton empezó interesado en los caracteres heredados de los atributos humanos, especialmente la herencia de las aptitudes intelectuales. Estaba convencido de que las características humanas se heredaban, y que estas características se podían medir sistemáticamente. Por ejemplo, ideó el «silbato Galton» para medir la habilidad de oír tonos agudos.</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l trabajo de Galton sobre la medición de aptitudes fue seguido por otro psicólogo británico, Charles Spearman (1863-1945). Inspirado en el trabajo de Galton, Spearman empezó determinando si había algo que podía ser llamado </a:t>
            </a:r>
            <a:r>
              <a:rPr b="0" i="1" lang="es-ES_tradnl" sz="2800" spc="-1" strike="noStrike">
                <a:solidFill>
                  <a:srgbClr val="000000"/>
                </a:solidFill>
                <a:latin typeface="Perpetua"/>
              </a:rPr>
              <a:t>inteligencia general </a:t>
            </a:r>
            <a:r>
              <a:rPr b="0" lang="es-ES_tradnl" sz="2800" spc="-1" strike="noStrike">
                <a:solidFill>
                  <a:srgbClr val="000000"/>
                </a:solidFill>
                <a:latin typeface="Perpetua"/>
              </a:rPr>
              <a:t>o si las diferencias individuales en la inteligencia eran debidas a las diferencias en aptitudes múltiples, independientes y separada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1"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hacerlo dio distintos tests de aptitud mental a centenares de personas y utilizó las pruebas de correlación para determinar si los mejores en una aptitud tendían a ser también los mejores en otras aptitudes. Su respues­ta a la pregunta sobre la inteligencia fue que hay una inteligencia general </a:t>
            </a:r>
            <a:r>
              <a:rPr b="0" i="1" lang="es-ES_tradnl" sz="2600" spc="-1" strike="noStrike">
                <a:solidFill>
                  <a:srgbClr val="000000"/>
                </a:solidFill>
                <a:latin typeface="Perpetua"/>
              </a:rPr>
              <a:t>o factor g.</a:t>
            </a:r>
            <a:r>
              <a:rPr b="0" lang="es-ES_tradnl"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sde 1940 la combinación de la técnica estadística y el análisis factorial, ha entregado determinados tipos de datos, escalas de medidas y cuestionarios y el concepto de rasgo han ejercido una fuerte influencia en la materia.</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Raymond B. Cattell (1905-) impulso el desarrollo de  una taxonomía (clasificación) útil de los elementos de la personalidad o rasgos. De formación química, Cattell creía que era necesario desarrollar una clasificación de los elementos básicos de la personalidad comparable a la tabla periódica de los elementos de la química.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317"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Franklin Gothic Book"/>
              </a:rPr>
              <a:t>Investigación </a:t>
            </a:r>
            <a:br>
              <a:rPr sz="3600"/>
            </a:br>
            <a:r>
              <a:rPr b="0" lang="es-CL" sz="3600" spc="-1" strike="noStrike">
                <a:solidFill>
                  <a:srgbClr val="ffffff"/>
                </a:solidFill>
                <a:latin typeface="Franklin Gothic Book"/>
              </a:rPr>
              <a:t>experimental</a:t>
            </a:r>
            <a:br>
              <a:rPr sz="3600"/>
            </a:br>
            <a:endParaRPr b="0" lang="en-US" sz="3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696464"/>
                </a:solidFill>
                <a:latin typeface="Franklin Gothic Book"/>
              </a:rPr>
              <a:t>Ventajas y limitaciones de la aproximación clínica.</a:t>
            </a:r>
            <a:endParaRPr b="0" lang="en-US" sz="32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o mejor del método clínico es que proporciona la oportunidad de observar una gran variedad de fenómenos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sí como el funcionamiento de la persona como un todo,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es capaz de generar nuevas observaciones y abundantes hipótesi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96464"/>
                </a:solidFill>
                <a:latin typeface="Franklin Gothic Book"/>
              </a:rPr>
              <a:t>Wilhelm Wundt, Hermann Ebbinghaus e Ivan Pavlov</a:t>
            </a:r>
            <a:endParaRPr b="0" lang="en-US" sz="2800" spc="-1" strike="noStrike">
              <a:solidFill>
                <a:srgbClr val="696464"/>
              </a:solidFill>
              <a:latin typeface="Franklin Gothic Book"/>
            </a:endParaRPr>
          </a:p>
        </p:txBody>
      </p:sp>
      <p:sp>
        <p:nvSpPr>
          <p:cNvPr id="31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proximadamente.en la misma época que Charcot estaba dirigiendo sus investigaciones clínicas en Francia y Galton llevaba a cabo sus estudios en Inglaterra, Wilhelm Wundt (1832-1920) fundaba el primer laboratorio de psicología experimental en Alemania.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Mientras Galton ha sido descrito como el fundador de la psicología individual, Wundt se ha descrito como el «fundador de la psicología genera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También a finales del siglo diecinueve otras dos personas dirigieron investigaciones  experimentales que influirían en la historia de la materia.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Alemania, Hermann Ebinghaus (1850-1909) estudió la memoria. Inventó las silabas sin sentido, que estaban formadas por dos consonantes alrededor de una vocal (por ejemplo zag, feb, rit)</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os sujetos aprendían una lista de sílabas sin sentido y entonces se evaluaba su recuerdo de la lista original después de varios períodos de tiempo. Este experimento le permitió estudiar cosas como los efectos de la repetición en la memoria y el olvido como una función del tiempo.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quí lo que es significativo es el énfasis en el control experimental y el establecimiento de los principios de la memoria para todos los sujeto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9"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Rusia, Ivan Pavlov (1849-1936) estaba llevando a cabo su investigación experimental sobre el condicionamiento clásico. Todos los estudiantes de psicología ya deben estar familiarizados con la investigación clásica de Pavlov sobre el condicionamiento de las respuestas de un perro a un estímulo que originariamente era neutral o no era influyente con respecto a aquellas respuest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tre los fenómenos investigados por Pavlov que son de un interés especial para los psicólogos de la personalidad se encuentra su estudio del conflicto y de la </a:t>
            </a:r>
            <a:r>
              <a:rPr b="1" lang="es-ES_tradnl" sz="2600" spc="-1" strike="noStrike">
                <a:solidFill>
                  <a:srgbClr val="000000"/>
                </a:solidFill>
                <a:latin typeface="Perpetua"/>
              </a:rPr>
              <a:t>neurosis experimental. </a:t>
            </a:r>
            <a:r>
              <a:rPr b="0" lang="es-ES_tradnl" sz="2600" spc="-1" strike="noStrike">
                <a:solidFill>
                  <a:srgbClr val="000000"/>
                </a:solidFill>
                <a:latin typeface="Perpetua"/>
              </a:rPr>
              <a:t>En este caso, Pavlov condicionó un estímulo a un refuerzo positivo y un segundo estímulo a un estímulo neutro o aversivo</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uáles son los efectos? Pavlov descubrió que la presentación de estos estímulos conflictivos provocaba un trastorno en la habilidad de diferenciar entre señales de acontecimientos positivos y negativos, que conducía al desarrollo de un comportamiento emocionalmente desequilibrado por parte de los perro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5" name=""/>
          <p:cNvSpPr txBox="1"/>
          <p:nvPr/>
        </p:nvSpPr>
        <p:spPr>
          <a:xfrm>
            <a:off x="914400" y="1447920"/>
            <a:ext cx="7772400" cy="4572000"/>
          </a:xfrm>
          <a:prstGeom prst="rect">
            <a:avLst/>
          </a:prstGeom>
          <a:noFill/>
          <a:ln w="0">
            <a:noFill/>
          </a:ln>
        </p:spPr>
        <p:txBody>
          <a:bodyPr anchor="t">
            <a:normAutofit fontScale="99000"/>
          </a:bodyPr>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unque Pavlov estaba interesado en las diferencias individuales de los perros relacionadas con el condicionamiento de las respuestas, el logro más importante de su investigación fue el desarrollo de las leyes generales del condicionamiento clásico. </a:t>
            </a:r>
            <a:endParaRPr b="0" lang="en-US" sz="2800" spc="-1" strike="noStrike">
              <a:solidFill>
                <a:srgbClr val="000000"/>
              </a:solidFill>
              <a:latin typeface="Perpetua"/>
            </a:endParaRPr>
          </a:p>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n su énfasis en la manipulación experimental de variables y el establecimiento de relaciones causales entre parejas de estímulos y respuestas, el trabajo de Pavlov ilustra claramente la aproximación experimental.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96464"/>
                </a:solidFill>
                <a:latin typeface="Franklin Gothic Book"/>
              </a:rPr>
              <a:t>J. B. Watson, Clark Hull y B. F. Skinner</a:t>
            </a:r>
            <a:endParaRPr b="0" lang="en-US" sz="4000" spc="-1" strike="noStrike">
              <a:solidFill>
                <a:srgbClr val="696464"/>
              </a:solidFill>
              <a:latin typeface="Franklin Gothic Book"/>
            </a:endParaRPr>
          </a:p>
        </p:txBody>
      </p:sp>
      <p:sp>
        <p:nvSpPr>
          <p:cNvPr id="337"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primer lugar podemos señalar la importancia de John B. Watson (1878-1958) y el desarrollo del conductismo. Watson, en su libro </a:t>
            </a:r>
            <a:r>
              <a:rPr b="0" i="1" lang="es-ES_tradnl" sz="2800" spc="-1" strike="noStrike">
                <a:solidFill>
                  <a:srgbClr val="000000"/>
                </a:solidFill>
                <a:latin typeface="Perpetua"/>
              </a:rPr>
              <a:t>Psychology from the Standpoint ofa Behaviorist </a:t>
            </a:r>
            <a:r>
              <a:rPr b="0" lang="es-ES_tradnl" sz="2800" spc="-1" strike="noStrike">
                <a:solidFill>
                  <a:srgbClr val="000000"/>
                </a:solidFill>
                <a:latin typeface="Perpetua"/>
              </a:rPr>
              <a:t>(«La psicología desde el punto de vista de un conductista») - (1919), destacaba el estudio objetivo de la conducta manifiesta opuesto al uso de la introspección y al estudio de acontecimientos internos (por ejemplo, los sueño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desventajas</a:t>
            </a:r>
            <a:endParaRPr b="0" lang="en-US" sz="40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in embargo, lo peor de este método es que a menudo dificulta que otros confirmen las observacione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o que formulen hipótesis que puedan ser evaluadas bajo las condiciones empíricas más riguros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irigió investigaciones con animales y algunas con seres humanos, como su famoso estudio sobre el condicionamiento de las reacciones emocionales de los bebés (J. B. Watson y Rayner, 1920).</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696464"/>
                </a:solidFill>
                <a:latin typeface="Franklin Gothic Book"/>
              </a:rPr>
              <a:t>Aproximaciones cognoscitivas</a:t>
            </a:r>
            <a:endParaRPr b="0" lang="en-US" sz="3600" spc="-1" strike="noStrike">
              <a:solidFill>
                <a:srgbClr val="696464"/>
              </a:solidFill>
              <a:latin typeface="Franklin Gothic Book"/>
            </a:endParaRPr>
          </a:p>
        </p:txBody>
      </p:sp>
      <p:sp>
        <p:nvSpPr>
          <p:cNvPr id="3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experimental ha sido utilizada para estudiar una extensa variedad de fenómenos de la personalidad, tanto dentro como fuera del contexto de la teoría del E-R y de la teoría del condicionamiento operante.</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sde la revolución cognoscitiva de la década de los 60, muchos problemas importantes para los psicólogos de la personalidad han sido estudiados mediante la aplicación de principios y procedimientos copiados de la psicología cognoscitiva experimental.</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Ventajas y limitaciones de la aproximación experimental</a:t>
            </a:r>
            <a:endParaRPr b="0" lang="en-US" sz="2800" spc="-1" strike="noStrike">
              <a:solidFill>
                <a:srgbClr val="696464"/>
              </a:solidFill>
              <a:latin typeface="Franklin Gothic Book"/>
            </a:endParaRPr>
          </a:p>
        </p:txBody>
      </p:sp>
      <p:sp>
        <p:nvSpPr>
          <p:cNvPr id="345"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muchos aspectos la aproximación experimental representa el científico ideal.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l experimentador manipula variables específicas para establecer relaciones de causa-efecto. Como los datos del autoinforme no se utilizan, no hay necesidad de preocuparse sobre si el sujeto está diciendo la verdad o si es capaz de informar con precisión sobre sus experiencia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asta qué punto se pueden estudiar en el laboratorio manifestaciones de la personalidad tan importantes como las fantasías y las relaciones romántica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Hasta qué punto pueden extrapolarse los descubrimientos del laboratorio al comportamiento de los individuos en sus vidas cotidiana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muchos psicólogos de la personalidad, de todas formas, el aspecto más problemático de la aproximación experimental es la limitación al estudiar la abundancia de relaciones entre los elementos de una personalidad individual.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imitando la investigación a unas pocas variables bien controladas, la aproximación experimental olvida un aspecto fundamental del funcionamiento de la personalidad, el funcionamiento de las partes en el contexto de un sistema global.</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otras palabras, como científicos siempre buscamos </a:t>
            </a:r>
            <a:r>
              <a:rPr b="0" i="1" lang="es-ES_tradnl" sz="2600" spc="-1" strike="noStrike">
                <a:solidFill>
                  <a:srgbClr val="000000"/>
                </a:solidFill>
                <a:latin typeface="Perpetua"/>
              </a:rPr>
              <a:t>observaciones fidedignas </a:t>
            </a:r>
            <a:r>
              <a:rPr b="0" lang="es-ES_tradnl" sz="2600" spc="-1" strike="noStrike">
                <a:solidFill>
                  <a:srgbClr val="000000"/>
                </a:solidFill>
                <a:latin typeface="Perpetua"/>
              </a:rPr>
              <a:t>y </a:t>
            </a:r>
            <a:r>
              <a:rPr b="0" i="1" lang="es-ES_tradnl" sz="2600" spc="-1" strike="noStrike">
                <a:solidFill>
                  <a:srgbClr val="000000"/>
                </a:solidFill>
                <a:latin typeface="Perpetua"/>
              </a:rPr>
              <a:t>pruebas de hipótesis </a:t>
            </a:r>
            <a:r>
              <a:rPr b="0" lang="es-ES_tradnl" sz="2600" spc="-1" strike="noStrike">
                <a:solidFill>
                  <a:srgbClr val="000000"/>
                </a:solidFill>
                <a:latin typeface="Perpetua"/>
              </a:rPr>
              <a:t>que estén de acuerdo con las normas de las prueba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LA APROXIMACIÓN CORRELACIONAL A LA PERSONALIDAD</a:t>
            </a:r>
            <a:endParaRPr b="0" lang="en-US" sz="2800" spc="-1" strike="noStrike">
              <a:solidFill>
                <a:srgbClr val="696464"/>
              </a:solidFill>
              <a:latin typeface="Franklin Gothic Book"/>
            </a:endParaRPr>
          </a:p>
        </p:txBody>
      </p:sp>
      <p:sp>
        <p:nvSpPr>
          <p:cNvPr id="243" name=""/>
          <p:cNvSpPr txBox="1"/>
          <p:nvPr/>
        </p:nvSpPr>
        <p:spPr>
          <a:xfrm>
            <a:off x="899640" y="1483920"/>
            <a:ext cx="7386840" cy="468324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a </a:t>
            </a:r>
            <a:r>
              <a:rPr b="1" lang="es-ES_tradnl" sz="2800" spc="-1" strike="noStrike">
                <a:solidFill>
                  <a:srgbClr val="000000"/>
                </a:solidFill>
                <a:latin typeface="Perpetua"/>
              </a:rPr>
              <a:t>investigación correlacional </a:t>
            </a:r>
            <a:r>
              <a:rPr b="0" lang="es-ES_tradnl" sz="2800" spc="-1" strike="noStrike">
                <a:solidFill>
                  <a:srgbClr val="000000"/>
                </a:solidFill>
                <a:latin typeface="Perpetua"/>
              </a:rPr>
              <a:t>incluye el uso de medidas estadísticas para establecer la asociación, o correlación,</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entre series de medidas que según se ha descubierto diferencian a las person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n otras palabras, la aproximación correlacional destaca las diferencias individuales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el esfuerzo de establecer relaciones entre estas diferencias en varias características de la personalidad.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5T11:54:30Z</dcterms:created>
  <dc:creator>edita.nunez</dc:creator>
  <dc:description/>
  <dc:language>en-US</dc:language>
  <cp:lastModifiedBy>edita.nunez</cp:lastModifiedBy>
  <dcterms:modified xsi:type="dcterms:W3CDTF">2012-05-14T17:11:43Z</dcterms:modified>
  <cp:revision>9</cp:revision>
  <dc:subject/>
  <dc:title>LA CIENCIA DE LA PERSONALIDAD</dc:title>
</cp:coreProperties>
</file>