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4BF-E34C-4B38-9250-CEE603FC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5F9-9EEB-4CA2-AA5A-CC163DA6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A72-85DF-4325-83DB-D1B2BAC7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9AC-72BF-48E5-945B-9D2CA981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FA4F-9945-40B5-B4F6-4320515B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40AF-7E14-4E3A-A622-62FC0A20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FA32-8FD3-4339-8CEE-72BFBC92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166B-2B5A-4E79-8315-04B85351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2E92-706F-4594-992C-52224042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1AC5-A297-4AD0-81F1-11A2D473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DBCB-3F92-4245-B185-60DE38C1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89C-C3DC-43CF-97F6-7876E5D5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7060-7AC2-4F9C-8302-38532ACD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BCE7-E395-41F6-84A5-ACA7C694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F93E-7EB1-4D13-8555-F52A9DAB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22B3-6299-4E51-AFEF-09931B74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D0AD-F889-4C5C-9DFD-7FE01E49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55755-FCD5-4EAD-B8DF-615AF417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B6F07-2773-407E-92C8-2B2DD7F5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136D8-5B01-475A-9270-62A2110F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C3B8-D041-4A26-9B58-A7831DD6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95767-033B-4040-8856-6E15F355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BB5-0F3D-4962-9ED1-BD24F31A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E50DB-1545-4554-869A-9EEF28A1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5566D-5684-4C52-B5CE-D7D796F0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A5462-67CD-45CA-9554-96ED56F8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10491-3DFD-4F5A-A61B-8ACEAC66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DF08A-7868-499F-96C1-33DA71F6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5E3C1-B6DB-48E3-9F4F-0378C04B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66FB1-3137-4932-ACFF-76428017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8330C-837C-4DCB-BF66-00DC6D34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EBEEB-64AD-4D02-B547-8D2920AA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68D25-9D18-42C4-8BC5-55D07B65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565-3518-457C-8D26-A2F3956C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6006E-61C0-4920-8E22-B74206D7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F2E46-4150-4BFC-B6E0-96CBA4BD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5A4CF-F524-4E38-9A66-5F08A069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6A423-3319-40E0-971C-F235860E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6FD89-1D29-473B-90C8-FDB042BD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A02AF-0763-47F2-AD6D-551FC651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A174D-C627-4286-80C0-417C6512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6CC8F-D13E-4F8C-A181-B70FB768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8E1BF-2B4B-4992-8D3A-968012B7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E9095-A1B0-4B50-AC1A-1A613A4E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028-6CB5-4E91-8CD9-DF55B8C9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194D5-FD12-4296-B6B5-46E04829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1D125-1677-42C3-BF72-C917E2E5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36E82-1CB8-4ACC-9CC6-D3293148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7363D-E059-48CF-A93B-ED96FB58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51562-B6E3-481C-A400-88715F1C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06EBE-9CD4-4AA5-8A89-79B0BFA6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13B26-A29D-452F-8643-7C3B3D3A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7ABEC-334A-4F67-B810-D5251675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118F6-5AA5-460F-8B7B-F8F428B4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70BC7-0273-4B69-AC3B-80C41053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A01-F87D-47E4-9B75-8855857B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0FFEB-C580-4FCF-9F38-1CF8AECA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F06DC-20DC-4C86-902D-67CBF991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C7B03-8082-4ADD-8315-115F1F64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424E8-D9C9-4E4B-855E-F3C153DB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49AB5-890A-43F0-ADC9-935B244E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7EF13-DF73-4999-AD37-8C0CA887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F9A0C-B7E2-421C-B3E7-F35D37B9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F177D-94DF-4A7E-8600-D5D00E10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57C24-1A86-4109-BF03-6DE37228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CA671-FB03-4862-9BD3-26B6710D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E8A-7D05-4155-BB00-6E37C3ED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F1379-878F-4009-AF8B-75B33C22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7C869-178C-4893-9C1C-56E4D37B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D6FE1-86CC-4CED-B51C-9A258996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DFD1E-44D2-4AA6-A4EA-C6078757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EC5D6-83EE-47BF-8AFF-68B180DF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AAED7-F314-4FF0-9BF2-5CCDD58D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80FC6-13DB-46E1-9C7C-B2FD02D3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23B17-7D54-43A5-BC20-55720E89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953CD-9A61-40CE-94BB-40E72134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66554-7341-4CD5-95FE-685B7513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91B-C361-46F5-BA52-CA38C67C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29C8B-ACE7-4EB4-8375-AA8DF22E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A0795-B330-4B70-9072-8D6388ED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612B8-223B-445F-A353-BF7372A5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4B1DB-8F35-461C-AD35-6B7AD45A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78EA4-7EB8-428B-B7DA-86AF8B7B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BF73F-3A7A-4999-8A76-6FB6626E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A1935-7277-4AF0-BA5E-2ECDE4DE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8F44E-C1F3-4304-BBF7-16AC8614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50D94-FF12-4D40-99CE-5BAD2AF9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91836-EC71-4305-AE6F-9748793F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FD48-B6C6-4DAA-8897-86E96172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361CC-16BE-426A-BD99-F89D837D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1A858-0F82-4B3E-8886-7E36A3C7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7DCD7-19F6-4170-87B5-CA44DD66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54762-6ABC-4EF1-97D8-74F51F5F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7C053-8874-4FF2-B27D-73EC44B1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93370-7C42-477E-A8D6-44CA49A9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FED50-2865-4639-9088-390C3234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8508-B689-4955-B02A-35BD5132CDD2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8298-CA55-4367-BB17-2A25D8871048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A709-F24A-4C72-BC57-40348254CB6B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E77C-2D70-4685-B57A-3E987D5163A0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CE1A-FBB4-4EC1-AF98-0DBB7F2ECF7F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BEA2-8DAD-469B-9973-A8100C6CFBBD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F13E-01D1-4491-8664-B9B40926D910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97F9-C583-4046-897D-59AB38B944BB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15920"/>
            <a:ext cx="685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Terapia Humanista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la tercera fuerz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La mente condicionada. Obstáculo que debe ser sorteado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El continuum del darse cuen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municación personal YO-TU en las que se expresan y reconocen las perspectivas subjetivas en su calidad de t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Inici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Sabiduría organísm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organismo, en su interacción con el medio, posee la capacidad de discriminar aquellas experiencias que le son o no enriquecedoras para si mismo en un momento d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2. Consciencia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Fisiológica. Desde una menor a una mayor cons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Darse cuenta 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uni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iveles de con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3. responsabilidad.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o somos prisioneros del condiciona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1° término: Esta responsabilidad a la vez nos hace lib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2° término: Autorrealización del hombre en la salud y no centrado en la enfermed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3° término: Confrontación en el aquí y en el aho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 cuerpo y el uso de técnicas no verb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4° término: Se amplia el espectro del terapeuta: psicologos, profesores, 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5° término: Exploración con drogas para investigar la existencia de realidades diferent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464653"/>
                </a:solidFill>
                <a:latin typeface="Bookman Old Style"/>
              </a:rPr>
              <a:t>Fundamentos de la psicología humanis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nfianza en la naturaleza y búsqueda de lo natural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ón incondicional de lo que somos y no pretender ser lo que no som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Énfasis en la expresión de lo personal y único en el desarrollo de la creatividad y en la capacidad de jueg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entredicho los conceptos de normal y a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conocimiento de las limitaciones de la conciencia 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Trascendencia de la identidad personal egoica y reconocimiento y aceptacion de la totalidad que somos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reprimida o bloqueada que empobrece el verdadero potencial del ser huma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Superación de la escisión mente-cuerpo. 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conocimiento de la comunicación con y desde el cuerp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equilibrio entre polaridades y revalorización de lo emocional, lo intuitivo, lo interno y el lenguaje del hemisferio derech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laridades que finalmente armon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on y comprensio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Todas nuestras facet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C:\Users\Edita Núñez Sotelo\Pictures\yinyan5.jpg"/>
          <p:cNvPicPr/>
          <p:nvPr/>
        </p:nvPicPr>
        <p:blipFill>
          <a:blip r:embed="rId1"/>
          <a:stretch/>
        </p:blipFill>
        <p:spPr>
          <a:xfrm>
            <a:off x="6012000" y="3584520"/>
            <a:ext cx="29145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1:55:27Z</dcterms:created>
  <dc:creator>Edita Núñez Sotelo</dc:creator>
  <dc:description/>
  <dc:language>en-US</dc:language>
  <cp:lastModifiedBy>Edita Núñez Sotelo</cp:lastModifiedBy>
  <dcterms:modified xsi:type="dcterms:W3CDTF">2012-04-23T03:02:00Z</dcterms:modified>
  <cp:revision>7</cp:revision>
  <dc:subject/>
  <dc:title>Diapositiva 1</dc:title>
</cp:coreProperties>
</file>